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185-0212-4E80-8812-6F5BA1CD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3B1-C615-43E2-985E-109DE39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6BF-362F-4C65-B881-B1689DCC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E9AC-BD7A-44EC-BC03-98EA0ED0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975-93BC-45BF-B16A-5ACACA4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FAA-7904-436C-AE03-7D12C178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B18-651B-4971-9774-28E8A25D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61C-7CE0-47A5-A78A-2AA965F7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398-F6EF-4CDB-A9B5-31DEEC0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2AB-79C4-4DB9-9DDC-76B453A7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1AD-1970-4A0F-8B8F-4E1DEA6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BE7-7BAE-406F-9165-66AAC9A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48E-7D21-4145-B116-9137E60CD1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803F-D403-4560-9F57-83AA04880B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04880" y="306360"/>
            <a:ext cx="50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Unit4 Free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，戴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is/am/are wea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1285920" y="2071800"/>
            <a:ext cx="648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/ You have go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/he has go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名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 has g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QQ截图20131117202150"/>
          <p:cNvPicPr/>
          <p:nvPr/>
        </p:nvPicPr>
        <p:blipFill>
          <a:blip r:embed="rId1"/>
          <a:stretch/>
        </p:blipFill>
        <p:spPr>
          <a:xfrm>
            <a:off x="252360" y="117360"/>
            <a:ext cx="8891640" cy="2592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427120" y="2903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弹钢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79280" y="2903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乒乓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803840" y="290340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倒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7035840" y="290340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踢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QQ截图20131117202239"/>
          <p:cNvPicPr/>
          <p:nvPr/>
        </p:nvPicPr>
        <p:blipFill>
          <a:blip r:embed="rId2"/>
          <a:stretch/>
        </p:blipFill>
        <p:spPr>
          <a:xfrm>
            <a:off x="196920" y="3429000"/>
            <a:ext cx="8718480" cy="2894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6360" y="63230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413080" y="63230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滑旱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6323040"/>
            <a:ext cx="18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滑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892920" y="63230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骑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440" y="241200"/>
            <a:ext cx="3708720" cy="5672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440" y="591336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 can play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4068720" y="9360"/>
            <a:ext cx="4753080" cy="5904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754520" y="617220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e can play the 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8163060_160333371110_2"/>
          <p:cNvPicPr/>
          <p:nvPr/>
        </p:nvPicPr>
        <p:blipFill>
          <a:blip r:embed="rId2"/>
          <a:srcRect l="0" t="0" r="0" b="4799"/>
          <a:stretch/>
        </p:blipFill>
        <p:spPr>
          <a:xfrm>
            <a:off x="252360" y="982800"/>
            <a:ext cx="6264360" cy="466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rcRect l="0" t="0" r="0" b="6576"/>
          <a:stretch/>
        </p:blipFill>
        <p:spPr>
          <a:xfrm>
            <a:off x="5219640" y="135000"/>
            <a:ext cx="3895920" cy="536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793800" y="61722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can 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a1349540923dd5403c6de83d009b3de9d8248a7"/>
          <p:cNvPicPr/>
          <p:nvPr/>
        </p:nvPicPr>
        <p:blipFill>
          <a:blip r:embed="rId2"/>
          <a:stretch/>
        </p:blipFill>
        <p:spPr>
          <a:xfrm>
            <a:off x="36360" y="119160"/>
            <a:ext cx="3961080" cy="529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0130225084929_7875"/>
          <p:cNvPicPr/>
          <p:nvPr/>
        </p:nvPicPr>
        <p:blipFill>
          <a:blip r:embed="rId3"/>
          <a:srcRect l="0" t="0" r="0" b="21536"/>
          <a:stretch/>
        </p:blipFill>
        <p:spPr>
          <a:xfrm>
            <a:off x="3997440" y="1557360"/>
            <a:ext cx="4922640" cy="3852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466560" y="5827680"/>
            <a:ext cx="35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can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313160" y="119160"/>
            <a:ext cx="46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can play tab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440" y="117360"/>
            <a:ext cx="4283280" cy="571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4392360" cy="4760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440" y="5827680"/>
            <a:ext cx="49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can stand on your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284720" y="9810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can  roller bl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36360" y="2063880"/>
            <a:ext cx="4802400" cy="460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4838760" y="-9360"/>
            <a:ext cx="4305240" cy="5445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4861080" y="5592600"/>
            <a:ext cx="49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an ride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6360" y="1484280"/>
            <a:ext cx="49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an 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17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an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能，会，可以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can not=can`t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geniu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upersta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超级明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riv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开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 racing ca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赛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n you .....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你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es, I ca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的，我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I can′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，我不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/she/he can ......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dreamsummit</cp:lastModifiedBy>
  <dcterms:modified xsi:type="dcterms:W3CDTF">2016-12-28T01:03:5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</Properties>
</file>