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9.png" ContentType="image/png"/>
  <Override PartName="/ppt/media/image12.png" ContentType="image/png"/>
  <Override PartName="/ppt/media/image15.jpeg" ContentType="image/jpeg"/>
  <Override PartName="/ppt/media/image14.png" ContentType="image/png"/>
  <Override PartName="/ppt/media/image13.png" ContentType="image/png"/>
  <Override PartName="/ppt/media/image8.png" ContentType="image/png"/>
  <Override PartName="/ppt/media/image11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C12B-046F-4591-8166-BEF758FC24E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F7DA-C927-4050-A5CD-3C774610BC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2C17-6FA8-4310-B344-F5DC56912E7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88DD-A36B-49C4-ACB5-F617A9F12D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2B93-424F-43D3-9F4C-741E8A59F53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4B7B-3834-4CA4-9D69-3742E20BE40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BED6-2109-4B13-97A8-0D6DEAD8B94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2E98-8710-4107-B2DC-CC5691AE8A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A3D9-B773-4EE5-AD2B-257DC12006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35F13-A064-40CE-BD3F-D7949D4CDFF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6573-C06C-44F7-9988-81F45EBB74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A142-7B3A-4FDD-9A45-2CFA2A9AC5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56338-59F4-4C35-88B1-BC25F3DB52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A43D-809B-4360-AB6F-A754BC4F5D1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BD90-0E1B-4EED-A077-B5123815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E9EA-E7B1-4E15-8F28-47E1EE09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948-4EBF-468D-ACD1-DDAEA42E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B10-8B71-451D-A7A6-1D687A5B4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644B-65B7-4289-969B-28E01FD2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1C02-FA49-451F-9DDD-4E30AE65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BE88-4ED3-453F-BE3D-542397DD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D6C-0C64-4559-B5BA-FDD023DE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110-B0E1-41E1-8BDE-2602A01A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4A0-DA59-4B0D-80D7-C52F9471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B58-F7B6-4C13-9700-06328B13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D592-F2D2-435F-96C0-9FCC8574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26B9-6D4D-4798-B4FC-D7AF69D9D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-33480" y="0"/>
            <a:ext cx="9137880" cy="6885000"/>
          </a:xfrm>
          <a:prstGeom prst="rect">
            <a:avLst/>
          </a:prstGeom>
          <a:ln w="0">
            <a:noFill/>
          </a:ln>
        </p:spPr>
      </p:pic>
      <p:sp>
        <p:nvSpPr>
          <p:cNvPr id="49" name="Oval 10"/>
          <p:cNvSpPr/>
          <p:nvPr/>
        </p:nvSpPr>
        <p:spPr>
          <a:xfrm>
            <a:off x="3276720" y="1125360"/>
            <a:ext cx="5616360" cy="1441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708360" y="1413000"/>
            <a:ext cx="54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nit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 Free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107640" cy="6782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rcRect l="72272" t="12978" r="5694" b="0"/>
          <a:stretch/>
        </p:blipFill>
        <p:spPr>
          <a:xfrm>
            <a:off x="6588000" y="2709720"/>
            <a:ext cx="2595600" cy="4178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3"/>
          <a:srcRect l="0" t="9676" r="82040" b="9676"/>
          <a:stretch/>
        </p:blipFill>
        <p:spPr>
          <a:xfrm>
            <a:off x="0" y="3718080"/>
            <a:ext cx="2340000" cy="317484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5"/>
          <p:cNvSpPr/>
          <p:nvPr/>
        </p:nvSpPr>
        <p:spPr>
          <a:xfrm>
            <a:off x="108000" y="2565360"/>
            <a:ext cx="3025800" cy="1079640"/>
          </a:xfrm>
          <a:prstGeom prst="wedgeRectCallout">
            <a:avLst>
              <a:gd name="adj1" fmla="val 21578"/>
              <a:gd name="adj2" fmla="val 93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y I watch T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4861080" y="1773360"/>
            <a:ext cx="2304720" cy="792000"/>
          </a:xfrm>
          <a:prstGeom prst="wedgeRectCallout">
            <a:avLst>
              <a:gd name="adj1" fmla="val 34601"/>
              <a:gd name="adj2" fmla="val 121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es,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971640" y="44280"/>
            <a:ext cx="6858000" cy="6670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rcRect l="72272" t="12978" r="5694" b="0"/>
          <a:stretch/>
        </p:blipFill>
        <p:spPr>
          <a:xfrm>
            <a:off x="6588000" y="2709720"/>
            <a:ext cx="2595600" cy="417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rcRect l="0" t="9676" r="82040" b="9676"/>
          <a:stretch/>
        </p:blipFill>
        <p:spPr>
          <a:xfrm>
            <a:off x="0" y="3718080"/>
            <a:ext cx="2340000" cy="317484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179280" y="1989000"/>
            <a:ext cx="3384720" cy="1081080"/>
          </a:xfrm>
          <a:prstGeom prst="wedgeRectCallout">
            <a:avLst>
              <a:gd name="adj1" fmla="val 4587"/>
              <a:gd name="adj2" fmla="val 149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y I listen to a so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4861080" y="1773360"/>
            <a:ext cx="2304720" cy="792000"/>
          </a:xfrm>
          <a:prstGeom prst="wedgeRectCallout">
            <a:avLst>
              <a:gd name="adj1" fmla="val 34601"/>
              <a:gd name="adj2" fmla="val 121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es,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rcRect l="34681" t="30287" r="28041" b="30337"/>
          <a:stretch/>
        </p:blipFill>
        <p:spPr>
          <a:xfrm>
            <a:off x="36360" y="1413000"/>
            <a:ext cx="9060120" cy="5445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3"/>
          <p:cNvSpPr txBox="1"/>
          <p:nvPr/>
        </p:nvSpPr>
        <p:spPr>
          <a:xfrm>
            <a:off x="1332000" y="549360"/>
            <a:ext cx="5975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Game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7E1446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"/>
          <p:cNvSpPr/>
          <p:nvPr/>
        </p:nvSpPr>
        <p:spPr>
          <a:xfrm>
            <a:off x="900000" y="299736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Be polite when you're a gues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2124000" y="1557360"/>
            <a:ext cx="4680000" cy="1584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Moral Educatio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SD_CD~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-1611360" y="1627200"/>
            <a:ext cx="355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ordArt 4" descr=""/>
          <p:cNvPicPr/>
          <p:nvPr/>
        </p:nvPicPr>
        <p:blipFill>
          <a:blip r:embed="rId2"/>
          <a:stretch/>
        </p:blipFill>
        <p:spPr>
          <a:xfrm>
            <a:off x="171360" y="96840"/>
            <a:ext cx="54072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rcRect l="5933" t="0" r="6443" b="24525"/>
          <a:stretch/>
        </p:blipFill>
        <p:spPr>
          <a:xfrm>
            <a:off x="1979640" y="0"/>
            <a:ext cx="7200720" cy="6823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-2880" y="619920"/>
            <a:ext cx="468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day is Tony's birth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re's a par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046160" y="1051200"/>
            <a:ext cx="43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Jenny is hungr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饥饿的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WordArt 3" descr=""/>
          <p:cNvPicPr/>
          <p:nvPr/>
        </p:nvPicPr>
        <p:blipFill>
          <a:blip r:embed="rId1"/>
          <a:stretch/>
        </p:blipFill>
        <p:spPr>
          <a:xfrm>
            <a:off x="4267080" y="4273560"/>
            <a:ext cx="884520" cy="560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未命名1"/>
          <p:cNvPicPr/>
          <p:nvPr/>
        </p:nvPicPr>
        <p:blipFill>
          <a:blip r:embed="rId2"/>
          <a:stretch/>
        </p:blipFill>
        <p:spPr>
          <a:xfrm>
            <a:off x="755640" y="2060640"/>
            <a:ext cx="20988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431 -0.006667 L 0.237569 -0.006667 E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12890" r="0" b="4612"/>
          <a:stretch/>
        </p:blipFill>
        <p:spPr>
          <a:xfrm>
            <a:off x="34920" y="714240"/>
            <a:ext cx="9144000" cy="5572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rcRect l="72272" t="12978" r="5694" b="0"/>
          <a:stretch/>
        </p:blipFill>
        <p:spPr>
          <a:xfrm>
            <a:off x="6548400" y="2000160"/>
            <a:ext cx="2595600" cy="4178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rcRect l="2408" t="8415" r="12400" b="12131"/>
          <a:stretch/>
        </p:blipFill>
        <p:spPr>
          <a:xfrm>
            <a:off x="3995640" y="3070080"/>
            <a:ext cx="1109880" cy="10479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181080" y="1486080"/>
            <a:ext cx="3024000" cy="1079280"/>
          </a:xfrm>
          <a:prstGeom prst="wedgeRectCallout">
            <a:avLst>
              <a:gd name="adj1" fmla="val 21578"/>
              <a:gd name="adj2" fmla="val 93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y I have a pe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6"/>
          <p:cNvSpPr/>
          <p:nvPr/>
        </p:nvSpPr>
        <p:spPr>
          <a:xfrm>
            <a:off x="4356000" y="765000"/>
            <a:ext cx="2305080" cy="792360"/>
          </a:xfrm>
          <a:prstGeom prst="wedgeRectCallout">
            <a:avLst>
              <a:gd name="adj1" fmla="val 34601"/>
              <a:gd name="adj2" fmla="val 121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es,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未命名1"/>
          <p:cNvPicPr/>
          <p:nvPr/>
        </p:nvPicPr>
        <p:blipFill>
          <a:blip r:embed="rId4"/>
          <a:stretch/>
        </p:blipFill>
        <p:spPr>
          <a:xfrm>
            <a:off x="1692360" y="3068640"/>
            <a:ext cx="2098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24000" y="274680"/>
            <a:ext cx="296244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200"/>
            </a:br>
            <a:br>
              <a:rPr sz="5400"/>
            </a:b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00000" y="4292640"/>
            <a:ext cx="64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go</a:t>
            </a:r>
            <a:r>
              <a:rPr b="0" lang="zh-CN" sz="8800" spc="-1" strike="noStrike">
                <a:solidFill>
                  <a:srgbClr val="333399"/>
                </a:solidFill>
                <a:latin typeface="Arial"/>
              </a:rPr>
              <a:t> to school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rcRect l="0" t="12831" r="0" b="5917"/>
          <a:stretch/>
        </p:blipFill>
        <p:spPr>
          <a:xfrm>
            <a:off x="-33480" y="1143000"/>
            <a:ext cx="9141120" cy="5214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2"/>
          <a:srcRect l="2408" t="8415" r="12400" b="12131"/>
          <a:stretch/>
        </p:blipFill>
        <p:spPr>
          <a:xfrm>
            <a:off x="3995640" y="3070080"/>
            <a:ext cx="1109880" cy="10479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7165800" y="46080"/>
            <a:ext cx="201636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[mei]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可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7"/>
          <p:cNvSpPr/>
          <p:nvPr/>
        </p:nvSpPr>
        <p:spPr>
          <a:xfrm>
            <a:off x="285840" y="1346040"/>
            <a:ext cx="3522600" cy="1297080"/>
          </a:xfrm>
          <a:prstGeom prst="wedgeRectCallout">
            <a:avLst>
              <a:gd name="adj1" fmla="val 21578"/>
              <a:gd name="adj2" fmla="val 93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y I 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971640" y="206064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可以。。。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未命名1"/>
          <p:cNvPicPr/>
          <p:nvPr/>
        </p:nvPicPr>
        <p:blipFill>
          <a:blip r:embed="rId3"/>
          <a:stretch/>
        </p:blipFill>
        <p:spPr>
          <a:xfrm>
            <a:off x="1619280" y="3141720"/>
            <a:ext cx="20988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0" t="12890" r="0" b="4612"/>
          <a:stretch/>
        </p:blipFill>
        <p:spPr>
          <a:xfrm>
            <a:off x="34920" y="1428840"/>
            <a:ext cx="9144000" cy="471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72272" t="12978" r="5694" b="0"/>
          <a:stretch/>
        </p:blipFill>
        <p:spPr>
          <a:xfrm>
            <a:off x="6548400" y="1928880"/>
            <a:ext cx="2595600" cy="4178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"/>
          <p:cNvPicPr/>
          <p:nvPr/>
        </p:nvPicPr>
        <p:blipFill>
          <a:blip r:embed="rId3"/>
          <a:srcRect l="2408" t="8415" r="12400" b="12131"/>
          <a:stretch/>
        </p:blipFill>
        <p:spPr>
          <a:xfrm>
            <a:off x="3995640" y="3070080"/>
            <a:ext cx="1109880" cy="104796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5"/>
          <p:cNvSpPr/>
          <p:nvPr/>
        </p:nvSpPr>
        <p:spPr>
          <a:xfrm>
            <a:off x="181080" y="1486080"/>
            <a:ext cx="3024000" cy="1079280"/>
          </a:xfrm>
          <a:prstGeom prst="wedgeRectCallout">
            <a:avLst>
              <a:gd name="adj1" fmla="val 21578"/>
              <a:gd name="adj2" fmla="val 93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y I have a pea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4356000" y="765000"/>
            <a:ext cx="2305080" cy="792360"/>
          </a:xfrm>
          <a:prstGeom prst="wedgeRectCallout">
            <a:avLst>
              <a:gd name="adj1" fmla="val 34601"/>
              <a:gd name="adj2" fmla="val 121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es,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未命名1"/>
          <p:cNvPicPr/>
          <p:nvPr/>
        </p:nvPicPr>
        <p:blipFill>
          <a:blip r:embed="rId4"/>
          <a:stretch/>
        </p:blipFill>
        <p:spPr>
          <a:xfrm>
            <a:off x="1692360" y="3068640"/>
            <a:ext cx="2098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6360" y="44280"/>
            <a:ext cx="9107640" cy="6782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rcRect l="72272" t="12978" r="5694" b="0"/>
          <a:stretch/>
        </p:blipFill>
        <p:spPr>
          <a:xfrm>
            <a:off x="6588000" y="2709720"/>
            <a:ext cx="2595600" cy="4178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rcRect l="0" t="9676" r="82040" b="9676"/>
          <a:stretch/>
        </p:blipFill>
        <p:spPr>
          <a:xfrm>
            <a:off x="0" y="3718080"/>
            <a:ext cx="2340000" cy="317484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5"/>
          <p:cNvSpPr/>
          <p:nvPr/>
        </p:nvSpPr>
        <p:spPr>
          <a:xfrm>
            <a:off x="108000" y="2565360"/>
            <a:ext cx="3025800" cy="1079640"/>
          </a:xfrm>
          <a:prstGeom prst="wedgeRectCallout">
            <a:avLst>
              <a:gd name="adj1" fmla="val 21578"/>
              <a:gd name="adj2" fmla="val 9379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May I watch T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4861080" y="1773360"/>
            <a:ext cx="2304720" cy="792000"/>
          </a:xfrm>
          <a:prstGeom prst="wedgeRectCallout">
            <a:avLst>
              <a:gd name="adj1" fmla="val 34601"/>
              <a:gd name="adj2" fmla="val 121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Yes, pl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37200" y="-360"/>
            <a:ext cx="4006800" cy="36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[wɔtʃ]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8000"/>
            </a:b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watch</a:t>
            </a:r>
            <a:br>
              <a:rPr sz="5400"/>
            </a:br>
            <a:br>
              <a:rPr sz="4000"/>
            </a:b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观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619280" y="4221000"/>
            <a:ext cx="547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</a:rPr>
              <a:t>watch</a:t>
            </a:r>
            <a:r>
              <a:rPr b="0" lang="zh-CN" sz="8800" spc="-1" strike="noStrike">
                <a:solidFill>
                  <a:srgbClr val="333399"/>
                </a:solidFill>
                <a:latin typeface="Arial"/>
              </a:rPr>
              <a:t> TV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SCN9372"/>
          <p:cNvPicPr/>
          <p:nvPr/>
        </p:nvPicPr>
        <p:blipFill>
          <a:blip r:embed="rId1"/>
          <a:stretch/>
        </p:blipFill>
        <p:spPr>
          <a:xfrm>
            <a:off x="0" y="0"/>
            <a:ext cx="521964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8T01:04:13Z</dcterms:created>
  <dc:creator/>
  <dc:description/>
  <dc:language>en-US</dc:language>
  <cp:lastModifiedBy/>
  <dcterms:modified xsi:type="dcterms:W3CDTF">2016-12-28T01:10:53Z</dcterms:modified>
  <cp:revision>1</cp:revision>
  <dc:subject/>
  <dc:title/>
</cp:coreProperties>
</file>