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5.png" ContentType="image/png"/>
  <Override PartName="/ppt/media/image13.png" ContentType="image/png"/>
  <Override PartName="/ppt/media/image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image11.png" ContentType="image/png"/>
  <Override PartName="/ppt/media/image4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37DB-A955-49E1-B5A4-5E2029D21F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D938-A78B-401B-937F-54DD25071F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7017-EAF9-423B-B131-3505ED6405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2195-146C-447E-B34A-F119272BBA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8DB8-221C-4AB1-ADB9-2D2B8D5408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609A-80E5-445A-A06D-B6F022DC5F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2443-F3AE-49F4-9D29-555BC183D0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E3B1-1F82-41FF-AF6D-5493C965DB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6C71-8DE5-44FE-AA2F-2B5A896AFB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23D0-1AC3-4475-BA2F-D63836F7A9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5578-5BB8-4B8A-B04F-00F8988794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68B5-0A92-41FE-87A7-0B9ECF941A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5D01-ACB6-424E-8099-A0A6CA1464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8EC5-11DF-4CBB-9C39-056C15ACC5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4CA-954B-4BF7-9827-092781D331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FDF3-7916-4590-B32B-1E11AD6D77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78E8-6A25-40DC-A1D7-13AFBD905A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CEB3-ACDB-4B29-AA2D-0AC8DC6BB9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753F-2440-4506-8151-F78D75A822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585-169E-4AD2-9EF1-9729660F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4FA-D73B-43A3-AED0-344BD28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2B9-4EA7-4A9F-88C7-ABFC1F6C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BDB-D7FA-4C09-8BD9-BC21BFBA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148-44B6-4226-AFBE-B410A72D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7BA-E404-490E-8A6B-CE24F8A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261-2B85-4011-969D-B6258548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601-8FB5-487A-B6A4-3DA70B81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048-DF66-4A91-8D69-0CF91401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5C2-54C2-45A6-94AA-C9A284F5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D63-49C1-4269-999D-0103C9A6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793-BE9D-4054-9D2E-AA32A7D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1DE2-6F26-4DF5-A806-5B014AD2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13788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Oval 10"/>
          <p:cNvSpPr/>
          <p:nvPr/>
        </p:nvSpPr>
        <p:spPr>
          <a:xfrm>
            <a:off x="3276720" y="1125360"/>
            <a:ext cx="5616360" cy="1441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708360" y="141300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 Fre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900000" y="1440"/>
            <a:ext cx="8223480" cy="685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7164360" y="3637080"/>
            <a:ext cx="2019240" cy="325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2195640" y="2709720"/>
            <a:ext cx="2340000" cy="4032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/>
          <p:cNvSpPr/>
          <p:nvPr/>
        </p:nvSpPr>
        <p:spPr>
          <a:xfrm>
            <a:off x="1692360" y="620640"/>
            <a:ext cx="3382920" cy="1081080"/>
          </a:xfrm>
          <a:prstGeom prst="wedgeRectCallout">
            <a:avLst>
              <a:gd name="adj1" fmla="val 4587"/>
              <a:gd name="adj2" fmla="val 149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buy an ice c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5076720" y="2205000"/>
            <a:ext cx="2808360" cy="79236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, you may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63640" y="189000"/>
            <a:ext cx="3178440" cy="33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[bai]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800"/>
            </a:b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buy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买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SCN9378"/>
          <p:cNvPicPr/>
          <p:nvPr/>
        </p:nvPicPr>
        <p:blipFill>
          <a:blip r:embed="rId1"/>
          <a:stretch/>
        </p:blipFill>
        <p:spPr>
          <a:xfrm>
            <a:off x="0" y="0"/>
            <a:ext cx="5076720" cy="4181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50920" y="443700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buy</a:t>
            </a:r>
            <a:r>
              <a:rPr b="0" lang="zh-CN" sz="8000" spc="-1" strike="noStrike">
                <a:solidFill>
                  <a:srgbClr val="333399"/>
                </a:solidFill>
                <a:latin typeface="Arial"/>
              </a:rPr>
              <a:t> an ice cre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900000" y="1440"/>
            <a:ext cx="8223480" cy="693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7164360" y="3637080"/>
            <a:ext cx="2019240" cy="325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2195640" y="2709720"/>
            <a:ext cx="2340000" cy="4032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1692360" y="620640"/>
            <a:ext cx="3382920" cy="1081080"/>
          </a:xfrm>
          <a:prstGeom prst="wedgeRectCallout">
            <a:avLst>
              <a:gd name="adj1" fmla="val 4587"/>
              <a:gd name="adj2" fmla="val 149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buy an ice c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076720" y="2205000"/>
            <a:ext cx="2808360" cy="79236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, you may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0" t="0" r="0" b="18794"/>
          <a:stretch/>
        </p:blipFill>
        <p:spPr>
          <a:xfrm>
            <a:off x="34920" y="15840"/>
            <a:ext cx="7416720" cy="6842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108000" y="2709720"/>
            <a:ext cx="3384360" cy="1079640"/>
          </a:xfrm>
          <a:prstGeom prst="wedgeRectCallout">
            <a:avLst>
              <a:gd name="adj1" fmla="val 6388"/>
              <a:gd name="adj2" fmla="val 103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borrow a b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4861080" y="1773360"/>
            <a:ext cx="280800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, you may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7920" y="115560"/>
            <a:ext cx="418608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borrow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79280" y="436572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borrow</a:t>
            </a:r>
            <a:r>
              <a:rPr b="0" lang="zh-CN" sz="8800" spc="-1" strike="noStrike">
                <a:solidFill>
                  <a:srgbClr val="333399"/>
                </a:solidFill>
                <a:latin typeface="Arial"/>
              </a:rPr>
              <a:t> a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8938" t="0" r="0" b="19244"/>
          <a:stretch/>
        </p:blipFill>
        <p:spPr>
          <a:xfrm>
            <a:off x="36360" y="0"/>
            <a:ext cx="410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0" t="0" r="0" b="18589"/>
          <a:stretch/>
        </p:blipFill>
        <p:spPr>
          <a:xfrm>
            <a:off x="34920" y="1440"/>
            <a:ext cx="7416720" cy="685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"/>
          <p:cNvSpPr/>
          <p:nvPr/>
        </p:nvSpPr>
        <p:spPr>
          <a:xfrm>
            <a:off x="108000" y="2709720"/>
            <a:ext cx="3384360" cy="1079640"/>
          </a:xfrm>
          <a:prstGeom prst="wedgeRectCallout">
            <a:avLst>
              <a:gd name="adj1" fmla="val 6388"/>
              <a:gd name="adj2" fmla="val 103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borrow a b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4861080" y="1773360"/>
            <a:ext cx="280800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, you may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637080" y="2276640"/>
            <a:ext cx="5532480" cy="4609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974600" y="1700280"/>
            <a:ext cx="548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May I ...?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可以……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Yes, please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是的，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o, you may not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，你不可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395280" y="2565360"/>
            <a:ext cx="219240" cy="1152720"/>
          </a:xfrm>
          <a:custGeom>
            <a:avLst/>
            <a:gdLst>
              <a:gd name="textAreaLeft" fmla="*/ 140040 w 219240"/>
              <a:gd name="textAreaRight" fmla="*/ 219600 w 2192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36360" y="4608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Pair work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1908000" y="189000"/>
            <a:ext cx="5832720" cy="4204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1" lang="en-US" sz="4800" spc="-1" strike="noStrike">
                <a:solidFill>
                  <a:srgbClr val="ffff99"/>
                </a:solidFill>
                <a:latin typeface="Comic Sans MS"/>
              </a:rPr>
              <a:t>Homework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Candara"/>
              </a:rPr>
              <a:t>    </a:t>
            </a:r>
            <a:r>
              <a:rPr b="1" lang="en-US" sz="4400" spc="-1" strike="noStrike">
                <a:solidFill>
                  <a:srgbClr val="ffff99"/>
                </a:solidFill>
                <a:latin typeface="Candara"/>
              </a:rPr>
              <a:t>1. Copy the wor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Candara"/>
              </a:rPr>
              <a:t>    </a:t>
            </a:r>
            <a:r>
              <a:rPr b="1" lang="en-US" sz="4400" spc="-1" strike="noStrike">
                <a:solidFill>
                  <a:srgbClr val="ffff99"/>
                </a:solidFill>
                <a:latin typeface="Candara"/>
              </a:rPr>
              <a:t>2.</a:t>
            </a:r>
            <a:r>
              <a:rPr b="1" lang="zh-CN" sz="4400" spc="-1" strike="noStrike">
                <a:solidFill>
                  <a:srgbClr val="ffff99"/>
                </a:solidFill>
                <a:latin typeface="Candara"/>
              </a:rPr>
              <a:t> Preview the sto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rcRect l="0" t="0" r="0" b="8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1187280" y="189000"/>
            <a:ext cx="427680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Bye by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7920" y="-360"/>
            <a:ext cx="418608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['lisn]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0"/>
            </a:b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listen</a:t>
            </a:r>
            <a:br>
              <a:rPr sz="5400"/>
            </a:br>
            <a:br>
              <a:rPr sz="40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>
            <a:hlinkClick r:id="rId1" action="ppaction://hlinksldjump"/>
          </p:cNvPr>
          <p:cNvSpPr/>
          <p:nvPr/>
        </p:nvSpPr>
        <p:spPr>
          <a:xfrm>
            <a:off x="7667640" y="5950080"/>
            <a:ext cx="433440" cy="647640"/>
          </a:xfrm>
          <a:custGeom>
            <a:avLst/>
            <a:gdLst>
              <a:gd name="textAreaLeft" fmla="*/ 75600 w 433440"/>
              <a:gd name="textAreaRight" fmla="*/ 314280 w 4334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08000" y="4437000"/>
            <a:ext cx="80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0" lang="zh-CN" sz="8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zh-CN" sz="8800" spc="-1" strike="noStrike">
                <a:solidFill>
                  <a:srgbClr val="333399"/>
                </a:solidFill>
                <a:latin typeface="Arial"/>
              </a:rPr>
              <a:t> a so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DSCN9376"/>
          <p:cNvPicPr/>
          <p:nvPr/>
        </p:nvPicPr>
        <p:blipFill>
          <a:blip r:embed="rId2"/>
          <a:stretch/>
        </p:blipFill>
        <p:spPr>
          <a:xfrm>
            <a:off x="0" y="0"/>
            <a:ext cx="49323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71640" y="187200"/>
            <a:ext cx="6858000" cy="659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5"/>
          <p:cNvSpPr/>
          <p:nvPr/>
        </p:nvSpPr>
        <p:spPr>
          <a:xfrm>
            <a:off x="179280" y="1989000"/>
            <a:ext cx="3384720" cy="1081080"/>
          </a:xfrm>
          <a:prstGeom prst="wedgeRectCallout">
            <a:avLst>
              <a:gd name="adj1" fmla="val 4587"/>
              <a:gd name="adj2" fmla="val 149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listen to a s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4861080" y="1773360"/>
            <a:ext cx="230472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4167" r="0" b="4167"/>
          <a:stretch/>
        </p:blipFill>
        <p:spPr>
          <a:xfrm>
            <a:off x="612720" y="285840"/>
            <a:ext cx="7916760" cy="628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>
            <a:off x="179280" y="1989000"/>
            <a:ext cx="3384720" cy="1081080"/>
          </a:xfrm>
          <a:prstGeom prst="wedgeRectCallout">
            <a:avLst>
              <a:gd name="adj1" fmla="val 4587"/>
              <a:gd name="adj2" fmla="val 149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call my fri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861080" y="1773360"/>
            <a:ext cx="230472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42920" y="-360"/>
            <a:ext cx="418644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[kɔ:l]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0"/>
            </a:b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call</a:t>
            </a:r>
            <a:br>
              <a:rPr sz="5400"/>
            </a:br>
            <a:br>
              <a:rPr sz="40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打电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DSCN9373"/>
          <p:cNvPicPr/>
          <p:nvPr/>
        </p:nvPicPr>
        <p:blipFill>
          <a:blip r:embed="rId1"/>
          <a:stretch/>
        </p:blipFill>
        <p:spPr>
          <a:xfrm>
            <a:off x="0" y="0"/>
            <a:ext cx="4284720" cy="4365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250920" y="4581360"/>
            <a:ext cx="75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zh-CN" sz="8800" spc="-1" strike="noStrike">
                <a:solidFill>
                  <a:srgbClr val="333399"/>
                </a:solidFill>
                <a:latin typeface="Arial"/>
              </a:rPr>
              <a:t> my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0" t="4167" r="0" b="4167"/>
          <a:stretch/>
        </p:blipFill>
        <p:spPr>
          <a:xfrm>
            <a:off x="612720" y="285840"/>
            <a:ext cx="7916760" cy="6286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"/>
          <p:cNvSpPr/>
          <p:nvPr/>
        </p:nvSpPr>
        <p:spPr>
          <a:xfrm>
            <a:off x="179280" y="1989000"/>
            <a:ext cx="3384720" cy="1081080"/>
          </a:xfrm>
          <a:prstGeom prst="wedgeRectCallout">
            <a:avLst>
              <a:gd name="adj1" fmla="val 4587"/>
              <a:gd name="adj2" fmla="val 149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call my fri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4861080" y="1773360"/>
            <a:ext cx="230472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0" t="5089" r="0" b="33558"/>
          <a:stretch/>
        </p:blipFill>
        <p:spPr>
          <a:xfrm>
            <a:off x="15840" y="1440"/>
            <a:ext cx="9220320" cy="551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/>
          <p:cNvSpPr/>
          <p:nvPr/>
        </p:nvSpPr>
        <p:spPr>
          <a:xfrm>
            <a:off x="179280" y="1989000"/>
            <a:ext cx="3384720" cy="1081080"/>
          </a:xfrm>
          <a:prstGeom prst="wedgeRectCallout">
            <a:avLst>
              <a:gd name="adj1" fmla="val 4587"/>
              <a:gd name="adj2" fmla="val 149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go to the z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4861080" y="1773360"/>
            <a:ext cx="280800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, you may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24000" y="274680"/>
            <a:ext cx="29624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go</a:t>
            </a:r>
            <a:br>
              <a:rPr sz="8200"/>
            </a:br>
            <a:br>
              <a:rPr sz="54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900000" y="429264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8800" spc="-1" strike="noStrike">
                <a:solidFill>
                  <a:srgbClr val="333399"/>
                </a:solidFill>
                <a:latin typeface="Arial"/>
              </a:rPr>
              <a:t> to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378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0" t="5089" r="0" b="33558"/>
          <a:stretch/>
        </p:blipFill>
        <p:spPr>
          <a:xfrm>
            <a:off x="15840" y="1440"/>
            <a:ext cx="9220320" cy="5516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179280" y="1989000"/>
            <a:ext cx="3384720" cy="1081080"/>
          </a:xfrm>
          <a:prstGeom prst="wedgeRectCallout">
            <a:avLst>
              <a:gd name="adj1" fmla="val 4587"/>
              <a:gd name="adj2" fmla="val 149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go to the z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4861080" y="1773360"/>
            <a:ext cx="280800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, you may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04:13Z</dcterms:created>
  <dc:creator/>
  <dc:description/>
  <dc:language>en-US</dc:language>
  <cp:lastModifiedBy/>
  <dcterms:modified xsi:type="dcterms:W3CDTF">2016-12-28T01:11:19Z</dcterms:modified>
  <cp:revision>1</cp:revision>
  <dc:subject/>
  <dc:title/>
</cp:coreProperties>
</file>