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628D-E54A-4FFD-A9C4-779710A3866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83E2-E4B0-43D2-A00F-A3AF25DFE1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C68A-87B8-4E55-9EC0-FD8E19E891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4987-1694-4D6E-AE7B-3AFF39B87B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2BF4-20E7-4411-A410-E0F4F6C24B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EC94-6FD0-4ECF-9853-D232AB85F0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CE6A-2FD0-4D87-95B4-D7F83D2706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8917-86FD-4A69-81EC-CBE922084B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6190-E171-4D0B-B36E-18DBF16AAC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C7BF-CC34-432A-A517-CF33BA2AFD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B1B9-C618-41C9-9593-73BB976205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98EA-19B8-4C05-85BD-00DE6C1F5F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C88-D6FF-460F-AE35-68029527A5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E424-50CD-43D0-897D-9E19C63183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72F-6E93-42C9-A725-BDC2E879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17B-77E2-4F82-B83D-389BFB62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6F0-2FE8-45CC-9411-1B88E17F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634-1C80-49C2-BFC5-5256229B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24D-155F-49F7-98F3-AE799566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ABC-19E4-4A83-8A4A-C5FA4399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25F-8B7A-47DE-A55E-E30F8ABE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68B-E88C-4393-BAC2-E4A07F5F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CD3-A42E-41CE-B7A1-F1823524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6CB-227D-44E3-AFB5-EAAA8454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B83-A066-4947-BCDC-DFB5F09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0F6-EDC9-4340-B951-AF1CECD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E0AF-D666-4F0A-BBD4-884E4FED35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7028-FEBA-4EB0-9EAE-10DD63D91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2" descr=""/>
          <p:cNvPicPr/>
          <p:nvPr/>
        </p:nvPicPr>
        <p:blipFill>
          <a:blip r:embed="rId1"/>
          <a:stretch/>
        </p:blipFill>
        <p:spPr>
          <a:xfrm>
            <a:off x="1133640" y="2382840"/>
            <a:ext cx="2920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62120" y="123300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ke, at, fo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are having a party ____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ut two small holes _____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 look _____ Z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943600" y="2209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97180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10080" y="3124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200400" y="3657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1012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完成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ose hat is this? 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回答问题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__ Amy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②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this dress yours? 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作肯定回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es, _______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③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 these shoes yours? 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作否定回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, _________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些是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k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短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__ are Mike’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29528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438280" y="2895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t   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14600" y="3886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y        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143000" y="4876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se                  sock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3124080"/>
            <a:ext cx="6096240" cy="19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分组课下继续表演本课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用本单元所学句型与小组同学共同编写一个幽默小故事或是小游戏，在课下给其他同学表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3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ry to underst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0" name="Picture 7" descr="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Oval 8"/>
          <p:cNvSpPr/>
          <p:nvPr/>
        </p:nvSpPr>
        <p:spPr>
          <a:xfrm>
            <a:off x="685800" y="441972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ry to underst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3" name="Picture 8" descr="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Oval 9"/>
          <p:cNvSpPr/>
          <p:nvPr/>
        </p:nvSpPr>
        <p:spPr>
          <a:xfrm>
            <a:off x="6400800" y="380988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ry to underst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6" name="Picture 3" descr="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Oval 4"/>
          <p:cNvSpPr/>
          <p:nvPr/>
        </p:nvSpPr>
        <p:spPr>
          <a:xfrm>
            <a:off x="3733920" y="411480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ry to underst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9" name="Picture 3" descr="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Oval 4"/>
          <p:cNvSpPr/>
          <p:nvPr/>
        </p:nvSpPr>
        <p:spPr>
          <a:xfrm>
            <a:off x="3200400" y="350532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ry to underst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2" name="Picture 3" descr="q"/>
          <p:cNvPicPr/>
          <p:nvPr/>
        </p:nvPicPr>
        <p:blipFill>
          <a:blip r:embed="rId1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3352680" y="419112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ry to underst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5" name="Picture 4" descr="r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6" name="Oval 5"/>
          <p:cNvSpPr/>
          <p:nvPr/>
        </p:nvSpPr>
        <p:spPr>
          <a:xfrm>
            <a:off x="6400800" y="380988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1066680" y="45720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ry to underst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8" name="Picture 4" descr="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Oval 5"/>
          <p:cNvSpPr/>
          <p:nvPr/>
        </p:nvSpPr>
        <p:spPr>
          <a:xfrm>
            <a:off x="6858000" y="3809880"/>
            <a:ext cx="2286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3"/>
          <p:cNvSpPr txBox="1"/>
          <p:nvPr/>
        </p:nvSpPr>
        <p:spPr>
          <a:xfrm>
            <a:off x="533520" y="30492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et's tal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71" name="Group 35"/>
          <p:cNvGrpSpPr/>
          <p:nvPr/>
        </p:nvGrpSpPr>
        <p:grpSpPr>
          <a:xfrm>
            <a:off x="304920" y="457200"/>
            <a:ext cx="5257440" cy="5105520"/>
            <a:chOff x="304920" y="457200"/>
            <a:chExt cx="5257440" cy="5105520"/>
          </a:xfrm>
        </p:grpSpPr>
        <p:grpSp>
          <p:nvGrpSpPr>
            <p:cNvPr id="72" name="Group 25"/>
            <p:cNvGrpSpPr/>
            <p:nvPr/>
          </p:nvGrpSpPr>
          <p:grpSpPr>
            <a:xfrm>
              <a:off x="304920" y="457200"/>
              <a:ext cx="5257440" cy="5105520"/>
              <a:chOff x="304920" y="457200"/>
              <a:chExt cx="5257440" cy="5105520"/>
            </a:xfrm>
          </p:grpSpPr>
          <p:sp>
            <p:nvSpPr>
              <p:cNvPr id="73" name="Text Box 16"/>
              <p:cNvSpPr/>
              <p:nvPr/>
            </p:nvSpPr>
            <p:spPr>
              <a:xfrm rot="17812200">
                <a:off x="2742120" y="2064600"/>
                <a:ext cx="92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Joh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Group 24"/>
              <p:cNvGrpSpPr/>
              <p:nvPr/>
            </p:nvGrpSpPr>
            <p:grpSpPr>
              <a:xfrm>
                <a:off x="304920" y="457200"/>
                <a:ext cx="5257440" cy="5105520"/>
                <a:chOff x="304920" y="457200"/>
                <a:chExt cx="5257440" cy="5105520"/>
              </a:xfrm>
            </p:grpSpPr>
            <p:grpSp>
              <p:nvGrpSpPr>
                <p:cNvPr id="75" name="Group 14"/>
                <p:cNvGrpSpPr/>
                <p:nvPr/>
              </p:nvGrpSpPr>
              <p:grpSpPr>
                <a:xfrm>
                  <a:off x="304920" y="457200"/>
                  <a:ext cx="5257440" cy="5105520"/>
                  <a:chOff x="304920" y="457200"/>
                  <a:chExt cx="5257440" cy="5105520"/>
                </a:xfrm>
              </p:grpSpPr>
              <p:sp>
                <p:nvSpPr>
                  <p:cNvPr id="76" name="Oval 4"/>
                  <p:cNvSpPr/>
                  <p:nvPr/>
                </p:nvSpPr>
                <p:spPr>
                  <a:xfrm>
                    <a:off x="304920" y="457200"/>
                    <a:ext cx="5257440" cy="51055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Oval 8"/>
                  <p:cNvSpPr/>
                  <p:nvPr/>
                </p:nvSpPr>
                <p:spPr>
                  <a:xfrm>
                    <a:off x="1696680" y="1808280"/>
                    <a:ext cx="2473920" cy="231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Line 9"/>
                  <p:cNvSpPr/>
                  <p:nvPr/>
                </p:nvSpPr>
                <p:spPr>
                  <a:xfrm>
                    <a:off x="304920" y="3009960"/>
                    <a:ext cx="525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10"/>
                  <p:cNvSpPr/>
                  <p:nvPr/>
                </p:nvSpPr>
                <p:spPr>
                  <a:xfrm>
                    <a:off x="2934000" y="457200"/>
                    <a:ext cx="0" cy="5105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12"/>
                  <p:cNvSpPr/>
                  <p:nvPr/>
                </p:nvSpPr>
                <p:spPr>
                  <a:xfrm>
                    <a:off x="923040" y="1357920"/>
                    <a:ext cx="4020840" cy="330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13"/>
                  <p:cNvSpPr/>
                  <p:nvPr/>
                </p:nvSpPr>
                <p:spPr>
                  <a:xfrm flipH="1">
                    <a:off x="1000800" y="1207800"/>
                    <a:ext cx="3788640" cy="360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Text Box 15"/>
                <p:cNvSpPr/>
                <p:nvPr/>
              </p:nvSpPr>
              <p:spPr>
                <a:xfrm rot="3948600">
                  <a:off x="2231640" y="2177640"/>
                  <a:ext cx="93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Mik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17"/>
                <p:cNvSpPr/>
                <p:nvPr/>
              </p:nvSpPr>
              <p:spPr>
                <a:xfrm rot="20209800">
                  <a:off x="3241800" y="2439720"/>
                  <a:ext cx="851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eter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18"/>
                <p:cNvSpPr/>
                <p:nvPr/>
              </p:nvSpPr>
              <p:spPr>
                <a:xfrm rot="1564800">
                  <a:off x="3130560" y="3092760"/>
                  <a:ext cx="1056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Sara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9"/>
                <p:cNvSpPr/>
                <p:nvPr/>
              </p:nvSpPr>
              <p:spPr>
                <a:xfrm rot="3558000">
                  <a:off x="2681280" y="3529440"/>
                  <a:ext cx="1148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Mary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20"/>
                <p:cNvSpPr/>
                <p:nvPr/>
              </p:nvSpPr>
              <p:spPr>
                <a:xfrm rot="17821800">
                  <a:off x="2103480" y="3246120"/>
                  <a:ext cx="1146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my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Text Box 21"/>
                <p:cNvSpPr/>
                <p:nvPr/>
              </p:nvSpPr>
              <p:spPr>
                <a:xfrm rot="19533000">
                  <a:off x="1868400" y="2950200"/>
                  <a:ext cx="105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Kate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22"/>
                <p:cNvSpPr/>
                <p:nvPr/>
              </p:nvSpPr>
              <p:spPr>
                <a:xfrm rot="785400">
                  <a:off x="1751400" y="2526480"/>
                  <a:ext cx="1058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Lisa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" name="Picture 26" descr="u=605491000,1709391576&amp;fm=23&amp;gp=0"/>
            <p:cNvPicPr/>
            <p:nvPr/>
          </p:nvPicPr>
          <p:blipFill>
            <a:blip r:embed="rId1"/>
            <a:stretch/>
          </p:blipFill>
          <p:spPr>
            <a:xfrm rot="17629800">
              <a:off x="651960" y="1930320"/>
              <a:ext cx="83340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7" descr="u=3584444193,3212733857&amp;fm=23&amp;gp=0"/>
            <p:cNvPicPr/>
            <p:nvPr/>
          </p:nvPicPr>
          <p:blipFill>
            <a:blip r:embed="rId2"/>
            <a:stretch/>
          </p:blipFill>
          <p:spPr>
            <a:xfrm rot="3369000">
              <a:off x="4217040" y="1842840"/>
              <a:ext cx="78408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u=2226859527,1035534680&amp;fm=23&amp;gp=0"/>
            <p:cNvPicPr/>
            <p:nvPr/>
          </p:nvPicPr>
          <p:blipFill>
            <a:blip r:embed="rId3"/>
            <a:stretch/>
          </p:blipFill>
          <p:spPr>
            <a:xfrm rot="1302600">
              <a:off x="3261960" y="884520"/>
              <a:ext cx="7693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9" descr="u=2612499452,3869053640&amp;fm=23&amp;gp=0"/>
            <p:cNvPicPr/>
            <p:nvPr/>
          </p:nvPicPr>
          <p:blipFill>
            <a:blip r:embed="rId4"/>
            <a:stretch/>
          </p:blipFill>
          <p:spPr>
            <a:xfrm rot="20231400">
              <a:off x="893520" y="3242520"/>
              <a:ext cx="722880" cy="7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0" descr="u=4127976091,2855847619&amp;fm=23&amp;gp=0"/>
            <p:cNvPicPr/>
            <p:nvPr/>
          </p:nvPicPr>
          <p:blipFill>
            <a:blip r:embed="rId5"/>
            <a:stretch/>
          </p:blipFill>
          <p:spPr>
            <a:xfrm rot="17362800">
              <a:off x="4345920" y="3325320"/>
              <a:ext cx="927000" cy="52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1" descr="u=2815567989,2704344571&amp;fm=23&amp;gp=0"/>
            <p:cNvPicPr/>
            <p:nvPr/>
          </p:nvPicPr>
          <p:blipFill>
            <a:blip r:embed="rId6"/>
            <a:stretch/>
          </p:blipFill>
          <p:spPr>
            <a:xfrm rot="20516400">
              <a:off x="3152520" y="4186440"/>
              <a:ext cx="105156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2" descr="u=1816355398,2420015454&amp;fm=23&amp;gp=0"/>
            <p:cNvPicPr/>
            <p:nvPr/>
          </p:nvPicPr>
          <p:blipFill>
            <a:blip r:embed="rId7"/>
            <a:stretch/>
          </p:blipFill>
          <p:spPr>
            <a:xfrm rot="20036400">
              <a:off x="1947960" y="884520"/>
              <a:ext cx="651600" cy="8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3" descr="u=4212510226,164892019&amp;fm=23&amp;gp=0"/>
            <p:cNvPicPr/>
            <p:nvPr/>
          </p:nvPicPr>
          <p:blipFill>
            <a:blip r:embed="rId8"/>
            <a:stretch/>
          </p:blipFill>
          <p:spPr>
            <a:xfrm rot="1770000">
              <a:off x="1750320" y="4379400"/>
              <a:ext cx="98568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 Box 36"/>
          <p:cNvSpPr/>
          <p:nvPr/>
        </p:nvSpPr>
        <p:spPr>
          <a:xfrm>
            <a:off x="5715000" y="1143000"/>
            <a:ext cx="3200400" cy="289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this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 those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se …is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se … are th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20:42Z</dcterms:created>
  <dc:creator/>
  <dc:description/>
  <dc:language>en-US</dc:language>
  <cp:lastModifiedBy/>
  <dcterms:modified xsi:type="dcterms:W3CDTF">2016-12-28T01:23:26Z</dcterms:modified>
  <cp:revision>1</cp:revision>
  <dc:subject/>
  <dc:title/>
</cp:coreProperties>
</file>