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D12B-5105-44FB-A55E-800954C219B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6088-6720-4AD9-91D9-7EC33D1DAC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8816-1BA2-47E5-894A-7FD9086710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A284-9E16-4926-A0DA-C6FF43D59C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209D-EDFF-430B-9C7F-66FAA94538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5594-487A-49DA-A300-E429CE159C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13B4-7F61-43DE-A3EA-9EA27E3734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46BD-7BE8-4C6A-8290-6D4F046CA5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8CC6-7F45-45C4-B13B-0DE1789FC16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81F3-D972-43EC-859E-848EBB5977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1BA1-3570-43EC-9FBA-8582741311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2B87-9F28-4024-9D7F-888FF7B836A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B70F-F10C-4DE9-B915-FA310D75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DF5A-F061-424F-8785-4ECB499F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BE0-C038-44ED-B6C0-D11FBBD5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2D05-BAEF-4538-8840-A3357EF6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7B57-3052-400D-9DAB-05B88299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A751-25CB-44FA-9F28-E98468CD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A547-6941-4A5F-80BB-1D72B8AE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BD2A-D06E-4A5A-9C4A-C4FB2E44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8133-D0B0-4FF4-846A-909AA6F7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B66D-77C1-4204-9B95-917D15B9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745B-4591-4CF2-B1FD-3D6E75EB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333B-F09C-4C93-AC8D-81BB19C4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B3A5-1267-4F7B-B09C-FD574B64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7A15-0540-4BA9-931F-0CD17C46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6B5B-9B36-4354-98E1-173FB30F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0AB2-5759-40DE-B6FB-6270D19C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5E86-5277-4DD5-AA96-0BEDD1D0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AB8-726F-4686-845C-13C1044C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2496-BCDB-4363-B159-DC6E6440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B1FF-5D9B-47E3-8EEC-FABB4371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84A-107C-4530-9652-2A0C770C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A63-5D98-46B8-8757-26E9517A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5782-F8D1-4F8D-A699-F13993B0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A37-528A-461F-A515-09DE9A57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946F-117E-4B68-A0C5-2EC7636BEA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9F9C-425B-48F2-A3DE-74B46B81A6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../../AppData/Local/Microsoft/Windows/Temporary%20Internet%20Files/Content.IE5/SPBZMKNC/UNIT%206.ppt" TargetMode="External"/><Relationship Id="rId3" Type="http://schemas.openxmlformats.org/officeDocument/2006/relationships/image" Target="../media/image4.jpeg"/><Relationship Id="rId4" Type="http://schemas.openxmlformats.org/officeDocument/2006/relationships/hyperlink" Target="file:///../../AppData/Local/Microsoft/Windows/Temporary%20Internet%20Files/Content.IE5/SPBZMKNC/UNIT%206.ppt" TargetMode="External"/><Relationship Id="rId5" Type="http://schemas.openxmlformats.org/officeDocument/2006/relationships/image" Target="../media/image5.jpeg"/><Relationship Id="rId6" Type="http://schemas.openxmlformats.org/officeDocument/2006/relationships/hyperlink" Target="file:///../../AppData/Local/Microsoft/Windows/Temporary%20Internet%20Files/Content.IE5/SPBZMKNC/UNIT%206.ppt" TargetMode="Externa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ppt课件背景"/>
          <p:cNvPicPr/>
          <p:nvPr/>
        </p:nvPicPr>
        <p:blipFill>
          <a:blip r:embed="rId1"/>
          <a:srcRect l="0" t="3125" r="0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 Black"/>
                <a:ea typeface="Dotum"/>
              </a:rPr>
              <a:t>UNIT </a:t>
            </a: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6</a:t>
            </a:r>
            <a:br>
              <a:rPr sz="8000"/>
            </a:b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Job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无标题"/>
          <p:cNvPicPr/>
          <p:nvPr/>
        </p:nvPicPr>
        <p:blipFill>
          <a:blip r:embed="rId1"/>
          <a:stretch/>
        </p:blipFill>
        <p:spPr>
          <a:xfrm>
            <a:off x="-181080" y="0"/>
            <a:ext cx="950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.What do your father and mother do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What does your father d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My father is a 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What does your mother d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My mother is a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What do you want to be in the fu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I want to be a ________in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20071106002800150"/>
          <p:cNvPicPr/>
          <p:nvPr/>
        </p:nvPicPr>
        <p:blipFill>
          <a:blip r:embed="rId1"/>
          <a:srcRect l="0" t="4168" r="0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Speaking in one brea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11280" y="2205000"/>
            <a:ext cx="871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What do you do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250920" y="333360"/>
            <a:ext cx="86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to say the following job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20070405175821378">
            <a:hlinkClick r:id="" action="ppaction://hlinkshowjump?jump=nextslide"/>
          </p:cNvPr>
          <p:cNvPicPr/>
          <p:nvPr/>
        </p:nvPicPr>
        <p:blipFill>
          <a:blip r:embed="rId1"/>
          <a:srcRect l="0" t="35768" r="0" b="8026"/>
          <a:stretch/>
        </p:blipFill>
        <p:spPr>
          <a:xfrm>
            <a:off x="826920" y="1844640"/>
            <a:ext cx="1729080" cy="165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医生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184464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教师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4221000"/>
            <a:ext cx="1656000" cy="158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护士">
            <a:hlinkClick r:id="rId6"/>
          </p:cNvPr>
          <p:cNvPicPr/>
          <p:nvPr/>
        </p:nvPicPr>
        <p:blipFill>
          <a:blip r:embed="rId7"/>
          <a:srcRect l="4968" t="4506" r="4968" b="4506"/>
          <a:stretch/>
        </p:blipFill>
        <p:spPr>
          <a:xfrm>
            <a:off x="6804000" y="4221000"/>
            <a:ext cx="172872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出租车1"/>
          <p:cNvPicPr/>
          <p:nvPr/>
        </p:nvPicPr>
        <p:blipFill>
          <a:blip r:embed="rId8"/>
          <a:srcRect l="0" t="0" r="51512" b="-1035"/>
          <a:stretch/>
        </p:blipFill>
        <p:spPr>
          <a:xfrm>
            <a:off x="3708360" y="4221000"/>
            <a:ext cx="1800360" cy="15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经理3"/>
          <p:cNvPicPr/>
          <p:nvPr/>
        </p:nvPicPr>
        <p:blipFill>
          <a:blip r:embed="rId9"/>
          <a:stretch/>
        </p:blipFill>
        <p:spPr>
          <a:xfrm>
            <a:off x="6659640" y="1844640"/>
            <a:ext cx="1728720" cy="1584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2"/>
          <p:cNvSpPr/>
          <p:nvPr/>
        </p:nvSpPr>
        <p:spPr>
          <a:xfrm>
            <a:off x="1258920" y="371628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E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3924360" y="371628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4067280" y="3645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B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7020000" y="3645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F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1332000" y="595008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D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4067280" y="602136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4140360" y="595008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A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7236000" y="595008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C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20070405175821378"/>
          <p:cNvPicPr/>
          <p:nvPr/>
        </p:nvPicPr>
        <p:blipFill>
          <a:blip r:embed="rId1"/>
          <a:srcRect l="0" t="37051" r="0" b="5783"/>
          <a:stretch/>
        </p:blipFill>
        <p:spPr>
          <a:xfrm>
            <a:off x="1403280" y="1125360"/>
            <a:ext cx="6296040" cy="5445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2700360" y="18900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police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医生"/>
          <p:cNvPicPr/>
          <p:nvPr/>
        </p:nvPicPr>
        <p:blipFill>
          <a:blip r:embed="rId1"/>
          <a:stretch/>
        </p:blipFill>
        <p:spPr>
          <a:xfrm>
            <a:off x="1187280" y="1125360"/>
            <a:ext cx="6913800" cy="5589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2484360" y="26028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do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经理3"/>
          <p:cNvPicPr/>
          <p:nvPr/>
        </p:nvPicPr>
        <p:blipFill>
          <a:blip r:embed="rId1"/>
          <a:stretch/>
        </p:blipFill>
        <p:spPr>
          <a:xfrm>
            <a:off x="1692360" y="1341360"/>
            <a:ext cx="5715000" cy="5516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700360" y="549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ma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教师"/>
          <p:cNvPicPr/>
          <p:nvPr/>
        </p:nvPicPr>
        <p:blipFill>
          <a:blip r:embed="rId1"/>
          <a:stretch/>
        </p:blipFill>
        <p:spPr>
          <a:xfrm>
            <a:off x="1547640" y="1484280"/>
            <a:ext cx="6409080" cy="5373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843280" y="62064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tea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2627280" y="33336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taxi d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出租车1"/>
          <p:cNvPicPr/>
          <p:nvPr/>
        </p:nvPicPr>
        <p:blipFill>
          <a:blip r:embed="rId1"/>
          <a:srcRect l="0" t="0" r="47354" b="0"/>
          <a:stretch/>
        </p:blipFill>
        <p:spPr>
          <a:xfrm>
            <a:off x="1547640" y="1125360"/>
            <a:ext cx="583272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护士"/>
          <p:cNvPicPr/>
          <p:nvPr/>
        </p:nvPicPr>
        <p:blipFill>
          <a:blip r:embed="rId1"/>
          <a:srcRect l="0" t="3416" r="-10857" b="24481"/>
          <a:stretch/>
        </p:blipFill>
        <p:spPr>
          <a:xfrm>
            <a:off x="1835280" y="981000"/>
            <a:ext cx="6335640" cy="54943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700360" y="18900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n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按纽1"/>
          <p:cNvPicPr/>
          <p:nvPr/>
        </p:nvPicPr>
        <p:blipFill>
          <a:blip r:embed="rId2"/>
          <a:stretch/>
        </p:blipFill>
        <p:spPr>
          <a:xfrm>
            <a:off x="0" y="5589720"/>
            <a:ext cx="10429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1:37:11Z</dcterms:created>
  <dc:creator/>
  <dc:description/>
  <dc:language>en-US</dc:language>
  <cp:lastModifiedBy/>
  <dcterms:modified xsi:type="dcterms:W3CDTF">2016-12-28T01:40:45Z</dcterms:modified>
  <cp:revision>1</cp:revision>
  <dc:subject/>
  <dc:title/>
</cp:coreProperties>
</file>