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21.jpeg" ContentType="image/jpeg"/>
  <Override PartName="/ppt/media/image19.wmf" ContentType="image/x-wmf"/>
  <Override PartName="/ppt/media/image2.png" ContentType="image/png"/>
  <Override PartName="/ppt/media/image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9631-2335-4945-B654-CF58F67A51B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EAD-1A0A-4354-A8C5-D71E1C77C043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0BB-2138-4E8E-921B-7B161C2FAA7E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F266-870E-4059-9CCC-3DB37F19DF3D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7C0-CC1B-4EF6-A609-4C59224DE94D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9D31-9933-44EA-A530-032B94F41A61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570-87C9-4D46-986C-0559B93F0495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8460-9653-49C7-BB1B-E2047D1081B4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5D3-5F10-4B1D-88A3-E5FF4D630895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D32-EE2C-4572-9621-437F750D6ADF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FC9-BA55-4D1C-ADB5-7D5F7B7E75C4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A222-2C47-43D0-925F-02312188FA5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90B4-39CA-4A04-82DD-7C0DC5D63E43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A77-F3A0-4672-AC5B-1A8AABF88AA1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882D-0182-4A7C-9568-AFAA8FCD4507}" type="slidenum"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B82-7949-423D-91FB-8605A140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718-4998-4C51-9AA4-1BDE4E52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EFF-5EC1-46A4-9FFB-F2516BA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21E-8871-43A6-A161-EB30F576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5480-65CC-4290-AA44-E6BB6772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D7B4-3D8F-42B1-9EFE-428576D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C2F9-67A2-4D64-8717-7D91278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0EF-F3AE-404A-AFC4-1DE1BEB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406-CB0F-4916-A61F-8494914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0A7D-C146-4812-BF98-DA93B67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95E5-F604-4D16-BEF8-8D4CB97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4F8-0F12-4915-8DB9-182D55CD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2B0-4A3E-46C8-9E3D-A0724A3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487-EEEB-4904-894A-5ADDE62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608B-148D-4731-998C-33A8B42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53F-C40B-447A-952C-64E04EA4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00D-4619-4352-9D0C-645EAEE0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A28-42B3-46D7-95EF-FC00C51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CCF-32E4-4C29-B356-DD78B39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968-AE48-4D62-BCD5-FBBA4EA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059-119B-4ED0-9A55-D24A7889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6B3-A06B-48D8-973D-C53EAD4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52D-6645-47D6-A399-D85F55F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FEB-401C-4DFD-8569-FA8AB82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54B-9252-426D-B8C2-F0BD1352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EE3E-F5B3-405D-8508-AC77F1484F5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9.wmf"/><Relationship Id="rId5" Type="http://schemas.openxmlformats.org/officeDocument/2006/relationships/image" Target="../media/image1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643040" y="1428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矩形 5" descr=""/>
          <p:cNvPicPr/>
          <p:nvPr/>
        </p:nvPicPr>
        <p:blipFill>
          <a:blip r:embed="rId2"/>
          <a:stretch/>
        </p:blipFill>
        <p:spPr>
          <a:xfrm>
            <a:off x="1427040" y="1584360"/>
            <a:ext cx="70772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500120" y="414324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ride a bike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4" descr="D:\yanzi\儿童-0122222.jpg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1555920" y="5643720"/>
            <a:ext cx="53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ride a bik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143000" y="392904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go swimming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5" name="Picture 5" descr="D:\yanzi\儿童-01111.jpg"/>
          <p:cNvPicPr/>
          <p:nvPr/>
        </p:nvPicPr>
        <p:blipFill>
          <a:blip r:embed="rId1"/>
          <a:stretch/>
        </p:blipFill>
        <p:spPr>
          <a:xfrm>
            <a:off x="2209680" y="838080"/>
            <a:ext cx="4038840" cy="34718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1081800" y="5572080"/>
            <a:ext cx="59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go swimm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032"/>
          <p:cNvSpPr/>
          <p:nvPr/>
        </p:nvSpPr>
        <p:spPr>
          <a:xfrm>
            <a:off x="533520" y="2666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basketb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Text Box 1033"/>
          <p:cNvSpPr/>
          <p:nvPr/>
        </p:nvSpPr>
        <p:spPr>
          <a:xfrm>
            <a:off x="3200400" y="2666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table tenn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1034"/>
          <p:cNvSpPr/>
          <p:nvPr/>
        </p:nvSpPr>
        <p:spPr>
          <a:xfrm>
            <a:off x="6248520" y="2666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ide a bik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035"/>
          <p:cNvSpPr/>
          <p:nvPr/>
        </p:nvSpPr>
        <p:spPr>
          <a:xfrm>
            <a:off x="0" y="5486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y footb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036"/>
          <p:cNvSpPr/>
          <p:nvPr/>
        </p:nvSpPr>
        <p:spPr>
          <a:xfrm>
            <a:off x="5638680" y="5572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o swimm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2" name="Picture 1038" descr="C:\Program Files\Common Files\Microsoft Shared\Clipart\cagcat50\BD00010_.WMF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371600" y="304920"/>
            <a:ext cx="1066680" cy="251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9" descr="D:\yanzi\儿童-0233333.jpg"/>
          <p:cNvPicPr/>
          <p:nvPr/>
        </p:nvPicPr>
        <p:blipFill>
          <a:blip r:embed="rId2"/>
          <a:stretch/>
        </p:blipFill>
        <p:spPr>
          <a:xfrm>
            <a:off x="3733920" y="6094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40" descr="D:\yanzi\儿童-0122222.jpg"/>
          <p:cNvPicPr/>
          <p:nvPr/>
        </p:nvPicPr>
        <p:blipFill>
          <a:blip r:embed="rId3"/>
          <a:stretch/>
        </p:blipFill>
        <p:spPr>
          <a:xfrm>
            <a:off x="5486400" y="533520"/>
            <a:ext cx="2971800" cy="2133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41" descr="C:\Program Files\Common Files\Microsoft Shared\Clipart\cagcat50\BD00013_.WMF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1066680" y="3276720"/>
            <a:ext cx="175284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42" descr="D:\yanzi\儿童-01111.jpg"/>
          <p:cNvPicPr/>
          <p:nvPr/>
        </p:nvPicPr>
        <p:blipFill>
          <a:blip r:embed="rId5"/>
          <a:stretch/>
        </p:blipFill>
        <p:spPr>
          <a:xfrm>
            <a:off x="5857920" y="3429000"/>
            <a:ext cx="2590920" cy="19479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5"/>
          <p:cNvSpPr/>
          <p:nvPr/>
        </p:nvSpPr>
        <p:spPr>
          <a:xfrm>
            <a:off x="3130920" y="3714840"/>
            <a:ext cx="231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outside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3571920" y="4714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在外面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d"/>
    <p:sndAc>
      <p:stSnd>
        <p:snd r:embed="rId6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" descr="play outside.jpg"/>
          <p:cNvPicPr/>
          <p:nvPr/>
        </p:nvPicPr>
        <p:blipFill>
          <a:blip r:embed="rId1"/>
          <a:stretch/>
        </p:blipFill>
        <p:spPr>
          <a:xfrm>
            <a:off x="0" y="0"/>
            <a:ext cx="5357880" cy="42148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4571640" y="1285920"/>
            <a:ext cx="39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58c"/>
                </a:solidFill>
                <a:latin typeface="Tahoma"/>
              </a:rPr>
              <a:t>play  outside 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59400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在外面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105560" y="471492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play outsid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1" descr="surf the Internet.jpg"/>
          <p:cNvPicPr/>
          <p:nvPr/>
        </p:nvPicPr>
        <p:blipFill>
          <a:blip r:embed="rId1"/>
          <a:stretch/>
        </p:blipFill>
        <p:spPr>
          <a:xfrm>
            <a:off x="0" y="0"/>
            <a:ext cx="5143680" cy="421488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4412520" y="1857240"/>
            <a:ext cx="42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surf the Internet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6005880" y="271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上网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286280" y="464328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surf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3944160" y="464328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698480" y="55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浏览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332600" y="5500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因特网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加号 9"/>
          <p:cNvSpPr/>
          <p:nvPr/>
        </p:nvSpPr>
        <p:spPr>
          <a:xfrm>
            <a:off x="2571840" y="4500720"/>
            <a:ext cx="1214280" cy="1128600"/>
          </a:xfrm>
          <a:prstGeom prst="pie">
            <a:avLst/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o am I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124080" y="1981080"/>
            <a:ext cx="2027520" cy="327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5029200" y="3200400"/>
            <a:ext cx="2895480" cy="3352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198144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5943600" y="685800"/>
            <a:ext cx="1623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95120" y="71424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What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 Yaoming want to do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t the weekend</a:t>
            </a: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Picture 4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914400" y="18288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6" descr="C:\Documents and Settings\缸缸\桌面\新建文件夹\单词1.jpg"/>
          <p:cNvPicPr/>
          <p:nvPr/>
        </p:nvPicPr>
        <p:blipFill>
          <a:blip r:embed="rId1"/>
          <a:srcRect l="0" t="114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3124080" y="1752480"/>
            <a:ext cx="320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571840" y="1219320"/>
            <a:ext cx="44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t the weekend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3048120" y="33526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58c"/>
                </a:solidFill>
                <a:latin typeface="黑体"/>
                <a:ea typeface="黑体"/>
              </a:rPr>
              <a:t>Weekend  </a:t>
            </a:r>
            <a:r>
              <a:rPr b="1" lang="zh-CN" sz="4800" spc="-1" strike="noStrike">
                <a:solidFill>
                  <a:srgbClr val="40458c"/>
                </a:solidFill>
                <a:latin typeface="黑体"/>
                <a:ea typeface="黑体"/>
              </a:rPr>
              <a:t>周末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4102920" y="2143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在周末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cover dir="l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He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wants</a:t>
            </a: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 to play basketball.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5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469880" y="1905120"/>
            <a:ext cx="25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C:\Documents and Settings\缸缸\桌面\000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9720" y="-33336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What do you want to do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t the weekend</a:t>
            </a: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361960" y="4266720"/>
            <a:ext cx="6476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4" descr="D:\燕子\优秀教案\两次小品比赛_教学后记_教学反思_吴江教研新闻系统.files\welcome.gif"/>
          <p:cNvPicPr/>
          <p:nvPr/>
        </p:nvPicPr>
        <p:blipFill>
          <a:blip r:embed="rId2"/>
          <a:stretch/>
        </p:blipFill>
        <p:spPr>
          <a:xfrm>
            <a:off x="0" y="609480"/>
            <a:ext cx="285768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7"/>
          <p:cNvSpPr/>
          <p:nvPr/>
        </p:nvSpPr>
        <p:spPr>
          <a:xfrm>
            <a:off x="2138400" y="5000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你想在周末做什么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27"/>
          <p:cNvSpPr/>
          <p:nvPr/>
        </p:nvSpPr>
        <p:spPr>
          <a:xfrm>
            <a:off x="1857240" y="44290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play basketball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1029" descr="C:\Program Files\Common Files\Microsoft Shared\Clipart\cagcat50\BD00010_.WMF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09880" y="762120"/>
            <a:ext cx="1295640" cy="3962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90360" y="5572080"/>
            <a:ext cx="62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play basketball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左大括号 6"/>
          <p:cNvSpPr/>
          <p:nvPr/>
        </p:nvSpPr>
        <p:spPr>
          <a:xfrm>
            <a:off x="6143760" y="5357880"/>
            <a:ext cx="188640" cy="857160"/>
          </a:xfrm>
          <a:custGeom>
            <a:avLst/>
            <a:gdLst>
              <a:gd name="textAreaLeft" fmla="*/ 120600 w 188640"/>
              <a:gd name="textAreaRight" fmla="*/ 189000 w 188640"/>
              <a:gd name="textAreaTop" fmla="*/ 4680 h 857160"/>
              <a:gd name="textAreaBottom" fmla="*/ 8524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5400" y="10800"/>
                  <a:pt x="0" y="10800"/>
                </a:cubicBezTo>
                <a:cubicBezTo>
                  <a:pt x="54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16200" y="21600"/>
                  <a:pt x="21600" y="21600"/>
                </a:cubicBezTo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6421320" y="52149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s,I 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6411240" y="59292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,I don’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2081880" y="6143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你想打篮球吗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1857240" y="435780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play table tennis 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Picture 4" descr="D:\yanzi\儿童-0233333.jpg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36920" y="5643720"/>
            <a:ext cx="65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play table tenni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143000" y="407196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40458c"/>
                </a:solidFill>
                <a:latin typeface="Times New Roman"/>
              </a:rPr>
              <a:t>play soccer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Picture 4" descr="C:\Program Files\Common Files\Microsoft Shared\Clipart\cagcat50\BD00013_.WMF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657600" y="1143000"/>
            <a:ext cx="2389320" cy="3376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1620720" y="5572080"/>
            <a:ext cx="54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you want to play socc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59:23Z</dcterms:created>
  <dc:creator/>
  <dc:description/>
  <dc:language>en-US</dc:language>
  <cp:lastModifiedBy/>
  <dcterms:modified xsi:type="dcterms:W3CDTF">2016-12-28T01:59:55Z</dcterms:modified>
  <cp:revision>1</cp:revision>
  <dc:subject/>
  <dc:title/>
</cp:coreProperties>
</file>