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FE8-7517-419D-A8C7-C35E6BC42A47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72E0-973F-4F56-9A09-C6250E64025D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997C-55AF-42CD-8E61-4A0F8FA3511F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2EA4-00BA-453C-9BD6-235BC9D22084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3FB9-11A9-40E9-8A59-0AC3B026F67A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0FF5-2F13-4D1B-86C3-870CE96219E2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4C6-9DFA-4100-8A51-132D9E2F46A3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F881-6150-4CEE-9405-EC48EF2B6427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D58B-A7CE-4F99-B791-C594273DBCA3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CEB1-8BDB-4D3E-9F35-C4A1B5637E4B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3EEF-4087-458B-AB3A-93B0EA24090E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8336-4774-4BC8-8CA0-7EFCACE1BCE3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0009-337D-4652-9202-35BE394828D1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143-D95D-45E7-81C6-50345B1793D7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315-8081-4434-94A2-9CDD58E5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A75-33CC-4ABB-8540-9AD5350B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83D-73E2-4152-82A6-F07C6087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6FF-81A4-4DEC-8718-9CFE7E90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8AEB-7584-4408-B36C-3FFCF4F2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54FD-BCDD-4D3D-88D5-4A1F65AE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71F-4499-40D4-8D56-96DE1762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DC21-5B40-49DA-A4D0-75893EF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3950-C813-498D-8E20-CB7ADF5F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38DA-A3F7-46B0-91A2-7E569976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75C5-468D-45C7-8D60-98014AF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597-25D7-4284-9EDB-6BD9421F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B7FC-58AA-4FC3-8354-3AE774A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2C48-BE91-4BA9-B7FF-E96678F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D513-EF11-46A9-B5D3-77C7A559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A1B0-9733-4ADC-8833-10C67A1A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DBD3-8526-4425-B722-DE310F0B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1A9-3AF9-4898-AF22-21547436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6E6-EC0B-459C-91BD-C9C0653F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F1D-9FA5-46B1-A06E-D531745C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0DB-9988-4C3C-9888-A534BB39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1B2-2809-4727-8633-E6FA1E5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3A4-2836-4A8A-873D-F2937DA4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90D-EF48-4E33-91B3-F75D9F38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F87C-1362-43C7-B478-3C4E49021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C297-77AD-45F7-8602-699CA249903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4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643040" y="14288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矩形 5" descr=""/>
          <p:cNvPicPr/>
          <p:nvPr/>
        </p:nvPicPr>
        <p:blipFill>
          <a:blip r:embed="rId2"/>
          <a:stretch/>
        </p:blipFill>
        <p:spPr>
          <a:xfrm>
            <a:off x="1427040" y="1584360"/>
            <a:ext cx="70772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26" descr="D:\yanzi\儿童-01111.jpg"/>
          <p:cNvPicPr/>
          <p:nvPr/>
        </p:nvPicPr>
        <p:blipFill>
          <a:blip r:embed="rId1"/>
          <a:stretch/>
        </p:blipFill>
        <p:spPr>
          <a:xfrm>
            <a:off x="2590920" y="1328760"/>
            <a:ext cx="3657600" cy="2981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27"/>
          <p:cNvSpPr/>
          <p:nvPr/>
        </p:nvSpPr>
        <p:spPr>
          <a:xfrm>
            <a:off x="76320" y="52419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B:  She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goes 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swimming.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028"/>
          <p:cNvSpPr/>
          <p:nvPr/>
        </p:nvSpPr>
        <p:spPr>
          <a:xfrm>
            <a:off x="0" y="4479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:  Wha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 Amy do at the weekend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randomBar dir="horz"/>
    <p:sndAc>
      <p:stSnd>
        <p:snd r:embed="rId2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D:\yanzi\儿童-0222222222.jpg"/>
          <p:cNvPicPr/>
          <p:nvPr/>
        </p:nvPicPr>
        <p:blipFill>
          <a:blip r:embed="rId1"/>
          <a:stretch/>
        </p:blipFill>
        <p:spPr>
          <a:xfrm>
            <a:off x="2438280" y="1371600"/>
            <a:ext cx="3733920" cy="3209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0" y="554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B:  She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watches 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TV.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4708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:  Wha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 Lingling do at the weekend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88"/>
          <p:cNvSpPr/>
          <p:nvPr/>
        </p:nvSpPr>
        <p:spPr>
          <a:xfrm>
            <a:off x="304920" y="304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2b2b2"/>
                </a:solidFill>
                <a:latin typeface="Times New Roman"/>
              </a:rPr>
              <a:t>用今天所学的句子来询问身边的同学   在周末常做什么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33520" y="2438280"/>
          <a:ext cx="8229600" cy="4689720"/>
        </p:xfrm>
        <a:graphic>
          <a:graphicData uri="http://schemas.openxmlformats.org/drawingml/2006/table">
            <a:tbl>
              <a:tblPr/>
              <a:tblGrid>
                <a:gridCol w="1176120"/>
                <a:gridCol w="1174680"/>
                <a:gridCol w="1176480"/>
                <a:gridCol w="1197000"/>
                <a:gridCol w="1143000"/>
                <a:gridCol w="1219320"/>
                <a:gridCol w="1143000"/>
              </a:tblGrid>
              <a:tr h="19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名字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9360">
                      <a:solidFill>
                        <a:srgbClr val="40458c"/>
                      </a:solidFill>
                    </a:lnT>
                    <a:lnB w="93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93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258"/>
          <p:cNvSpPr/>
          <p:nvPr/>
        </p:nvSpPr>
        <p:spPr>
          <a:xfrm>
            <a:off x="1523880" y="12636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        </a:t>
            </a:r>
            <a:r>
              <a:rPr b="0" lang="zh-CN" sz="3600" spc="-1" strike="noStrike">
                <a:solidFill>
                  <a:srgbClr val="40458c"/>
                </a:solidFill>
                <a:latin typeface="Times New Roman"/>
              </a:rPr>
              <a:t>周末活动调查表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268" descr="D:\yanzi\儿童-0122222.jpg"/>
          <p:cNvPicPr/>
          <p:nvPr/>
        </p:nvPicPr>
        <p:blipFill>
          <a:blip r:embed="rId1"/>
          <a:stretch/>
        </p:blipFill>
        <p:spPr>
          <a:xfrm>
            <a:off x="2971800" y="259092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69" descr="D:\yanzi\儿童-0233333.jpg"/>
          <p:cNvPicPr/>
          <p:nvPr/>
        </p:nvPicPr>
        <p:blipFill>
          <a:blip r:embed="rId2"/>
          <a:stretch/>
        </p:blipFill>
        <p:spPr>
          <a:xfrm>
            <a:off x="1752480" y="2714760"/>
            <a:ext cx="914400" cy="942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70" descr="D:\yanzi\儿童-01111.jpg"/>
          <p:cNvPicPr/>
          <p:nvPr/>
        </p:nvPicPr>
        <p:blipFill>
          <a:blip r:embed="rId3"/>
          <a:stretch/>
        </p:blipFill>
        <p:spPr>
          <a:xfrm>
            <a:off x="5486400" y="2819520"/>
            <a:ext cx="646200" cy="838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71" descr="D:\yanzi\儿童-0133333.jpg"/>
          <p:cNvPicPr/>
          <p:nvPr/>
        </p:nvPicPr>
        <p:blipFill>
          <a:blip r:embed="rId4"/>
          <a:stretch/>
        </p:blipFill>
        <p:spPr>
          <a:xfrm>
            <a:off x="4191120" y="2590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73" descr="D:\yanzi\儿童-0222222222.jpg"/>
          <p:cNvPicPr/>
          <p:nvPr/>
        </p:nvPicPr>
        <p:blipFill>
          <a:blip r:embed="rId5"/>
          <a:stretch/>
        </p:blipFill>
        <p:spPr>
          <a:xfrm>
            <a:off x="6477120" y="2766960"/>
            <a:ext cx="914400" cy="8906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79"/>
          <p:cNvSpPr/>
          <p:nvPr/>
        </p:nvSpPr>
        <p:spPr>
          <a:xfrm>
            <a:off x="5410080" y="1843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调查人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85"/>
          <p:cNvSpPr/>
          <p:nvPr/>
        </p:nvSpPr>
        <p:spPr>
          <a:xfrm>
            <a:off x="533520" y="3997440"/>
            <a:ext cx="1143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Text Box 287"/>
          <p:cNvSpPr/>
          <p:nvPr/>
        </p:nvSpPr>
        <p:spPr>
          <a:xfrm>
            <a:off x="4343400" y="4129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cover dir="lu"/>
    <p:sndAc>
      <p:stSnd>
        <p:snd r:embed="rId6" name="chimes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C:\Documents and Settings\缸缸\桌面\新建文件夹\beijin2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"/>
          <p:cNvSpPr/>
          <p:nvPr/>
        </p:nvSpPr>
        <p:spPr>
          <a:xfrm>
            <a:off x="1143000" y="16765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371600" y="1295280"/>
            <a:ext cx="73915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Homework: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完成调查表，下节课交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听读课文三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签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做一册通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 13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cover dir="l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9" name="直接箭头连接符 3"/>
          <p:cNvCxnSpPr/>
          <p:nvPr/>
        </p:nvCxnSpPr>
        <p:spPr>
          <a:xfrm flipV="1">
            <a:off x="5357520" y="4500000"/>
            <a:ext cx="857880" cy="2862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sp>
        <p:nvSpPr>
          <p:cNvPr id="220" name="TextBox 8"/>
          <p:cNvSpPr/>
          <p:nvPr/>
        </p:nvSpPr>
        <p:spPr>
          <a:xfrm>
            <a:off x="6245640" y="414324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bod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图片 10" descr="body_副本.jpg"/>
          <p:cNvPicPr/>
          <p:nvPr/>
        </p:nvPicPr>
        <p:blipFill>
          <a:blip r:embed="rId1"/>
          <a:stretch/>
        </p:blipFill>
        <p:spPr>
          <a:xfrm>
            <a:off x="500040" y="3571920"/>
            <a:ext cx="4660920" cy="26575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1" descr="body2.jpg"/>
          <p:cNvPicPr/>
          <p:nvPr/>
        </p:nvPicPr>
        <p:blipFill>
          <a:blip r:embed="rId2"/>
          <a:stretch/>
        </p:blipFill>
        <p:spPr>
          <a:xfrm>
            <a:off x="1500120" y="1181160"/>
            <a:ext cx="2438640" cy="23907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5"/>
          <p:cNvSpPr/>
          <p:nvPr/>
        </p:nvSpPr>
        <p:spPr>
          <a:xfrm>
            <a:off x="5391360" y="100008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head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图片 16" descr="body_副本.jpg"/>
          <p:cNvPicPr/>
          <p:nvPr/>
        </p:nvPicPr>
        <p:blipFill>
          <a:blip r:embed="rId3"/>
          <a:stretch/>
        </p:blipFill>
        <p:spPr>
          <a:xfrm>
            <a:off x="0" y="2324160"/>
            <a:ext cx="1981080" cy="12286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7" descr="bod.jpg"/>
          <p:cNvPicPr/>
          <p:nvPr/>
        </p:nvPicPr>
        <p:blipFill>
          <a:blip r:embed="rId4"/>
          <a:stretch/>
        </p:blipFill>
        <p:spPr>
          <a:xfrm>
            <a:off x="3786120" y="2390760"/>
            <a:ext cx="1428840" cy="1181160"/>
          </a:xfrm>
          <a:prstGeom prst="rect">
            <a:avLst/>
          </a:prstGeom>
          <a:ln w="0">
            <a:noFill/>
          </a:ln>
        </p:spPr>
      </p:pic>
      <p:cxnSp>
        <p:nvCxnSpPr>
          <p:cNvPr id="226" name="直接箭头连接符 19"/>
          <p:cNvCxnSpPr/>
          <p:nvPr/>
        </p:nvCxnSpPr>
        <p:spPr>
          <a:xfrm flipV="1">
            <a:off x="3714480" y="1356480"/>
            <a:ext cx="1572120" cy="5007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cxnSp>
        <p:nvCxnSpPr>
          <p:cNvPr id="227" name="直接箭头连接符 23"/>
          <p:cNvCxnSpPr/>
          <p:nvPr/>
        </p:nvCxnSpPr>
        <p:spPr>
          <a:xfrm flipV="1">
            <a:off x="4928760" y="2785680"/>
            <a:ext cx="135828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sp>
        <p:nvSpPr>
          <p:cNvPr id="228" name="TextBox 25"/>
          <p:cNvSpPr/>
          <p:nvPr/>
        </p:nvSpPr>
        <p:spPr>
          <a:xfrm>
            <a:off x="6384960" y="2500200"/>
            <a:ext cx="14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wing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Box 26"/>
          <p:cNvSpPr/>
          <p:nvPr/>
        </p:nvSpPr>
        <p:spPr>
          <a:xfrm>
            <a:off x="6627600" y="3071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翅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Box 27"/>
          <p:cNvSpPr/>
          <p:nvPr/>
        </p:nvSpPr>
        <p:spPr>
          <a:xfrm>
            <a:off x="3143160" y="21420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snowman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" descr="make a snowman.jpg"/>
          <p:cNvPicPr/>
          <p:nvPr/>
        </p:nvPicPr>
        <p:blipFill>
          <a:blip r:embed="rId1"/>
          <a:stretch/>
        </p:blipFill>
        <p:spPr>
          <a:xfrm>
            <a:off x="0" y="0"/>
            <a:ext cx="5214960" cy="42861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4643280" y="1285920"/>
            <a:ext cx="41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make a snowman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6582960" y="2428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制作雪人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150560" y="4214880"/>
            <a:ext cx="67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want to make a snowma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E:\yanzi\儿童------333333.jpg"/>
          <p:cNvPicPr/>
          <p:nvPr/>
        </p:nvPicPr>
        <p:blipFill>
          <a:blip r:embed="rId1"/>
          <a:stretch/>
        </p:blipFill>
        <p:spPr>
          <a:xfrm>
            <a:off x="6553080" y="28954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E:\yanzi\儿童------344444.jpg"/>
          <p:cNvPicPr/>
          <p:nvPr/>
        </p:nvPicPr>
        <p:blipFill>
          <a:blip r:embed="rId2"/>
          <a:stretch/>
        </p:blipFill>
        <p:spPr>
          <a:xfrm>
            <a:off x="6400800" y="137160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E:\yanzi\儿童------366666.jpg"/>
          <p:cNvPicPr/>
          <p:nvPr/>
        </p:nvPicPr>
        <p:blipFill>
          <a:blip r:embed="rId3"/>
          <a:stretch/>
        </p:blipFill>
        <p:spPr>
          <a:xfrm>
            <a:off x="3200400" y="160020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E:\yanzi\儿童-031111111.jpg"/>
          <p:cNvPicPr/>
          <p:nvPr/>
        </p:nvPicPr>
        <p:blipFill>
          <a:blip r:embed="rId4"/>
          <a:stretch/>
        </p:blipFill>
        <p:spPr>
          <a:xfrm>
            <a:off x="3124080" y="2971800"/>
            <a:ext cx="1676520" cy="990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E:\yanzi\儿童------35555.jpg"/>
          <p:cNvPicPr/>
          <p:nvPr/>
        </p:nvPicPr>
        <p:blipFill>
          <a:blip r:embed="rId5"/>
          <a:stretch/>
        </p:blipFill>
        <p:spPr>
          <a:xfrm>
            <a:off x="3276720" y="4572000"/>
            <a:ext cx="990360" cy="1068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1035000" y="3733920"/>
            <a:ext cx="109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066680" y="3733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0720" y="5335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What do you do at the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eekend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666880" y="190512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go swimming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91320" y="2209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y table tenn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66880" y="3886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y footba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743200" y="54864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go cyc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5867280" y="3886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y basketba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17" descr="C:\Documents and Settings\缸缸\桌面\新建文件夹\dianshi.jpg"/>
          <p:cNvPicPr/>
          <p:nvPr/>
        </p:nvPicPr>
        <p:blipFill>
          <a:blip r:embed="rId6"/>
          <a:stretch/>
        </p:blipFill>
        <p:spPr>
          <a:xfrm>
            <a:off x="5638680" y="4572000"/>
            <a:ext cx="3124440" cy="7318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9"/>
          <p:cNvSpPr/>
          <p:nvPr/>
        </p:nvSpPr>
        <p:spPr>
          <a:xfrm>
            <a:off x="5791320" y="5486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atch T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cover dir="ld"/>
    <p:sndAc>
      <p:stSnd>
        <p:snd r:embed="rId7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026" descr="C:\Documents and Settings\缸缸\桌面\YANZI\新建文件夹\0065[1]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027"/>
          <p:cNvSpPr/>
          <p:nvPr/>
        </p:nvSpPr>
        <p:spPr>
          <a:xfrm>
            <a:off x="304920" y="228600"/>
            <a:ext cx="80769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I go ,you go , I go swimming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He goes, she goes,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he  goes  cycling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I play,you play,I play football. 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He plays,she plays,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he  plays  table  tennis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cover dir="l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:\yanzi\儿童-0133333.jpg"/>
          <p:cNvPicPr/>
          <p:nvPr/>
        </p:nvPicPr>
        <p:blipFill>
          <a:blip r:embed="rId1"/>
          <a:stretch/>
        </p:blipFill>
        <p:spPr>
          <a:xfrm>
            <a:off x="2057400" y="45720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14200" y="578628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B: He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wants 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to play soccer.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441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: Wha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 Daming want to do at the weekend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85840" y="557208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B:  She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wants 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to ride a bike.</a:t>
            </a:r>
            <a:r>
              <a:rPr b="0" lang="en-US" sz="6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3" descr="D:\yanzi\儿童-0122222.jpg"/>
          <p:cNvPicPr/>
          <p:nvPr/>
        </p:nvPicPr>
        <p:blipFill>
          <a:blip r:embed="rId1"/>
          <a:stretch/>
        </p:blipFill>
        <p:spPr>
          <a:xfrm>
            <a:off x="1600200" y="533520"/>
            <a:ext cx="5638680" cy="38862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0" y="428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: Wha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 Amy want to do at the weekend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26" descr="D:\yanzi\儿童-021111111111.jpg"/>
          <p:cNvPicPr/>
          <p:nvPr/>
        </p:nvPicPr>
        <p:blipFill>
          <a:blip r:embed="rId1"/>
          <a:stretch/>
        </p:blipFill>
        <p:spPr>
          <a:xfrm>
            <a:off x="2362320" y="914400"/>
            <a:ext cx="4038480" cy="3657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27"/>
          <p:cNvSpPr/>
          <p:nvPr/>
        </p:nvSpPr>
        <p:spPr>
          <a:xfrm>
            <a:off x="0" y="51656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B:  She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plays 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 basketball.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028"/>
          <p:cNvSpPr/>
          <p:nvPr/>
        </p:nvSpPr>
        <p:spPr>
          <a:xfrm>
            <a:off x="0" y="4479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: Wha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 Lingling do at the weekend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026" descr="D:\yanzi\儿童-0233333.jpg"/>
          <p:cNvPicPr/>
          <p:nvPr/>
        </p:nvPicPr>
        <p:blipFill>
          <a:blip r:embed="rId1"/>
          <a:stretch/>
        </p:blipFill>
        <p:spPr>
          <a:xfrm>
            <a:off x="2362320" y="6858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27"/>
          <p:cNvSpPr/>
          <p:nvPr/>
        </p:nvSpPr>
        <p:spPr>
          <a:xfrm>
            <a:off x="0" y="51814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B:  He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plays 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table tennis.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1028"/>
          <p:cNvSpPr/>
          <p:nvPr/>
        </p:nvSpPr>
        <p:spPr>
          <a:xfrm>
            <a:off x="0" y="4479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: Wha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 Sam do at the weekend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59:23Z</dcterms:created>
  <dc:creator/>
  <dc:description/>
  <dc:language>en-US</dc:language>
  <cp:lastModifiedBy/>
  <dcterms:modified xsi:type="dcterms:W3CDTF">2016-12-28T02:00:09Z</dcterms:modified>
  <cp:revision>1</cp:revision>
  <dc:subject/>
  <dc:title/>
</cp:coreProperties>
</file>