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9.gif" ContentType="image/gif"/>
  <Override PartName="/ppt/media/image20.jpeg" ContentType="image/jpeg"/>
  <Override PartName="/ppt/media/image8.png" ContentType="image/png"/>
  <Override PartName="/ppt/media/image30.gif" ContentType="image/gif"/>
  <Override PartName="/ppt/media/image1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DC9B-3F3B-4339-A84E-A5A5C357D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E243-AAF0-4715-B191-631BF847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06B2-BE78-48E8-9120-6E4E06C58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49D6-752B-41F8-9D3C-774F131C5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CFE1-E5D2-4DAC-89ED-E6C0FE69D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73A-D877-4FC3-9F82-9A237529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40E-98D4-4200-A155-E875A044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E75-7A21-47CE-B5AB-ACFBE355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2F7-2E71-4251-8074-9803FB9A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518-716E-4FEE-A5DA-2E49258B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0AB-8275-46F0-A45F-211B90BC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F4B-4A63-4AD5-91D9-6CD3E475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846-4BF2-4D1B-8F42-001C34ED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879-58C4-4390-902E-1B033BB5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525-8D15-44DC-A793-CF3D1420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479-8125-4767-BD3A-37B1A2FF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67F-D08C-4A50-BD95-80218D7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80E9-C555-4018-A4F7-A9BC1B792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32400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929"/>
                </a:solidFill>
                <a:latin typeface="Victorian LET"/>
                <a:ea typeface="叶根友毛笔行书2.0版"/>
              </a:rPr>
              <a:t>Unit 6 Whose dress is this?  (period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55640" y="6237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2929"/>
                </a:solidFill>
                <a:latin typeface="Victorian LET"/>
                <a:ea typeface="叶根友毛笔行书2.0版"/>
              </a:rPr>
              <a:t>Sound time, rhyme time ,checkout time and tick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ShockwaveFlash1"/>
          <p:cNvGraphicFramePr/>
          <p:nvPr/>
        </p:nvGraphicFramePr>
        <p:xfrm>
          <a:off x="611280" y="1268280"/>
          <a:ext cx="7993080" cy="489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268280"/>
                    <a:ext cx="7993080" cy="4897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403280" y="1773360"/>
            <a:ext cx="676908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Whose ___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h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   !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se ___  i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’s   ___     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go to the par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468360" y="476280"/>
            <a:ext cx="8207280" cy="604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20080528_f6bac62d5ef89f8e7e71hLYOnUarJAuI"/>
          <p:cNvPicPr/>
          <p:nvPr/>
        </p:nvPicPr>
        <p:blipFill>
          <a:blip r:embed="rId1"/>
          <a:stretch/>
        </p:blipFill>
        <p:spPr>
          <a:xfrm>
            <a:off x="1908000" y="-243000"/>
            <a:ext cx="5185080" cy="1330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2_67189341_diary"/>
          <p:cNvPicPr/>
          <p:nvPr/>
        </p:nvPicPr>
        <p:blipFill>
          <a:blip r:embed="rId2"/>
          <a:srcRect l="13844" t="0" r="20624" b="13664"/>
          <a:stretch/>
        </p:blipFill>
        <p:spPr>
          <a:xfrm>
            <a:off x="1835280" y="0"/>
            <a:ext cx="1083960" cy="890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9"/>
          <p:cNvSpPr/>
          <p:nvPr/>
        </p:nvSpPr>
        <p:spPr>
          <a:xfrm>
            <a:off x="3132000" y="24624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Jokerman"/>
                <a:ea typeface="叶根友毛笔行书2.0版"/>
              </a:rPr>
              <a:t>Make a new rh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7" descr="coat"/>
          <p:cNvPicPr/>
          <p:nvPr/>
        </p:nvPicPr>
        <p:blipFill>
          <a:blip r:embed="rId3"/>
          <a:stretch/>
        </p:blipFill>
        <p:spPr>
          <a:xfrm>
            <a:off x="762120" y="5049720"/>
            <a:ext cx="1649160" cy="1236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dress"/>
          <p:cNvPicPr/>
          <p:nvPr/>
        </p:nvPicPr>
        <p:blipFill>
          <a:blip r:embed="rId4"/>
          <a:stretch/>
        </p:blipFill>
        <p:spPr>
          <a:xfrm>
            <a:off x="2700360" y="50799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shirt"/>
          <p:cNvPicPr/>
          <p:nvPr/>
        </p:nvPicPr>
        <p:blipFill>
          <a:blip r:embed="rId5"/>
          <a:stretch/>
        </p:blipFill>
        <p:spPr>
          <a:xfrm>
            <a:off x="4716360" y="515772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sweater"/>
          <p:cNvPicPr/>
          <p:nvPr/>
        </p:nvPicPr>
        <p:blipFill>
          <a:blip r:embed="rId6"/>
          <a:stretch/>
        </p:blipFill>
        <p:spPr>
          <a:xfrm>
            <a:off x="6659640" y="5229360"/>
            <a:ext cx="1577880" cy="1184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party"/>
          <p:cNvPicPr/>
          <p:nvPr/>
        </p:nvPicPr>
        <p:blipFill>
          <a:blip r:embed="rId7"/>
          <a:stretch/>
        </p:blipFill>
        <p:spPr>
          <a:xfrm>
            <a:off x="539640" y="24210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03280" y="1773360"/>
            <a:ext cx="676908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Whose ___ are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h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   !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se ___  are th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y’re ___     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’s go to the par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468360" y="476280"/>
            <a:ext cx="8207280" cy="604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20080528_f6bac62d5ef89f8e7e71hLYOnUarJAuI"/>
          <p:cNvPicPr/>
          <p:nvPr/>
        </p:nvPicPr>
        <p:blipFill>
          <a:blip r:embed="rId1"/>
          <a:stretch/>
        </p:blipFill>
        <p:spPr>
          <a:xfrm>
            <a:off x="1908000" y="-243000"/>
            <a:ext cx="5185080" cy="1330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2_67189341_diary"/>
          <p:cNvPicPr/>
          <p:nvPr/>
        </p:nvPicPr>
        <p:blipFill>
          <a:blip r:embed="rId2"/>
          <a:srcRect l="13844" t="0" r="20624" b="13664"/>
          <a:stretch/>
        </p:blipFill>
        <p:spPr>
          <a:xfrm>
            <a:off x="1835280" y="0"/>
            <a:ext cx="1083960" cy="890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9"/>
          <p:cNvSpPr/>
          <p:nvPr/>
        </p:nvSpPr>
        <p:spPr>
          <a:xfrm>
            <a:off x="3132000" y="24624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Jokerman"/>
                <a:ea typeface="叶根友毛笔行书2.0版"/>
              </a:rPr>
              <a:t>Make a new rh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party"/>
          <p:cNvPicPr/>
          <p:nvPr/>
        </p:nvPicPr>
        <p:blipFill>
          <a:blip r:embed="rId3"/>
          <a:stretch/>
        </p:blipFill>
        <p:spPr>
          <a:xfrm>
            <a:off x="539640" y="24210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glove"/>
          <p:cNvPicPr/>
          <p:nvPr/>
        </p:nvPicPr>
        <p:blipFill>
          <a:blip r:embed="rId4"/>
          <a:stretch/>
        </p:blipFill>
        <p:spPr>
          <a:xfrm>
            <a:off x="762120" y="5102280"/>
            <a:ext cx="1577880" cy="118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shorts"/>
          <p:cNvPicPr/>
          <p:nvPr/>
        </p:nvPicPr>
        <p:blipFill>
          <a:blip r:embed="rId5"/>
          <a:stretch/>
        </p:blipFill>
        <p:spPr>
          <a:xfrm>
            <a:off x="2627280" y="515772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trousers"/>
          <p:cNvPicPr/>
          <p:nvPr/>
        </p:nvPicPr>
        <p:blipFill>
          <a:blip r:embed="rId6"/>
          <a:stretch/>
        </p:blipFill>
        <p:spPr>
          <a:xfrm>
            <a:off x="4067280" y="5084640"/>
            <a:ext cx="1722240" cy="1292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jeans"/>
          <p:cNvPicPr/>
          <p:nvPr/>
        </p:nvPicPr>
        <p:blipFill>
          <a:blip r:embed="rId7"/>
          <a:stretch/>
        </p:blipFill>
        <p:spPr>
          <a:xfrm>
            <a:off x="6300720" y="5157720"/>
            <a:ext cx="157788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QQ截图20140401091250"/>
          <p:cNvPicPr/>
          <p:nvPr/>
        </p:nvPicPr>
        <p:blipFill>
          <a:blip r:embed="rId1"/>
          <a:stretch/>
        </p:blipFill>
        <p:spPr>
          <a:xfrm>
            <a:off x="1332000" y="0"/>
            <a:ext cx="71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20080528_f6bac62d5ef89f8e7e71hLYOnUarJAuI"/>
          <p:cNvPicPr/>
          <p:nvPr/>
        </p:nvPicPr>
        <p:blipFill>
          <a:blip r:embed="rId1"/>
          <a:stretch/>
        </p:blipFill>
        <p:spPr>
          <a:xfrm>
            <a:off x="1857240" y="-214200"/>
            <a:ext cx="5846760" cy="1500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2760840" y="230040"/>
            <a:ext cx="45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eckout ti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ShockwaveFlash1"/>
          <p:cNvGraphicFramePr/>
          <p:nvPr/>
        </p:nvGraphicFramePr>
        <p:xfrm>
          <a:off x="826920" y="1268280"/>
          <a:ext cx="7993080" cy="532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268280"/>
                    <a:ext cx="7993080" cy="5329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-252360" y="404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rcRect l="0" t="0" r="0" b="68623"/>
          <a:stretch/>
        </p:blipFill>
        <p:spPr>
          <a:xfrm>
            <a:off x="0" y="304920"/>
            <a:ext cx="9144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4"/>
          <p:cNvGrpSpPr/>
          <p:nvPr/>
        </p:nvGrpSpPr>
        <p:grpSpPr>
          <a:xfrm>
            <a:off x="304920" y="1371600"/>
            <a:ext cx="8305560" cy="685800"/>
            <a:chOff x="304920" y="1371600"/>
            <a:chExt cx="8305560" cy="685800"/>
          </a:xfrm>
        </p:grpSpPr>
        <p:grpSp>
          <p:nvGrpSpPr>
            <p:cNvPr id="147" name="Group 5"/>
            <p:cNvGrpSpPr/>
            <p:nvPr/>
          </p:nvGrpSpPr>
          <p:grpSpPr>
            <a:xfrm>
              <a:off x="304920" y="1371600"/>
              <a:ext cx="8305560" cy="685800"/>
              <a:chOff x="304920" y="1371600"/>
              <a:chExt cx="8305560" cy="685800"/>
            </a:xfrm>
          </p:grpSpPr>
          <p:sp>
            <p:nvSpPr>
              <p:cNvPr id="148" name="AutoShape 6"/>
              <p:cNvSpPr/>
              <p:nvPr/>
            </p:nvSpPr>
            <p:spPr>
              <a:xfrm>
                <a:off x="304920" y="1371600"/>
                <a:ext cx="830556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cap="rnd" w="28440">
                <a:solidFill>
                  <a:srgbClr val="3366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7"/>
              <p:cNvSpPr/>
              <p:nvPr/>
            </p:nvSpPr>
            <p:spPr>
              <a:xfrm>
                <a:off x="5994360" y="1371600"/>
                <a:ext cx="0" cy="685800"/>
              </a:xfrm>
              <a:prstGeom prst="line">
                <a:avLst/>
              </a:prstGeom>
              <a:ln cap="rnd" w="28440">
                <a:solidFill>
                  <a:srgbClr val="3366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8"/>
              <p:cNvSpPr/>
              <p:nvPr/>
            </p:nvSpPr>
            <p:spPr>
              <a:xfrm>
                <a:off x="6832440" y="1371600"/>
                <a:ext cx="0" cy="685800"/>
              </a:xfrm>
              <a:prstGeom prst="line">
                <a:avLst/>
              </a:prstGeom>
              <a:ln cap="rnd" w="28440">
                <a:solidFill>
                  <a:srgbClr val="3366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9"/>
              <p:cNvSpPr/>
              <p:nvPr/>
            </p:nvSpPr>
            <p:spPr>
              <a:xfrm>
                <a:off x="7683480" y="1371600"/>
                <a:ext cx="0" cy="685800"/>
              </a:xfrm>
              <a:prstGeom prst="line">
                <a:avLst/>
              </a:prstGeom>
              <a:ln cap="rnd" w="28440">
                <a:solidFill>
                  <a:srgbClr val="3366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10"/>
            <p:cNvSpPr/>
            <p:nvPr/>
          </p:nvSpPr>
          <p:spPr>
            <a:xfrm>
              <a:off x="510480" y="1474920"/>
              <a:ext cx="6279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I can say and write the names of some clothes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11" descr="QT_003"/>
          <p:cNvPicPr/>
          <p:nvPr/>
        </p:nvPicPr>
        <p:blipFill>
          <a:blip r:embed="rId3"/>
          <a:stretch/>
        </p:blipFill>
        <p:spPr>
          <a:xfrm>
            <a:off x="6300720" y="1413000"/>
            <a:ext cx="471600" cy="44604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12"/>
          <p:cNvGrpSpPr/>
          <p:nvPr/>
        </p:nvGrpSpPr>
        <p:grpSpPr>
          <a:xfrm>
            <a:off x="304920" y="2895480"/>
            <a:ext cx="8305560" cy="685800"/>
            <a:chOff x="304920" y="2895480"/>
            <a:chExt cx="8305560" cy="685800"/>
          </a:xfrm>
        </p:grpSpPr>
        <p:grpSp>
          <p:nvGrpSpPr>
            <p:cNvPr id="155" name="Group 13"/>
            <p:cNvGrpSpPr/>
            <p:nvPr/>
          </p:nvGrpSpPr>
          <p:grpSpPr>
            <a:xfrm>
              <a:off x="304920" y="2895480"/>
              <a:ext cx="8305560" cy="685800"/>
              <a:chOff x="304920" y="2895480"/>
              <a:chExt cx="8305560" cy="685800"/>
            </a:xfrm>
          </p:grpSpPr>
          <p:sp>
            <p:nvSpPr>
              <p:cNvPr id="156" name="AutoShape 14"/>
              <p:cNvSpPr/>
              <p:nvPr/>
            </p:nvSpPr>
            <p:spPr>
              <a:xfrm>
                <a:off x="304920" y="2895480"/>
                <a:ext cx="830556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cap="rnd" w="28440">
                <a:solidFill>
                  <a:srgbClr val="3366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5"/>
              <p:cNvSpPr/>
              <p:nvPr/>
            </p:nvSpPr>
            <p:spPr>
              <a:xfrm>
                <a:off x="5994360" y="2895480"/>
                <a:ext cx="0" cy="685800"/>
              </a:xfrm>
              <a:prstGeom prst="line">
                <a:avLst/>
              </a:prstGeom>
              <a:ln cap="rnd" w="28440">
                <a:solidFill>
                  <a:srgbClr val="3366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"/>
              <p:cNvSpPr/>
              <p:nvPr/>
            </p:nvSpPr>
            <p:spPr>
              <a:xfrm>
                <a:off x="6832440" y="2895480"/>
                <a:ext cx="0" cy="685800"/>
              </a:xfrm>
              <a:prstGeom prst="line">
                <a:avLst/>
              </a:prstGeom>
              <a:ln cap="rnd" w="28440">
                <a:solidFill>
                  <a:srgbClr val="3366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7"/>
              <p:cNvSpPr/>
              <p:nvPr/>
            </p:nvSpPr>
            <p:spPr>
              <a:xfrm>
                <a:off x="7683480" y="2895480"/>
                <a:ext cx="0" cy="685800"/>
              </a:xfrm>
              <a:prstGeom prst="line">
                <a:avLst/>
              </a:prstGeom>
              <a:ln cap="rnd" w="28440">
                <a:solidFill>
                  <a:srgbClr val="3366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 Box 18"/>
            <p:cNvSpPr/>
            <p:nvPr/>
          </p:nvSpPr>
          <p:spPr>
            <a:xfrm>
              <a:off x="513360" y="2998800"/>
              <a:ext cx="4767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I can use “whose” to ask questions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9" descr="QT_067"/>
          <p:cNvPicPr/>
          <p:nvPr/>
        </p:nvPicPr>
        <p:blipFill>
          <a:blip r:embed="rId4"/>
          <a:stretch/>
        </p:blipFill>
        <p:spPr>
          <a:xfrm>
            <a:off x="6172200" y="2982960"/>
            <a:ext cx="471600" cy="4460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0"/>
          <p:cNvSpPr/>
          <p:nvPr/>
        </p:nvSpPr>
        <p:spPr>
          <a:xfrm>
            <a:off x="3048120" y="2170080"/>
            <a:ext cx="53402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1921"/>
              <a:gd name="adj5" fmla="val -37240"/>
              <a:gd name="adj6" fmla="val -22828"/>
            </a:avLst>
          </a:prstGeom>
          <a:solidFill>
            <a:srgbClr val="ffff66"/>
          </a:solidFill>
          <a:ln cap="rnd" w="2844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能说并能写出一些衣服的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1"/>
          <p:cNvSpPr/>
          <p:nvPr/>
        </p:nvSpPr>
        <p:spPr>
          <a:xfrm>
            <a:off x="3111480" y="3733920"/>
            <a:ext cx="51181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2439"/>
              <a:gd name="adj5" fmla="val -37240"/>
              <a:gd name="adj6" fmla="val -23819"/>
            </a:avLst>
          </a:prstGeom>
          <a:solidFill>
            <a:srgbClr val="ffff66"/>
          </a:solidFill>
          <a:ln cap="rnd" w="2844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能用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hose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问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-181080" y="4653000"/>
            <a:ext cx="9144000" cy="1828800"/>
            <a:chOff x="-181080" y="4653000"/>
            <a:chExt cx="9144000" cy="1828800"/>
          </a:xfrm>
        </p:grpSpPr>
        <p:sp>
          <p:nvSpPr>
            <p:cNvPr id="165" name="Rectangle 31"/>
            <p:cNvSpPr/>
            <p:nvPr/>
          </p:nvSpPr>
          <p:spPr>
            <a:xfrm>
              <a:off x="-181080" y="46530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3254040" y="4989600"/>
              <a:ext cx="261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c00"/>
                  </a:solidFill>
                  <a:latin typeface="黑体"/>
                  <a:ea typeface="黑体"/>
                </a:rPr>
                <a:t>组内互评：能正确流利地说出并写出衣服的名称的得 ☆ ☆ 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c00"/>
                  </a:solidFill>
                  <a:latin typeface="黑体"/>
                  <a:ea typeface="黑体"/>
                </a:rPr>
                <a:t>                </a:t>
              </a:r>
              <a:r>
                <a:rPr b="0" lang="zh-CN" sz="2400" spc="-1" strike="noStrike">
                  <a:solidFill>
                    <a:srgbClr val="ffcc00"/>
                  </a:solidFill>
                  <a:latin typeface="黑体"/>
                  <a:ea typeface="黑体"/>
                </a:rPr>
                <a:t>有一些小错或不太流利的得 ☆ ☆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c00"/>
                  </a:solidFill>
                  <a:latin typeface="黑体"/>
                  <a:ea typeface="黑体"/>
                </a:rPr>
                <a:t>                    </a:t>
              </a:r>
              <a:r>
                <a:rPr b="0" lang="zh-CN" sz="2400" spc="-1" strike="noStrike">
                  <a:solidFill>
                    <a:srgbClr val="ffcc00"/>
                  </a:solidFill>
                  <a:latin typeface="黑体"/>
                  <a:ea typeface="黑体"/>
                </a:rPr>
                <a:t>仍然需要好好努力的得 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1583280" y="-428040"/>
            <a:ext cx="4626720" cy="2707200"/>
            <a:chOff x="1583280" y="-428040"/>
            <a:chExt cx="4626720" cy="2707200"/>
          </a:xfrm>
        </p:grpSpPr>
        <p:pic>
          <p:nvPicPr>
            <p:cNvPr id="168" name="TextBox 1" descr=""/>
            <p:cNvPicPr/>
            <p:nvPr/>
          </p:nvPicPr>
          <p:blipFill>
            <a:blip r:embed="rId2"/>
            <a:stretch/>
          </p:blipFill>
          <p:spPr>
            <a:xfrm rot="699000">
              <a:off x="1727280" y="-9000"/>
              <a:ext cx="4338360" cy="18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6"/>
            <p:cNvSpPr/>
            <p:nvPr/>
          </p:nvSpPr>
          <p:spPr>
            <a:xfrm rot="21532800">
              <a:off x="1902960" y="597240"/>
              <a:ext cx="3909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Can you say 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7"/>
          <p:cNvSpPr/>
          <p:nvPr/>
        </p:nvSpPr>
        <p:spPr>
          <a:xfrm>
            <a:off x="611280" y="1557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你想告诉别人你的裤子太长，可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539640" y="2133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y trousers are too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11280" y="2708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你想问这是谁的毛衣，可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611280" y="335772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se sweater i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84360" y="3933720"/>
            <a:ext cx="61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你想问这是谁的短裤，可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84360" y="4581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se shorts are th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伦的鞋子太大，你想让她试试这双，可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900000" y="573408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y thes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3"/>
          <p:cNvSpPr/>
          <p:nvPr/>
        </p:nvSpPr>
        <p:spPr>
          <a:xfrm>
            <a:off x="2722320" y="469800"/>
            <a:ext cx="38138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solid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755640" y="16477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翻译下列词组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900000" y="23493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900000" y="2660760"/>
            <a:ext cx="7056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条牛仔裤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试试这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太长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湖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么大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去参加聚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试试这些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的连衣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3"/>
          <p:cNvSpPr/>
          <p:nvPr/>
        </p:nvSpPr>
        <p:spPr>
          <a:xfrm>
            <a:off x="2722320" y="404640"/>
            <a:ext cx="38138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solid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55640" y="1052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翻译下列句子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900000" y="23493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826920" y="1700280"/>
            <a:ext cx="74901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生了什么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是谁的短裤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裤子太长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看海伦的连衣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个球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的手感觉很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228600" y="1207440"/>
            <a:ext cx="84470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搜集更多符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Sound Time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部分规律的单词，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中文意思，读一读，并记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改编小诗，并把它朗诵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如果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Ticking time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没有达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星要求，有针对性的进行改进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2"/>
          <p:cNvSpPr txBox="1"/>
          <p:nvPr/>
        </p:nvSpPr>
        <p:spPr>
          <a:xfrm>
            <a:off x="304920" y="3049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800080">
                    <a:alpha val="7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迷你简石头"/>
              </a:rPr>
              <a:t>Homework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800080">
                  <a:alpha val="7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迷你简石头"/>
              <a:ea typeface="迷你简石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20080528_f6bac62d5ef89f8e7e71hLYOnUarJAuI"/>
          <p:cNvPicPr/>
          <p:nvPr/>
        </p:nvPicPr>
        <p:blipFill>
          <a:blip r:embed="rId1"/>
          <a:stretch/>
        </p:blipFill>
        <p:spPr>
          <a:xfrm>
            <a:off x="1908000" y="-243000"/>
            <a:ext cx="5185080" cy="133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2_67189341_diary"/>
          <p:cNvPicPr/>
          <p:nvPr/>
        </p:nvPicPr>
        <p:blipFill>
          <a:blip r:embed="rId2"/>
          <a:srcRect l="13844" t="0" r="20624" b="13664"/>
          <a:stretch/>
        </p:blipFill>
        <p:spPr>
          <a:xfrm>
            <a:off x="1835280" y="0"/>
            <a:ext cx="1083960" cy="890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3"/>
          <p:cNvSpPr/>
          <p:nvPr/>
        </p:nvSpPr>
        <p:spPr>
          <a:xfrm>
            <a:off x="4788000" y="189000"/>
            <a:ext cx="32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Jokerman"/>
                <a:ea typeface="叶根友毛笔行书2.0版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7" descr="D]V@56L5O)6E80K3O0WMD[H"/>
          <p:cNvPicPr/>
          <p:nvPr/>
        </p:nvPicPr>
        <p:blipFill>
          <a:blip r:embed="rId3"/>
          <a:stretch/>
        </p:blipFill>
        <p:spPr>
          <a:xfrm rot="20901600">
            <a:off x="3131640" y="52200"/>
            <a:ext cx="417600" cy="784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9"/>
          <p:cNvSpPr/>
          <p:nvPr/>
        </p:nvSpPr>
        <p:spPr>
          <a:xfrm>
            <a:off x="3492360" y="189000"/>
            <a:ext cx="32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Jokerman"/>
                <a:ea typeface="叶根友毛笔行书2.0版"/>
              </a:rPr>
              <a:t>et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ShockwaveFlash1"/>
          <p:cNvGraphicFramePr/>
          <p:nvPr/>
        </p:nvGraphicFramePr>
        <p:xfrm>
          <a:off x="826920" y="1268280"/>
          <a:ext cx="7993080" cy="525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1268280"/>
                    <a:ext cx="7993080" cy="525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20080528_f6bac62d5ef89f8e7e71hLYOnUarJAuI"/>
          <p:cNvPicPr/>
          <p:nvPr/>
        </p:nvPicPr>
        <p:blipFill>
          <a:blip r:embed="rId1"/>
          <a:stretch/>
        </p:blipFill>
        <p:spPr>
          <a:xfrm>
            <a:off x="1908000" y="-243000"/>
            <a:ext cx="5185080" cy="133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2_67189341_diary"/>
          <p:cNvPicPr/>
          <p:nvPr/>
        </p:nvPicPr>
        <p:blipFill>
          <a:blip r:embed="rId2"/>
          <a:srcRect l="13844" t="0" r="20624" b="13664"/>
          <a:stretch/>
        </p:blipFill>
        <p:spPr>
          <a:xfrm>
            <a:off x="1835280" y="0"/>
            <a:ext cx="1083960" cy="890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3"/>
          <p:cNvSpPr/>
          <p:nvPr/>
        </p:nvSpPr>
        <p:spPr>
          <a:xfrm>
            <a:off x="4788000" y="189000"/>
            <a:ext cx="32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Jokerman"/>
                <a:ea typeface="叶根友毛笔行书2.0版"/>
              </a:rPr>
              <a:t>du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7" descr="D]V@56L5O)6E80K3O0WMD[H"/>
          <p:cNvPicPr/>
          <p:nvPr/>
        </p:nvPicPr>
        <p:blipFill>
          <a:blip r:embed="rId3"/>
          <a:stretch/>
        </p:blipFill>
        <p:spPr>
          <a:xfrm rot="20901600">
            <a:off x="3131640" y="52200"/>
            <a:ext cx="417600" cy="784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9"/>
          <p:cNvSpPr/>
          <p:nvPr/>
        </p:nvSpPr>
        <p:spPr>
          <a:xfrm>
            <a:off x="3492360" y="189000"/>
            <a:ext cx="32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Jokerman"/>
                <a:ea typeface="叶根友毛笔行书2.0版"/>
              </a:rPr>
              <a:t>et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ShockwaveFlash1"/>
          <p:cNvGraphicFramePr/>
          <p:nvPr/>
        </p:nvGraphicFramePr>
        <p:xfrm>
          <a:off x="684360" y="1268280"/>
          <a:ext cx="7993080" cy="518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1268280"/>
                    <a:ext cx="7993080" cy="5185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20080528_f6bac62d5ef89f8e7e71hLYOnUarJAuI"/>
          <p:cNvPicPr/>
          <p:nvPr/>
        </p:nvPicPr>
        <p:blipFill>
          <a:blip r:embed="rId2"/>
          <a:stretch/>
        </p:blipFill>
        <p:spPr>
          <a:xfrm>
            <a:off x="2197080" y="-169920"/>
            <a:ext cx="5184720" cy="132876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3071520" y="11736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Sound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ShockwaveFlash1"/>
          <p:cNvGraphicFramePr/>
          <p:nvPr/>
        </p:nvGraphicFramePr>
        <p:xfrm>
          <a:off x="1258920" y="1052640"/>
          <a:ext cx="6913440" cy="518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052640"/>
                    <a:ext cx="6913440" cy="5184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QQ截图20140401091222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20080528_f6bac62d5ef89f8e7e71hLYOnUarJAuI"/>
          <p:cNvPicPr/>
          <p:nvPr/>
        </p:nvPicPr>
        <p:blipFill>
          <a:blip r:embed="rId2"/>
          <a:stretch/>
        </p:blipFill>
        <p:spPr>
          <a:xfrm>
            <a:off x="2197080" y="-169920"/>
            <a:ext cx="5184720" cy="132876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3071520" y="11736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Sound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1258920" y="2006640"/>
            <a:ext cx="63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fore eating f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8"/>
          <p:cNvSpPr/>
          <p:nvPr/>
        </p:nvSpPr>
        <p:spPr>
          <a:xfrm>
            <a:off x="108000" y="3087720"/>
            <a:ext cx="80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’s l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n to some Engl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116000" y="42051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学们，你能说出字母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 I /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其他单词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1000080" y="492588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l, 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, 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ner, 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, 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ficul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nic, w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ter, beau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QQ截图20140401133617"/>
          <p:cNvPicPr/>
          <p:nvPr/>
        </p:nvPicPr>
        <p:blipFill>
          <a:blip r:embed="rId3"/>
          <a:stretch/>
        </p:blipFill>
        <p:spPr>
          <a:xfrm>
            <a:off x="6084720" y="1125360"/>
            <a:ext cx="249588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20080528_f6bac62d5ef89f8e7e71hLYOnUarJAuI"/>
          <p:cNvPicPr/>
          <p:nvPr/>
        </p:nvPicPr>
        <p:blipFill>
          <a:blip r:embed="rId2"/>
          <a:stretch/>
        </p:blipFill>
        <p:spPr>
          <a:xfrm>
            <a:off x="2197080" y="-169920"/>
            <a:ext cx="5184720" cy="1328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071520" y="11736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Sound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971640" y="249228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, e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, 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king,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l, 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fer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012680" y="392904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学们，给自己打个分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2195640" y="126828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1116000" y="18572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学们，试着读一读这些单词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1" descr="2.png"/>
          <p:cNvPicPr/>
          <p:nvPr/>
        </p:nvPicPr>
        <p:blipFill>
          <a:blip r:embed="rId3"/>
          <a:stretch/>
        </p:blipFill>
        <p:spPr>
          <a:xfrm>
            <a:off x="857160" y="4500720"/>
            <a:ext cx="7371000" cy="87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QQ截图20140401142203"/>
          <p:cNvPicPr/>
          <p:nvPr/>
        </p:nvPicPr>
        <p:blipFill>
          <a:blip r:embed="rId4"/>
          <a:stretch/>
        </p:blipFill>
        <p:spPr>
          <a:xfrm>
            <a:off x="1116000" y="981000"/>
            <a:ext cx="981000" cy="905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2195640" y="112536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 I 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QQ截图20140402140528"/>
          <p:cNvPicPr/>
          <p:nvPr/>
        </p:nvPicPr>
        <p:blipFill>
          <a:blip r:embed="rId5"/>
          <a:stretch/>
        </p:blipFill>
        <p:spPr>
          <a:xfrm>
            <a:off x="900000" y="5300640"/>
            <a:ext cx="69850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20080528_f6bac62d5ef89f8e7e71hLYOnUarJAuI"/>
          <p:cNvPicPr/>
          <p:nvPr/>
        </p:nvPicPr>
        <p:blipFill>
          <a:blip r:embed="rId2"/>
          <a:stretch/>
        </p:blipFill>
        <p:spPr>
          <a:xfrm>
            <a:off x="2197080" y="-169920"/>
            <a:ext cx="5184720" cy="1328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3071520" y="11736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Sound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539640" y="1773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   l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95280" y="1125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判断下列每组单词的红色字母的发音是否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4932360" y="177336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  f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539640" y="258300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  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4932360" y="265572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  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5"/>
          <p:cNvSpPr/>
          <p:nvPr/>
        </p:nvSpPr>
        <p:spPr>
          <a:xfrm>
            <a:off x="539640" y="351936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l  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ner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5"/>
          <p:cNvSpPr/>
          <p:nvPr/>
        </p:nvSpPr>
        <p:spPr>
          <a:xfrm>
            <a:off x="4932360" y="351936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 M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5"/>
          <p:cNvSpPr/>
          <p:nvPr/>
        </p:nvSpPr>
        <p:spPr>
          <a:xfrm>
            <a:off x="539640" y="451656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 mu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4932360" y="451656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  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3708360" y="1844640"/>
            <a:ext cx="7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7813800" y="2708280"/>
            <a:ext cx="71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7813800" y="1844640"/>
            <a:ext cx="71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5"/>
          <p:cNvSpPr/>
          <p:nvPr/>
        </p:nvSpPr>
        <p:spPr>
          <a:xfrm>
            <a:off x="3635280" y="3579840"/>
            <a:ext cx="7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7813800" y="4581360"/>
            <a:ext cx="71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5"/>
          <p:cNvSpPr/>
          <p:nvPr/>
        </p:nvSpPr>
        <p:spPr>
          <a:xfrm>
            <a:off x="3637080" y="4587840"/>
            <a:ext cx="71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3637080" y="2643120"/>
            <a:ext cx="71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7813800" y="3573360"/>
            <a:ext cx="71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QQ截图20140401090847"/>
          <p:cNvPicPr/>
          <p:nvPr/>
        </p:nvPicPr>
        <p:blipFill>
          <a:blip r:embed="rId1"/>
          <a:stretch/>
        </p:blipFill>
        <p:spPr>
          <a:xfrm>
            <a:off x="0" y="0"/>
            <a:ext cx="9828360" cy="6661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4500720" y="4797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572000" y="5157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湖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4500720" y="4292640"/>
            <a:ext cx="2016000" cy="86508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7:05:29Z</dcterms:created>
  <dc:creator/>
  <dc:description/>
  <dc:language>en-US</dc:language>
  <cp:lastModifiedBy>Administrator</cp:lastModifiedBy>
  <dcterms:modified xsi:type="dcterms:W3CDTF">2015-03-14T15:26:26Z</dcterms:modified>
  <cp:revision>16</cp:revision>
  <dc:subject/>
  <dc:title>幻灯片 1</dc:title>
</cp:coreProperties>
</file>