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36.gif" ContentType="image/gif"/>
  <Override PartName="/ppt/media/image19.jpeg" ContentType="image/jpeg"/>
  <Override PartName="/ppt/media/image18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2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11.jpeg" ContentType="image/jpeg"/>
  <Override PartName="/ppt/media/image9.jpeg" ContentType="image/jpeg"/>
  <Override PartName="/ppt/media/image33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BE4-D4A2-4F74-8614-12B21D6D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B52-4D52-4AB1-9E05-2698BA7B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9EA-1124-4107-9311-FF09699E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152-A5D7-467D-B03A-E3494E15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FB6D-D206-4D28-B531-0F0F793C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51E-0249-427F-8879-E01A68CE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FC3-6CD5-4C0F-B709-0FF93D5D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531-81A9-466F-A87C-8A7C212D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9D9-BEA0-4C15-8A8B-40E9DE18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180-1579-4DF6-8E26-49712CCD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0CF-C562-4E56-851A-568B66F7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988-22ED-4B64-8480-B53CC3DA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F561-3521-4489-89CB-F7D7EE6B809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gif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7.jpe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95280" y="3716280"/>
            <a:ext cx="8569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Whose dress is this? </a:t>
            </a:r>
            <a:endParaRPr b="0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1547640" y="1268280"/>
            <a:ext cx="626616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Constantia"/>
              </a:rPr>
              <a:t>4B Unit 6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Constantia"/>
              <a:ea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31640" y="4797360"/>
            <a:ext cx="4249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  <a:ea typeface="宋体"/>
              </a:rPr>
              <a:t>Is it Joe’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  <a:ea typeface="宋体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, you’re r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Guess and say2"/>
          <p:cNvPicPr/>
          <p:nvPr/>
        </p:nvPicPr>
        <p:blipFill>
          <a:blip r:embed="rId2"/>
          <a:stretch/>
        </p:blipFill>
        <p:spPr>
          <a:xfrm>
            <a:off x="1763640" y="189000"/>
            <a:ext cx="7380360" cy="4464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4716360" y="3500280"/>
            <a:ext cx="88596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正确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6227640" y="3716280"/>
            <a:ext cx="2448000" cy="2424240"/>
          </a:xfrm>
          <a:prstGeom prst="plus">
            <a:avLst>
              <a:gd name="adj" fmla="val 250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对反义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right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正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wrong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错误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63640" y="404640"/>
            <a:ext cx="352764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Cartoon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cartoon time1"/>
          <p:cNvPicPr/>
          <p:nvPr/>
        </p:nvPicPr>
        <p:blipFill>
          <a:blip r:embed="rId1"/>
          <a:stretch/>
        </p:blipFill>
        <p:spPr>
          <a:xfrm>
            <a:off x="0" y="1052640"/>
            <a:ext cx="9105840" cy="4521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395280" y="2852640"/>
            <a:ext cx="8459640" cy="286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olas"/>
                <a:ea typeface="宋体"/>
              </a:rPr>
              <a:t>Bobby and Sam meet a new friend. He is a </a:t>
            </a:r>
            <a:r>
              <a:rPr b="1" lang="en-US" sz="3600" spc="-1" strike="noStrike">
                <a:solidFill>
                  <a:srgbClr val="ff0066"/>
                </a:solidFill>
                <a:latin typeface="Consolas"/>
                <a:ea typeface="宋体"/>
              </a:rPr>
              <a:t>hedgehog</a:t>
            </a:r>
            <a:r>
              <a:rPr b="1" lang="en-US" sz="3600" spc="-1" strike="noStrike">
                <a:solidFill>
                  <a:srgbClr val="000000"/>
                </a:solidFill>
                <a:latin typeface="Consolas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olas"/>
                <a:ea typeface="宋体"/>
              </a:rPr>
              <a:t>What is a hedgehog? </a:t>
            </a:r>
            <a:r>
              <a:rPr b="1" lang="en-US" sz="3600" spc="-1" strike="noStrike">
                <a:solidFill>
                  <a:srgbClr val="009900"/>
                </a:solidFill>
                <a:latin typeface="Consolas"/>
                <a:ea typeface="宋体"/>
              </a:rPr>
              <a:t>Guess!</a:t>
            </a:r>
            <a:r>
              <a:rPr b="1" lang="en-US" sz="3600" spc="-1" strike="noStrike">
                <a:solidFill>
                  <a:srgbClr val="000000"/>
                </a:solidFill>
                <a:latin typeface="Consolas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 rot="16058400">
            <a:off x="7995600" y="1870560"/>
            <a:ext cx="576000" cy="666720"/>
          </a:xfrm>
          <a:custGeom>
            <a:avLst/>
            <a:gdLst>
              <a:gd name="textAreaLeft" fmla="*/ 0 w 576000"/>
              <a:gd name="textAreaRight" fmla="*/ 576000 w 57600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4076280"/>
            <a:ext cx="5688000" cy="1150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 think so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我觉得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 don’t think so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我觉得不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cartoon time2"/>
          <p:cNvPicPr/>
          <p:nvPr/>
        </p:nvPicPr>
        <p:blipFill>
          <a:blip r:embed="rId2"/>
          <a:stretch/>
        </p:blipFill>
        <p:spPr>
          <a:xfrm>
            <a:off x="2624040" y="0"/>
            <a:ext cx="65199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cartoon time3"/>
          <p:cNvPicPr/>
          <p:nvPr/>
        </p:nvPicPr>
        <p:blipFill>
          <a:blip r:embed="rId1"/>
          <a:stretch/>
        </p:blipFill>
        <p:spPr>
          <a:xfrm>
            <a:off x="0" y="620640"/>
            <a:ext cx="6012000" cy="58388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4643280" y="1844640"/>
            <a:ext cx="4176720" cy="3745080"/>
          </a:xfrm>
          <a:prstGeom prst="wedgeRoundRectCallout">
            <a:avLst>
              <a:gd name="adj1" fmla="val -45592"/>
              <a:gd name="adj2" fmla="val 53856"/>
              <a:gd name="adj3" fmla="val 1666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ur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疼，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单形式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urt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宋体"/>
              </a:rPr>
              <a:t>归纳：动词的第三人称单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宋体"/>
              </a:rPr>
              <a:t>主语是第三人称单数，后面的动词也要用第三人称单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宋体"/>
              </a:rPr>
              <a:t>①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宋体"/>
              </a:rPr>
              <a:t>We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宋体"/>
              </a:rPr>
              <a:t>have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宋体"/>
              </a:rPr>
              <a:t> some ap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宋体"/>
              </a:rPr>
              <a:t>She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宋体"/>
              </a:rPr>
              <a:t>has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宋体"/>
              </a:rPr>
              <a:t> some ap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宋体"/>
              </a:rPr>
              <a:t>②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宋体"/>
              </a:rPr>
              <a:t>My hands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宋体"/>
              </a:rPr>
              <a:t>hurt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宋体"/>
              </a:rPr>
              <a:t>My hand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宋体"/>
              </a:rPr>
              <a:t>hurts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宋体"/>
              </a:rPr>
              <a:t>③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宋体"/>
              </a:rPr>
              <a:t>I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宋体"/>
              </a:rPr>
              <a:t>go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宋体"/>
              </a:rPr>
              <a:t> to school at se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宋体"/>
              </a:rPr>
              <a:t>Mike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宋体"/>
              </a:rPr>
              <a:t>goes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宋体"/>
              </a:rPr>
              <a:t> to school at e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332000" y="620640"/>
            <a:ext cx="2592360" cy="1152720"/>
          </a:xfrm>
          <a:custGeom>
            <a:avLst/>
            <a:gdLst>
              <a:gd name="textAreaLeft" fmla="*/ 0 w 2592360"/>
              <a:gd name="textAreaRight" fmla="*/ 2592360 w 2592360"/>
              <a:gd name="textAreaTop" fmla="*/ 149400 h 1152720"/>
              <a:gd name="textAreaBottom" fmla="*/ 1003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怎么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=What’s wr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259"/>
          <p:cNvPicPr/>
          <p:nvPr/>
        </p:nvPicPr>
        <p:blipFill>
          <a:blip r:embed="rId2"/>
          <a:stretch/>
        </p:blipFill>
        <p:spPr>
          <a:xfrm>
            <a:off x="5940360" y="620640"/>
            <a:ext cx="1009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03" name="Picture 4" descr="cartoon time4"/>
          <p:cNvPicPr/>
          <p:nvPr/>
        </p:nvPicPr>
        <p:blipFill>
          <a:blip r:embed="rId2"/>
          <a:stretch/>
        </p:blipFill>
        <p:spPr>
          <a:xfrm>
            <a:off x="1835280" y="2060640"/>
            <a:ext cx="7308720" cy="356076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1979640" y="404640"/>
            <a:ext cx="50482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7c80"/>
                    </a:gs>
                    <a:gs pos="100000">
                      <a:srgbClr val="ffccff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It's not a ball.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7c80"/>
                  </a:gs>
                  <a:gs pos="100000">
                    <a:srgbClr val="ffccff">
                      <a:alpha val="90196"/>
                    </a:srgbClr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7c80"/>
                    </a:gs>
                    <a:gs pos="100000">
                      <a:srgbClr val="ffccff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It's a hedgehog.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7c80"/>
                  </a:gs>
                  <a:gs pos="100000">
                    <a:srgbClr val="ffccff">
                      <a:alpha val="90196"/>
                    </a:srgbClr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95640" y="259920"/>
            <a:ext cx="30272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Sound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8920" y="981000"/>
            <a:ext cx="7417080" cy="1224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before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之前（表示时间），反义词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后面跟名词或动词的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黑体"/>
              </a:rPr>
              <a:t>ing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式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上课前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before class/ before having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sound time"/>
          <p:cNvPicPr/>
          <p:nvPr/>
        </p:nvPicPr>
        <p:blipFill>
          <a:blip r:embed="rId4"/>
          <a:stretch/>
        </p:blipFill>
        <p:spPr>
          <a:xfrm>
            <a:off x="2556000" y="2187720"/>
            <a:ext cx="6588000" cy="4670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5"/>
          <p:cNvSpPr/>
          <p:nvPr/>
        </p:nvSpPr>
        <p:spPr>
          <a:xfrm>
            <a:off x="0" y="2924280"/>
            <a:ext cx="2627280" cy="259236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常见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楷体_GB2312"/>
              </a:rPr>
              <a:t>t</a:t>
            </a:r>
            <a:r>
              <a:rPr b="0" lang="en-US" sz="2800" spc="-1" strike="noStrike">
                <a:solidFill>
                  <a:srgbClr val="ff5050"/>
                </a:solidFill>
                <a:latin typeface="Georgia"/>
                <a:ea typeface="楷体_GB2312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楷体_GB2312"/>
              </a:rPr>
              <a:t>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楷体_GB2312"/>
              </a:rPr>
              <a:t>Fr</a:t>
            </a:r>
            <a:r>
              <a:rPr b="0" lang="en-US" sz="2800" spc="-1" strike="noStrike">
                <a:solidFill>
                  <a:srgbClr val="ff5050"/>
                </a:solidFill>
                <a:latin typeface="Georgia"/>
                <a:ea typeface="楷体_GB2312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楷体_GB2312"/>
              </a:rPr>
              <a:t>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楷体_GB2312"/>
              </a:rPr>
              <a:t>n</a:t>
            </a:r>
            <a:r>
              <a:rPr b="0" lang="en-US" sz="2800" spc="-1" strike="noStrike">
                <a:solidFill>
                  <a:srgbClr val="ff5050"/>
                </a:solidFill>
                <a:latin typeface="Georgia"/>
                <a:ea typeface="楷体_GB2312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楷体_GB2312"/>
              </a:rPr>
              <a:t>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rhyme time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112" name="WordArt 5" descr=""/>
          <p:cNvPicPr/>
          <p:nvPr/>
        </p:nvPicPr>
        <p:blipFill>
          <a:blip r:embed="rId3"/>
          <a:stretch/>
        </p:blipFill>
        <p:spPr>
          <a:xfrm>
            <a:off x="2262240" y="176040"/>
            <a:ext cx="5265720" cy="1165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S_R1333_R1333"/>
          <p:cNvPicPr/>
          <p:nvPr/>
        </p:nvPicPr>
        <p:blipFill>
          <a:blip r:embed="rId4"/>
          <a:stretch/>
        </p:blipFill>
        <p:spPr>
          <a:xfrm>
            <a:off x="0" y="1341360"/>
            <a:ext cx="1908000" cy="190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10840148_130448552141_2_副本"/>
          <p:cNvPicPr/>
          <p:nvPr/>
        </p:nvPicPr>
        <p:blipFill>
          <a:blip r:embed="rId5"/>
          <a:stretch/>
        </p:blipFill>
        <p:spPr>
          <a:xfrm>
            <a:off x="6300720" y="3276720"/>
            <a:ext cx="2843280" cy="17859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7"/>
          <p:cNvSpPr/>
          <p:nvPr/>
        </p:nvSpPr>
        <p:spPr>
          <a:xfrm>
            <a:off x="6300720" y="5084640"/>
            <a:ext cx="2843280" cy="43344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  <a:ea typeface="宋体"/>
              </a:rPr>
              <a:t>by the lake </a:t>
            </a:r>
            <a:r>
              <a:rPr b="0" lang="zh-CN" sz="2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在湖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96000" y="549000"/>
            <a:ext cx="33480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Checkout ti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1699920"/>
            <a:ext cx="208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看图填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checkout time1"/>
          <p:cNvPicPr/>
          <p:nvPr/>
        </p:nvPicPr>
        <p:blipFill>
          <a:blip r:embed="rId1"/>
          <a:stretch/>
        </p:blipFill>
        <p:spPr>
          <a:xfrm>
            <a:off x="1619280" y="1557360"/>
            <a:ext cx="7524720" cy="5300640"/>
          </a:xfrm>
          <a:prstGeom prst="rect">
            <a:avLst/>
          </a:prstGeom>
          <a:ln w="0">
            <a:noFill/>
          </a:ln>
        </p:spPr>
      </p:pic>
      <p:sp>
        <p:nvSpPr>
          <p:cNvPr id="119" name="WordArt 6"/>
          <p:cNvSpPr txBox="1"/>
          <p:nvPr/>
        </p:nvSpPr>
        <p:spPr>
          <a:xfrm>
            <a:off x="4716360" y="2060640"/>
            <a:ext cx="792360" cy="3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coa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WordArt 7"/>
          <p:cNvSpPr txBox="1"/>
          <p:nvPr/>
        </p:nvSpPr>
        <p:spPr>
          <a:xfrm>
            <a:off x="3780000" y="270828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Yang Ling'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WordArt 8"/>
          <p:cNvSpPr txBox="1"/>
          <p:nvPr/>
        </p:nvSpPr>
        <p:spPr>
          <a:xfrm>
            <a:off x="4716360" y="357336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dre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3851280" y="450864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Helen'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4427640" y="5589720"/>
            <a:ext cx="165708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sweater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4572000" y="6237360"/>
            <a:ext cx="160488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Liu Tao'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5" name="Picture 12" descr="pusheen (4)"/>
          <p:cNvPicPr/>
          <p:nvPr/>
        </p:nvPicPr>
        <p:blipFill>
          <a:blip r:embed="rId2"/>
          <a:stretch/>
        </p:blipFill>
        <p:spPr>
          <a:xfrm>
            <a:off x="0" y="2349360"/>
            <a:ext cx="156672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checkout time2"/>
          <p:cNvPicPr/>
          <p:nvPr/>
        </p:nvPicPr>
        <p:blipFill>
          <a:blip r:embed="rId2"/>
          <a:stretch/>
        </p:blipFill>
        <p:spPr>
          <a:xfrm>
            <a:off x="1763640" y="2060640"/>
            <a:ext cx="7380360" cy="367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pusheen (4)"/>
          <p:cNvPicPr/>
          <p:nvPr/>
        </p:nvPicPr>
        <p:blipFill>
          <a:blip r:embed="rId3"/>
          <a:stretch/>
        </p:blipFill>
        <p:spPr>
          <a:xfrm>
            <a:off x="1835280" y="39672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30" name="WordArt 6"/>
          <p:cNvSpPr txBox="1"/>
          <p:nvPr/>
        </p:nvSpPr>
        <p:spPr>
          <a:xfrm>
            <a:off x="4643280" y="227664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coat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WordArt 7"/>
          <p:cNvSpPr txBox="1"/>
          <p:nvPr/>
        </p:nvSpPr>
        <p:spPr>
          <a:xfrm>
            <a:off x="4716360" y="31417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Mike'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WordArt 8"/>
          <p:cNvSpPr txBox="1"/>
          <p:nvPr/>
        </p:nvSpPr>
        <p:spPr>
          <a:xfrm>
            <a:off x="4643280" y="4221000"/>
            <a:ext cx="1613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trouser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" name="WordArt 9"/>
          <p:cNvSpPr txBox="1"/>
          <p:nvPr/>
        </p:nvSpPr>
        <p:spPr>
          <a:xfrm>
            <a:off x="4716360" y="5013360"/>
            <a:ext cx="1770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Su Yang'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920" y="1699920"/>
            <a:ext cx="6337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根据上下文和首字母补全对话</a:t>
            </a:r>
            <a:r>
              <a:rPr b="0" lang="zh-CN" sz="2400" spc="-1" strike="noStrike">
                <a:solidFill>
                  <a:srgbClr val="ffff00"/>
                </a:solidFill>
                <a:latin typeface="Calibri"/>
                <a:ea typeface="宋体"/>
              </a:rPr>
              <a:t>☆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9280" y="234792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: Come and look at my d________, Su Ha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9440" indent="-469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: It’s beautiful. But it’s too s_______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9440" indent="-469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______ this, pl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9440" indent="-469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2. A: It’s very c_______ to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9440" indent="-469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: Here’s a pair of g_______ for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9440" indent="-469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: Oh, thank you. Look, they’re so b______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9440" indent="-469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______ gloves are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9440" indent="-469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: They’re my father’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9440" indent="-469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292720" y="220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  <a:ea typeface="宋体"/>
              </a:rPr>
              <a:t>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651640" y="270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  <a:ea typeface="宋体"/>
              </a:rPr>
              <a:t>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83528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  <a:ea typeface="宋体"/>
              </a:rPr>
              <a:t>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916360" y="378936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  <a:ea typeface="宋体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067280" y="4292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  <a:ea typeface="宋体"/>
              </a:rPr>
              <a:t>l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6659640" y="479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  <a:ea typeface="宋体"/>
              </a:rPr>
              <a:t>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1763640" y="5300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  <a:ea typeface="宋体"/>
              </a:rPr>
              <a:t>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12000" y="475920"/>
            <a:ext cx="27367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New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trousers"/>
          <p:cNvPicPr/>
          <p:nvPr/>
        </p:nvPicPr>
        <p:blipFill>
          <a:blip r:embed="rId1"/>
          <a:stretch/>
        </p:blipFill>
        <p:spPr>
          <a:xfrm>
            <a:off x="7596360" y="3789360"/>
            <a:ext cx="1245960" cy="184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a coat"/>
          <p:cNvPicPr/>
          <p:nvPr/>
        </p:nvPicPr>
        <p:blipFill>
          <a:blip r:embed="rId2"/>
          <a:stretch/>
        </p:blipFill>
        <p:spPr>
          <a:xfrm>
            <a:off x="395280" y="1773360"/>
            <a:ext cx="1751040" cy="1751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a dress"/>
          <p:cNvPicPr/>
          <p:nvPr/>
        </p:nvPicPr>
        <p:blipFill>
          <a:blip r:embed="rId3"/>
          <a:stretch/>
        </p:blipFill>
        <p:spPr>
          <a:xfrm>
            <a:off x="468360" y="4221000"/>
            <a:ext cx="1511280" cy="145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a shirt"/>
          <p:cNvPicPr/>
          <p:nvPr/>
        </p:nvPicPr>
        <p:blipFill>
          <a:blip r:embed="rId4"/>
          <a:stretch/>
        </p:blipFill>
        <p:spPr>
          <a:xfrm>
            <a:off x="2771640" y="1844640"/>
            <a:ext cx="1339920" cy="1535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a sweater"/>
          <p:cNvPicPr/>
          <p:nvPr/>
        </p:nvPicPr>
        <p:blipFill>
          <a:blip r:embed="rId5"/>
          <a:stretch/>
        </p:blipFill>
        <p:spPr>
          <a:xfrm>
            <a:off x="2700360" y="4149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gloves"/>
          <p:cNvPicPr/>
          <p:nvPr/>
        </p:nvPicPr>
        <p:blipFill>
          <a:blip r:embed="rId6"/>
          <a:stretch/>
        </p:blipFill>
        <p:spPr>
          <a:xfrm>
            <a:off x="5076720" y="1844640"/>
            <a:ext cx="1673280" cy="1319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jeans"/>
          <p:cNvPicPr/>
          <p:nvPr/>
        </p:nvPicPr>
        <p:blipFill>
          <a:blip r:embed="rId7"/>
          <a:stretch/>
        </p:blipFill>
        <p:spPr>
          <a:xfrm>
            <a:off x="5148360" y="3933720"/>
            <a:ext cx="1601640" cy="165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shorts"/>
          <p:cNvPicPr/>
          <p:nvPr/>
        </p:nvPicPr>
        <p:blipFill>
          <a:blip r:embed="rId8"/>
          <a:stretch/>
        </p:blipFill>
        <p:spPr>
          <a:xfrm>
            <a:off x="7308720" y="1700280"/>
            <a:ext cx="1608120" cy="1422360"/>
          </a:xfrm>
          <a:prstGeom prst="rect">
            <a:avLst/>
          </a:prstGeom>
          <a:ln w="0">
            <a:noFill/>
          </a:ln>
        </p:spPr>
      </p:pic>
      <p:sp>
        <p:nvSpPr>
          <p:cNvPr id="52" name="WordArt 12"/>
          <p:cNvSpPr txBox="1"/>
          <p:nvPr/>
        </p:nvSpPr>
        <p:spPr>
          <a:xfrm>
            <a:off x="468360" y="3429000"/>
            <a:ext cx="1582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 coa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WordArt 13"/>
          <p:cNvSpPr txBox="1"/>
          <p:nvPr/>
        </p:nvSpPr>
        <p:spPr>
          <a:xfrm>
            <a:off x="250920" y="5661000"/>
            <a:ext cx="172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 dres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WordArt 14"/>
          <p:cNvSpPr txBox="1"/>
          <p:nvPr/>
        </p:nvSpPr>
        <p:spPr>
          <a:xfrm>
            <a:off x="2700360" y="3357720"/>
            <a:ext cx="1655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 shir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WordArt 15"/>
          <p:cNvSpPr txBox="1"/>
          <p:nvPr/>
        </p:nvSpPr>
        <p:spPr>
          <a:xfrm>
            <a:off x="2484360" y="5661000"/>
            <a:ext cx="208620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 sweate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WordArt 16"/>
          <p:cNvSpPr txBox="1"/>
          <p:nvPr/>
        </p:nvSpPr>
        <p:spPr>
          <a:xfrm>
            <a:off x="5148360" y="3213000"/>
            <a:ext cx="1584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glov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WordArt 17"/>
          <p:cNvSpPr txBox="1"/>
          <p:nvPr/>
        </p:nvSpPr>
        <p:spPr>
          <a:xfrm>
            <a:off x="5292720" y="5661000"/>
            <a:ext cx="15112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jean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WordArt 18"/>
          <p:cNvSpPr txBox="1"/>
          <p:nvPr/>
        </p:nvSpPr>
        <p:spPr>
          <a:xfrm>
            <a:off x="7308720" y="3141720"/>
            <a:ext cx="1619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short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WordArt 19"/>
          <p:cNvSpPr txBox="1"/>
          <p:nvPr/>
        </p:nvSpPr>
        <p:spPr>
          <a:xfrm>
            <a:off x="7236000" y="5661000"/>
            <a:ext cx="168732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trouser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AutoShape 22"/>
          <p:cNvSpPr/>
          <p:nvPr/>
        </p:nvSpPr>
        <p:spPr>
          <a:xfrm>
            <a:off x="4500720" y="2133720"/>
            <a:ext cx="647640" cy="4248000"/>
          </a:xfrm>
          <a:custGeom>
            <a:avLst/>
            <a:gdLst>
              <a:gd name="textAreaLeft" fmla="*/ 414000 w 647640"/>
              <a:gd name="textAreaRight" fmla="*/ 648000 w 647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1619280" y="3933720"/>
            <a:ext cx="273672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常用复数的名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611280" y="1916280"/>
            <a:ext cx="8064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66ff33"/>
                    </a:gs>
                  </a:gsLst>
                  <a:lin ang="2700000"/>
                </a:gradFill>
                <a:latin typeface="宋体"/>
              </a:rPr>
              <a:t>Thank you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66ff33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84360" y="475920"/>
            <a:ext cx="25196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tory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360" y="551628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楷体_GB2312"/>
              </a:rPr>
              <a:t>too:</a:t>
            </a: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楷体_GB2312"/>
              </a:rPr>
              <a:t>太，经常放在形容词前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楷体_GB2312"/>
              </a:rPr>
              <a:t>too short</a:t>
            </a: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楷体_GB2312"/>
              </a:rPr>
              <a:t>太短了（太矮了）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楷体_GB2312"/>
              </a:rPr>
              <a:t>too long </a:t>
            </a: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楷体_GB2312"/>
              </a:rPr>
              <a:t>太长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story time 1"/>
          <p:cNvPicPr/>
          <p:nvPr/>
        </p:nvPicPr>
        <p:blipFill>
          <a:blip r:embed="rId1"/>
          <a:stretch/>
        </p:blipFill>
        <p:spPr>
          <a:xfrm>
            <a:off x="824040" y="1562040"/>
            <a:ext cx="7495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056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987280" y="5157360"/>
            <a:ext cx="59770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讨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 dress) Try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  <a:ea typeface="宋体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讨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rousers) Try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  <a:ea typeface="宋体"/>
              </a:rPr>
              <a:t>the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story time2"/>
          <p:cNvPicPr/>
          <p:nvPr/>
        </p:nvPicPr>
        <p:blipFill>
          <a:blip r:embed="rId2"/>
          <a:stretch/>
        </p:blipFill>
        <p:spPr>
          <a:xfrm>
            <a:off x="2411280" y="333360"/>
            <a:ext cx="58388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76720" y="2565000"/>
            <a:ext cx="3168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et’s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咱们去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吧！（提出建议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et’s go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et’s make a cak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et’s sing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story time3"/>
          <p:cNvPicPr/>
          <p:nvPr/>
        </p:nvPicPr>
        <p:blipFill>
          <a:blip r:embed="rId1"/>
          <a:stretch/>
        </p:blipFill>
        <p:spPr>
          <a:xfrm>
            <a:off x="826920" y="1844640"/>
            <a:ext cx="42246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340000" y="4076640"/>
            <a:ext cx="590544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u Yang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  <a:ea typeface="宋体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gloves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苏阳的手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alibri"/>
                <a:ea typeface="宋体"/>
              </a:rPr>
              <a:t>名词所有格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：在人名后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,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后面的名词是属于前面那个人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Yang Ling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  <a:ea typeface="宋体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coat; Mike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  <a:ea typeface="宋体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sweate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elen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  <a:ea typeface="宋体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fath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story time4"/>
          <p:cNvPicPr/>
          <p:nvPr/>
        </p:nvPicPr>
        <p:blipFill>
          <a:blip r:embed="rId2"/>
          <a:stretch/>
        </p:blipFill>
        <p:spPr>
          <a:xfrm>
            <a:off x="1763640" y="0"/>
            <a:ext cx="7380360" cy="402912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5"/>
          <p:cNvSpPr/>
          <p:nvPr/>
        </p:nvSpPr>
        <p:spPr>
          <a:xfrm flipH="1">
            <a:off x="0" y="476280"/>
            <a:ext cx="4572000" cy="3168720"/>
          </a:xfrm>
          <a:prstGeom prst="wedgeEllipseCallout">
            <a:avLst>
              <a:gd name="adj1" fmla="val -27152"/>
              <a:gd name="adj2" fmla="val 54555"/>
            </a:avLst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2700000"/>
          </a:gra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so + 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  <a:ea typeface="宋体"/>
              </a:rPr>
              <a:t>形容词：真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  <a:ea typeface="宋体"/>
              </a:rPr>
              <a:t>好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e.g.  so big </a:t>
            </a: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宋体"/>
              </a:rPr>
              <a:t>真大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so nice </a:t>
            </a: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宋体"/>
              </a:rPr>
              <a:t>真好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so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too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  <a:ea typeface="宋体"/>
              </a:rPr>
              <a:t>的区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so</a:t>
            </a: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宋体"/>
              </a:rPr>
              <a:t>表示赞叹、感叹；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too</a:t>
            </a: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宋体"/>
              </a:rPr>
              <a:t>表示不满意、埋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720" y="1916280"/>
            <a:ext cx="464328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os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谁的，提问所有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复数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--Whose jeans are thes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--They’re Su Hai’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story time5"/>
          <p:cNvPicPr/>
          <p:nvPr/>
        </p:nvPicPr>
        <p:blipFill>
          <a:blip r:embed="rId1"/>
          <a:stretch/>
        </p:blipFill>
        <p:spPr>
          <a:xfrm>
            <a:off x="0" y="1638360"/>
            <a:ext cx="4427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932000" y="1052640"/>
            <a:ext cx="403236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os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谁的，提问所有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单数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--Whose shirt is thi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--It’s Liu Tao’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story time6"/>
          <p:cNvPicPr/>
          <p:nvPr/>
        </p:nvPicPr>
        <p:blipFill>
          <a:blip r:embed="rId2"/>
          <a:stretch/>
        </p:blipFill>
        <p:spPr>
          <a:xfrm>
            <a:off x="0" y="765000"/>
            <a:ext cx="4932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56000" y="188640"/>
            <a:ext cx="28083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Fun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55280" y="4723920"/>
            <a:ext cx="799308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ose sweater is this? Gues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  <a:ea typeface="宋体"/>
              </a:rPr>
              <a:t>Is it Dan’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  <a:ea typeface="宋体"/>
              </a:rPr>
              <a:t>No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You’re wro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Guess and say 1"/>
          <p:cNvPicPr/>
          <p:nvPr/>
        </p:nvPicPr>
        <p:blipFill>
          <a:blip r:embed="rId1"/>
          <a:stretch/>
        </p:blipFill>
        <p:spPr>
          <a:xfrm>
            <a:off x="755640" y="907920"/>
            <a:ext cx="7667640" cy="381636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550872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猜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3708360" y="3573360"/>
            <a:ext cx="914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8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宋体"/>
              </a:rPr>
              <a:t>错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03:30Z</dcterms:created>
  <dc:creator/>
  <dc:description/>
  <cp:keywords/>
  <dc:language>en-US</dc:language>
  <cp:lastModifiedBy>Administrator</cp:lastModifiedBy>
  <cp:lastPrinted>1899-12-30T00:00:00Z</cp:lastPrinted>
  <dcterms:modified xsi:type="dcterms:W3CDTF">2015-03-14T15:26:54Z</dcterms:modified>
  <cp:revision>87</cp:revision>
  <dc:subject/>
  <dc:title>WPS在线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