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4FCC-8F52-4E06-8855-8AE8E62CD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BEB9-EA90-4ADD-966B-D9D682736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05B4-E73A-450D-957F-C3D6E671C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2669-F5C5-44EB-83F8-4D7C366AD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73D074-3CFA-4819-8D5B-59505597E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19BABC-6DD3-4FC4-AF24-6B37F1238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8D8905-44CD-461D-BCC5-65AC7C01F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2B61F1-7975-4F13-A850-1F08363C7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617026-8E8C-4231-8A95-7719477E8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5300C8-FA0A-4068-A146-04442940A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C9821B-8E52-451C-8A6C-99A8A6F6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0CAF-E65D-4C40-B165-23E853C9D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7FF30D-A47A-49D9-B2CF-295C0B9F3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EB560D-4D59-4236-9C87-C6884470E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07CCDC-E35A-4334-8162-B3B55C6E1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19B03C-B29D-41B6-A26A-D113D8DD0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346F39-56A4-4AA3-9467-2EE7570C1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279D-5DDB-4533-B7AA-B54B60F29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026F-741B-41B3-89D3-9E4A9D965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C3FF-DCB4-42F4-A9E7-4B2AB9599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9A15-65BA-4DDE-9F2A-77D2DB019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17BC-AAD5-4A54-BEA7-9FBA8F54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EC68-BD1F-4837-B012-F7C25038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1A8E-C605-453F-AED2-4119A4393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EFE94-0CED-4915-9AAB-759EC2ABDF8A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DAED9-F735-4888-8BAD-DC566DC3AE70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600200" y="990720"/>
            <a:ext cx="5638680" cy="16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Unit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A new stud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600200" y="1143000"/>
            <a:ext cx="62485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Homewor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听录音，朗读、背诵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Part A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并抄写一遍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预习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和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部分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3809880" cy="48769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495680" y="762120"/>
            <a:ext cx="358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67080" y="990720"/>
            <a:ext cx="4496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: Who’s that m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343400" y="1905120"/>
            <a:ext cx="45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B: He’s Mr Brown.     He’s a docto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3886200" cy="49719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886200" y="1066680"/>
            <a:ext cx="525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: Who’s that wom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62520" y="2057400"/>
            <a:ext cx="5181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B: She’s Mrs Black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She’s a nurs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3581280" cy="4572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657600" y="12952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: Who’s that wom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657600" y="2819520"/>
            <a:ext cx="49528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B: She’s Miss Li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he’s a teache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3657600" cy="4419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733920" y="1219320"/>
            <a:ext cx="495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: Who’s that bo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733920" y="2743200"/>
            <a:ext cx="4267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B: He’s Davi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He’s a studen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3200400" cy="46483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505320" y="1371600"/>
            <a:ext cx="48006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A: Who’s that bo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429000" y="2362320"/>
            <a:ext cx="52578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B: He’s Gao Shan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He’s a studen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oseph</cp:lastModifiedBy>
  <dcterms:modified xsi:type="dcterms:W3CDTF">2009-02-11T15:24:19Z</dcterms:modified>
  <cp:revision>0</cp:revision>
  <dc:subject/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