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gif" ContentType="image/gif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338-4B52-4D06-A356-F4836B99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16A-3C90-4F88-8993-60F82672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857-581A-479C-8871-B954B51A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36E-3A03-4E4E-B2E7-844E688F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362-FC13-4E6B-88B5-907AA6FE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A97-EAED-478D-B165-17F37CD6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FEA-1379-4A7F-A928-AD5D105B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7A1-1084-4D30-8828-D6FC940E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7C3-592D-419D-9144-F143AD4D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C6F-B6B8-4D46-AD74-29092B72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509-3CAB-4274-8ABD-4E505479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2A4-F36A-449D-93D0-DCA55F68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35B4-9EDC-4EC5-8311-4674C4E3FC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8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8.xm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8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image" Target="../media/image17.png"/><Relationship Id="rId4" Type="http://schemas.openxmlformats.org/officeDocument/2006/relationships/slide" Target="slide10.xml"/><Relationship Id="rId5" Type="http://schemas.openxmlformats.org/officeDocument/2006/relationships/image" Target="../media/image18.png"/><Relationship Id="rId6" Type="http://schemas.openxmlformats.org/officeDocument/2006/relationships/slide" Target="slide11.xml"/><Relationship Id="rId7" Type="http://schemas.openxmlformats.org/officeDocument/2006/relationships/image" Target="../media/image19.png"/><Relationship Id="rId8" Type="http://schemas.openxmlformats.org/officeDocument/2006/relationships/slide" Target="slide12.xml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8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6680" y="309600"/>
            <a:ext cx="8810640" cy="6238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62040" y="2389320"/>
            <a:ext cx="6237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Unit Two  At a par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(B &amp; C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3769" t="3798" r="0" b="8008"/>
          <a:stretch/>
        </p:blipFill>
        <p:spPr>
          <a:xfrm>
            <a:off x="0" y="-15840"/>
            <a:ext cx="9144000" cy="687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4300560" cy="43196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693000" y="4941720"/>
            <a:ext cx="8226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: Who’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wom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ong hai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: She’s my moth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13769" t="3798" r="0" b="8008"/>
          <a:stretch/>
        </p:blipFill>
        <p:spPr>
          <a:xfrm>
            <a:off x="0" y="-15840"/>
            <a:ext cx="9144000" cy="6875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333360"/>
            <a:ext cx="4289400" cy="43164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27480" y="5013360"/>
            <a:ext cx="8085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: Who’s the boy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with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ig mouth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: He’s my br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3769" t="3798" r="0" b="8008"/>
          <a:stretch/>
        </p:blipFill>
        <p:spPr>
          <a:xfrm>
            <a:off x="0" y="-15840"/>
            <a:ext cx="9144000" cy="6875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333360"/>
            <a:ext cx="4289400" cy="43164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623880" y="4929120"/>
            <a:ext cx="7985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: Who’s the girl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ith 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mall n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: She’s my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13769" t="3798" r="0" b="8008"/>
          <a:stretch/>
        </p:blipFill>
        <p:spPr>
          <a:xfrm>
            <a:off x="0" y="-15840"/>
            <a:ext cx="9144000" cy="6875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考考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7280" y="836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改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Whose the boy with big mouth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Who’s girl with a long hai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Who’s the man with a small eye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Who’s the woman with white ski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1040" y="170028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Wh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1628640"/>
            <a:ext cx="39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76120" y="2852640"/>
            <a:ext cx="14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78200" y="2492280"/>
            <a:ext cx="433440" cy="4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6200" y="3573360"/>
            <a:ext cx="433440" cy="4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29480" y="3429000"/>
            <a:ext cx="10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9080" y="5084640"/>
            <a:ext cx="195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427280" y="1700280"/>
            <a:ext cx="21564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500360" y="1700280"/>
            <a:ext cx="21564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4449600" y="1346040"/>
            <a:ext cx="11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1352520" y="2496960"/>
            <a:ext cx="11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0560" y="4581360"/>
            <a:ext cx="433080" cy="4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nit Two At a part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eb.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734364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Ⅰ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Co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9400" y="3879720"/>
            <a:ext cx="533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Ⅱ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sk an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2000" y="1106640"/>
            <a:ext cx="7215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:Hello, I’m Jack. I’m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_______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here. 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B:Hello, I’m David. Welcome to our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1920" y="2178000"/>
            <a:ext cx="75099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:Thank you. Who’s that</a:t>
            </a: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______?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B:She’s Miss Yang. She’s our English 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______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. </a:t>
            </a:r>
            <a:br>
              <a:rPr sz="2800"/>
            </a:b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:Who’s that boy?</a:t>
            </a:r>
            <a:r>
              <a:rPr b="1" lang="zh-CN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B:He’s Liu Tao. He’s a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800" y="4125960"/>
            <a:ext cx="7938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:Oh, time for class. Let’s go to the classroom. 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B:OK. Let’s 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1193760"/>
            <a:ext cx="9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22017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720" y="27050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3645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0840" y="4611600"/>
            <a:ext cx="79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ho’s the man / woman / boy / girl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He’s / She’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549360"/>
            <a:ext cx="3060720" cy="393444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grandf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grandm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fa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m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br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s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016000" cy="129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00000" y="3398760"/>
            <a:ext cx="1584360" cy="966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880000" cy="1495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987640" y="115920"/>
            <a:ext cx="2519280" cy="162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203640" y="1844640"/>
            <a:ext cx="2016000" cy="129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419640" y="3357720"/>
            <a:ext cx="158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198000"/>
            <a:ext cx="7991280" cy="55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long hair</a:t>
            </a:r>
            <a:r>
              <a:rPr b="1" lang="zh-CN" sz="48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short h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zh-CN" sz="4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big mouth</a:t>
            </a:r>
            <a:r>
              <a:rPr b="1" lang="zh-CN" sz="48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a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big head</a:t>
            </a:r>
            <a:r>
              <a:rPr b="1" lang="zh-CN" sz="4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a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small n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small eye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s   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big ear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64000" y="981000"/>
            <a:ext cx="3384720" cy="2271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95280" y="973080"/>
            <a:ext cx="2952720" cy="2168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916360" y="1149480"/>
            <a:ext cx="3144600" cy="1919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059280" y="3213000"/>
            <a:ext cx="3433680" cy="2016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508720" y="3141720"/>
            <a:ext cx="3217680" cy="1963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0" y="3141720"/>
            <a:ext cx="347976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005440" y="1052640"/>
            <a:ext cx="2806560" cy="4248000"/>
          </a:xfrm>
          <a:prstGeom prst="rect">
            <a:avLst/>
          </a:prstGeom>
          <a:noFill/>
          <a:ln w="19080">
            <a:solidFill>
              <a:srgbClr val="66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ig mouth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all eye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ig head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all nose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ng 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ort hair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ig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8600" y="306864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Comic Sans MS"/>
              </a:rPr>
              <a:t>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7760" y="3068640"/>
            <a:ext cx="33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’s the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88320" y="26370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3769" t="3798" r="0" b="8008"/>
          <a:stretch/>
        </p:blipFill>
        <p:spPr>
          <a:xfrm>
            <a:off x="0" y="-15840"/>
            <a:ext cx="9144000" cy="6875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5640" y="333360"/>
            <a:ext cx="2868480" cy="28814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7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11640" y="333360"/>
            <a:ext cx="2868480" cy="28814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258920" y="3429000"/>
            <a:ext cx="2860560" cy="28782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16360" y="3429000"/>
            <a:ext cx="2860920" cy="287820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3769" t="3798" r="0" b="8008"/>
          <a:stretch/>
        </p:blipFill>
        <p:spPr>
          <a:xfrm>
            <a:off x="0" y="-15840"/>
            <a:ext cx="9144000" cy="687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8360" y="333360"/>
            <a:ext cx="4300560" cy="43196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19200" y="4929120"/>
            <a:ext cx="73134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: Who’s the m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ig ear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: He’s my fath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4:18:27Z</dcterms:created>
  <dc:creator/>
  <dc:description/>
  <dc:language>en-US</dc:language>
  <cp:lastModifiedBy>雨林木风</cp:lastModifiedBy>
  <dcterms:modified xsi:type="dcterms:W3CDTF">2013-11-25T02:24:10Z</dcterms:modified>
  <cp:revision>1</cp:revision>
  <dc:subject/>
  <dc:title> </dc:title>
</cp:coreProperties>
</file>