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642-BC76-4B73-BC9E-DF502F98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441-8A10-4682-9FEA-090E1B0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8AB49-AC8A-4AE5-9F61-9FCFFE2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06AD5-D0FC-4ADC-9B3D-8C8CE373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9D55-2337-48F9-A5B9-B137596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41FB6-A48E-4D88-B258-FA5A768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433CB-7156-4B80-9960-96F93A5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B16D-E80B-4F5B-8A09-7BF4FE4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4671-5BCB-4DA1-BB42-379899B5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221CA-4164-4DDB-B93C-6E39A19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AA35-8DC8-4701-9CA4-0AD57D95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EDDCC-C905-43D6-B0F0-C288034C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D7D-492F-45E0-BD9E-E40799CE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49D06-CC6E-4EE1-BFBE-663CB3C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9ED86-8AC3-4C6F-B342-2077213C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9B342-3D6F-42AA-89B6-FC754C0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6EA9C-8086-4282-8286-805FA5AB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48136-E0E7-486A-AC66-215736C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9B9A6-04F8-43DC-88F5-07F1B00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AEB3-550A-4594-8664-6B0DC94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2FC5E-F8AC-4C00-A3C4-7BAB21D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F8319-707E-4199-AF3D-ED657C4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68AFC-F04B-460B-A62A-5CE235C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9C7-F298-450D-ADA6-F85D2E17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FD9B2-C739-4E1B-ABB2-E44A7917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C742-8E72-4FE4-9096-47793E8C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6DE82-2283-4D63-B4EF-AE7610E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2CD30-405B-4B70-A469-9597AEBD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D7230-88C9-4513-B48D-99D955D2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4FE01-C3EF-4CFB-8329-C95A743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637B4-C197-4037-AFD3-235808F0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4BBA1-8044-4A2A-A375-95653A7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00666-BA5F-4148-AC76-AF03118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1FC0A-C5AD-4A8F-8D3B-34577352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C9F-E8D8-4E49-B201-CCDA6349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D90C3-37EB-4F1C-B6AE-60FEBD2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86BE5-22A2-4C1D-A888-E76E209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7229-D33A-4340-B3B6-1ACC1813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78621-ACEF-4B96-82CC-E68FB083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A173F-A2B2-4F27-9C4F-627932B0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8180E-1D4C-4C7F-9697-4EF67B5D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60AED-2047-4A25-8066-866DC9F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46CF8-1C6B-45AA-825E-BFD5D6DD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6CCB7-B913-46BA-A277-5A59D0B8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BD0E5-A762-4D45-BAE2-C1EC6E7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5D0-48E3-4E85-9DE7-7F258982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A4E3A-F965-4CFD-A022-AF2FE55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AC72C-B20D-4AD1-8784-23FA181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C85C1-98ED-4114-82AE-022DE9A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8A89C-4CB7-4CEB-BA5D-CFEC2942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9578B-0D85-42FA-AE22-247A430A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A94E-F474-4824-BEA3-028019B2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BD0D-5C05-4873-8059-6D82020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0C1-D4EE-4F01-B00E-E1E808F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B2A-987A-46E0-832B-104AFA2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44B8-E284-4B2D-A01B-A69BD15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CAC-4CF8-4FCC-8BEF-FD7DB25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4DCF-7420-4137-8BDC-D42CDCE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4BF3-12B4-4CCB-AF1D-5180019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3FE6-54DF-4E40-8AF0-325D49D8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FAF-CC8A-4FBD-8948-FEE0140C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FB1E-41B6-41EC-BD4C-479A59D9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A463-BF21-4D3E-99F9-78C51C13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48B1-32BE-4DA4-8E1A-7378EB4D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C1F6-94E3-4A33-ADD1-BE5F33E9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5A3E-3A0D-4226-B527-5647D70B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B688-0110-4650-AAAE-3353FA3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6D1-77F2-49E2-B50D-34C2AFE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6BE6-BD1C-4300-B600-8DEDDF1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D5DB-5649-447A-8D62-053D3E9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B0BA-A5CA-40D1-9DE7-ABA9477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94AB-820F-445B-B03F-0012139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8182-CD63-4AF6-A705-DAF06D36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FE05-C6BB-4E37-A2EA-610CFCBD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3F8F-48EA-4CED-93F6-8E63D364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800C-5741-4D68-9B7B-0344F0A0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A1A7-A09E-4304-A7D8-0AD102F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864D-C1DC-43D9-A119-0AC305F0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3A9-4F59-4793-90FC-B174A03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0515-2176-4895-9F70-43B3C8C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5868-A36A-480F-86D1-1DD8756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55B1-02AE-4799-B4A1-1C200FA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E520-97B5-4A8C-9FEB-B8521F5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0BA9-09A7-46FE-918C-2CECE3B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E3C1-3A74-4698-A09E-91963B5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AB46-35C1-43B9-AEB3-866F4DE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9203-B03A-4F64-BA25-4C7E696D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E32F-CAB2-4318-83E1-9C6D21A9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E5A1-49D5-4400-AD77-C28CB867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09C-2BA1-43CE-928C-8FD281E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74B6-E175-40EC-AFD1-43A1CE6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DC13-E021-453C-83F8-8A928D2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7D40-554B-4720-9C79-DA22145B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D283-785D-4F27-98DA-DA59EE9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65DE-25DD-4B80-AD69-AB282468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0038-56B5-49E6-8F32-C0E2AA2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C991-A371-4C10-A829-C05561AE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ACC4-F8CC-4BC8-811D-CB4714B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BCAA-5FDA-4533-A8CE-FF50BF4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5D8D-A326-4BFA-B81F-B5135249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23A-544C-4B3A-A7CC-6E032023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9EB4-BCFA-471D-8DB0-BAF5DC3A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2C73-B4FE-45DC-B8AD-44EEED95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8796-D80C-46B2-888A-BB43976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7642-511D-40FD-8C1F-9477D63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0CA2-D55A-43DC-8B85-D6D0185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B2CB-7DC4-406B-BB8E-FEBB9F4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931B-E8B4-43EC-B853-BF71A575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491A-D047-4A08-91CA-903B5631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DCC7-52A0-4156-88F6-F26C317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1720-0CB2-404A-8748-D0646F2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341-67D7-47F8-B315-69475B4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102A-8B04-4B95-A8BE-96048B7D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86A8-A83F-41F8-8C6E-F1381EAC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7E2F-CC2E-4595-A931-2766464D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CF17-C00A-4433-B755-318C4716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CB9D-77B7-425C-9163-5F75BFA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BF6F-7090-4A7A-979E-6AA0726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7224D-B0B8-4889-807B-2883C1A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48C9-19D2-48F1-96FC-34504F7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8219B-87C0-41FF-BCC8-A52D92B8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F04E-2191-4420-8C39-071F34E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609-7B1C-4BB4-A5C7-EB9E3D4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B96D-73C2-43BC-A09C-1488E79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47225-E6A5-42D7-B0CE-F37F547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36C8-8C93-4EBA-B758-EFF1419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374F-B914-468A-98A3-8C1B95F9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8728-FF9D-4738-BCA5-59A777D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A936-F709-4F46-B71E-078FC2FB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5EEF-62CE-4044-82C0-12111BBD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5CD3-2A26-4CF9-846C-1214E07D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94F5-1C2B-4D71-8AF3-D1546EF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95F5-D3DC-4EB4-AA65-F4632BD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4A5-3004-4103-9623-2545087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DBE4-1C87-47DF-9FAD-33CBA17E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1A3B-C395-444C-85D0-F5B18CB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9FCE5-1F62-49BB-9251-6623FD0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80F3-FC1C-4355-AEBD-DB6426D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D0D49-6D36-4705-9662-4228B44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212D-55D1-472B-92E3-B2E95857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19A9-3F41-4798-B689-1D90A339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14235-6356-4081-9926-898EFAFC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D7D5-96A6-4713-8828-85F0B61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5CEE6-2D18-43A6-BB85-9C44D853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1C7-21D4-4563-A735-A532A4B12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8BD1-D271-4341-BC0D-6C7BB2E14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C6C-B25E-4CD4-9B0F-D309AAA62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75A-2914-4C0F-8AEF-EBD1A8803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8240-E6F1-4F15-9740-431096859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631-4B2A-40A4-A520-F3477464B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AE0-5878-4184-8E57-4E8F81E18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C76-9B48-4025-A867-765E8336A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8400-45B0-43F2-A1E4-1C8BBB2AE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3350-7293-4F2A-9372-6574FE7086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7FFE-C38E-4667-980B-91BA64F12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3A7-D6E5-44D8-A9D6-FBE1CE183B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nit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2209320" y="3657240"/>
            <a:ext cx="6782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ur new ho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2"/>
          <p:cNvSpPr/>
          <p:nvPr/>
        </p:nvSpPr>
        <p:spPr>
          <a:xfrm>
            <a:off x="4648320" y="3657600"/>
            <a:ext cx="4495680" cy="1143000"/>
          </a:xfrm>
          <a:prstGeom prst="wedgeEllipseCallout">
            <a:avLst>
              <a:gd name="adj1" fmla="val -56884"/>
              <a:gd name="adj2" fmla="val -29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n your new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0" y="1981080"/>
            <a:ext cx="4876920" cy="762120"/>
          </a:xfrm>
          <a:prstGeom prst="wedgeEllipseCallout">
            <a:avLst>
              <a:gd name="adj1" fmla="val -19402"/>
              <a:gd name="adj2" fmla="val 779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 new hou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1143000" y="5715000"/>
            <a:ext cx="7620120" cy="990720"/>
          </a:xfrm>
          <a:prstGeom prst="wedgeRoundRectCallout">
            <a:avLst>
              <a:gd name="adj1" fmla="val -46250"/>
              <a:gd name="adj2" fmla="val -8365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two bed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living room, a kitchen and a bath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228600" y="6172200"/>
            <a:ext cx="3581280" cy="380880"/>
          </a:xfrm>
          <a:prstGeom prst="wedgeRoundRectCallout">
            <a:avLst>
              <a:gd name="adj1" fmla="val -37856"/>
              <a:gd name="adj2" fmla="val -7958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’s beauti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3200400" y="5410080"/>
            <a:ext cx="4191120" cy="533520"/>
          </a:xfrm>
          <a:prstGeom prst="wedgeRoundRectCallout">
            <a:avLst>
              <a:gd name="adj1" fmla="val -47916"/>
              <a:gd name="adj2" fmla="val -87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ouse is not very b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2971800" y="3352680"/>
            <a:ext cx="5029200" cy="609840"/>
          </a:xfrm>
          <a:prstGeom prst="wedgeRoundRectCallout">
            <a:avLst>
              <a:gd name="adj1" fmla="val -46967"/>
              <a:gd name="adj2" fmla="val 7760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my home, Ali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"/>
          <p:cNvSpPr/>
          <p:nvPr/>
        </p:nvSpPr>
        <p:spPr>
          <a:xfrm>
            <a:off x="762120" y="2666880"/>
            <a:ext cx="2286000" cy="381240"/>
          </a:xfrm>
          <a:prstGeom prst="wedgeRoundRectCallout">
            <a:avLst>
              <a:gd name="adj1" fmla="val -41527"/>
              <a:gd name="adj2" fmla="val 11166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/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: What’s in your ho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There 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wo bedrooms.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There 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bath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t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0"/>
          <p:cNvPicPr/>
          <p:nvPr/>
        </p:nvPicPr>
        <p:blipFill>
          <a:blip r:embed="rId1"/>
          <a:srcRect l="0" t="0" r="0" b="5623"/>
          <a:stretch/>
        </p:blipFill>
        <p:spPr>
          <a:xfrm>
            <a:off x="0" y="3048120"/>
            <a:ext cx="2365200" cy="359568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4"/>
          <p:cNvSpPr/>
          <p:nvPr/>
        </p:nvSpPr>
        <p:spPr>
          <a:xfrm>
            <a:off x="2209680" y="2666880"/>
            <a:ext cx="6934320" cy="1447920"/>
          </a:xfrm>
          <a:prstGeom prst="wedgeEllipseCallout">
            <a:avLst>
              <a:gd name="adj1" fmla="val -47824"/>
              <a:gd name="adj2" fmla="val 7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Welcome to my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house is not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bi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’s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beauti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______ a bathr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______ two bedroo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______  a kitchen, three bedroom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3-1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1920" y="50288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ur new house. There are two bedrooms. The big one is for my mom and dad. My bedroom is small. They are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3-2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51051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iving room is not big, but it’s beautiful. we oft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V there. There is a kitchen and a bathroom, too. They are cle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living room/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dining room/small but 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study/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kitchen/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bedroom/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bathroom/not big but 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ing room is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1240502940050"/>
          <p:cNvPicPr/>
          <p:nvPr/>
        </p:nvPicPr>
        <p:blipFill>
          <a:blip r:embed="rId1"/>
          <a:srcRect l="0" t="0" r="0" b="3795"/>
          <a:stretch/>
        </p:blipFill>
        <p:spPr>
          <a:xfrm>
            <a:off x="0" y="1212840"/>
            <a:ext cx="4530600" cy="5430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5358028_182225767532_2"/>
          <p:cNvPicPr/>
          <p:nvPr/>
        </p:nvPicPr>
        <p:blipFill>
          <a:blip r:embed="rId2"/>
          <a:srcRect l="0" t="0" r="0" b="3801"/>
          <a:stretch/>
        </p:blipFill>
        <p:spPr>
          <a:xfrm>
            <a:off x="4495680" y="1219320"/>
            <a:ext cx="4529160" cy="54244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1920" y="2514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ning room is small but cle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1920" y="2742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y is n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is cle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droom is beautif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23619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hroom is not big but cle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he in the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he/she in the bath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s, he/she i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, he/she is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u=3794034628,93572889&amp;fm=21&amp;gp=0"/>
          <p:cNvPicPr/>
          <p:nvPr/>
        </p:nvPicPr>
        <p:blipFill>
          <a:blip r:embed="rId1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676520" y="4419720"/>
            <a:ext cx="2971800" cy="990360"/>
          </a:xfrm>
          <a:prstGeom prst="wedgeEllipseCallout">
            <a:avLst>
              <a:gd name="adj1" fmla="val -47277"/>
              <a:gd name="adj2" fmla="val 31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914400" y="1295280"/>
            <a:ext cx="7010280" cy="2971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447920" y="1828800"/>
            <a:ext cx="6019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kit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52-121009130049150"/>
          <p:cNvPicPr/>
          <p:nvPr/>
        </p:nvPicPr>
        <p:blipFill>
          <a:blip r:embed="rId1"/>
          <a:srcRect l="0" t="0" r="0" b="12793"/>
          <a:stretch/>
        </p:blipFill>
        <p:spPr>
          <a:xfrm>
            <a:off x="1600200" y="609480"/>
            <a:ext cx="6191280" cy="43196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5562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1369025_182733152000_2"/>
          <p:cNvPicPr/>
          <p:nvPr/>
        </p:nvPicPr>
        <p:blipFill>
          <a:blip r:embed="rId1"/>
          <a:srcRect l="0" t="0" r="0" b="5449"/>
          <a:stretch/>
        </p:blipFill>
        <p:spPr>
          <a:xfrm>
            <a:off x="914400" y="609480"/>
            <a:ext cx="70866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2108137_144221012658_2"/>
          <p:cNvPicPr/>
          <p:nvPr/>
        </p:nvPicPr>
        <p:blipFill>
          <a:blip r:embed="rId1"/>
          <a:srcRect l="0" t="0" r="0" b="4864"/>
          <a:stretch/>
        </p:blipFill>
        <p:spPr>
          <a:xfrm>
            <a:off x="533520" y="1066680"/>
            <a:ext cx="79246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6133522_120126566103_2"/>
          <p:cNvPicPr/>
          <p:nvPr/>
        </p:nvPicPr>
        <p:blipFill>
          <a:blip r:embed="rId1"/>
          <a:srcRect l="0" t="0" r="0" b="5429"/>
          <a:stretch/>
        </p:blipFill>
        <p:spPr>
          <a:xfrm>
            <a:off x="1219320" y="762120"/>
            <a:ext cx="6781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1157335080_ZSaOwD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201101131403551689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fill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__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_dr_ _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_tch_ _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_thr_ _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_v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_n_ng ro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</dc:creator>
  <dc:description> </dc:description>
  <cp:keywords/>
  <dc:language>en-US</dc:language>
  <cp:lastModifiedBy>Bonny</cp:lastModifiedBy>
  <dcterms:modified xsi:type="dcterms:W3CDTF">2015-05-07T16:55:17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