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22CE-C343-40AC-AED4-CDC7FD0A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643920"/>
            <a:ext cx="76960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B79-AD2F-4D1A-9D6F-5748B053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64392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64392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87F-042E-4302-BAC3-DD82A08F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62864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62864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64392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64392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64392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AAC-B617-422E-802B-54C3E0BA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0FD1-BDD0-46B8-9A94-C944F18E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BD4-AD97-4822-AF9D-C5A52DA8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185C-04CF-4C2F-AD4A-E1ED8AEF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1808-F96E-4329-94B2-DEBD7F0D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43BA-F31B-49E7-AF9F-87EF2293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41528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FB99-0C5D-4751-81FD-86E00F08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64392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F2C1-E733-4F7E-9FD1-CAE3D178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FE8-8EB5-44C3-B090-D1165D45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29600" y="364392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EC6A-339F-44F5-BF06-FD3816D9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643920"/>
            <a:ext cx="76960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829F-DFB0-417D-8921-8A176DD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643920"/>
            <a:ext cx="76960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A6DF-2C53-4DC1-9275-3BBBFEDC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64392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29600" y="364392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BC81-2C6D-4BAC-8F60-F438671A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87880" y="162864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9960" y="162864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64392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87880" y="364392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9960" y="3643920"/>
            <a:ext cx="2477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5F8-81E0-4369-8E11-165EDFFE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0B8-74FE-41B5-9B72-CE075B5B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7CB-1FBC-49A7-85E3-B4C11022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4EA-716E-47C0-BB5B-0AFAFBDA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41528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32E-B63A-4113-88EE-3D455F24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64392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DCA-CF52-408C-AA52-3351D65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64392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105-ECD7-47B1-98A1-980689A8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628640"/>
            <a:ext cx="3755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643920"/>
            <a:ext cx="76960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1BD-4A2B-48E1-B6F9-36DF472C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5640" indent="-75564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1" marL="1086480" indent="-66132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2" marL="1416960" indent="-56664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3" marL="1747800" indent="-47232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4" marL="2172960" indent="-47232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5" marL="2172960" indent="-472320"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6" marL="2172960" indent="-472320"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93F-6A81-4B1C-9FB0-2B942BCD0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>
                    <a:gd name="textAreaLeft" fmla="*/ 0 w 244080"/>
                    <a:gd name="textAreaRight" fmla="*/ 244440 w 24408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>
                    <a:gd name="textAreaLeft" fmla="*/ 0 w 429480"/>
                    <a:gd name="textAreaRight" fmla="*/ 429840 w 4294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>
                    <a:gd name="textAreaLeft" fmla="*/ 0 w 805680"/>
                    <a:gd name="textAreaRight" fmla="*/ 806040 w 8056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>
                    <a:gd name="textAreaLeft" fmla="*/ 0 w 1209600"/>
                    <a:gd name="textAreaRight" fmla="*/ 1209960 w 120960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>
                    <a:gd name="textAreaLeft" fmla="*/ 0 w 285480"/>
                    <a:gd name="textAreaRight" fmla="*/ 285840 w 28548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" name="Line 53"/>
          <p:cNvSpPr/>
          <p:nvPr/>
        </p:nvSpPr>
        <p:spPr>
          <a:xfrm>
            <a:off x="611280" y="1413000"/>
            <a:ext cx="7632720" cy="0"/>
          </a:xfrm>
          <a:prstGeom prst="line">
            <a:avLst/>
          </a:prstGeom>
          <a:ln w="3492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0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55640" indent="-75564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1" marL="1086480" indent="-66132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2" marL="1416960" indent="-56664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3" marL="1747800" indent="-47232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4" marL="2172960" indent="-472320">
              <a:spcBef>
                <a:spcPts val="799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5" marL="2172960" indent="-472320"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lvl="6" marL="2172960" indent="-472320"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C5D9-6141-4B2B-B5A3-C419EA65D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2060640"/>
            <a:ext cx="8748720" cy="13557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Where Are You Coing?</a:t>
            </a:r>
            <a:endParaRPr b="1" lang="en-US" sz="6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618920" y="3933720"/>
            <a:ext cx="603252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(</a:t>
            </a:r>
            <a:r>
              <a:rPr b="1" lang="zh-CN" sz="3600" spc="-1" strike="noStrike">
                <a:solidFill>
                  <a:srgbClr val="703dff"/>
                </a:solidFill>
                <a:latin typeface="Comic Sans MS"/>
              </a:rPr>
              <a:t>第一课时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)Unit 5</a:t>
            </a:r>
            <a:endParaRPr b="0" lang="en-US" sz="36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t’s play a game!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731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how a teaching picture</a:t>
            </a:r>
            <a:endParaRPr b="0" lang="en-US" sz="32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5429160" y="6429240"/>
            <a:ext cx="3000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marL="812880" indent="-81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2010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omic Sans MS"/>
              </a:rPr>
              <a:t>Practice Activities</a:t>
            </a:r>
            <a:endParaRPr b="1" lang="en-US" sz="27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29840" y="1557000"/>
            <a:ext cx="7123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1 </a:t>
            </a:r>
            <a:r>
              <a:rPr b="0" lang="en-US" sz="5400" spc="-1" strike="noStrike">
                <a:solidFill>
                  <a:srgbClr val="703dff"/>
                </a:solidFill>
                <a:latin typeface="Comic Sans MS"/>
              </a:rPr>
              <a:t>.Look and match</a:t>
            </a:r>
            <a:endParaRPr b="0" lang="en-US" sz="54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ee a film                            shop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uy a story book                 park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fly a kite                            cinema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y bus/take a bus               bus stop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buy a pencil                         bookstore      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</p:txBody>
      </p:sp>
      <p:sp>
        <p:nvSpPr>
          <p:cNvPr id="175" name="直接连接符 7"/>
          <p:cNvSpPr/>
          <p:nvPr/>
        </p:nvSpPr>
        <p:spPr>
          <a:xfrm>
            <a:off x="4572000" y="3286080"/>
            <a:ext cx="1714680" cy="1428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直接连接符 9"/>
          <p:cNvSpPr/>
          <p:nvPr/>
        </p:nvSpPr>
        <p:spPr>
          <a:xfrm flipV="1">
            <a:off x="4500720" y="3357720"/>
            <a:ext cx="1714320" cy="428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直接连接符 11"/>
          <p:cNvSpPr/>
          <p:nvPr/>
        </p:nvSpPr>
        <p:spPr>
          <a:xfrm>
            <a:off x="4786200" y="4286160"/>
            <a:ext cx="135756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直接连接符 13"/>
          <p:cNvSpPr/>
          <p:nvPr/>
        </p:nvSpPr>
        <p:spPr>
          <a:xfrm flipH="1">
            <a:off x="4714560" y="2786040"/>
            <a:ext cx="1500120" cy="2000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直接连接符 4"/>
          <p:cNvSpPr/>
          <p:nvPr/>
        </p:nvSpPr>
        <p:spPr>
          <a:xfrm>
            <a:off x="4500720" y="2714760"/>
            <a:ext cx="1714320" cy="1071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72010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Comic Sans MS"/>
              </a:rPr>
              <a:t>Practice Activities</a:t>
            </a:r>
            <a:endParaRPr b="1" lang="en-US" sz="27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29840" y="1557000"/>
            <a:ext cx="7123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2 </a:t>
            </a:r>
            <a:r>
              <a:rPr b="0" lang="en-US" sz="5400" spc="-1" strike="noStrike">
                <a:solidFill>
                  <a:srgbClr val="703dff"/>
                </a:solidFill>
                <a:latin typeface="Comic Sans MS"/>
              </a:rPr>
              <a:t>.Turn to page 44</a:t>
            </a:r>
            <a:endParaRPr b="0" lang="en-US" sz="54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52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703dff"/>
                </a:solidFill>
                <a:latin typeface="Comic Sans MS"/>
              </a:rPr>
              <a:t>你有什么收获？</a:t>
            </a:r>
            <a:endParaRPr b="0" lang="en-US" sz="80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                                           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42960" y="1285920"/>
            <a:ext cx="7696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4073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-812880">
              <a:lnSpc>
                <a:spcPts val="4073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-812880">
              <a:lnSpc>
                <a:spcPts val="4073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-812880">
              <a:lnSpc>
                <a:spcPts val="4073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3dff"/>
                </a:solidFill>
                <a:latin typeface="Comic Sans MS"/>
              </a:rPr>
              <a:t>Set Homework</a:t>
            </a:r>
            <a:endParaRPr b="0" lang="en-US" sz="80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-812880">
              <a:lnSpc>
                <a:spcPts val="4073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mic Sans MS"/>
                <a:ea typeface="华文彩云"/>
              </a:rPr>
              <a:t>Teaching Aims</a:t>
            </a:r>
            <a:endParaRPr b="1" lang="en-US" sz="6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以学习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let’s learn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部分所列举的场所名称为主，要求学生能听、说、读、写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.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词汇：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ark,cinema,shop,bookstore,hospital,bus stop,buy a story book,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并熟练运用。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  <a:p>
            <a:pPr marL="812880" indent="-812880">
              <a:spcBef>
                <a:spcPts val="700"/>
              </a:spcBef>
              <a:buClr>
                <a:srgbClr val="703dff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引导学生完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art C Read and complete.</a:t>
            </a: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部分内容。</a:t>
            </a:r>
            <a:endParaRPr b="0" lang="en-US" sz="2800" spc="-1" strike="noStrike">
              <a:solidFill>
                <a:srgbClr val="703d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t’s learn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57" name="内容占位符 5" descr="G.jpg"/>
          <p:cNvPicPr/>
          <p:nvPr/>
        </p:nvPicPr>
        <p:blipFill>
          <a:blip r:embed="rId1"/>
          <a:stretch/>
        </p:blipFill>
        <p:spPr>
          <a:xfrm>
            <a:off x="1643040" y="1628640"/>
            <a:ext cx="664380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t’s learn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59" name="内容占位符 4" descr="A.jpg"/>
          <p:cNvPicPr/>
          <p:nvPr/>
        </p:nvPicPr>
        <p:blipFill>
          <a:blip r:embed="rId1"/>
          <a:stretch/>
        </p:blipFill>
        <p:spPr>
          <a:xfrm>
            <a:off x="1143000" y="1628640"/>
            <a:ext cx="6715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t’s learn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61" name="内容占位符 5" descr="B.jpg"/>
          <p:cNvPicPr/>
          <p:nvPr/>
        </p:nvPicPr>
        <p:blipFill>
          <a:blip r:embed="rId1"/>
          <a:stretch/>
        </p:blipFill>
        <p:spPr>
          <a:xfrm>
            <a:off x="1643040" y="1628640"/>
            <a:ext cx="6000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t’s learn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63" name="内容占位符 4" descr="E.jpg"/>
          <p:cNvPicPr/>
          <p:nvPr/>
        </p:nvPicPr>
        <p:blipFill>
          <a:blip r:embed="rId1"/>
          <a:stretch/>
        </p:blipFill>
        <p:spPr>
          <a:xfrm>
            <a:off x="1857240" y="1643040"/>
            <a:ext cx="641196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t’s learn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65" name="内容占位符 5" descr="D.jpg"/>
          <p:cNvPicPr/>
          <p:nvPr/>
        </p:nvPicPr>
        <p:blipFill>
          <a:blip r:embed="rId1"/>
          <a:stretch/>
        </p:blipFill>
        <p:spPr>
          <a:xfrm>
            <a:off x="1825560" y="1628640"/>
            <a:ext cx="663912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t’s learn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67" name="内容占位符 4" descr="C.jpg"/>
          <p:cNvPicPr/>
          <p:nvPr/>
        </p:nvPicPr>
        <p:blipFill>
          <a:blip r:embed="rId1"/>
          <a:stretch/>
        </p:blipFill>
        <p:spPr>
          <a:xfrm>
            <a:off x="2000160" y="1628640"/>
            <a:ext cx="600084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4152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t’s learn</a:t>
            </a:r>
            <a:endParaRPr b="1" lang="en-US" sz="4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69" name="内容占位符 5" descr="F.jpg"/>
          <p:cNvPicPr/>
          <p:nvPr/>
        </p:nvPicPr>
        <p:blipFill>
          <a:blip r:embed="rId1"/>
          <a:stretch/>
        </p:blipFill>
        <p:spPr>
          <a:xfrm>
            <a:off x="1500120" y="1414440"/>
            <a:ext cx="63406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08:35:48Z</dcterms:created>
  <dc:creator>微软用户</dc:creator>
  <dc:description/>
  <dc:language>en-US</dc:language>
  <cp:lastModifiedBy>Administrator</cp:lastModifiedBy>
  <dcterms:modified xsi:type="dcterms:W3CDTF">2017-06-12T11:11:23Z</dcterms:modified>
  <cp:revision>49</cp:revision>
  <dc:subject/>
  <dc:title>Hobbies Are Fun!</dc:title>
</cp:coreProperties>
</file>