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8CF-33B9-4954-8A0B-B6C05F0E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652-CC16-4588-A358-084E2366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E73-A3CD-449C-9AD5-E82A0324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5F9-62DB-4F18-948E-868357D4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83F7-FA92-40BD-ABF7-C88337A4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B6CC-70A1-450A-B790-60C4606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AE30-C0F4-429E-ABB9-BBE9635D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9275-454F-47DA-8085-96974A19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8004-7FEF-4293-81EC-874E95A9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6939-9D99-432D-9D75-BD86BA5A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1184-DB0C-491F-9DE7-AA0D63E3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6EB-4DF1-40D5-A39F-A2DBF8BC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4D5C-DFDC-4B89-817D-0A4E3558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FADB-ACF5-4BD9-BED3-FA73761C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10DA-41DB-4E6B-804E-C88FAD0D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6E98-9AE5-4BCD-A019-DF9E0952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FD57-CF80-4EE8-BF3D-28BED2A1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E997-7259-4321-B888-463A62B6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D88AD-60B1-43F0-84AB-4776265C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D801-45F4-47A9-A4CB-98954C9D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C30B-4AD9-42EF-9F85-667741E0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66B3-B0C1-4980-9B1D-204E78D2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AFB-7126-47DA-8F39-87B7C125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9E9C-84FF-4C26-AA17-8F52445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3AFF-1059-4F9F-91C7-54046E8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9344-4AF2-4EAE-9CD1-6421B3E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C0A6-9046-4C77-A6CA-D27A2F5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11B8-4571-4E3D-A96F-B37757A9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E961-B519-4260-AF55-7DF68CB9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0A6BD-539F-4813-99E6-EBEC1716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999-F689-4EDC-BB92-0D8EA021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303-7EBE-4D58-97C2-1B176383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630-E095-4CF6-9AED-F2130F1A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BB5-A8C0-4511-B6AA-5964C7D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979-91F7-4BA0-897A-3DC8F5D6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487-FAC3-414A-8028-672E0DC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8325-75DE-4B00-A349-364BAB1503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7EC0-F4F0-4BEC-A343-FA2ACC3D61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0F4A-BA67-48B8-A6D5-F94778D0A2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9640" y="1844640"/>
            <a:ext cx="84265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1" lang="zh-CN" sz="4000" spc="-1" strike="noStrike">
                <a:solidFill>
                  <a:srgbClr val="990099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Calibri"/>
              </a:rPr>
              <a:t>       </a:t>
            </a:r>
            <a:r>
              <a:rPr b="1" lang="en-US" sz="4000" spc="-1" strike="noStrike">
                <a:solidFill>
                  <a:srgbClr val="990099"/>
                </a:solidFill>
                <a:latin typeface="Calibri"/>
              </a:rPr>
              <a:t>Module 1 </a:t>
            </a:r>
            <a:r>
              <a:rPr b="1" lang="zh-CN" sz="40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Calibri"/>
              </a:rPr>
              <a:t>Uni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alibri"/>
              </a:rPr>
              <a:t>She’s a nice tea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003640" y="4221000"/>
            <a:ext cx="32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00214646[1]"/>
          <p:cNvPicPr/>
          <p:nvPr/>
        </p:nvPicPr>
        <p:blipFill>
          <a:blip r:embed="rId1"/>
          <a:stretch/>
        </p:blipFill>
        <p:spPr>
          <a:xfrm>
            <a:off x="1405080" y="1197000"/>
            <a:ext cx="374328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5364000" y="1697040"/>
            <a:ext cx="36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Fat fat fat</a:t>
            </a: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，（胖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he is fat</a:t>
            </a: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（展示胖的状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0370060240"/>
          <p:cNvPicPr/>
          <p:nvPr/>
        </p:nvPicPr>
        <p:blipFill>
          <a:blip r:embed="rId1"/>
          <a:stretch/>
        </p:blipFill>
        <p:spPr>
          <a:xfrm>
            <a:off x="4280040" y="1052640"/>
            <a:ext cx="4863960" cy="424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539640" y="1341360"/>
            <a:ext cx="388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Calibri"/>
              </a:rPr>
              <a:t>This i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Calibri"/>
              </a:rPr>
              <a:t>She’s∕He’s ver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63640" y="458136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nice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友善的 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shy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害羞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clever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聪明的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cool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naughty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淘气的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cute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可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844720" y="47628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介绍我的全家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844720" y="47628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介绍我的小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39640" y="1341360"/>
            <a:ext cx="388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Calibri"/>
              </a:rPr>
              <a:t>This i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Calibri"/>
              </a:rPr>
              <a:t>She’s∕He’s ver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763640" y="458136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nice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友善的 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shy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害羞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clever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聪明的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cool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naughty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淘气的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cute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可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15-dhajsjhdw%20(727)[1]"/>
          <p:cNvPicPr/>
          <p:nvPr/>
        </p:nvPicPr>
        <p:blipFill>
          <a:blip r:embed="rId1"/>
          <a:stretch/>
        </p:blipFill>
        <p:spPr>
          <a:xfrm>
            <a:off x="4284720" y="981000"/>
            <a:ext cx="35290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MOV04193.MPG" descr=""/>
          <p:cNvPicPr/>
          <p:nvPr/>
        </p:nvPicPr>
        <p:blipFill>
          <a:blip r:embed="rId1"/>
          <a:stretch/>
        </p:blipFill>
        <p:spPr>
          <a:xfrm>
            <a:off x="2476440" y="27050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MOV04193.MPG" descr=""/>
          <p:cNvPicPr/>
          <p:nvPr/>
        </p:nvPicPr>
        <p:blipFill>
          <a:blip r:embed="rId2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36360" y="0"/>
            <a:ext cx="912528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MOV04239.MPG" descr=""/>
          <p:cNvPicPr/>
          <p:nvPr/>
        </p:nvPicPr>
        <p:blipFill>
          <a:blip r:embed="rId4"/>
          <a:stretch/>
        </p:blipFill>
        <p:spPr>
          <a:xfrm>
            <a:off x="6804000" y="0"/>
            <a:ext cx="2089080" cy="112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五环节：课堂小结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教师引导学生回忆，自己小结本课所学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MOV04194.MPG" descr=""/>
          <p:cNvPicPr/>
          <p:nvPr/>
        </p:nvPicPr>
        <p:blipFill>
          <a:blip r:embed="rId1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9360" y="3240"/>
            <a:ext cx="912528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MOV04240.MPG" descr=""/>
          <p:cNvPicPr/>
          <p:nvPr/>
        </p:nvPicPr>
        <p:blipFill>
          <a:blip r:embed="rId3"/>
          <a:stretch/>
        </p:blipFill>
        <p:spPr>
          <a:xfrm>
            <a:off x="7451640" y="0"/>
            <a:ext cx="1513080" cy="112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4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836720" y="11736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tep 4 Summary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班学生集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复习本节课的重点单词和句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ff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Nice nice nice, she is nice.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大拇指手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Shy shy sh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 bit shy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害羞的表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lever clever clever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he i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开动脑筋的手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Naughty naughty naught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s very naught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！（扮鬼脸的动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ool cool cool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 is cool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装酷的表情和动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ute cute cut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e is cute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扮可爱的表情和动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Fat fat fat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 is fat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！（展示胖的状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549440" y="90792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Step 5 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ff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ff00"/>
                </a:solidFill>
                <a:latin typeface="宋体"/>
              </a:rPr>
              <a:t>运用所学单词和句型向自己的爸爸妈妈介绍自己的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ff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宋体"/>
              </a:rPr>
              <a:t>向自己的同桌介绍全家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G42LJ$L91M@Q[PWE_)_$Q3"/>
          <p:cNvPicPr/>
          <p:nvPr/>
        </p:nvPicPr>
        <p:blipFill>
          <a:blip r:embed="rId1"/>
          <a:stretch/>
        </p:blipFill>
        <p:spPr>
          <a:xfrm>
            <a:off x="0" y="0"/>
            <a:ext cx="780588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92360" y="126828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1.Gr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T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What day is it today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S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Today i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T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What’s the weather today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S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It’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2720" y="549360"/>
            <a:ext cx="83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                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一、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Warming  up  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052720" y="404640"/>
            <a:ext cx="51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3.Have a chant 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Little girl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20130523_092425"/>
          <p:cNvPicPr/>
          <p:nvPr/>
        </p:nvPicPr>
        <p:blipFill>
          <a:blip r:embed="rId1"/>
          <a:stretch/>
        </p:blipFill>
        <p:spPr>
          <a:xfrm>
            <a:off x="38160" y="1197000"/>
            <a:ext cx="91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233003_170055058_2[1]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13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254160" y="990720"/>
            <a:ext cx="403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Nice nice nice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（好的，友善的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she is n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大拇指手势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13080" y="2277720"/>
            <a:ext cx="3095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shy shy shy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害羞的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he’a bit shy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害羞的表情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828720" y="1052640"/>
            <a:ext cx="509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6200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700360" y="18900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Calibri"/>
              </a:rPr>
              <a:t>Clever clever clever</a:t>
            </a:r>
            <a:r>
              <a:rPr b="1" lang="zh-CN" sz="3600" spc="-1" strike="noStrike">
                <a:solidFill>
                  <a:srgbClr val="990099"/>
                </a:solidFill>
                <a:latin typeface="Calibri"/>
              </a:rPr>
              <a:t>，（聪明的）</a:t>
            </a:r>
            <a:r>
              <a:rPr b="1" lang="zh-CN" sz="3600" spc="-1" strike="noStrike">
                <a:solidFill>
                  <a:srgbClr val="990099"/>
                </a:solidFill>
                <a:latin typeface="Calibri"/>
              </a:rPr>
              <a:t>he is cl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990099"/>
                </a:solidFill>
                <a:latin typeface="Calibri"/>
              </a:rPr>
              <a:t>（开动脑筋的手势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naughty"/>
          <p:cNvPicPr/>
          <p:nvPr/>
        </p:nvPicPr>
        <p:blipFill>
          <a:blip r:embed="rId1"/>
          <a:stretch/>
        </p:blipFill>
        <p:spPr>
          <a:xfrm>
            <a:off x="1187280" y="981000"/>
            <a:ext cx="2702160" cy="403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4213080" y="1989000"/>
            <a:ext cx="460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Naughty naughty naughty</a:t>
            </a: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，（淘气的）</a:t>
            </a: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he’s very naughty</a:t>
            </a: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（扮鬼脸的动作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ool"/>
          <p:cNvPicPr/>
          <p:nvPr/>
        </p:nvPicPr>
        <p:blipFill>
          <a:blip r:embed="rId1"/>
          <a:stretch/>
        </p:blipFill>
        <p:spPr>
          <a:xfrm>
            <a:off x="2052720" y="907920"/>
            <a:ext cx="3630600" cy="5410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5378400" y="1752480"/>
            <a:ext cx="3659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Calibri"/>
              </a:rPr>
              <a:t>Cool cool cool</a:t>
            </a:r>
            <a:r>
              <a:rPr b="0" lang="zh-CN" sz="3200" spc="-1" strike="noStrike">
                <a:solidFill>
                  <a:srgbClr val="cc00ff"/>
                </a:solidFill>
                <a:latin typeface="Calibri"/>
              </a:rPr>
              <a:t>，（酷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Calibri"/>
              </a:rPr>
              <a:t>he is c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Calibri"/>
              </a:rPr>
              <a:t>（装酷的表情和动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009022410534481"/>
          <p:cNvPicPr/>
          <p:nvPr/>
        </p:nvPicPr>
        <p:blipFill>
          <a:blip r:embed="rId1"/>
          <a:stretch/>
        </p:blipFill>
        <p:spPr>
          <a:xfrm>
            <a:off x="0" y="0"/>
            <a:ext cx="5105520" cy="5943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378400" y="1130400"/>
            <a:ext cx="365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Cute cute cute</a:t>
            </a: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，（可爱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she is cu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Calibri"/>
              </a:rPr>
              <a:t>（扮可爱的表情和动作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6:24Z</dcterms:created>
  <dc:creator>User</dc:creator>
  <dc:description/>
  <dc:language>en-US</dc:language>
  <cp:lastModifiedBy>BMT-6</cp:lastModifiedBy>
  <dcterms:modified xsi:type="dcterms:W3CDTF">2018-01-08T05:46:26Z</dcterms:modified>
  <cp:revision>1</cp:revision>
  <dc:subject/>
  <dc:title>幻灯片 1</dc:title>
</cp:coreProperties>
</file>