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.jpeg" ContentType="image/jpeg"/>
  <Override PartName="/ppt/media/image22.jpeg" ContentType="image/jpeg"/>
  <Override PartName="/ppt/media/type.wav" ContentType="audio/x-wav"/>
  <Override PartName="/ppt/media/image6.jpeg" ContentType="image/jpeg"/>
  <Override PartName="/ppt/media/image27.jpeg" ContentType="image/jpeg"/>
  <Override PartName="/ppt/media/image16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6F2C-F82F-4E15-9DE8-6752CBCB98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BA9B-509E-480B-A91B-2D0BA5C4C3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CAD-7C8E-49FB-A539-6D672FC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FD4-E7CB-4EB2-B183-4A745D2A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2AC-6C51-472D-A3D9-C1638899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696-C2DB-46F3-9F17-96B3043F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CF0-ACF0-4396-824D-B4353834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06E-8EC5-4148-BAFD-6C1DB59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DA6-151D-4E8D-855E-18C6ACB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5E5-B99E-46E3-A785-C3040153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170-B986-484C-9647-681443F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BBE-CEB7-40D2-9D36-043D40B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850-D691-4AAA-BA98-3BF9409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FEF-004C-440F-9D0E-45F9E211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F3A7-2DCE-4462-B7BE-60AAD472C1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it 1 I was two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内容占位符 3" descr="4B4B8283D3712C607978EEE388B42298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403280" y="2349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他们是谁，玲玲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651640" y="256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他们是我的祖父和祖母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内容占位符 3" descr="C772CE97EEB2704829CB603C76B1B907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1258920" y="1341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他们那时年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148360" y="2060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是的，现在他们老了</a:t>
            </a:r>
            <a:r>
              <a:rPr b="0" lang="zh-CN" sz="3200" spc="-1" strike="noStrike">
                <a:solidFill>
                  <a:srgbClr val="93cddd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3" descr="2AA1844883C65ACE1580B8E90E479C82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258920" y="1268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那个小女孩是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6372360" y="1916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那是我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我那时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内容占位符 3" descr="59D606C3AE5406A020E1DFABAB6D2294.jpg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619280" y="170028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你的头发是这么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211640" y="314172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是的，现在我的头发是长的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3" descr="E781BC64B14265240AB8E2D0182F84FB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116000" y="184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啊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你（那时）这么可爱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183280" y="2276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是的，但是我（那时）也很淘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444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3cddd"/>
                </a:solidFill>
                <a:latin typeface="Calibri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内容占位符 4" descr="55E7D15DC8C25FD1E3FAA84DD1207326.jpg"/>
          <p:cNvPicPr/>
          <p:nvPr/>
        </p:nvPicPr>
        <p:blipFill>
          <a:blip r:embed="rId1"/>
          <a:stretch/>
        </p:blipFill>
        <p:spPr>
          <a:xfrm>
            <a:off x="971640" y="836640"/>
            <a:ext cx="8172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内容占位符 3" descr="A8722AADFCE2F40EEC37E8EA5F8FBB2C.jpg"/>
          <p:cNvPicPr/>
          <p:nvPr/>
        </p:nvPicPr>
        <p:blipFill>
          <a:blip r:embed="rId1"/>
          <a:stretch/>
        </p:blipFill>
        <p:spPr>
          <a:xfrm>
            <a:off x="0" y="0"/>
            <a:ext cx="5688000" cy="5157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16000" y="537372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…..</a:t>
            </a: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t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…….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内容占位符 3" descr="6A416C095C74A04C66AD50CE5712CCA6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1116000" y="48690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hort the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 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内容占位符 3" descr="69DEE4F5A8F5DB16EF151C5AC0B64651.jpg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116000" y="4869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mall and thin then.    Now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ig and f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内容占位符 3" descr="FD1CD0A808286D3035B3792C9A532924.jpg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5867280" y="184464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ur t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I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129708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488b"/>
                </a:solidFill>
                <a:latin typeface="Calibri"/>
              </a:rPr>
              <a:t>t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1988640"/>
            <a:ext cx="1916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148360" y="112536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924360" y="19162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270036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940360" y="2781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979640" y="364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4643280" y="364500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ugh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771640" y="4653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403280" y="189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内容占位符 3" descr="4A2291769B5897EEB80C3C6B34FA48EF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5589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116000" y="57326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ng t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w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3cddd"/>
                </a:solidFill>
                <a:latin typeface="Calibri"/>
              </a:rPr>
              <a:t>P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内容占位符 3" descr="1077665_200710080753223.jpeg"/>
          <p:cNvPicPr/>
          <p:nvPr/>
        </p:nvPicPr>
        <p:blipFill>
          <a:blip r:embed="rId1"/>
          <a:stretch/>
        </p:blipFill>
        <p:spPr>
          <a:xfrm>
            <a:off x="0" y="981000"/>
            <a:ext cx="4753080" cy="33530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5" descr="20131231160703-1776726323.jpg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079640" y="4581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hort then.        Now 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内容占位符 3" descr="01060QR5-92.jpg"/>
          <p:cNvPicPr/>
          <p:nvPr/>
        </p:nvPicPr>
        <p:blipFill>
          <a:blip r:embed="rId1"/>
          <a:stretch/>
        </p:blipFill>
        <p:spPr>
          <a:xfrm>
            <a:off x="4286160" y="260280"/>
            <a:ext cx="485784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middle_20090909_655e1cc92837a6180541G4VceT0ijAq9.jpg"/>
          <p:cNvPicPr/>
          <p:nvPr/>
        </p:nvPicPr>
        <p:blipFill>
          <a:blip r:embed="rId2"/>
          <a:stretch/>
        </p:blipFill>
        <p:spPr>
          <a:xfrm>
            <a:off x="1042920" y="0"/>
            <a:ext cx="331164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971640" y="4221000"/>
            <a:ext cx="119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ute then.           Now 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内容占位符 3" descr="2b6e97207edee6bd.jpg"/>
          <p:cNvPicPr/>
          <p:nvPr/>
        </p:nvPicPr>
        <p:blipFill>
          <a:blip r:embed="rId1"/>
          <a:stretch/>
        </p:blipFill>
        <p:spPr>
          <a:xfrm>
            <a:off x="0" y="476280"/>
            <a:ext cx="2592360" cy="30304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7c6884a79ad58cc2.jpg"/>
          <p:cNvPicPr/>
          <p:nvPr/>
        </p:nvPicPr>
        <p:blipFill>
          <a:blip r:embed="rId2"/>
          <a:stretch/>
        </p:blipFill>
        <p:spPr>
          <a:xfrm>
            <a:off x="5219640" y="0"/>
            <a:ext cx="3425760" cy="4576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042920" y="49417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 hai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rt then.     Now her hair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内容占位符 3" descr="xpic6304.jpg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4257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xpic6312.jpg"/>
          <p:cNvPicPr/>
          <p:nvPr/>
        </p:nvPicPr>
        <p:blipFill>
          <a:blip r:embed="rId2"/>
          <a:stretch/>
        </p:blipFill>
        <p:spPr>
          <a:xfrm>
            <a:off x="1042920" y="0"/>
            <a:ext cx="3911760" cy="4292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971640" y="4797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ng then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243080" y="4797360"/>
          <a:ext cx="6953040" cy="1224000"/>
        </p:xfrm>
        <a:graphic>
          <a:graphicData uri="http://schemas.openxmlformats.org/drawingml/2006/table">
            <a:tbl>
              <a:tblPr/>
              <a:tblGrid>
                <a:gridCol w="1738080"/>
                <a:gridCol w="1738440"/>
                <a:gridCol w="1738440"/>
                <a:gridCol w="1738080"/>
              </a:tblGrid>
              <a:tr h="40644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头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ill Sans MT"/>
                          <a:ea typeface="华文中宋"/>
                        </a:rPr>
                        <a:t>性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t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c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9680"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  <a:ea typeface="华文中宋"/>
                        </a:rPr>
                        <a:t>naugh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420640"/>
            <a:ext cx="770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____________. Now ____________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_______________. Now ___________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_______________. Now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951280" y="85716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rite and tal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843280" y="21891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two then                     I am 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484360" y="27496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r was short then                my hair is lo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2535840" y="32004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ute then                         I am naugh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500720" y="27468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7117"/>
                </a:solidFill>
                <a:latin typeface="Calibri"/>
              </a:rPr>
              <a:t>cha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908000" y="1341360"/>
            <a:ext cx="65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wo then .  Now I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 then.  Now 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ute then.  Now s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wo then.  Now you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in then.   Now w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ng then.  Now the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l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44480" y="620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内容占位符 3" descr="c6f9247935fa2834969bb55651e57772IwXKMQ_468x468.jpeg"/>
          <p:cNvPicPr/>
          <p:nvPr/>
        </p:nvPicPr>
        <p:blipFill>
          <a:blip r:embed="rId1"/>
          <a:stretch/>
        </p:blipFill>
        <p:spPr>
          <a:xfrm>
            <a:off x="0" y="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3069360" y="2565360"/>
            <a:ext cx="503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nd write the new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说说你，或你的家人、朋友、学校的变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friend is A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was short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she is t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内容占位符 3" descr="smalle4a0da1b79c2b4735a65d527b58fd0d01379955766.jpg"/>
          <p:cNvPicPr/>
          <p:nvPr/>
        </p:nvPicPr>
        <p:blipFill>
          <a:blip r:embed="rId1"/>
          <a:stretch/>
        </p:blipFill>
        <p:spPr>
          <a:xfrm>
            <a:off x="1222200" y="476280"/>
            <a:ext cx="79218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6640" y="981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36640" y="836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Tall , tall.  I  am  tall.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Short , short . You  are  short</a:t>
            </a: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Cute, cute. She is cute.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Fat , fat. I am fat</a:t>
            </a: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Thin , thin. You are thin.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Naughty , naught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He is naughty</a:t>
            </a: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Old, old. They are old.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Young, young. We are young</a:t>
            </a: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11488b"/>
                </a:solidFill>
                <a:latin typeface="Calibri"/>
              </a:rPr>
              <a:t>Cool, cool.  We are cool</a:t>
            </a:r>
            <a:r>
              <a:rPr b="0" lang="en-US" sz="700" spc="-1" strike="noStrike">
                <a:solidFill>
                  <a:srgbClr val="11488b"/>
                </a:solidFill>
                <a:latin typeface="Calibri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042920" y="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ha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内容占位符 3" descr="psb (4).jpg"/>
          <p:cNvPicPr/>
          <p:nvPr/>
        </p:nvPicPr>
        <p:blipFill>
          <a:blip r:embed="rId1"/>
          <a:stretch/>
        </p:blipFill>
        <p:spPr>
          <a:xfrm>
            <a:off x="6754680" y="0"/>
            <a:ext cx="238932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psb (1).jpg"/>
          <p:cNvPicPr/>
          <p:nvPr/>
        </p:nvPicPr>
        <p:blipFill>
          <a:blip r:embed="rId2"/>
          <a:stretch/>
        </p:blipFill>
        <p:spPr>
          <a:xfrm>
            <a:off x="971640" y="0"/>
            <a:ext cx="5184720" cy="5229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651640" y="54100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28cc"/>
                </a:solidFill>
                <a:latin typeface="Calibri"/>
              </a:rPr>
              <a:t>No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651640" y="58784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28cc"/>
                </a:solidFill>
                <a:latin typeface="Calibri"/>
              </a:rPr>
              <a:t>No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m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hai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lo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006560" y="5262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wo </a:t>
            </a:r>
            <a:r>
              <a:rPr b="1" lang="en-US" sz="3200" spc="-1" strike="noStrike">
                <a:solidFill>
                  <a:srgbClr val="2428cc"/>
                </a:solidFill>
                <a:latin typeface="Calibri"/>
              </a:rPr>
              <a:t>th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006560" y="5904000"/>
            <a:ext cx="51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y </a:t>
            </a:r>
            <a:r>
              <a:rPr b="1" lang="en-US" sz="2800" spc="-1" strike="noStrike">
                <a:solidFill>
                  <a:srgbClr val="1b9b15"/>
                </a:solidFill>
                <a:latin typeface="Calibri"/>
              </a:rPr>
              <a:t>hair</a:t>
            </a:r>
            <a:r>
              <a:rPr b="1" lang="en-US" sz="2800" spc="-1" strike="noStrike">
                <a:solidFill>
                  <a:srgbClr val="2428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as </a:t>
            </a:r>
            <a:r>
              <a:rPr b="1" lang="en-US" sz="2800" spc="-1" strike="noStrike">
                <a:solidFill>
                  <a:srgbClr val="1b9b15"/>
                </a:solidFill>
                <a:latin typeface="Calibri"/>
              </a:rPr>
              <a:t>so</a:t>
            </a:r>
            <a:r>
              <a:rPr b="1" lang="en-US" sz="2800" spc="-1" strike="noStrike">
                <a:solidFill>
                  <a:srgbClr val="2428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b9b15"/>
                </a:solidFill>
                <a:latin typeface="Calibri"/>
              </a:rPr>
              <a:t>shor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428cc"/>
                </a:solidFill>
                <a:latin typeface="Calibri"/>
              </a:rPr>
              <a:t>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内容占位符 3" descr="7D34CCA81790B1622B9F8A8900667555.jpg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psu.jpg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5634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QQ图片20160411222440.png"/>
          <p:cNvPicPr/>
          <p:nvPr/>
        </p:nvPicPr>
        <p:blipFill>
          <a:blip r:embed="rId2"/>
          <a:stretch/>
        </p:blipFill>
        <p:spPr>
          <a:xfrm>
            <a:off x="971640" y="620640"/>
            <a:ext cx="4381560" cy="5229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364000" y="59500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y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b9b15"/>
                </a:solidFill>
                <a:latin typeface="Calibri"/>
              </a:rPr>
              <a:t>ol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71640" y="59500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b15"/>
                </a:solidFill>
                <a:latin typeface="Calibri"/>
              </a:rPr>
              <a:t>you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2428cc"/>
                </a:solidFill>
                <a:latin typeface="Calibri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042920" y="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and</a:t>
            </a: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parent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030_05.jpg"/>
          <p:cNvPicPr/>
          <p:nvPr/>
        </p:nvPicPr>
        <p:blipFill>
          <a:blip r:embed="rId1"/>
          <a:stretch/>
        </p:blipFill>
        <p:spPr>
          <a:xfrm>
            <a:off x="1062000" y="0"/>
            <a:ext cx="8082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7200" y="1557360"/>
            <a:ext cx="74264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3cddd"/>
                </a:solidFill>
                <a:latin typeface="Calibri"/>
              </a:rPr>
              <a:t>Listen and answer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1. Who are they 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2.Who is that little girl 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内容占位符 3" descr="3f384ee10f65051e07def55b9884931c5fc53936c7b9-KJWMwI_fw580.jpg"/>
          <p:cNvPicPr/>
          <p:nvPr/>
        </p:nvPicPr>
        <p:blipFill>
          <a:blip r:embed="rId1"/>
          <a:stretch/>
        </p:blipFill>
        <p:spPr>
          <a:xfrm>
            <a:off x="979560" y="0"/>
            <a:ext cx="8164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647720" y="227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They are Lingling’s  grandpar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846440" y="407520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is Lingling </a:t>
            </a:r>
            <a:r>
              <a:rPr b="0" lang="en-US" sz="3600" spc="-1" strike="noStrike">
                <a:solidFill>
                  <a:srgbClr val="2428cc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444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</a:rPr>
              <a:t>Complete the sentenc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619280" y="11970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ere _______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hey are 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ling _______ two 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Lingling’s hair was _______ 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428cc"/>
                </a:solidFill>
                <a:latin typeface="Calibri"/>
              </a:rPr>
              <a:t>Now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ling’s hair _____  __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Lingling ______so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B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______very _________  to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924360" y="1125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572000" y="162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3780000" y="2060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219640" y="28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148360" y="328464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s        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059280" y="4149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s           c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348000" y="4581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as            naugh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7:47Z</dcterms:created>
  <dc:creator>User</dc:creator>
  <dc:description/>
  <dc:language>en-US</dc:language>
  <cp:lastModifiedBy>User</cp:lastModifiedBy>
  <dcterms:modified xsi:type="dcterms:W3CDTF">2017-12-17T09:27:52Z</dcterms:modified>
  <cp:revision>1</cp:revision>
  <dc:subject/>
  <dc:title>Module 5</dc:title>
</cp:coreProperties>
</file>