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png" ContentType="image/png"/>
  <Override PartName="/ppt/media/image13.jpeg" ContentType="image/jpeg"/>
  <Override PartName="/ppt/media/coin.wav" ContentType="audio/x-wav"/>
  <Override PartName="/ppt/media/image18.gif" ContentType="image/gif"/>
  <Override PartName="/ppt/media/image8.jpeg" ContentType="image/jpeg"/>
  <Override PartName="/ppt/media/image2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22.jpeg" ContentType="image/jpeg"/>
  <Override PartName="/ppt/media/image3.gif" ContentType="image/gif"/>
  <Override PartName="/ppt/media/image7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F2C-E42F-40F7-B198-6B1F2A7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E90-165C-43B9-826B-6D42678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160-81D9-4871-ADCD-123CC31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304-EA28-4B19-8C00-D01EFB83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AEC-474F-4FEE-B7DD-91E31E7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070-0D56-4E47-81FE-19F3861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AE7-56F2-41F4-A939-EED870E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A62-F17F-4DDE-A2C8-F05D4A9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FEA-58A4-43B5-891D-898791A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592-DC05-4591-9099-E255513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7ED-EE56-428C-9C17-ACBFC0C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2D1-2579-402E-8550-39B606B4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ADB-6EE9-4251-834E-E351CA734D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95280" y="488880"/>
            <a:ext cx="8353440" cy="59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Bodoni MT Black"/>
              </a:rPr>
              <a:t>Module 5  Unit1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Bodoni MT Black"/>
              </a:rPr>
              <a:t>I was two then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002"/>
          <p:cNvPicPr/>
          <p:nvPr/>
        </p:nvPicPr>
        <p:blipFill>
          <a:blip r:embed="rId1"/>
          <a:stretch/>
        </p:blipFill>
        <p:spPr>
          <a:xfrm>
            <a:off x="250920" y="5445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hgif071"/>
          <p:cNvPicPr/>
          <p:nvPr/>
        </p:nvPicPr>
        <p:blipFill>
          <a:blip r:embed="rId2"/>
          <a:stretch/>
        </p:blipFill>
        <p:spPr>
          <a:xfrm>
            <a:off x="0" y="0"/>
            <a:ext cx="133200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62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124000" y="486900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79280" y="0"/>
            <a:ext cx="1081080" cy="1081080"/>
          </a:xfrm>
          <a:prstGeom prst="sun">
            <a:avLst>
              <a:gd name="adj" fmla="val 26870"/>
            </a:avLst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11280" y="620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学情展示：跟老师唱反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16000" y="162864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Let’s say and do some actions. I say “long” and you say “short” Are you ready?  Now ,together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16000" y="29415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tall---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old---yo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long---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"/>
          <p:cNvPicPr/>
          <p:nvPr/>
        </p:nvPicPr>
        <p:blipFill>
          <a:blip r:embed="rId1"/>
          <a:stretch/>
        </p:blipFill>
        <p:spPr>
          <a:xfrm>
            <a:off x="0" y="-27000"/>
            <a:ext cx="327672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08000" y="3716280"/>
            <a:ext cx="36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GungsuhChe"/>
                <a:ea typeface="GungsuhChe"/>
              </a:rPr>
              <a:t>I </a:t>
            </a:r>
            <a:r>
              <a:rPr b="0" lang="zh-CN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was</a:t>
            </a:r>
            <a:r>
              <a:rPr b="0" lang="zh-CN" sz="3600" spc="-1" strike="noStrike">
                <a:solidFill>
                  <a:srgbClr val="6600cc"/>
                </a:solidFill>
                <a:latin typeface="GungsuhChe"/>
                <a:ea typeface="GungsuhChe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GungsuhChe"/>
                <a:ea typeface="GungsuhChe"/>
              </a:rPr>
              <a:t>2,</a:t>
            </a:r>
            <a:r>
              <a:rPr b="0" lang="zh-CN" sz="3600" spc="-1" strike="noStrike">
                <a:solidFill>
                  <a:srgbClr val="ff0000"/>
                </a:solidFill>
                <a:latin typeface="GungsuhChe"/>
                <a:ea typeface="GungsuhChe"/>
              </a:rPr>
              <a:t>then</a:t>
            </a:r>
            <a:r>
              <a:rPr b="0" lang="zh-CN" sz="36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时</a:t>
            </a:r>
            <a:r>
              <a:rPr b="0" lang="zh-CN" sz="3000" spc="-1" strike="noStrike">
                <a:solidFill>
                  <a:srgbClr val="6600cc"/>
                </a:solidFill>
                <a:latin typeface="方正姚体"/>
                <a:ea typeface="方正姚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我两岁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米2"/>
          <p:cNvPicPr/>
          <p:nvPr/>
        </p:nvPicPr>
        <p:blipFill>
          <a:blip r:embed="rId2"/>
          <a:stretch/>
        </p:blipFill>
        <p:spPr>
          <a:xfrm>
            <a:off x="3635280" y="4005360"/>
            <a:ext cx="1295640" cy="1447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058360" y="3645000"/>
            <a:ext cx="257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am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4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现在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338640" y="162864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It’s 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1042920" y="3573360"/>
            <a:ext cx="4681440" cy="431640"/>
            <a:chOff x="1042920" y="3573360"/>
            <a:chExt cx="4681440" cy="431640"/>
          </a:xfrm>
        </p:grpSpPr>
        <p:sp>
          <p:nvSpPr>
            <p:cNvPr id="87" name="Line 8"/>
            <p:cNvSpPr/>
            <p:nvPr/>
          </p:nvSpPr>
          <p:spPr>
            <a:xfrm>
              <a:off x="1042920" y="3573360"/>
              <a:ext cx="0" cy="4316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1042920" y="3573360"/>
              <a:ext cx="46814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5724360" y="3573360"/>
              <a:ext cx="0" cy="360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Text Box 11"/>
          <p:cNvSpPr/>
          <p:nvPr/>
        </p:nvSpPr>
        <p:spPr>
          <a:xfrm>
            <a:off x="375840" y="5589720"/>
            <a:ext cx="84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My hair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short,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 My hair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long,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P1010092"/>
          <p:cNvPicPr/>
          <p:nvPr/>
        </p:nvPicPr>
        <p:blipFill>
          <a:blip r:embed="rId3"/>
          <a:stretch/>
        </p:blipFill>
        <p:spPr>
          <a:xfrm>
            <a:off x="6227640" y="0"/>
            <a:ext cx="24782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xin_270104201731484182269"/>
          <p:cNvPicPr/>
          <p:nvPr/>
        </p:nvPicPr>
        <p:blipFill>
          <a:blip r:embed="rId1"/>
          <a:stretch/>
        </p:blipFill>
        <p:spPr>
          <a:xfrm>
            <a:off x="684360" y="1197000"/>
            <a:ext cx="2952720" cy="403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212622894"/>
          <p:cNvPicPr/>
          <p:nvPr/>
        </p:nvPicPr>
        <p:blipFill>
          <a:blip r:embed="rId2"/>
          <a:stretch/>
        </p:blipFill>
        <p:spPr>
          <a:xfrm>
            <a:off x="5003640" y="1052640"/>
            <a:ext cx="2884680" cy="4176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71640" y="2602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t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96000" y="18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82480" y="531504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fat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91184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956120" y="5243400"/>
            <a:ext cx="29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thin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n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47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26760" y="6021360"/>
            <a:ext cx="36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as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ort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t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977360" y="595008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tall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2700360" y="476280"/>
            <a:ext cx="2735280" cy="431640"/>
          </a:xfrm>
          <a:custGeom>
            <a:avLst/>
            <a:gdLst>
              <a:gd name="textAreaLeft" fmla="*/ 341640 w 2735280"/>
              <a:gd name="textAreaRight" fmla="*/ 2393640 w 2735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1619280" y="4941360"/>
            <a:ext cx="4176720" cy="647640"/>
            <a:chOff x="1619280" y="4941360"/>
            <a:chExt cx="4176720" cy="647640"/>
          </a:xfrm>
        </p:grpSpPr>
        <p:sp>
          <p:nvSpPr>
            <p:cNvPr id="104" name="Line 14"/>
            <p:cNvSpPr/>
            <p:nvPr/>
          </p:nvSpPr>
          <p:spPr>
            <a:xfrm flipV="1">
              <a:off x="1619280" y="4941360"/>
              <a:ext cx="0" cy="6476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1619280" y="4941720"/>
              <a:ext cx="41767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5796000" y="4941720"/>
              <a:ext cx="0" cy="503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3"/>
          <p:cNvPicPr/>
          <p:nvPr/>
        </p:nvPicPr>
        <p:blipFill>
          <a:blip r:embed="rId1"/>
          <a:stretch/>
        </p:blipFill>
        <p:spPr>
          <a:xfrm>
            <a:off x="4932360" y="1125360"/>
            <a:ext cx="4044960" cy="3908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entury Gothic"/>
              </a:rPr>
              <a:t>Then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Century Gothic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QQQQQQQQQQQ"/>
          <p:cNvPicPr/>
          <p:nvPr/>
        </p:nvPicPr>
        <p:blipFill>
          <a:blip r:embed="rId2"/>
          <a:stretch/>
        </p:blipFill>
        <p:spPr>
          <a:xfrm>
            <a:off x="250920" y="1125360"/>
            <a:ext cx="4255920" cy="3770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0" y="5445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young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en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678200" y="5445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Now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,they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1835280" y="5084640"/>
            <a:ext cx="5618160" cy="649440"/>
            <a:chOff x="1835280" y="5084640"/>
            <a:chExt cx="5618160" cy="649440"/>
          </a:xfrm>
        </p:grpSpPr>
        <p:sp>
          <p:nvSpPr>
            <p:cNvPr id="113" name="Line 8"/>
            <p:cNvSpPr/>
            <p:nvPr/>
          </p:nvSpPr>
          <p:spPr>
            <a:xfrm>
              <a:off x="1835280" y="5157720"/>
              <a:ext cx="5618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1835280" y="5157720"/>
              <a:ext cx="0" cy="503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7380360" y="5084640"/>
              <a:ext cx="0" cy="649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4720" y="549360"/>
            <a:ext cx="2449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1280" y="56988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黑体"/>
              </a:rPr>
              <a:t>动词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  <a:ea typeface="黑体"/>
              </a:rPr>
              <a:t>be</a:t>
            </a: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黑体"/>
              </a:rPr>
              <a:t>的变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0000" y="234936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am/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429080" y="235116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was(</a:t>
            </a:r>
            <a:r>
              <a:rPr b="0" lang="zh-CN" sz="6000" spc="-1" strike="noStrike">
                <a:solidFill>
                  <a:srgbClr val="0000ff"/>
                </a:solidFill>
                <a:latin typeface="Calibri"/>
                <a:ea typeface="黑体"/>
              </a:rPr>
              <a:t>单数</a:t>
            </a: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2989440" y="292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116000" y="37893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a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211640" y="3790800"/>
            <a:ext cx="42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were (</a:t>
            </a:r>
            <a:r>
              <a:rPr b="0" lang="zh-CN" sz="6000" spc="-1" strike="noStrike">
                <a:solidFill>
                  <a:srgbClr val="0000ff"/>
                </a:solidFill>
                <a:latin typeface="Calibri"/>
                <a:ea typeface="黑体"/>
              </a:rPr>
              <a:t>复数</a:t>
            </a:r>
            <a:r>
              <a:rPr b="0" lang="en-US" sz="6000" spc="-1" strike="noStrike">
                <a:solidFill>
                  <a:srgbClr val="0000ff"/>
                </a:solidFill>
                <a:latin typeface="Calibri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9894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8"/>
          <p:cNvPicPr/>
          <p:nvPr/>
        </p:nvPicPr>
        <p:blipFill>
          <a:blip r:embed="rId1"/>
          <a:stretch/>
        </p:blipFill>
        <p:spPr>
          <a:xfrm>
            <a:off x="108000" y="4428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042920" y="1484280"/>
            <a:ext cx="605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now    then  </a:t>
            </a:r>
            <a:r>
              <a:rPr b="0" lang="en-US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★</a:t>
            </a:r>
            <a:r>
              <a:rPr b="0" lang="zh-CN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am/is→was/</a:t>
            </a:r>
            <a:r>
              <a:rPr b="0" lang="en-US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w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80880" y="304920"/>
            <a:ext cx="5435640" cy="1150920"/>
          </a:xfrm>
          <a:prstGeom prst="wedgeRoundRectCallout">
            <a:avLst>
              <a:gd name="adj1" fmla="val 70328"/>
              <a:gd name="adj2" fmla="val 69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71640" y="549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总结归纳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bird10"/>
          <p:cNvPicPr/>
          <p:nvPr/>
        </p:nvPicPr>
        <p:blipFill>
          <a:blip r:embed="rId2"/>
          <a:stretch/>
        </p:blipFill>
        <p:spPr>
          <a:xfrm>
            <a:off x="6629400" y="304920"/>
            <a:ext cx="2087640" cy="1768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395280" y="3502080"/>
            <a:ext cx="7632720" cy="2879640"/>
          </a:xfrm>
          <a:prstGeom prst="rect">
            <a:avLst/>
          </a:prstGeom>
          <a:solidFill>
            <a:srgbClr val="f3fb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26920" y="364500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Calibri"/>
              </a:rPr>
              <a:t>I  am……now, I was …… t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Calibri"/>
              </a:rPr>
              <a:t>She is ……now,she was ……t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Calibri"/>
              </a:rPr>
              <a:t>He is ……now,he was ……then</a:t>
            </a:r>
            <a:r>
              <a:rPr b="0" lang="zh-CN" sz="5400" spc="-1" strike="noStrike">
                <a:solidFill>
                  <a:srgbClr val="6600cc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24812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巩固提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544040" y="1268280"/>
            <a:ext cx="40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oice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选择正确的序号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403280" y="2060640"/>
            <a:ext cx="612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Then ,they ______yo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re       B. are        C.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Now they ______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re    B.are   C.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Then  he _____sh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was     B.is     C.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Now  I _____t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was     B.is    C.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"/>
          <p:cNvPicPr/>
          <p:nvPr/>
        </p:nvPicPr>
        <p:blipFill>
          <a:blip r:embed="rId1"/>
          <a:stretch/>
        </p:blipFill>
        <p:spPr>
          <a:xfrm>
            <a:off x="762120" y="22860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258920" y="4005360"/>
            <a:ext cx="5329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was/were/is/a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2short/fat/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tall/th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1"/>
          <p:cNvPicPr/>
          <p:nvPr/>
        </p:nvPicPr>
        <p:blipFill>
          <a:blip r:embed="rId2"/>
          <a:stretch/>
        </p:blipFill>
        <p:spPr>
          <a:xfrm>
            <a:off x="4716360" y="260280"/>
            <a:ext cx="1584360" cy="3965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029200" y="4267080"/>
            <a:ext cx="3581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607040" y="260280"/>
            <a:ext cx="13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651640" y="333360"/>
            <a:ext cx="20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38720" y="5589720"/>
            <a:ext cx="352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libri"/>
              </a:rPr>
              <a:t>She __ __then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135040" y="5589720"/>
            <a:ext cx="37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libri"/>
              </a:rPr>
              <a:t>She __  __ now</a:t>
            </a:r>
            <a:r>
              <a:rPr b="0" lang="zh-CN" sz="4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46280" y="567540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83220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571840" y="608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535120" y="5602320"/>
            <a:ext cx="6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160680" y="574668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7001280" y="574668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64832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2"/>
          <p:cNvPicPr/>
          <p:nvPr/>
        </p:nvPicPr>
        <p:blipFill>
          <a:blip r:embed="rId2"/>
          <a:stretch/>
        </p:blipFill>
        <p:spPr>
          <a:xfrm>
            <a:off x="5334120" y="0"/>
            <a:ext cx="3581280" cy="3733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116000" y="3645000"/>
            <a:ext cx="7439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.was/were /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is/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.cute/short/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tall/c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562720" y="4038480"/>
            <a:ext cx="3581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80200" y="0"/>
            <a:ext cx="125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064200" y="0"/>
            <a:ext cx="119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09160" y="4869000"/>
            <a:ext cx="40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He ___ ___ th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941000" y="486900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He ___ ___ n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1440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925560" y="495468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003040" y="494172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729040" y="48830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787440" y="488304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we"/>
          <p:cNvPicPr/>
          <p:nvPr/>
        </p:nvPicPr>
        <p:blipFill>
          <a:blip r:embed="rId1"/>
          <a:stretch/>
        </p:blipFill>
        <p:spPr>
          <a:xfrm>
            <a:off x="1523880" y="304920"/>
            <a:ext cx="647712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685800" y="4191120"/>
            <a:ext cx="4343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was/were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is/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young/thin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old/f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21440" y="5553000"/>
            <a:ext cx="78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We___   ___   then. We ___ ___ n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13040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22120" y="54594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28040" y="545940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895720" y="551196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890040" y="5516640"/>
            <a:ext cx="7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Calibri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能听懂会说单词：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then ,young, old ,hair,  short,                    long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ndpar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会运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was,were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谈论过去的事情或情况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riginal_fXMQ_3954000113d3126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457200" y="587520"/>
            <a:ext cx="24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981080"/>
            <a:ext cx="8381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熟读单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流利地读懂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办一张英语小报，贴上自己或者家人的照片，并使用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was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，</a:t>
            </a:r>
            <a:r>
              <a:rPr b="0" lang="en-US" sz="3200" spc="-1" strike="noStrike">
                <a:solidFill>
                  <a:srgbClr val="6600cc"/>
                </a:solidFill>
                <a:latin typeface="Calibri"/>
              </a:rPr>
              <a:t>were</a:t>
            </a:r>
            <a:r>
              <a:rPr b="0" lang="zh-CN" sz="3200" spc="-1" strike="noStrike">
                <a:solidFill>
                  <a:srgbClr val="6600cc"/>
                </a:solidFill>
                <a:latin typeface="Calibri"/>
              </a:rPr>
              <a:t>来描述从过去到现在的变化，下节课在班内展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large_hYdy_32170001151d121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WordArt 5" descr=""/>
          <p:cNvPicPr/>
          <p:nvPr/>
        </p:nvPicPr>
        <p:blipFill>
          <a:blip r:embed="rId2"/>
          <a:stretch/>
        </p:blipFill>
        <p:spPr>
          <a:xfrm>
            <a:off x="2127240" y="2468520"/>
            <a:ext cx="3882960" cy="1932120"/>
          </a:xfrm>
          <a:prstGeom prst="rect">
            <a:avLst/>
          </a:prstGeom>
          <a:ln w="0">
            <a:noFill/>
          </a:ln>
        </p:spPr>
      </p:pic>
      <p:pic>
        <p:nvPicPr>
          <p:cNvPr id="176" name="hj.mp3" descr=""/>
          <p:cNvPicPr/>
          <p:nvPr/>
        </p:nvPicPr>
        <p:blipFill>
          <a:blip r:embed="rId3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4940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学习指导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听老师读单词，感知单词发音，并跟读单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对子练读，然后小组内合作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钟后进行展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听老师读对话，然后跟读。自主学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钟，对子合作交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钟，然后小组汇报展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6264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353ff"/>
                </a:solidFill>
                <a:latin typeface="华文行楷"/>
                <a:ea typeface="华文行楷"/>
              </a:rPr>
              <a:t>Chant </a:t>
            </a:r>
            <a:r>
              <a:rPr b="0" lang="zh-CN" sz="4800" spc="-1" strike="noStrike">
                <a:solidFill>
                  <a:srgbClr val="5353ff"/>
                </a:solidFill>
                <a:latin typeface="华文行楷"/>
                <a:ea typeface="华文行楷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8"/>
          <p:cNvPicPr/>
          <p:nvPr/>
        </p:nvPicPr>
        <p:blipFill>
          <a:blip r:embed="rId1"/>
          <a:stretch/>
        </p:blipFill>
        <p:spPr>
          <a:xfrm>
            <a:off x="7775640" y="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11280" y="1234080"/>
            <a:ext cx="72738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Tall, tall.   I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t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Short,short.   You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sh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Fat,fat.      He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f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Thin,thin.     She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th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Naughty,naughty.It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naugh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Old,old.            They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Young,young.     We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yo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米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25780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u=2867207017,1950778602&amp;fm=21&amp;gp=0.jpg"/>
          <p:cNvPicPr/>
          <p:nvPr/>
        </p:nvPicPr>
        <p:blipFill>
          <a:blip r:embed="rId1"/>
          <a:stretch/>
        </p:blipFill>
        <p:spPr>
          <a:xfrm>
            <a:off x="1979640" y="1700280"/>
            <a:ext cx="5040360" cy="4145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47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e’s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ld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643280" y="549360"/>
            <a:ext cx="498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e’s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14096625015960.jpg"/>
          <p:cNvPicPr/>
          <p:nvPr/>
        </p:nvPicPr>
        <p:blipFill>
          <a:blip r:embed="rId1"/>
          <a:stretch/>
        </p:blipFill>
        <p:spPr>
          <a:xfrm>
            <a:off x="2340000" y="1484280"/>
            <a:ext cx="37447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0" y="54936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’s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hort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494680" y="549360"/>
            <a:ext cx="28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e’s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20120816163446_yAfhk.thumb.600_0.jpeg"/>
          <p:cNvPicPr/>
          <p:nvPr/>
        </p:nvPicPr>
        <p:blipFill>
          <a:blip r:embed="rId1"/>
          <a:stretch/>
        </p:blipFill>
        <p:spPr>
          <a:xfrm>
            <a:off x="468360" y="476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7287888531650188063.jpg"/>
          <p:cNvPicPr/>
          <p:nvPr/>
        </p:nvPicPr>
        <p:blipFill>
          <a:blip r:embed="rId2"/>
          <a:stretch/>
        </p:blipFill>
        <p:spPr>
          <a:xfrm>
            <a:off x="5076720" y="189000"/>
            <a:ext cx="3527640" cy="4005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46480" y="429264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’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ai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hor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294880" y="4508640"/>
            <a:ext cx="38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’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ai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"/>
          <p:cNvPicPr/>
          <p:nvPr/>
        </p:nvPicPr>
        <p:blipFill>
          <a:blip r:embed="rId1"/>
          <a:stretch/>
        </p:blipFill>
        <p:spPr>
          <a:xfrm>
            <a:off x="108000" y="4428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987640" y="58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grandpar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2"/>
          <p:cNvPicPr/>
          <p:nvPr/>
        </p:nvPicPr>
        <p:blipFill>
          <a:blip r:embed="rId2"/>
          <a:stretch/>
        </p:blipFill>
        <p:spPr>
          <a:xfrm>
            <a:off x="2411280" y="620640"/>
            <a:ext cx="1974960" cy="3784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341080" y="465300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grand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1"/>
          <p:cNvPicPr/>
          <p:nvPr/>
        </p:nvPicPr>
        <p:blipFill>
          <a:blip r:embed="rId3"/>
          <a:stretch/>
        </p:blipFill>
        <p:spPr>
          <a:xfrm>
            <a:off x="4356000" y="512640"/>
            <a:ext cx="2048040" cy="378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4983840" y="4545000"/>
            <a:ext cx="19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grandp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564000" y="5157720"/>
            <a:ext cx="2159640" cy="863640"/>
            <a:chOff x="3564000" y="5157720"/>
            <a:chExt cx="2159640" cy="863640"/>
          </a:xfrm>
        </p:grpSpPr>
        <p:sp>
          <p:nvSpPr>
            <p:cNvPr id="71" name="Line 9"/>
            <p:cNvSpPr/>
            <p:nvPr/>
          </p:nvSpPr>
          <p:spPr>
            <a:xfrm>
              <a:off x="3564000" y="5229000"/>
              <a:ext cx="10076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 flipH="1">
              <a:off x="4500000" y="5157720"/>
              <a:ext cx="1223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>
              <a:off x="4571640" y="5734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4720" y="549360"/>
            <a:ext cx="2449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55640" y="47628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学情展示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读单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050920" y="1557360"/>
            <a:ext cx="63388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tall</a:t>
            </a:r>
            <a:r>
              <a:rPr b="0" lang="zh-CN" sz="4800" spc="-1" strike="noStrike">
                <a:solidFill>
                  <a:srgbClr val="6600cc"/>
                </a:solidFill>
                <a:latin typeface="Calibri"/>
              </a:rPr>
              <a:t>－</a:t>
            </a: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long</a:t>
            </a:r>
            <a:r>
              <a:rPr b="0" lang="zh-CN" sz="4800" spc="-1" strike="noStrike">
                <a:solidFill>
                  <a:srgbClr val="6600cc"/>
                </a:solidFill>
                <a:latin typeface="Calibri"/>
              </a:rPr>
              <a:t>－</a:t>
            </a: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young</a:t>
            </a:r>
            <a:r>
              <a:rPr b="0" lang="zh-CN" sz="4800" spc="-1" strike="noStrike">
                <a:solidFill>
                  <a:srgbClr val="6600cc"/>
                </a:solidFill>
                <a:latin typeface="Calibri"/>
              </a:rPr>
              <a:t>－</a:t>
            </a: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o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grandpar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alibri"/>
              </a:rPr>
              <a:t>hai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7:53Z</dcterms:created>
  <dc:creator>User</dc:creator>
  <dc:description/>
  <dc:language>en-US</dc:language>
  <cp:lastModifiedBy>User</cp:lastModifiedBy>
  <dcterms:modified xsi:type="dcterms:W3CDTF">2017-12-17T09:27:55Z</dcterms:modified>
  <cp:revision>1</cp:revision>
  <dc:subject/>
  <dc:title>幻灯片 1</dc:title>
</cp:coreProperties>
</file>