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80B-94F4-4951-ABA0-5273059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FEA-AAA0-43BC-8A81-FD5F638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0D9-573F-4E1E-A699-1CF1A8C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ADD-7933-4C4C-B0FB-C09A7821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9D8-4A3F-4F5A-B0A8-B11FF14B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A18-3F5A-4766-B075-7ACF5B5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CA7-2A82-47CA-B8E1-E8AFEC50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153-2025-45A8-9A53-5BFAC19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06B-F531-45CE-8903-551B2666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090-2A68-4030-AA87-BB268E01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3EC-71D6-4D0B-8A06-6E26529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811-AB27-481F-B68E-6B2E9DD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488-355A-4E31-8D22-B94FD9A7C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348000" y="69228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PMincho"/>
              </a:rPr>
              <a:t>Module 7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PMincho"/>
              <a:ea typeface="MS PMincho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19280" y="191628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8080"/>
                </a:solidFill>
                <a:latin typeface="Arial Black"/>
              </a:rPr>
              <a:t>Unit1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helpe M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背景5"/>
          <p:cNvPicPr/>
          <p:nvPr/>
        </p:nvPicPr>
        <p:blipFill>
          <a:blip r:embed="rId1"/>
          <a:stretch/>
        </p:blipFill>
        <p:spPr>
          <a:xfrm>
            <a:off x="0" y="11592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556000" y="333360"/>
            <a:ext cx="5472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温馨小提示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一般过去时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用来描述自己和他人在过去某一时间所做的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表示过去的时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terday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昨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last week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last weeken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周末等等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598920" y="3357720"/>
            <a:ext cx="55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主语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动词的过去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其他</a:t>
            </a:r>
            <a:r>
              <a:rPr b="1" i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my phone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Grand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771640" y="3284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构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916360" y="1268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Calibri"/>
              </a:rPr>
              <a:t>比一比，看看哪个小组说一般过去时句子的句子最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195640" y="1989000"/>
            <a:ext cx="6192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terday, I  phon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Grandma.I wat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V.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watch TV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, I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/No, I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692360" y="83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课文中有过去时态的句子，请你听一听，划一划，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050920" y="1628640"/>
            <a:ext cx="6551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coo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ish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d wat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V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help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y phon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Grand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m pla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n the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wal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pa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tal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o some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1890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比比谁的嘴巴巧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250920" y="1484280"/>
            <a:ext cx="8748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2001"/>
          <p:cNvPicPr/>
          <p:nvPr/>
        </p:nvPicPr>
        <p:blipFill>
          <a:blip r:embed="rId1"/>
          <a:stretch/>
        </p:blipFill>
        <p:spPr>
          <a:xfrm>
            <a:off x="684360" y="1197000"/>
            <a:ext cx="7991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2"/>
          <p:cNvSpPr/>
          <p:nvPr/>
        </p:nvSpPr>
        <p:spPr>
          <a:xfrm>
            <a:off x="2771640" y="333360"/>
            <a:ext cx="637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 Black"/>
              </a:rPr>
              <a:t>旧曲新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Did you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? Did you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? Yes, I did. Yes, I d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ed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. I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ed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ed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.    I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 Black"/>
              </a:rPr>
              <a:t>cooked fish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755640" y="1341360"/>
            <a:ext cx="432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Best memor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alibri"/>
              </a:rPr>
              <a:t>这节课你学到了什么？请大胆地站直来说一说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1000022633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RX_017"/>
          <p:cNvPicPr/>
          <p:nvPr/>
        </p:nvPicPr>
        <p:blipFill>
          <a:blip r:embed="rId2"/>
          <a:stretch/>
        </p:blipFill>
        <p:spPr>
          <a:xfrm>
            <a:off x="539640" y="1557360"/>
            <a:ext cx="241632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0"/>
          <p:cNvSpPr txBox="1"/>
          <p:nvPr/>
        </p:nvSpPr>
        <p:spPr>
          <a:xfrm>
            <a:off x="3348000" y="260280"/>
            <a:ext cx="32814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987640" y="2997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必做作业：听录音，模仿读故事，然后描述一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y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家人上周末的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选做作业：上周末你和家人做了哪些活动，与同学交流一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26_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2411280" y="620640"/>
            <a:ext cx="4114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小单词，我来记。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411280" y="184464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195640" y="1916280"/>
            <a:ext cx="432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day, toda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今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terday, yesterda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昨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e day , one da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一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nice day, a nice day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美好一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</a:rPr>
              <a:t>看图说短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看电视"/>
          <p:cNvPicPr/>
          <p:nvPr/>
        </p:nvPicPr>
        <p:blipFill>
          <a:blip r:embed="rId1"/>
          <a:stretch/>
        </p:blipFill>
        <p:spPr>
          <a:xfrm>
            <a:off x="971640" y="1125360"/>
            <a:ext cx="2663640" cy="180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散步"/>
          <p:cNvPicPr/>
          <p:nvPr/>
        </p:nvPicPr>
        <p:blipFill>
          <a:blip r:embed="rId2"/>
          <a:stretch/>
        </p:blipFill>
        <p:spPr>
          <a:xfrm>
            <a:off x="5076720" y="1052640"/>
            <a:ext cx="2951280" cy="184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听音乐"/>
          <p:cNvPicPr/>
          <p:nvPr/>
        </p:nvPicPr>
        <p:blipFill>
          <a:blip r:embed="rId3"/>
          <a:stretch/>
        </p:blipFill>
        <p:spPr>
          <a:xfrm>
            <a:off x="971640" y="400536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做鱼"/>
          <p:cNvPicPr/>
          <p:nvPr/>
        </p:nvPicPr>
        <p:blipFill>
          <a:blip r:embed="rId4"/>
          <a:stretch/>
        </p:blipFill>
        <p:spPr>
          <a:xfrm>
            <a:off x="5148360" y="3789360"/>
            <a:ext cx="2736720" cy="1871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97164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 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5076720" y="2997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 in the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826920" y="5877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5292720" y="59500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k 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打电话"/>
          <p:cNvPicPr/>
          <p:nvPr/>
        </p:nvPicPr>
        <p:blipFill>
          <a:blip r:embed="rId1"/>
          <a:stretch/>
        </p:blipFill>
        <p:spPr>
          <a:xfrm>
            <a:off x="5076720" y="47628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踢足球"/>
          <p:cNvPicPr/>
          <p:nvPr/>
        </p:nvPicPr>
        <p:blipFill>
          <a:blip r:embed="rId2"/>
          <a:stretch/>
        </p:blipFill>
        <p:spPr>
          <a:xfrm>
            <a:off x="684360" y="3789360"/>
            <a:ext cx="288108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帮妈妈"/>
          <p:cNvPicPr/>
          <p:nvPr/>
        </p:nvPicPr>
        <p:blipFill>
          <a:blip r:embed="rId3"/>
          <a:stretch/>
        </p:blipFill>
        <p:spPr>
          <a:xfrm>
            <a:off x="4859280" y="3716280"/>
            <a:ext cx="3025800" cy="1925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9640" y="2852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on the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932360" y="2708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ne my 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11280" y="5877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footb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076720" y="5805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玩电脑"/>
          <p:cNvPicPr/>
          <p:nvPr/>
        </p:nvPicPr>
        <p:blipFill>
          <a:blip r:embed="rId4"/>
          <a:stretch/>
        </p:blipFill>
        <p:spPr>
          <a:xfrm>
            <a:off x="539640" y="404640"/>
            <a:ext cx="3456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0001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619280" y="112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拍手，说一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8360" y="2421000"/>
            <a:ext cx="619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, watch. I watch T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, walk . I walk in the pa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, cook . I cook me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 , talk.    I talk to frie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, listen. I listen to mus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ne, phone. I phone grand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, play, I play on the compu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繁忙的昨天（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Yesterda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图片1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755640" y="1916280"/>
            <a:ext cx="345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hone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Calibri"/>
              </a:rPr>
              <a:t>d</a:t>
            </a:r>
            <a:r>
              <a:rPr b="0" lang="en-US" sz="24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i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l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some frie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ste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mus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o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ch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0" y="191628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l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pa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ble ten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hous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43280" y="4724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一般过去时态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用来描述自己和他人在过去某一时间所进行的活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403280" y="260280"/>
            <a:ext cx="5616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动词过去式的变法顺口溜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Yesterday 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表过去，动词要用一般过去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规则动词加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ed, 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有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e 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直接加上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Talk , talk , tal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Listen,listen,list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Watch,watch,wat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Phone,phone,pho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不规则的特殊记，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are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变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were, am/ is 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变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was,do do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变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  <a:ea typeface="黑体"/>
              </a:rPr>
              <a:t>did</a:t>
            </a:r>
            <a:r>
              <a:rPr b="0" lang="zh-CN" sz="2400" spc="-1" strike="noStrike">
                <a:solidFill>
                  <a:srgbClr val="800080"/>
                </a:solidFill>
                <a:latin typeface="Calibri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851280" y="404640"/>
            <a:ext cx="547380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ph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k                            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ch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                           le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78800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788000" y="1628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643280" y="98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5928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932360" y="2924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8459640" y="98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8101080" y="1628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828036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8280360" y="2924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828036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3492360" y="4365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提示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清辅音后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t/,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浊辅音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4284720" y="1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t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7451640" y="1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0" y="26028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试身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快快说出下列动词的过去式吧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图片1"/>
          <p:cNvPicPr/>
          <p:nvPr/>
        </p:nvPicPr>
        <p:blipFill>
          <a:blip r:embed="rId1"/>
          <a:stretch/>
        </p:blipFill>
        <p:spPr>
          <a:xfrm>
            <a:off x="611280" y="920880"/>
            <a:ext cx="8137440" cy="5676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042920" y="1989000"/>
            <a:ext cx="345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hone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Calibri"/>
              </a:rPr>
              <a:t>d</a:t>
            </a:r>
            <a:r>
              <a:rPr b="0" lang="en-US" sz="24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i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l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some frie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ste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mus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o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16360" y="1989000"/>
            <a:ext cx="3600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ch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l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pa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y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ble ten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hous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9:21Z</dcterms:created>
  <dc:creator>User</dc:creator>
  <dc:description/>
  <dc:language>en-US</dc:language>
  <cp:lastModifiedBy>User</cp:lastModifiedBy>
  <dcterms:modified xsi:type="dcterms:W3CDTF">2017-12-17T09:29:22Z</dcterms:modified>
  <cp:revision>1</cp:revision>
  <dc:subject/>
  <dc:title>幻灯片 1</dc:title>
</cp:coreProperties>
</file>