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explode.wav" ContentType="audio/x-wav"/>
  <Override PartName="/ppt/media/image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3.jpeg" ContentType="image/jpeg"/>
  <Override PartName="/ppt/media/image23.png" ContentType="image/pn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B23-80E3-4D10-AA2D-250FBCCC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AF1-A49F-48E9-B3E1-530D39E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6C8-5B03-412E-936B-28687A77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420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420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E5C-F6A8-41F8-85AC-655EF937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AD0-62E8-40AF-A2CF-DB02C2FF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BAD4-7BA0-42BD-B84B-90891322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EBBD-88E8-4DE0-B8C8-3534FCBF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7F92-BDF7-4BDE-82D8-A60C9AC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12A-FD11-482B-80F1-8FB6D0B5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B38-FB7C-41F1-9918-0B8C241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461-D12A-4D14-940B-2DB5575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1D5-099F-4C39-8F89-3A69814A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1B53-5708-47A4-A3F3-AFA37E5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997-B4B3-4543-94B6-99A5C9B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E0F3-7A48-4D55-BBBF-01A24A50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3E9D-332C-49EA-8BAA-E3C9A38D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226E-7A85-401F-BA97-F878EFB7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0D33-ABBD-4675-B859-C0C8802A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20CA-106F-4973-8942-B08547A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41DC-2CCA-45B8-BD32-B48048B5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CB1F-59B3-480D-B38D-B0754C4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4E98-BE24-45AD-8909-5C848F6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628-CB28-4B31-AFED-0C0654E1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8FC5-7932-4E21-BB6A-FA776B7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FF94-DB46-4489-95F7-01AF1A1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C4A1-FA9C-4FED-820B-531F005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0FEA-F27F-4747-81FE-804094C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2F68-1878-4551-AB3F-2E08D08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D32A-17DA-4F3C-B9B7-A44F1613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420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212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420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212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ED69-191E-4E01-89A4-DBDA9458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54DD-EB14-4D3F-8950-B67CC49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2D9C-E44C-4AE6-98FC-0C72323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6D66-501C-4BEB-BC93-1E7A211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D46-E62C-4736-856C-E5E4FDEA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6FCB-E085-4A67-8545-084B3D5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8437-460C-4FF2-8C4D-A81C021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D4C2-A7F0-4004-AC43-86D57A3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F559-49FA-4FCC-9525-D8E8A5F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9725-648D-4CE8-9786-F3333A0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58F1-CCF4-4621-8A5B-7A07244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9675-B9F9-44B8-B125-8F63DAD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77F3-4540-4987-8C0C-261611F4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420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8212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420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8212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5B14-E6AF-4049-A4C9-E6AE1F4D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7A2C-D467-41DB-B1BF-7C11E540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5F7-BEAC-4573-B073-C78B6DD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E9C4-EB77-4349-A609-45ED652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26AB-95CE-4A2A-A2F4-5E03494D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10DE-35CE-4393-B769-B125F53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9001-6D98-4991-B1BE-F1EE3D3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8A207-3B45-462B-8631-18596ED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E48E-5CDD-4879-929B-D8AE529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0F2B-DF82-4927-927B-7A53495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C5C5-88D8-4AAE-A5FE-88004494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9070A-23C0-4306-8E24-1D5D048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EF94F-A11E-4029-BCD9-3FED9669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312840"/>
            <a:ext cx="800892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D82-BBE1-4320-AEB7-32D36FCB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7420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82120" y="113184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6628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7420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82120" y="3915720"/>
            <a:ext cx="257868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C1B6-DE5F-425E-9A39-B70C8E33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675-526A-4393-8214-4F468DB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1572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BC7-9AA1-414C-A386-9354546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131840"/>
            <a:ext cx="390816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15720"/>
            <a:ext cx="80089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807-C9A7-4956-B49D-AF0A891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78B-C8E3-40B6-AA57-C75AF9FA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rcRect l="283" t="125" r="471" b="439"/>
          <a:stretch/>
        </p:blipFill>
        <p:spPr>
          <a:xfrm>
            <a:off x="-3240" y="-1908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6640" y="1053720"/>
            <a:ext cx="65484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90c413"/>
              </a:buClr>
              <a:buSzPct val="60000"/>
              <a:buFont typeface="Wingdings 2" charset="2"/>
              <a:buChar char="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6d6f71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6d6f7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6d6f7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872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b8872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13E3-724E-4FE8-A1DE-BA431AD99CEF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566280" y="18900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6c930e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c930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图片 8" descr=""/>
            <p:cNvPicPr/>
            <p:nvPr/>
          </p:nvPicPr>
          <p:blipFill>
            <a:blip r:embed="rId2"/>
            <a:stretch/>
          </p:blipFill>
          <p:spPr>
            <a:xfrm>
              <a:off x="1384200" y="1038240"/>
              <a:ext cx="7759800" cy="58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9"/>
            <p:cNvSpPr/>
            <p:nvPr/>
          </p:nvSpPr>
          <p:spPr>
            <a:xfrm>
              <a:off x="0" y="0"/>
              <a:ext cx="2019240" cy="6858000"/>
            </a:xfrm>
            <a:prstGeom prst="rect">
              <a:avLst/>
            </a:prstGeom>
            <a:solidFill>
              <a:srgbClr val="f4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1009440" y="0"/>
              <a:ext cx="8134560" cy="1810800"/>
            </a:xfrm>
            <a:prstGeom prst="rect">
              <a:avLst/>
            </a:prstGeom>
            <a:solidFill>
              <a:srgbClr val="f4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762-1302-410F-95A6-59A45644D1AA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85920" y="677520"/>
            <a:ext cx="637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6c930e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c930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566280" y="1131840"/>
            <a:ext cx="8008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7EA-A7AB-4818-97AD-3D6515AB2628}" type="slidenum"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title"/>
          </p:nvPr>
        </p:nvSpPr>
        <p:spPr>
          <a:xfrm>
            <a:off x="566280" y="312840"/>
            <a:ext cx="8008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EE9-72A7-402F-BBA4-BA2FC8AFE04D}" type="slidenum"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685800" y="3153960"/>
            <a:ext cx="643104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2"/>
          <p:cNvSpPr/>
          <p:nvPr/>
        </p:nvSpPr>
        <p:spPr>
          <a:xfrm>
            <a:off x="1187280" y="2637000"/>
            <a:ext cx="70614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Module 1 Peop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6" descr="D:\小三PPT模版\人物\boy 08.gif"/>
          <p:cNvPicPr/>
          <p:nvPr/>
        </p:nvPicPr>
        <p:blipFill>
          <a:blip r:embed="rId1"/>
          <a:stretch/>
        </p:blipFill>
        <p:spPr>
          <a:xfrm>
            <a:off x="76320" y="0"/>
            <a:ext cx="87948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6"/>
          <p:cNvSpPr/>
          <p:nvPr/>
        </p:nvSpPr>
        <p:spPr>
          <a:xfrm>
            <a:off x="1523880" y="0"/>
            <a:ext cx="7162920" cy="1219320"/>
          </a:xfrm>
          <a:prstGeom prst="cloudCallout">
            <a:avLst>
              <a:gd name="adj1" fmla="val -58819"/>
              <a:gd name="adj2" fmla="val 14453"/>
            </a:avLst>
          </a:prstGeom>
          <a:solidFill>
            <a:srgbClr val="afb2b4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676520" y="152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 /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he is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eacher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I lik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eacher.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D:\01小英专项\Book 5\Unit 1\Lesson 1\ppt\图片 teacher 1.gif"/>
          <p:cNvPicPr/>
          <p:nvPr/>
        </p:nvPicPr>
        <p:blipFill>
          <a:blip r:embed="rId2"/>
          <a:stretch/>
        </p:blipFill>
        <p:spPr>
          <a:xfrm>
            <a:off x="2438280" y="1523880"/>
            <a:ext cx="1282680" cy="289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D:\01小英专项\Book 5\Unit 1\Lesson 1\ppt\图片 teacher 3.gif"/>
          <p:cNvPicPr/>
          <p:nvPr/>
        </p:nvPicPr>
        <p:blipFill>
          <a:blip r:embed="rId3"/>
          <a:stretch/>
        </p:blipFill>
        <p:spPr>
          <a:xfrm>
            <a:off x="4343400" y="2057400"/>
            <a:ext cx="2176560" cy="3505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D:\01小英专项\Book 5\Unit 1\Lesson 1\ppt\图片 teacher 4.gif"/>
          <p:cNvPicPr/>
          <p:nvPr/>
        </p:nvPicPr>
        <p:blipFill>
          <a:blip r:embed="rId4"/>
          <a:stretch/>
        </p:blipFill>
        <p:spPr>
          <a:xfrm>
            <a:off x="7162920" y="1752480"/>
            <a:ext cx="1336680" cy="33530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7"/>
          <p:cNvSpPr/>
          <p:nvPr/>
        </p:nvSpPr>
        <p:spPr>
          <a:xfrm>
            <a:off x="457200" y="50292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h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286000" y="48006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lish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.E.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238880" y="52578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3" descr="D:\01小英专项\Book 5\Unit 1\Lesson 1\ppt\图片 teacher 2.gif"/>
          <p:cNvPicPr/>
          <p:nvPr/>
        </p:nvPicPr>
        <p:blipFill>
          <a:blip r:embed="rId5"/>
          <a:stretch/>
        </p:blipFill>
        <p:spPr>
          <a:xfrm>
            <a:off x="457200" y="1905120"/>
            <a:ext cx="12351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457200" y="10666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What is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228600" y="2895480"/>
            <a:ext cx="8286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2743200" y="3048120"/>
            <a:ext cx="617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He is ver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shy and friendly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He has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black eye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, a big nose and a small mo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139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0" y="1371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What is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s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76320" y="3429000"/>
            <a:ext cx="5638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She ha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short hair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Sh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ver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beauti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228600" y="2895480"/>
            <a:ext cx="3581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5146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"/>
          <p:cNvSpPr/>
          <p:nvPr/>
        </p:nvSpPr>
        <p:spPr>
          <a:xfrm>
            <a:off x="0" y="0"/>
            <a:ext cx="124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152280" y="457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Mr Chen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is 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maths teache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152280" y="2590920"/>
            <a:ext cx="769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He ha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round face big eyes and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 big nose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He is ver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happ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76320" y="2971800"/>
            <a:ext cx="5029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30477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0" y="214200"/>
            <a:ext cx="124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228600" y="1522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Miss Li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is a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hinese teac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304920" y="2362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She ha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long hair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She is ver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tall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thin and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beauti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0" y="3581280"/>
            <a:ext cx="5562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443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green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eye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ma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uth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WordArt 4"/>
          <p:cNvSpPr txBox="1"/>
          <p:nvPr/>
        </p:nvSpPr>
        <p:spPr>
          <a:xfrm>
            <a:off x="1295280" y="762120"/>
            <a:ext cx="647712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Comic Sans MS"/>
              </a:rPr>
              <a:t>What is she/he like?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57200" y="3657600"/>
            <a:ext cx="6324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ery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457200" y="480060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ery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in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1-1-1"/>
          <p:cNvPicPr/>
          <p:nvPr/>
        </p:nvPicPr>
        <p:blipFill>
          <a:blip r:embed="rId2"/>
          <a:stretch/>
        </p:blipFill>
        <p:spPr>
          <a:xfrm>
            <a:off x="2627280" y="1125360"/>
            <a:ext cx="561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1-1-1"/>
          <p:cNvPicPr/>
          <p:nvPr/>
        </p:nvPicPr>
        <p:blipFill>
          <a:blip r:embed="rId2"/>
          <a:stretch/>
        </p:blipFill>
        <p:spPr>
          <a:xfrm>
            <a:off x="2627280" y="1125360"/>
            <a:ext cx="5616720" cy="1219320"/>
          </a:xfrm>
          <a:prstGeom prst="rect">
            <a:avLst/>
          </a:prstGeom>
          <a:ln w="0">
            <a:noFill/>
          </a:ln>
        </p:spPr>
      </p:pic>
      <p:sp>
        <p:nvSpPr>
          <p:cNvPr id="308" name="Oval 5"/>
          <p:cNvSpPr/>
          <p:nvPr/>
        </p:nvSpPr>
        <p:spPr>
          <a:xfrm>
            <a:off x="2340000" y="2852640"/>
            <a:ext cx="2286000" cy="3600720"/>
          </a:xfrm>
          <a:prstGeom prst="ellipse">
            <a:avLst/>
          </a:prstGeom>
          <a:solidFill>
            <a:srgbClr val="5f5f5f">
              <a:alpha val="50000"/>
            </a:srgbClr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5640" y="1752480"/>
            <a:ext cx="606276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993600"/>
            <a:ext cx="8153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身体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y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i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ut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身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格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害羞的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pp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和蔼的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友好的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2"/>
          <p:cNvSpPr/>
          <p:nvPr/>
        </p:nvSpPr>
        <p:spPr>
          <a:xfrm>
            <a:off x="1066680" y="1143000"/>
            <a:ext cx="731520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Unit 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She is very kind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课件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76320" y="914400"/>
            <a:ext cx="899136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形容外貌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g/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ld/you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ng /shor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短的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l /shor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矮的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tt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漂亮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强壮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und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圆圆的）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6"/>
          <p:cNvSpPr txBox="1"/>
          <p:nvPr/>
        </p:nvSpPr>
        <p:spPr>
          <a:xfrm>
            <a:off x="1676520" y="228600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ank you!</a:t>
            </a:r>
            <a:endParaRPr b="1" i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cb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img1.jike.com/get?name=T14wYDByD51RCvBVdK"/>
          <p:cNvPicPr/>
          <p:nvPr/>
        </p:nvPicPr>
        <p:blipFill>
          <a:blip r:embed="rId1"/>
          <a:srcRect l="0" t="0" r="0" b="3319"/>
          <a:stretch/>
        </p:blipFill>
        <p:spPr>
          <a:xfrm>
            <a:off x="25909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直接连接符 6"/>
          <p:cNvSpPr/>
          <p:nvPr/>
        </p:nvSpPr>
        <p:spPr>
          <a:xfrm flipV="1">
            <a:off x="4495680" y="1371600"/>
            <a:ext cx="1524240" cy="838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095880" y="91440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9"/>
          <p:cNvSpPr/>
          <p:nvPr/>
        </p:nvSpPr>
        <p:spPr>
          <a:xfrm flipV="1">
            <a:off x="4038480" y="1142640"/>
            <a:ext cx="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3581280" y="53352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3"/>
          <p:cNvSpPr/>
          <p:nvPr/>
        </p:nvSpPr>
        <p:spPr>
          <a:xfrm flipH="1" flipV="1">
            <a:off x="2133360" y="2438280"/>
            <a:ext cx="1523880" cy="6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990720" y="1905120"/>
            <a:ext cx="1143000" cy="6426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6"/>
          <p:cNvSpPr/>
          <p:nvPr/>
        </p:nvSpPr>
        <p:spPr>
          <a:xfrm flipV="1">
            <a:off x="1981080" y="3352680"/>
            <a:ext cx="1676520" cy="609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9"/>
          <p:cNvSpPr/>
          <p:nvPr/>
        </p:nvSpPr>
        <p:spPr>
          <a:xfrm>
            <a:off x="762120" y="373392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0"/>
          <p:cNvSpPr/>
          <p:nvPr/>
        </p:nvSpPr>
        <p:spPr>
          <a:xfrm>
            <a:off x="2819520" y="4876920"/>
            <a:ext cx="12189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1600200" y="4724280"/>
            <a:ext cx="1143000" cy="6426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3"/>
          <p:cNvSpPr/>
          <p:nvPr/>
        </p:nvSpPr>
        <p:spPr>
          <a:xfrm>
            <a:off x="4495680" y="541008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3809880" y="579132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7"/>
          <p:cNvSpPr/>
          <p:nvPr/>
        </p:nvSpPr>
        <p:spPr>
          <a:xfrm>
            <a:off x="5410080" y="3581280"/>
            <a:ext cx="609840" cy="1143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9"/>
          <p:cNvSpPr/>
          <p:nvPr/>
        </p:nvSpPr>
        <p:spPr>
          <a:xfrm>
            <a:off x="5791320" y="480060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0"/>
          <p:cNvSpPr/>
          <p:nvPr/>
        </p:nvSpPr>
        <p:spPr>
          <a:xfrm>
            <a:off x="4343400" y="3505320"/>
            <a:ext cx="251460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2"/>
          <p:cNvSpPr/>
          <p:nvPr/>
        </p:nvSpPr>
        <p:spPr>
          <a:xfrm>
            <a:off x="6858000" y="3505320"/>
            <a:ext cx="13716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33"/>
          <p:cNvSpPr/>
          <p:nvPr/>
        </p:nvSpPr>
        <p:spPr>
          <a:xfrm>
            <a:off x="4267080" y="3124080"/>
            <a:ext cx="2514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6858000" y="2743200"/>
            <a:ext cx="11430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36"/>
          <p:cNvSpPr/>
          <p:nvPr/>
        </p:nvSpPr>
        <p:spPr>
          <a:xfrm flipV="1">
            <a:off x="5257800" y="2133720"/>
            <a:ext cx="2209680" cy="7617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7467480" y="1676520"/>
            <a:ext cx="914400" cy="11912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39"/>
          <p:cNvSpPr/>
          <p:nvPr/>
        </p:nvSpPr>
        <p:spPr>
          <a:xfrm>
            <a:off x="4114800" y="3124080"/>
            <a:ext cx="152280" cy="152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696188260_o"/>
          <p:cNvPicPr/>
          <p:nvPr/>
        </p:nvPicPr>
        <p:blipFill>
          <a:blip r:embed="rId2"/>
          <a:stretch/>
        </p:blipFill>
        <p:spPr>
          <a:xfrm>
            <a:off x="1295280" y="228600"/>
            <a:ext cx="647712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6" name="Rectangle 8"/>
          <p:cNvSpPr/>
          <p:nvPr/>
        </p:nvSpPr>
        <p:spPr>
          <a:xfrm>
            <a:off x="755640" y="5084640"/>
            <a:ext cx="374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green 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2411280" y="2637000"/>
            <a:ext cx="144000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3962520" y="5181480"/>
            <a:ext cx="374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/ big 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696188260_o"/>
          <p:cNvPicPr/>
          <p:nvPr/>
        </p:nvPicPr>
        <p:blipFill>
          <a:blip r:embed="rId2"/>
          <a:stretch/>
        </p:blipFill>
        <p:spPr>
          <a:xfrm>
            <a:off x="1692360" y="230040"/>
            <a:ext cx="5945040" cy="446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0" name="Line 5"/>
          <p:cNvSpPr/>
          <p:nvPr/>
        </p:nvSpPr>
        <p:spPr>
          <a:xfrm flipH="1">
            <a:off x="3492000" y="3357720"/>
            <a:ext cx="1150920" cy="19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5084640"/>
            <a:ext cx="4032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a small mo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09880" y="5105520"/>
            <a:ext cx="4248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/a red</a:t>
            </a:r>
            <a:r>
              <a:rPr b="1" lang="zh-CN" sz="4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mo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696188260_o"/>
          <p:cNvPicPr/>
          <p:nvPr/>
        </p:nvPicPr>
        <p:blipFill>
          <a:blip r:embed="rId2"/>
          <a:stretch/>
        </p:blipFill>
        <p:spPr>
          <a:xfrm>
            <a:off x="1476360" y="0"/>
            <a:ext cx="6481800" cy="48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4" name="Line 5"/>
          <p:cNvSpPr/>
          <p:nvPr/>
        </p:nvSpPr>
        <p:spPr>
          <a:xfrm flipH="1">
            <a:off x="2771280" y="3141720"/>
            <a:ext cx="1150920" cy="19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2050920" y="5157720"/>
            <a:ext cx="4032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35997f"/>
                </a:solidFill>
                <a:latin typeface="Comic Sans MS"/>
              </a:rPr>
              <a:t>o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35997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696188260_o"/>
          <p:cNvPicPr/>
          <p:nvPr/>
        </p:nvPicPr>
        <p:blipFill>
          <a:blip r:embed="rId2"/>
          <a:stretch/>
        </p:blipFill>
        <p:spPr>
          <a:xfrm>
            <a:off x="1066680" y="228600"/>
            <a:ext cx="6483600" cy="48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7" name="Line 5"/>
          <p:cNvSpPr/>
          <p:nvPr/>
        </p:nvSpPr>
        <p:spPr>
          <a:xfrm flipH="1">
            <a:off x="3200040" y="1219320"/>
            <a:ext cx="431640" cy="4321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826920" y="5229360"/>
            <a:ext cx="4032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657600" y="5257800"/>
            <a:ext cx="4032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onde</a:t>
            </a:r>
            <a:r>
              <a:rPr b="0" lang="en-US" sz="4400" spc="-1" strike="noStrike">
                <a:solidFill>
                  <a:srgbClr val="35997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286000"/>
            <a:ext cx="973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4" descr="e5686e5343b2e6da46b297b8df94ca13"/>
          <p:cNvPicPr/>
          <p:nvPr/>
        </p:nvPicPr>
        <p:blipFill>
          <a:blip r:embed="rId2"/>
          <a:stretch/>
        </p:blipFill>
        <p:spPr>
          <a:xfrm>
            <a:off x="469800" y="306360"/>
            <a:ext cx="2076480" cy="20559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=1929532084,1477076416&amp;fm=56"/>
          <p:cNvPicPr/>
          <p:nvPr/>
        </p:nvPicPr>
        <p:blipFill>
          <a:blip r:embed="rId3"/>
          <a:stretch/>
        </p:blipFill>
        <p:spPr>
          <a:xfrm>
            <a:off x="3429000" y="22860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3429000" y="2286000"/>
            <a:ext cx="216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ien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2457331_223353861000_2"/>
          <p:cNvPicPr/>
          <p:nvPr/>
        </p:nvPicPr>
        <p:blipFill>
          <a:blip r:embed="rId4"/>
          <a:srcRect l="0" t="0" r="0" b="5774"/>
          <a:stretch/>
        </p:blipFill>
        <p:spPr>
          <a:xfrm>
            <a:off x="6477120" y="228600"/>
            <a:ext cx="1726920" cy="21034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>
            <a:off x="6705720" y="2286000"/>
            <a:ext cx="1371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4" descr="778864_152654088_2"/>
          <p:cNvPicPr/>
          <p:nvPr/>
        </p:nvPicPr>
        <p:blipFill>
          <a:blip r:embed="rId5"/>
          <a:srcRect l="0" t="0" r="0" b="4846"/>
          <a:stretch/>
        </p:blipFill>
        <p:spPr>
          <a:xfrm>
            <a:off x="76320" y="3657600"/>
            <a:ext cx="2743200" cy="18511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5"/>
          <p:cNvSpPr/>
          <p:nvPr/>
        </p:nvSpPr>
        <p:spPr>
          <a:xfrm>
            <a:off x="533520" y="5562720"/>
            <a:ext cx="1752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ov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6776031_143612373000_2"/>
          <p:cNvPicPr/>
          <p:nvPr/>
        </p:nvPicPr>
        <p:blipFill>
          <a:blip r:embed="rId6"/>
          <a:srcRect l="0" t="0" r="0" b="2949"/>
          <a:stretch/>
        </p:blipFill>
        <p:spPr>
          <a:xfrm>
            <a:off x="3352680" y="3581280"/>
            <a:ext cx="2057400" cy="2114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8"/>
          <p:cNvSpPr/>
          <p:nvPr/>
        </p:nvSpPr>
        <p:spPr>
          <a:xfrm>
            <a:off x="3429000" y="5715000"/>
            <a:ext cx="1898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012000" y="5734080"/>
            <a:ext cx="216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5638680" y="3733920"/>
            <a:ext cx="22860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685800" y="380880"/>
            <a:ext cx="5867280" cy="1219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et’s c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467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My math teacher is very sm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My English teacher has a kind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My P.E. teacher is very str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My music teacher sings nice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They help us learn. The help us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When school is over, I want to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5:11:45Z</dcterms:created>
  <dc:creator/>
  <dc:description/>
  <cp:keywords/>
  <dc:language>en-US</dc:language>
  <cp:lastModifiedBy>Windows 用户</cp:lastModifiedBy>
  <dcterms:modified xsi:type="dcterms:W3CDTF">2015-05-31T05:36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Version">
    <vt:r8>1</vt:r8>
  </property>
</Properties>
</file>