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applause.wav" ContentType="audio/x-wav"/>
  <Override PartName="/ppt/media/image6.jpeg" ContentType="image/jpeg"/>
  <Override PartName="/ppt/media/image2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D64-2282-46C6-9130-8700B685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538308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90560" y="3837600"/>
            <a:ext cx="538308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6D4-727B-49B6-84AE-B5E9A017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9056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4924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74B-4499-47E9-9F3F-387B1542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10720" y="352908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880" y="352908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90560" y="383760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10720" y="383760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880" y="383760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129-13F5-48D5-80F0-5086FAD1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B913-C777-4C42-9C46-1E1E874F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90560" y="3529080"/>
            <a:ext cx="53830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24C8-36E8-4D2A-89F1-CB9B1EA8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538308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2FD0-5AED-403F-89C6-94BAA2D7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D782-193F-4640-8CC1-C8577809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9D53-AAA4-4671-80D4-944C7A00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70040" y="2356920"/>
            <a:ext cx="5422680" cy="43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424E-84B4-4130-8BE8-5B072FAC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9056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5FA2-28B0-46B3-A66C-D917B334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90560" y="3529080"/>
            <a:ext cx="53830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EBB-7EF3-4ED7-B4EA-7BB95140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4924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3E4A-1CCD-4170-B802-8973BA72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90560" y="3837600"/>
            <a:ext cx="538308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2A6D-C67E-4499-90A4-044A718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538308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90560" y="3837600"/>
            <a:ext cx="538308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3753-FB34-4074-992E-FCDE1220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9056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4924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0014-8A19-445E-A9F6-BAD316F4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10720" y="352908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130880" y="352908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90560" y="383760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310720" y="383760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130880" y="383760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F20F-27C6-4801-8599-4B65F3D9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7110-1F70-4668-944E-45F98322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490560" y="3529080"/>
            <a:ext cx="53830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33F8-D240-4141-BF35-D53E8DCC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538308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BB1B-1ECA-4054-8446-420490D2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EFA8-BD21-4703-A72D-8BF45D41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D9EB-6AB7-4E66-95E5-0FE95FA2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538308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825-C604-4560-B436-4074CE02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470040" y="2356920"/>
            <a:ext cx="5422680" cy="43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118E-C831-41C9-A305-E2AE43D1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9056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7F86-6CB1-497B-B8EF-3FD1CA7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4924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B82D-466C-40E6-B2A0-C0EF5F20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90560" y="3837600"/>
            <a:ext cx="538308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F5B7-14E7-4157-8257-23DA582D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538308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0560" y="3837600"/>
            <a:ext cx="538308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81A1-823A-4772-80CF-5D628E48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9056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4924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18AE-B78B-4A32-94C8-C58D5DF9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10720" y="352908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130880" y="352908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490560" y="383760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310720" y="383760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130880" y="3837600"/>
            <a:ext cx="173304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0CE8-6215-4035-BFFE-F417276F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753-6A9B-4E2C-9E67-62DF1E89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EF6-325A-42ED-AB73-F6CB6D3E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70040" y="2356920"/>
            <a:ext cx="5422680" cy="43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25D-2AA8-4F65-992E-F83892B8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9056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CD5-E3A1-4C16-9158-8A792BD1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49240" y="383760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5C4-3611-45DE-966C-F93C81EF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9056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49240" y="3529080"/>
            <a:ext cx="262692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90560" y="3837600"/>
            <a:ext cx="5383080" cy="2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8F4-B908-4ACD-8DC7-B8DDF87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2DB7-8AA3-4133-AEB3-FBC457AB3A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2"/>
          <a:srcRect l="1599" t="2745" r="1153" b="57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"/>
          <p:cNvPicPr/>
          <p:nvPr/>
        </p:nvPicPr>
        <p:blipFill>
          <a:blip r:embed="rId3"/>
          <a:srcRect l="0" t="0" r="3622" b="10134"/>
          <a:stretch/>
        </p:blipFill>
        <p:spPr>
          <a:xfrm>
            <a:off x="6967440" y="5340240"/>
            <a:ext cx="2176560" cy="1517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55DB-8286-40DE-A776-A9C4D8E3F1D8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695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26951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3bb6c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" descr=""/>
          <p:cNvPicPr/>
          <p:nvPr/>
        </p:nvPicPr>
        <p:blipFill>
          <a:blip r:embed="rId2"/>
          <a:srcRect l="1599" t="2745" r="1153" b="57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" descr=""/>
          <p:cNvPicPr/>
          <p:nvPr/>
        </p:nvPicPr>
        <p:blipFill>
          <a:blip r:embed="rId3"/>
          <a:srcRect l="0" t="0" r="0" b="11441"/>
          <a:stretch/>
        </p:blipFill>
        <p:spPr>
          <a:xfrm>
            <a:off x="1908000" y="1917720"/>
            <a:ext cx="2808360" cy="1859040"/>
          </a:xfrm>
          <a:prstGeom prst="rect">
            <a:avLst/>
          </a:prstGeom>
          <a:ln w="0">
            <a:noFill/>
          </a:ln>
        </p:spPr>
      </p:pic>
      <p:sp>
        <p:nvSpPr>
          <p:cNvPr id="86" name="矩形 12"/>
          <p:cNvSpPr/>
          <p:nvPr/>
        </p:nvSpPr>
        <p:spPr>
          <a:xfrm>
            <a:off x="0" y="3776760"/>
            <a:ext cx="2987640" cy="44280"/>
          </a:xfrm>
          <a:prstGeom prst="rect">
            <a:avLst/>
          </a:prstGeom>
          <a:solidFill>
            <a:srgbClr val="42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3"/>
          <p:cNvSpPr/>
          <p:nvPr/>
        </p:nvSpPr>
        <p:spPr>
          <a:xfrm flipV="1">
            <a:off x="3468600" y="3360240"/>
            <a:ext cx="5675400" cy="46080"/>
          </a:xfrm>
          <a:prstGeom prst="rect">
            <a:avLst/>
          </a:prstGeom>
          <a:solidFill>
            <a:srgbClr val="42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F403-3AC5-48D9-A454-C929DADA618A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3470040" y="2356920"/>
            <a:ext cx="5422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695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f72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15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8487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6951"/>
                </a:solidFill>
                <a:latin typeface="微软雅黑"/>
              </a:rPr>
              <a:t>	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Module 4 Activities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826951"/>
              </a:solidFill>
              <a:latin typeface="微软雅黑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lenovo\Desktop\四下课本图片\第四单元\Let's Learn\1-1.jpg"/>
          <p:cNvPicPr/>
          <p:nvPr/>
        </p:nvPicPr>
        <p:blipFill>
          <a:blip r:embed="rId1"/>
          <a:stretch/>
        </p:blipFill>
        <p:spPr>
          <a:xfrm>
            <a:off x="250920" y="301680"/>
            <a:ext cx="2165400" cy="198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lenovo\Desktop\四下课本图片\第四单元\Let's Learn\1-2.jpg"/>
          <p:cNvPicPr/>
          <p:nvPr/>
        </p:nvPicPr>
        <p:blipFill>
          <a:blip r:embed="rId2"/>
          <a:stretch/>
        </p:blipFill>
        <p:spPr>
          <a:xfrm>
            <a:off x="2814480" y="503280"/>
            <a:ext cx="1471680" cy="158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lenovo\Desktop\四下课本图片\第四单元\Let's Learn\1-3.jpg"/>
          <p:cNvPicPr/>
          <p:nvPr/>
        </p:nvPicPr>
        <p:blipFill>
          <a:blip r:embed="rId3"/>
          <a:stretch/>
        </p:blipFill>
        <p:spPr>
          <a:xfrm>
            <a:off x="4768920" y="507960"/>
            <a:ext cx="187632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lenovo\Desktop\四下课本图片\第四单元\Let's Learn\1-4.jpg"/>
          <p:cNvPicPr/>
          <p:nvPr/>
        </p:nvPicPr>
        <p:blipFill>
          <a:blip r:embed="rId4"/>
          <a:stretch/>
        </p:blipFill>
        <p:spPr>
          <a:xfrm>
            <a:off x="7124760" y="609480"/>
            <a:ext cx="1733400" cy="1478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:\Users\lenovo\Desktop\四下课本图片\第四单元\Let's Learn\1-5.jpg"/>
          <p:cNvPicPr/>
          <p:nvPr/>
        </p:nvPicPr>
        <p:blipFill>
          <a:blip r:embed="rId5"/>
          <a:stretch/>
        </p:blipFill>
        <p:spPr>
          <a:xfrm>
            <a:off x="468360" y="3716280"/>
            <a:ext cx="2141640" cy="1515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:\Users\lenovo\Desktop\四下课本图片\第四单元\Let's Learn\1-6.jpg"/>
          <p:cNvPicPr/>
          <p:nvPr/>
        </p:nvPicPr>
        <p:blipFill>
          <a:blip r:embed="rId6"/>
          <a:stretch/>
        </p:blipFill>
        <p:spPr>
          <a:xfrm>
            <a:off x="3492360" y="3860640"/>
            <a:ext cx="2206800" cy="1473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:\Users\lenovo\Desktop\四下课本图片\第四单元\Let's Learn\1-7.jpg"/>
          <p:cNvPicPr/>
          <p:nvPr/>
        </p:nvPicPr>
        <p:blipFill>
          <a:blip r:embed="rId7"/>
          <a:stretch/>
        </p:blipFill>
        <p:spPr>
          <a:xfrm>
            <a:off x="6732720" y="3716280"/>
            <a:ext cx="1650960" cy="16178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324000" y="220500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6951"/>
                </a:solidFill>
                <a:latin typeface="Times New Roman"/>
                <a:ea typeface="幼圆"/>
              </a:rPr>
              <a:t>fly a k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427640" y="2133720"/>
            <a:ext cx="2736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6951"/>
                </a:solidFill>
                <a:latin typeface="Times New Roman"/>
                <a:ea typeface="幼圆"/>
              </a:rPr>
              <a:t>do exerc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268360" y="2852640"/>
            <a:ext cx="2808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6951"/>
                </a:solidFill>
                <a:latin typeface="Times New Roman"/>
                <a:ea typeface="幼圆"/>
              </a:rPr>
              <a:t>play footb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877080" y="278136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6951"/>
                </a:solidFill>
                <a:latin typeface="Times New Roman"/>
                <a:ea typeface="幼圆"/>
              </a:rPr>
              <a:t>see a fil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0" y="5300640"/>
            <a:ext cx="3745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6951"/>
                </a:solidFill>
                <a:latin typeface="Times New Roman"/>
                <a:ea typeface="幼圆"/>
              </a:rPr>
              <a:t>do some was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470560" y="5300640"/>
            <a:ext cx="367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6951"/>
                </a:solidFill>
                <a:latin typeface="Times New Roman"/>
                <a:ea typeface="幼圆"/>
              </a:rPr>
              <a:t>do his ho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987640" y="5950080"/>
            <a:ext cx="446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6951"/>
                </a:solidFill>
                <a:latin typeface="Times New Roman"/>
                <a:ea typeface="幼圆"/>
              </a:rPr>
              <a:t>climb the mount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63640" y="1989000"/>
            <a:ext cx="6048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幼圆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幼圆"/>
              </a:rPr>
              <a:t>动词原形</a:t>
            </a:r>
            <a:r>
              <a:rPr b="1" lang="zh-CN" sz="1800" spc="-1" strike="noStrike">
                <a:solidFill>
                  <a:srgbClr val="826951"/>
                </a:solidFill>
                <a:latin typeface="幼圆"/>
                <a:ea typeface="幼圆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幼圆"/>
              </a:rPr>
              <a:t>动词三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448000" y="2651040"/>
            <a:ext cx="561636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6951"/>
                </a:solidFill>
                <a:latin typeface="幼圆"/>
                <a:ea typeface="幼圆"/>
              </a:rPr>
              <a:t>play     ----------------   play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6951"/>
                </a:solidFill>
                <a:latin typeface="幼圆"/>
                <a:ea typeface="幼圆"/>
              </a:rPr>
              <a:t>see       ----------------   see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6951"/>
                </a:solidFill>
                <a:latin typeface="幼圆"/>
                <a:ea typeface="幼圆"/>
              </a:rPr>
              <a:t>climb   ----------------   climb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6360" y="2724120"/>
            <a:ext cx="223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6951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826951"/>
                </a:solidFill>
                <a:latin typeface="幼圆"/>
                <a:ea typeface="幼圆"/>
              </a:rPr>
              <a:t>直接加</a:t>
            </a:r>
            <a:r>
              <a:rPr b="1" lang="en-US" sz="2400" spc="-1" strike="noStrike">
                <a:solidFill>
                  <a:srgbClr val="826951"/>
                </a:solidFill>
                <a:latin typeface="幼圆"/>
                <a:ea typeface="幼圆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0" y="4581360"/>
            <a:ext cx="500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6951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826951"/>
                </a:solidFill>
                <a:latin typeface="幼圆"/>
                <a:ea typeface="幼圆"/>
              </a:rPr>
              <a:t>特殊形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894320" y="5084640"/>
            <a:ext cx="63986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6951"/>
                </a:solidFill>
                <a:latin typeface="幼圆"/>
                <a:ea typeface="幼圆"/>
              </a:rPr>
              <a:t>do        ----------------   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  <a:ea typeface="幼圆"/>
              </a:rPr>
              <a:t>do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6951"/>
                </a:solidFill>
                <a:latin typeface="幼圆"/>
                <a:ea typeface="幼圆"/>
              </a:rPr>
              <a:t>fly       ----------------   </a:t>
            </a:r>
            <a:r>
              <a:rPr b="1" lang="en-US" sz="2400" spc="-1" strike="noStrike">
                <a:solidFill>
                  <a:srgbClr val="002060"/>
                </a:solidFill>
                <a:latin typeface="幼圆"/>
                <a:ea typeface="幼圆"/>
              </a:rPr>
              <a:t>fl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519120" y="765000"/>
            <a:ext cx="7920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26951"/>
                </a:solidFill>
                <a:latin typeface="幼圆"/>
                <a:ea typeface="幼圆"/>
              </a:rPr>
              <a:t>当主语为第三人称单数时</a:t>
            </a:r>
            <a:r>
              <a:rPr b="1" lang="en-US" sz="2800" spc="-1" strike="noStrike">
                <a:solidFill>
                  <a:srgbClr val="826951"/>
                </a:solidFill>
                <a:latin typeface="幼圆"/>
                <a:ea typeface="幼圆"/>
              </a:rPr>
              <a:t>(he, she, it, </a:t>
            </a:r>
            <a:r>
              <a:rPr b="1" lang="zh-CN" sz="2800" spc="-1" strike="noStrike">
                <a:solidFill>
                  <a:srgbClr val="826951"/>
                </a:solidFill>
                <a:latin typeface="幼圆"/>
                <a:ea typeface="幼圆"/>
              </a:rPr>
              <a:t>人名或物名时</a:t>
            </a:r>
            <a:r>
              <a:rPr b="1" lang="en-US" sz="2800" spc="-1" strike="noStrike">
                <a:solidFill>
                  <a:srgbClr val="826951"/>
                </a:solidFill>
                <a:latin typeface="幼圆"/>
                <a:ea typeface="幼圆"/>
              </a:rPr>
              <a:t>),</a:t>
            </a:r>
            <a:r>
              <a:rPr b="1" lang="zh-CN" sz="2800" spc="-1" strike="noStrike">
                <a:solidFill>
                  <a:srgbClr val="826951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826951"/>
                </a:solidFill>
                <a:latin typeface="幼圆"/>
                <a:ea typeface="幼圆"/>
              </a:rPr>
              <a:t>动词要变形</a:t>
            </a:r>
            <a:r>
              <a:rPr b="1" lang="en-US" sz="2800" spc="-1" strike="noStrike">
                <a:solidFill>
                  <a:srgbClr val="826951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826951"/>
                </a:solidFill>
                <a:latin typeface="幼圆"/>
                <a:ea typeface="幼圆"/>
              </a:rPr>
              <a:t>变成第三人称单数形式</a:t>
            </a:r>
            <a:r>
              <a:rPr b="1" lang="en-US" sz="2800" spc="-1" strike="noStrike">
                <a:solidFill>
                  <a:srgbClr val="826951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5,-122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5,-122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5,-122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5,-122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19280" y="1484280"/>
            <a:ext cx="6265800" cy="3600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Let’s practi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836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T or 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065320"/>
            <a:ext cx="914400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  <a:ea typeface="幼圆"/>
              </a:rPr>
              <a:t>(     ) 1 It’s Sunday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  <a:ea typeface="幼圆"/>
              </a:rPr>
              <a:t>(     ) 2 Jiamin is reading an interesting bo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  <a:ea typeface="幼圆"/>
              </a:rPr>
              <a:t>(     ) 3 Janet likes rea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  <a:ea typeface="幼圆"/>
              </a:rPr>
              <a:t>(    ) 4 They are going to watch a carto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1844640"/>
            <a:ext cx="3142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2852640"/>
            <a:ext cx="3142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3718080"/>
            <a:ext cx="31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4508640"/>
            <a:ext cx="31428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2" name="KSO_BC1" descr="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220500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9640" y="4653000"/>
            <a:ext cx="7704360" cy="1584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4680000" cy="266364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2360" y="189000"/>
            <a:ext cx="4113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26951"/>
                </a:solidFill>
                <a:latin typeface="微软雅黑"/>
              </a:rPr>
              <a:t>Answer the questions</a:t>
            </a:r>
            <a:endParaRPr b="1" lang="en-US" sz="28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360" y="4724280"/>
            <a:ext cx="791388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What does Jiamin do when he has free time?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marL="3355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.What does Janet do when she has free time?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marL="3355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What are they going to do?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28120" y="387000"/>
            <a:ext cx="8069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6951"/>
                </a:solidFill>
                <a:latin typeface="微软雅黑"/>
              </a:rPr>
              <a:t>Let's try to repeat </a:t>
            </a: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2280" y="1209600"/>
            <a:ext cx="81327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：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It’s ___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____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_ and I feel ______.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98900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B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：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____too . What ___ you ___ when you have ____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3284640"/>
            <a:ext cx="813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：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I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often _________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___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_. Look, I’m reading an____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__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___ bo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443700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92680" indent="-292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B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：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I don’t like that. I 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____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___ watch 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________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2680" indent="-292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幼圆"/>
              </a:rPr>
              <a:t>______ we watch a carto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66100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：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Great! Let’s watch the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________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幼圆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8"/>
          <p:cNvSpPr/>
          <p:nvPr/>
        </p:nvSpPr>
        <p:spPr>
          <a:xfrm>
            <a:off x="1260360" y="1197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Sun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8"/>
          <p:cNvSpPr/>
          <p:nvPr/>
        </p:nvSpPr>
        <p:spPr>
          <a:xfrm>
            <a:off x="4282920" y="119700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b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8"/>
          <p:cNvSpPr/>
          <p:nvPr/>
        </p:nvSpPr>
        <p:spPr>
          <a:xfrm>
            <a:off x="971640" y="198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8"/>
          <p:cNvSpPr/>
          <p:nvPr/>
        </p:nvSpPr>
        <p:spPr>
          <a:xfrm>
            <a:off x="3995640" y="198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8"/>
          <p:cNvSpPr/>
          <p:nvPr/>
        </p:nvSpPr>
        <p:spPr>
          <a:xfrm>
            <a:off x="5435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8"/>
          <p:cNvSpPr/>
          <p:nvPr/>
        </p:nvSpPr>
        <p:spPr>
          <a:xfrm>
            <a:off x="682560" y="2421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28"/>
          <p:cNvSpPr/>
          <p:nvPr/>
        </p:nvSpPr>
        <p:spPr>
          <a:xfrm>
            <a:off x="1979640" y="3284640"/>
            <a:ext cx="31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urlz MT"/>
              </a:rPr>
              <a:t>do some 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8"/>
          <p:cNvSpPr/>
          <p:nvPr/>
        </p:nvSpPr>
        <p:spPr>
          <a:xfrm>
            <a:off x="1044720" y="37180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i</a:t>
            </a:r>
            <a:r>
              <a:rPr b="1" lang="en-US" sz="2400" spc="-1" strike="noStrike">
                <a:solidFill>
                  <a:srgbClr val="cc0066"/>
                </a:solidFill>
                <a:latin typeface="Curlz MT"/>
              </a:rPr>
              <a:t>nter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8"/>
          <p:cNvSpPr/>
          <p:nvPr/>
        </p:nvSpPr>
        <p:spPr>
          <a:xfrm>
            <a:off x="3780000" y="4365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8"/>
          <p:cNvSpPr/>
          <p:nvPr/>
        </p:nvSpPr>
        <p:spPr>
          <a:xfrm>
            <a:off x="6445080" y="4365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carto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28"/>
          <p:cNvSpPr/>
          <p:nvPr/>
        </p:nvSpPr>
        <p:spPr>
          <a:xfrm>
            <a:off x="179280" y="494172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Sh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8"/>
          <p:cNvSpPr/>
          <p:nvPr/>
        </p:nvSpPr>
        <p:spPr>
          <a:xfrm>
            <a:off x="4213080" y="5589720"/>
            <a:ext cx="37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urlz MT"/>
              </a:rPr>
              <a:t>Monkey 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39280" y="549360"/>
            <a:ext cx="8069400" cy="34308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826951"/>
              </a:solidFill>
              <a:latin typeface="微软雅黑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449800" cy="18385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2448000" cy="183672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997360"/>
            <a:ext cx="2305080" cy="1728720"/>
          </a:xfrm>
          <a:prstGeom prst="rect">
            <a:avLst/>
          </a:prstGeom>
          <a:ln w="114480">
            <a:solidFill>
              <a:srgbClr val="ff00ff"/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66280" y="1193400"/>
            <a:ext cx="80089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6951"/>
                </a:solidFill>
                <a:latin typeface="幼圆"/>
              </a:rPr>
              <a:t>What do you do when you have free time?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501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I_____ when I have fre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0" y="1125360"/>
            <a:ext cx="19810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6951"/>
                </a:solidFill>
                <a:latin typeface="微软雅黑"/>
              </a:rPr>
              <a:t>I_____ when I have free time.</a:t>
            </a:r>
            <a:endParaRPr b="1" lang="en-US" sz="4000" spc="-1" strike="noStrike">
              <a:solidFill>
                <a:srgbClr val="826951"/>
              </a:solidFill>
              <a:latin typeface="微软雅黑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1279800" cy="1428480"/>
          </a:xfrm>
          <a:prstGeom prst="rect">
            <a:avLst/>
          </a:prstGeom>
          <a:ln w="88920">
            <a:solidFill>
              <a:srgbClr val="ff00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1230120" cy="1295280"/>
          </a:xfrm>
          <a:prstGeom prst="rect">
            <a:avLst/>
          </a:prstGeom>
          <a:ln w="88920">
            <a:solidFill>
              <a:srgbClr val="ff66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276720" y="3357720"/>
            <a:ext cx="1655640" cy="124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076720" y="3429000"/>
            <a:ext cx="1677960" cy="121608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020000" y="3429000"/>
            <a:ext cx="1687320" cy="12654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3924360" y="4940280"/>
            <a:ext cx="1439640" cy="13381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5508720" y="501336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395280" y="5157720"/>
            <a:ext cx="12240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7236000" y="4941720"/>
            <a:ext cx="1730160" cy="1298880"/>
          </a:xfrm>
          <a:prstGeom prst="rect">
            <a:avLst/>
          </a:prstGeom>
          <a:ln w="114480">
            <a:solidFill>
              <a:srgbClr val="ff00ff"/>
            </a:solidFill>
            <a:miter/>
          </a:ln>
        </p:spPr>
      </p:pic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3640" y="1395000"/>
            <a:ext cx="81345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6951"/>
                </a:solidFill>
                <a:latin typeface="Times New Roman"/>
              </a:rPr>
              <a:t>What do you do when you have free time?</a:t>
            </a:r>
            <a:endParaRPr b="0" lang="en-US" sz="28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260280"/>
            <a:ext cx="2881440" cy="1224000"/>
          </a:xfrm>
          <a:prstGeom prst="wedgeEllipseCallout">
            <a:avLst>
              <a:gd name="adj1" fmla="val -45921"/>
              <a:gd name="adj2" fmla="val 6550"/>
            </a:avLst>
          </a:pr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小组接力比赛，哪组完成的时间快、好为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1547640" y="4869000"/>
            <a:ext cx="20685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2449800" cy="18381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395280" y="119700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Bookman Old Style"/>
              </a:rPr>
              <a:t>What do you do when you have </a:t>
            </a:r>
            <a:r>
              <a:rPr b="1" lang="en-US" sz="4000" spc="-1" strike="noStrike">
                <a:solidFill>
                  <a:srgbClr val="5f5f5f"/>
                </a:solidFill>
                <a:latin typeface="Bookman Old Style"/>
              </a:rPr>
              <a:t>free</a:t>
            </a:r>
            <a:r>
              <a:rPr b="1" lang="en-US" sz="4000" spc="-1" strike="noStrike">
                <a:solidFill>
                  <a:srgbClr val="ff0066"/>
                </a:solidFill>
                <a:latin typeface="Bookman Old Style"/>
              </a:rPr>
              <a:t> ti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300720" y="2637000"/>
            <a:ext cx="2305080" cy="1728720"/>
          </a:xfrm>
          <a:prstGeom prst="rect">
            <a:avLst/>
          </a:prstGeom>
          <a:ln w="114480">
            <a:solidFill>
              <a:srgbClr val="ff00ff"/>
            </a:solidFill>
            <a:miter/>
          </a:ln>
        </p:spPr>
      </p:pic>
      <p:sp>
        <p:nvSpPr>
          <p:cNvPr id="238" name=""/>
          <p:cNvSpPr txBox="1"/>
          <p:nvPr/>
        </p:nvSpPr>
        <p:spPr>
          <a:xfrm>
            <a:off x="755640" y="40464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Let's lear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5157360"/>
            <a:ext cx="8675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微软雅黑"/>
              </a:rPr>
              <a:t>I</a:t>
            </a:r>
            <a:r>
              <a:rPr b="0" lang="zh-CN" sz="3200" spc="-1" strike="noStrike">
                <a:solidFill>
                  <a:srgbClr val="ff0066"/>
                </a:solidFill>
                <a:latin typeface="微软雅黑"/>
              </a:rPr>
              <a:t> usually</a:t>
            </a:r>
            <a:r>
              <a:rPr b="0" lang="en-US" sz="3200" spc="-1" strike="noStrike">
                <a:solidFill>
                  <a:srgbClr val="ff0066"/>
                </a:solidFill>
                <a:latin typeface="微软雅黑"/>
              </a:rPr>
              <a:t>_____ when I have free time.</a:t>
            </a:r>
            <a:r>
              <a:rPr b="0" lang="zh-CN" sz="4000" spc="-1" strike="noStrike">
                <a:solidFill>
                  <a:srgbClr val="ff0066"/>
                </a:solidFill>
                <a:latin typeface="微软雅黑"/>
              </a:rPr>
              <a:t> </a:t>
            </a:r>
            <a:endParaRPr b="1" lang="en-US" sz="40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40" name=""/>
          <p:cNvSpPr/>
          <p:nvPr/>
        </p:nvSpPr>
        <p:spPr>
          <a:xfrm>
            <a:off x="108000" y="4581360"/>
            <a:ext cx="7905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4653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Bookman Old Style"/>
              </a:rPr>
              <a:t>go to the p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6227640" y="46530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Bookman Old Style"/>
              </a:rPr>
              <a:t>do some 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492360" y="4581360"/>
            <a:ext cx="27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Comic Sans MS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348000" y="2852640"/>
            <a:ext cx="251928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818496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b0f0"/>
                </a:solidFill>
                <a:latin typeface="微软雅黑"/>
              </a:rPr>
              <a:t>Read the test</a:t>
            </a:r>
            <a:endParaRPr b="1" lang="en-US" sz="6600" spc="-1" strike="noStrike">
              <a:solidFill>
                <a:srgbClr val="826951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000" y="198864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Unit 7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What do you do when you have free time?</a:t>
            </a:r>
            <a:br>
              <a:rPr sz="40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课件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826951"/>
              </a:solidFill>
              <a:latin typeface="微软雅黑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C:\Users\lenovo\Desktop\四下课本图片\第四单元\Let's Talk\2-1.jpg"/>
          <p:cNvPicPr/>
          <p:nvPr/>
        </p:nvPicPr>
        <p:blipFill>
          <a:blip r:embed="rId1"/>
          <a:stretch/>
        </p:blipFill>
        <p:spPr>
          <a:xfrm>
            <a:off x="1042920" y="1125360"/>
            <a:ext cx="7524720" cy="48960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6"/>
          <p:cNvGrpSpPr/>
          <p:nvPr/>
        </p:nvGrpSpPr>
        <p:grpSpPr>
          <a:xfrm>
            <a:off x="4471920" y="138240"/>
            <a:ext cx="4938480" cy="1061280"/>
            <a:chOff x="4471920" y="138240"/>
            <a:chExt cx="4938480" cy="1061280"/>
          </a:xfrm>
        </p:grpSpPr>
        <p:sp>
          <p:nvSpPr>
            <p:cNvPr id="248" name="AutoShape 4"/>
            <p:cNvSpPr/>
            <p:nvPr/>
          </p:nvSpPr>
          <p:spPr>
            <a:xfrm>
              <a:off x="4471920" y="138240"/>
              <a:ext cx="4467240" cy="985320"/>
            </a:xfrm>
            <a:prstGeom prst="wedgeRoundRectCallout">
              <a:avLst>
                <a:gd name="adj1" fmla="val -19162"/>
                <a:gd name="adj2" fmla="val 121268"/>
                <a:gd name="adj3" fmla="val 16667"/>
              </a:avLst>
            </a:prstGeom>
            <a:solidFill>
              <a:srgbClr val="fac09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 Box 5"/>
            <p:cNvSpPr/>
            <p:nvPr/>
          </p:nvSpPr>
          <p:spPr>
            <a:xfrm>
              <a:off x="4471920" y="167400"/>
              <a:ext cx="49384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Good morning, Grandpa!</a:t>
              </a:r>
              <a:br>
                <a:rPr sz="2800"/>
              </a:b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What are you doing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Group 9"/>
          <p:cNvGrpSpPr/>
          <p:nvPr/>
        </p:nvGrpSpPr>
        <p:grpSpPr>
          <a:xfrm>
            <a:off x="-7920" y="981000"/>
            <a:ext cx="5005080" cy="1050120"/>
            <a:chOff x="-7920" y="981000"/>
            <a:chExt cx="5005080" cy="1050120"/>
          </a:xfrm>
        </p:grpSpPr>
        <p:sp>
          <p:nvSpPr>
            <p:cNvPr id="251" name="AutoShape 7"/>
            <p:cNvSpPr/>
            <p:nvPr/>
          </p:nvSpPr>
          <p:spPr>
            <a:xfrm>
              <a:off x="-5400" y="981000"/>
              <a:ext cx="4784760" cy="930240"/>
            </a:xfrm>
            <a:prstGeom prst="wedgeRoundRectCallout">
              <a:avLst>
                <a:gd name="adj1" fmla="val -2055"/>
                <a:gd name="adj2" fmla="val 119504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 Box 8"/>
            <p:cNvSpPr/>
            <p:nvPr/>
          </p:nvSpPr>
          <p:spPr>
            <a:xfrm>
              <a:off x="-7920" y="999000"/>
              <a:ext cx="5005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I’m doing exercise. What do you do on Saturday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Group 15"/>
          <p:cNvGrpSpPr/>
          <p:nvPr/>
        </p:nvGrpSpPr>
        <p:grpSpPr>
          <a:xfrm>
            <a:off x="4038480" y="5292720"/>
            <a:ext cx="4319280" cy="1061640"/>
            <a:chOff x="4038480" y="5292720"/>
            <a:chExt cx="4319280" cy="1061640"/>
          </a:xfrm>
        </p:grpSpPr>
        <p:sp>
          <p:nvSpPr>
            <p:cNvPr id="254" name="AutoShape 13"/>
            <p:cNvSpPr/>
            <p:nvPr/>
          </p:nvSpPr>
          <p:spPr>
            <a:xfrm>
              <a:off x="4068000" y="5292720"/>
              <a:ext cx="4188240" cy="1061640"/>
            </a:xfrm>
            <a:prstGeom prst="wedgeRoundRectCallout">
              <a:avLst>
                <a:gd name="adj1" fmla="val 12666"/>
                <a:gd name="adj2" fmla="val -116750"/>
                <a:gd name="adj3" fmla="val 16667"/>
              </a:avLst>
            </a:prstGeom>
            <a:solidFill>
              <a:srgbClr val="fac09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 Box 14"/>
            <p:cNvSpPr/>
            <p:nvPr/>
          </p:nvSpPr>
          <p:spPr>
            <a:xfrm>
              <a:off x="4038480" y="5292720"/>
              <a:ext cx="43192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I do some exercise, too. I often play football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pic>
        <p:nvPicPr>
          <p:cNvPr id="257" name="Picture 2" descr="C:\Users\lenovo\Desktop\四下课本图片\第四单元\Let's Talk\2-2.jpg"/>
          <p:cNvPicPr/>
          <p:nvPr/>
        </p:nvPicPr>
        <p:blipFill>
          <a:blip r:embed="rId1"/>
          <a:stretch/>
        </p:blipFill>
        <p:spPr>
          <a:xfrm>
            <a:off x="-33480" y="11160"/>
            <a:ext cx="9177480" cy="68468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9"/>
          <p:cNvGrpSpPr/>
          <p:nvPr/>
        </p:nvGrpSpPr>
        <p:grpSpPr>
          <a:xfrm>
            <a:off x="74520" y="1557360"/>
            <a:ext cx="4132080" cy="1050120"/>
            <a:chOff x="74520" y="1557360"/>
            <a:chExt cx="4132080" cy="1050120"/>
          </a:xfrm>
        </p:grpSpPr>
        <p:sp>
          <p:nvSpPr>
            <p:cNvPr id="259" name="AutoShape 7"/>
            <p:cNvSpPr/>
            <p:nvPr/>
          </p:nvSpPr>
          <p:spPr>
            <a:xfrm>
              <a:off x="76320" y="1557360"/>
              <a:ext cx="3950280" cy="930600"/>
            </a:xfrm>
            <a:prstGeom prst="wedgeRoundRectCallout">
              <a:avLst>
                <a:gd name="adj1" fmla="val -587"/>
                <a:gd name="adj2" fmla="val 111708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74520" y="1575360"/>
              <a:ext cx="4132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What does your father </a:t>
              </a:r>
              <a:br>
                <a:rPr sz="2800"/>
              </a:b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do on the weekend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6"/>
          <p:cNvGrpSpPr/>
          <p:nvPr/>
        </p:nvGrpSpPr>
        <p:grpSpPr>
          <a:xfrm>
            <a:off x="6012000" y="2022480"/>
            <a:ext cx="2927160" cy="1061280"/>
            <a:chOff x="6012000" y="2022480"/>
            <a:chExt cx="2927160" cy="1061280"/>
          </a:xfrm>
        </p:grpSpPr>
        <p:sp>
          <p:nvSpPr>
            <p:cNvPr id="262" name="AutoShape 4"/>
            <p:cNvSpPr/>
            <p:nvPr/>
          </p:nvSpPr>
          <p:spPr>
            <a:xfrm>
              <a:off x="6012000" y="2022480"/>
              <a:ext cx="2927160" cy="985320"/>
            </a:xfrm>
            <a:prstGeom prst="wedgeRoundRectCallout">
              <a:avLst>
                <a:gd name="adj1" fmla="val -46425"/>
                <a:gd name="adj2" fmla="val 97722"/>
                <a:gd name="adj3" fmla="val 16667"/>
              </a:avLst>
            </a:prstGeom>
            <a:solidFill>
              <a:srgbClr val="fac09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5"/>
            <p:cNvSpPr/>
            <p:nvPr/>
          </p:nvSpPr>
          <p:spPr>
            <a:xfrm>
              <a:off x="6012000" y="2051640"/>
              <a:ext cx="2927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He often climb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幼圆"/>
                </a:rPr>
                <a:t>s</a:t>
              </a:r>
              <a:br>
                <a:rPr sz="2800"/>
              </a:b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the mountain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9"/>
          <p:cNvGrpSpPr/>
          <p:nvPr/>
        </p:nvGrpSpPr>
        <p:grpSpPr>
          <a:xfrm>
            <a:off x="287280" y="5742000"/>
            <a:ext cx="4785840" cy="588240"/>
            <a:chOff x="287280" y="5742000"/>
            <a:chExt cx="4785840" cy="588240"/>
          </a:xfrm>
        </p:grpSpPr>
        <p:sp>
          <p:nvSpPr>
            <p:cNvPr id="265" name="AutoShape 7"/>
            <p:cNvSpPr/>
            <p:nvPr/>
          </p:nvSpPr>
          <p:spPr>
            <a:xfrm>
              <a:off x="289080" y="5742000"/>
              <a:ext cx="4575240" cy="579600"/>
            </a:xfrm>
            <a:prstGeom prst="wedgeRoundRectCallout">
              <a:avLst>
                <a:gd name="adj1" fmla="val -5490"/>
                <a:gd name="adj2" fmla="val -133472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287280" y="5767200"/>
              <a:ext cx="47858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What about your mother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6"/>
          <p:cNvGrpSpPr/>
          <p:nvPr/>
        </p:nvGrpSpPr>
        <p:grpSpPr>
          <a:xfrm>
            <a:off x="6216480" y="5248440"/>
            <a:ext cx="2927520" cy="1061280"/>
            <a:chOff x="6216480" y="5248440"/>
            <a:chExt cx="2927520" cy="1061280"/>
          </a:xfrm>
        </p:grpSpPr>
        <p:sp>
          <p:nvSpPr>
            <p:cNvPr id="268" name="AutoShape 4"/>
            <p:cNvSpPr/>
            <p:nvPr/>
          </p:nvSpPr>
          <p:spPr>
            <a:xfrm>
              <a:off x="6216480" y="5248440"/>
              <a:ext cx="2927520" cy="985320"/>
            </a:xfrm>
            <a:prstGeom prst="wedgeRoundRectCallout">
              <a:avLst>
                <a:gd name="adj1" fmla="val -50888"/>
                <a:gd name="adj2" fmla="val -77388"/>
                <a:gd name="adj3" fmla="val 16667"/>
              </a:avLst>
            </a:prstGeom>
            <a:solidFill>
              <a:srgbClr val="fac09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5"/>
            <p:cNvSpPr/>
            <p:nvPr/>
          </p:nvSpPr>
          <p:spPr>
            <a:xfrm>
              <a:off x="6216480" y="5277600"/>
              <a:ext cx="29275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She often do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幼圆"/>
                </a:rPr>
                <a:t>es</a:t>
              </a:r>
              <a:br>
                <a:rPr sz="2800"/>
              </a:br>
              <a:r>
                <a:rPr b="1" lang="en-US" sz="2800" spc="-1" strike="noStrike">
                  <a:solidFill>
                    <a:srgbClr val="826951"/>
                  </a:solidFill>
                  <a:latin typeface="Arial"/>
                  <a:ea typeface="幼圆"/>
                </a:rPr>
                <a:t>some wash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70400" y="1844280"/>
            <a:ext cx="52797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26951"/>
                </a:solidFill>
                <a:latin typeface="微软雅黑"/>
              </a:rPr>
              <a:t>Thank you!</a:t>
            </a:r>
            <a:endParaRPr b="1" lang="en-US" sz="6600" spc="-1" strike="noStrike">
              <a:solidFill>
                <a:srgbClr val="826951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C:\Users\lenovo\Desktop\四下课本图片\第四单元\Let's Learn\1-1.jpg"/>
          <p:cNvPicPr/>
          <p:nvPr/>
        </p:nvPicPr>
        <p:blipFill>
          <a:blip r:embed="rId1"/>
          <a:stretch/>
        </p:blipFill>
        <p:spPr>
          <a:xfrm>
            <a:off x="0" y="0"/>
            <a:ext cx="4859280" cy="4460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5140440" y="1760400"/>
            <a:ext cx="3995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幼圆"/>
              </a:rPr>
              <a:t>fly a kit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0" y="4581360"/>
            <a:ext cx="59040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26951"/>
                </a:solidFill>
                <a:latin typeface="Arial"/>
                <a:ea typeface="幼圆"/>
              </a:rPr>
              <a:t>Fl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幼圆"/>
              </a:rPr>
              <a:t>ies</a:t>
            </a:r>
            <a:r>
              <a:rPr b="1" lang="en-US" sz="6600" spc="-1" strike="noStrike">
                <a:solidFill>
                  <a:srgbClr val="826951"/>
                </a:solidFill>
                <a:latin typeface="Arial"/>
                <a:ea typeface="幼圆"/>
              </a:rPr>
              <a:t> a kite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356000" y="1628640"/>
            <a:ext cx="1368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f5f5f"/>
                </a:solidFill>
                <a:latin typeface="Times New Roman"/>
                <a:ea typeface="幼圆"/>
              </a:rPr>
              <a:t>I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3280" y="4581360"/>
            <a:ext cx="18716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Arial"/>
                <a:ea typeface="幼圆"/>
              </a:rPr>
              <a:t>Sh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C:\Users\lenovo\Desktop\四下课本图片\第四单元\Let's Learn\1-2.jpg"/>
          <p:cNvPicPr/>
          <p:nvPr/>
        </p:nvPicPr>
        <p:blipFill>
          <a:blip r:embed="rId1"/>
          <a:stretch/>
        </p:blipFill>
        <p:spPr>
          <a:xfrm>
            <a:off x="4821120" y="0"/>
            <a:ext cx="4322880" cy="4653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258920" y="1484280"/>
            <a:ext cx="4825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幼圆"/>
              </a:rPr>
              <a:t>play football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403280" y="4869000"/>
            <a:ext cx="66247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26951"/>
                </a:solidFill>
                <a:latin typeface="Arial"/>
                <a:ea typeface="幼圆"/>
              </a:rPr>
              <a:t>play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幼圆"/>
              </a:rPr>
              <a:t>s</a:t>
            </a:r>
            <a:r>
              <a:rPr b="1" lang="en-US" sz="6600" spc="-1" strike="noStrike">
                <a:solidFill>
                  <a:srgbClr val="826951"/>
                </a:solidFill>
                <a:latin typeface="Arial"/>
                <a:ea typeface="幼圆"/>
              </a:rPr>
              <a:t> football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11280" y="1447920"/>
            <a:ext cx="1368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f5f5f"/>
                </a:solidFill>
                <a:latin typeface="Times New Roman"/>
                <a:ea typeface="幼圆"/>
              </a:rPr>
              <a:t>I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79280" y="4869000"/>
            <a:ext cx="136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Arial"/>
                <a:ea typeface="幼圆"/>
              </a:rPr>
              <a:t>H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C:\Users\lenovo\Desktop\四下课本图片\第四单元\Let's Learn\1-3.jpg"/>
          <p:cNvPicPr/>
          <p:nvPr/>
        </p:nvPicPr>
        <p:blipFill>
          <a:blip r:embed="rId1"/>
          <a:stretch/>
        </p:blipFill>
        <p:spPr>
          <a:xfrm>
            <a:off x="0" y="0"/>
            <a:ext cx="3851280" cy="3251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5219640" y="1413000"/>
            <a:ext cx="4608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do exerc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276720" y="1268280"/>
            <a:ext cx="2376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Times New Roman"/>
                <a:ea typeface="幼圆"/>
              </a:rPr>
              <a:t>The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8" descr="200872~1"/>
          <p:cNvPicPr/>
          <p:nvPr/>
        </p:nvPicPr>
        <p:blipFill>
          <a:blip r:embed="rId2"/>
          <a:stretch/>
        </p:blipFill>
        <p:spPr>
          <a:xfrm>
            <a:off x="250920" y="3500280"/>
            <a:ext cx="2214360" cy="3213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492360" y="4869000"/>
            <a:ext cx="532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do</a:t>
            </a:r>
            <a:r>
              <a:rPr b="1" lang="en-US" sz="5400" spc="-1" strike="noStrike">
                <a:solidFill>
                  <a:srgbClr val="826951"/>
                </a:solidFill>
                <a:latin typeface="Arial"/>
                <a:ea typeface="幼圆"/>
              </a:rPr>
              <a:t>es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 exerc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197080" y="4726080"/>
            <a:ext cx="2376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Times New Roman"/>
                <a:ea typeface="幼圆"/>
              </a:rPr>
              <a:t>H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C:\Users\lenovo\Desktop\四下课本图片\第四单元\Let's Learn\1-4.jpg"/>
          <p:cNvPicPr/>
          <p:nvPr/>
        </p:nvPicPr>
        <p:blipFill>
          <a:blip r:embed="rId1"/>
          <a:stretch/>
        </p:blipFill>
        <p:spPr>
          <a:xfrm>
            <a:off x="5148360" y="1224000"/>
            <a:ext cx="3987720" cy="3398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835280" y="2781360"/>
            <a:ext cx="3995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see a fil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0" y="2708280"/>
            <a:ext cx="2376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Times New Roman"/>
                <a:ea typeface="幼圆"/>
              </a:rPr>
              <a:t>The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C:\Users\lenovo\Desktop\四下课本图片\第四单元\Let's Learn\1-5.jpg"/>
          <p:cNvPicPr/>
          <p:nvPr/>
        </p:nvPicPr>
        <p:blipFill>
          <a:blip r:embed="rId1"/>
          <a:stretch/>
        </p:blipFill>
        <p:spPr>
          <a:xfrm>
            <a:off x="2495520" y="0"/>
            <a:ext cx="4537080" cy="3211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476360" y="3214800"/>
            <a:ext cx="68994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do some was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900000" y="3068640"/>
            <a:ext cx="136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Times New Roman"/>
                <a:ea typeface="幼圆"/>
              </a:rPr>
              <a:t>I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79280" y="4941720"/>
            <a:ext cx="2016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Arial"/>
                <a:ea typeface="幼圆"/>
              </a:rPr>
              <a:t>Sh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835280" y="5013360"/>
            <a:ext cx="78501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do</a:t>
            </a:r>
            <a:r>
              <a:rPr b="1" lang="en-US" sz="5400" spc="-1" strike="noStrike">
                <a:solidFill>
                  <a:srgbClr val="826951"/>
                </a:solidFill>
                <a:latin typeface="Arial"/>
                <a:ea typeface="幼圆"/>
              </a:rPr>
              <a:t>es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 some was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C:\Users\lenovo\Desktop\四下课本图片\第四单元\Let's Learn\1-6.jpg"/>
          <p:cNvPicPr/>
          <p:nvPr/>
        </p:nvPicPr>
        <p:blipFill>
          <a:blip r:embed="rId1"/>
          <a:stretch/>
        </p:blipFill>
        <p:spPr>
          <a:xfrm>
            <a:off x="2050920" y="11160"/>
            <a:ext cx="5245200" cy="3500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476360" y="3500280"/>
            <a:ext cx="7416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climb the mountai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942840" y="3429000"/>
            <a:ext cx="136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Times New Roman"/>
                <a:ea typeface="幼圆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39640" y="4941720"/>
            <a:ext cx="2016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f5f5f"/>
                </a:solidFill>
                <a:latin typeface="Arial"/>
                <a:ea typeface="幼圆"/>
              </a:rPr>
              <a:t>H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19280" y="4941720"/>
            <a:ext cx="7885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climb</a:t>
            </a:r>
            <a:r>
              <a:rPr b="1" lang="en-US" sz="5400" spc="-1" strike="noStrike">
                <a:solidFill>
                  <a:srgbClr val="826951"/>
                </a:solidFill>
                <a:latin typeface="Arial"/>
                <a:ea typeface="幼圆"/>
              </a:rPr>
              <a:t>s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 the mountai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Users\lenovo\Desktop\四下课本图片\第四单元\Let's Learn\1-7.jpg"/>
          <p:cNvPicPr/>
          <p:nvPr/>
        </p:nvPicPr>
        <p:blipFill>
          <a:blip r:embed="rId1"/>
          <a:stretch/>
        </p:blipFill>
        <p:spPr>
          <a:xfrm>
            <a:off x="5148360" y="1557360"/>
            <a:ext cx="3619440" cy="3546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619280" y="835200"/>
            <a:ext cx="6553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do </a:t>
            </a:r>
            <a:r>
              <a:rPr b="1" lang="en-US" sz="5400" spc="-1" strike="noStrike">
                <a:solidFill>
                  <a:srgbClr val="826951"/>
                </a:solidFill>
                <a:latin typeface="Arial"/>
                <a:ea typeface="幼圆"/>
              </a:rPr>
              <a:t>my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 homewor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042920" y="765000"/>
            <a:ext cx="136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Times New Roman"/>
                <a:ea typeface="幼圆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39640" y="4941720"/>
            <a:ext cx="1511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f5f5f"/>
                </a:solidFill>
                <a:latin typeface="Arial"/>
                <a:ea typeface="幼圆"/>
              </a:rPr>
              <a:t>H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763640" y="4941720"/>
            <a:ext cx="7380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do</a:t>
            </a:r>
            <a:r>
              <a:rPr b="1" lang="en-US" sz="5400" spc="-1" strike="noStrike">
                <a:solidFill>
                  <a:srgbClr val="00b0f0"/>
                </a:solidFill>
                <a:latin typeface="Arial"/>
                <a:ea typeface="幼圆"/>
              </a:rPr>
              <a:t>es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 </a:t>
            </a:r>
            <a:r>
              <a:rPr b="1" lang="en-US" sz="5400" spc="-1" strike="noStrike">
                <a:solidFill>
                  <a:srgbClr val="826951"/>
                </a:solidFill>
                <a:latin typeface="Arial"/>
                <a:ea typeface="幼圆"/>
              </a:rPr>
              <a:t>his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幼圆"/>
              </a:rPr>
              <a:t> homewor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3:10:29Z</dcterms:created>
  <dc:creator>lenovo</dc:creator>
  <dc:description/>
  <cp:keywords/>
  <dc:language>en-US</dc:language>
  <cp:lastModifiedBy>Nacy</cp:lastModifiedBy>
  <dcterms:modified xsi:type="dcterms:W3CDTF">2015-05-31T14:21:57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