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324E-722A-44EB-A329-05C48392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640080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2040" y="2099160"/>
            <a:ext cx="640080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CB1B-E3A9-47CA-B9C8-30A88062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42000" y="180468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2040" y="209916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42000" y="209916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42A-1A8A-4578-A79F-BB4E49F3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206064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26000" y="1804680"/>
            <a:ext cx="206064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90320" y="1804680"/>
            <a:ext cx="206064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2040" y="2099160"/>
            <a:ext cx="206064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26000" y="2099160"/>
            <a:ext cx="206064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90320" y="2099160"/>
            <a:ext cx="206064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43D-FA66-4ACF-9A71-326AA373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8427-22E2-4D7F-B5E3-AE5F964F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62040" y="1804680"/>
            <a:ext cx="6400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A4B8-6314-45AF-96EA-AB73E934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64008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67F5-5795-4E85-9309-7446A7BA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31233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42000" y="1804680"/>
            <a:ext cx="31233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EC00-0BA1-4CE3-83F5-3F47205C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F2B6-6851-4FFD-9279-A330320A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67800" y="1082520"/>
            <a:ext cx="6396120" cy="30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0FA7-F4C5-4F04-B9B1-1C201611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42000" y="1804680"/>
            <a:ext cx="31233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2040" y="209916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926E-7358-4B14-B36F-7F38F51B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2040" y="1804680"/>
            <a:ext cx="6400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4DED-A10A-49D0-867A-AD55342E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31233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42000" y="180468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2000" y="209916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5B13-EF98-4F6F-9641-C867FB64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2000" y="180468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62040" y="2099160"/>
            <a:ext cx="640080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5640-7860-48E2-836C-26C43D41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640080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2040" y="2099160"/>
            <a:ext cx="640080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6265-9F65-41BC-8324-BB821576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42000" y="180468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2040" y="209916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942000" y="209916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0BCF-4B7C-4732-8AB5-2EEBDF72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206064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26000" y="1804680"/>
            <a:ext cx="206064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90320" y="1804680"/>
            <a:ext cx="206064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62040" y="2099160"/>
            <a:ext cx="206064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826000" y="2099160"/>
            <a:ext cx="206064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990320" y="2099160"/>
            <a:ext cx="206064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B6BE-7A3B-4929-941B-966EF50A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4522D-35C7-452D-A54E-F40535BD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62040" y="1804680"/>
            <a:ext cx="6400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E291F-A67C-4934-B56B-67D85A09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64008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4FD17-57BA-4998-9C4A-F7CA19E9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31233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942000" y="1804680"/>
            <a:ext cx="31233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F7274-C022-44AB-8AF8-9585A52C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08046-255C-41D1-B446-E0D9C50E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64008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68EF-A6D2-4D68-A3AF-9829D945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67800" y="1082520"/>
            <a:ext cx="6396120" cy="30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57A6F-5BCC-4136-957C-944BAA2E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42000" y="1804680"/>
            <a:ext cx="31233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2040" y="209916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51DB2-EAE0-4209-A934-7F2C4DFB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31233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42000" y="180468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2000" y="209916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2FEFE-FA7A-4A21-9437-E2C53E94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2000" y="180468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62040" y="2099160"/>
            <a:ext cx="640080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1F939-7B76-43E8-ADB8-EA7D56EE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640080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2040" y="2099160"/>
            <a:ext cx="640080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23DA5-1FA8-4155-95E1-9B940EBB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942000" y="180468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2040" y="209916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42000" y="209916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FA5D1-E04A-4CE5-9709-F8BBC90A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206064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826000" y="1804680"/>
            <a:ext cx="206064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990320" y="1804680"/>
            <a:ext cx="206064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62040" y="2099160"/>
            <a:ext cx="206064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826000" y="2099160"/>
            <a:ext cx="206064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990320" y="2099160"/>
            <a:ext cx="206064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4A5A3-B655-42B9-8863-9CEF8540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31233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42000" y="1804680"/>
            <a:ext cx="31233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8C0-2630-4D78-8268-D87FE473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3FC9-6702-4F33-A8BF-7B313839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7800" y="1082520"/>
            <a:ext cx="6396120" cy="30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A467-FFC9-436D-AF77-6D8602C1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42000" y="1804680"/>
            <a:ext cx="31233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2040" y="209916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7BED-778F-4D7A-B179-9C7AF579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31233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42000" y="180468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42000" y="209916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9F3C-4D23-44F7-A4C3-8B3210BF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2040" y="180468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42000" y="1804680"/>
            <a:ext cx="312336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2040" y="2099160"/>
            <a:ext cx="6400800" cy="2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97BA-F5DE-40B0-9555-5E2CA2CF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5E33-1C10-4CD1-AEA1-86995619BB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566280" y="1219320"/>
            <a:ext cx="80089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012"/>
              </a:spcBef>
              <a:buClr>
                <a:srgbClr val="0890d0"/>
              </a:buClr>
              <a:buSzPct val="70000"/>
              <a:buFont typeface="Webdings" charset="2"/>
              <a:buChar char="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2d9c9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  <a:p>
            <a:pPr lvl="1" marL="266760" indent="-266760">
              <a:lnSpc>
                <a:spcPct val="90000"/>
              </a:lnSpc>
              <a:spcBef>
                <a:spcPts val="1012"/>
              </a:spcBef>
              <a:buClr>
                <a:srgbClr val="5f5f5f"/>
              </a:buClr>
              <a:buFont typeface="Calibri"/>
              <a:buChar char=" 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2d9c9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  <a:p>
            <a:pPr lvl="2" marL="642960" indent="-128520">
              <a:lnSpc>
                <a:spcPct val="90000"/>
              </a:lnSpc>
              <a:spcBef>
                <a:spcPts val="1012"/>
              </a:spcBef>
              <a:buClr>
                <a:srgbClr val="7f7f7f"/>
              </a:buClr>
              <a:buFont typeface="Calibri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2d9c9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  <a:p>
            <a:pPr lvl="3" marL="900000" indent="-128520">
              <a:lnSpc>
                <a:spcPct val="90000"/>
              </a:lnSpc>
              <a:spcBef>
                <a:spcPts val="1012"/>
              </a:spcBef>
              <a:buClr>
                <a:srgbClr val="7f7f7f"/>
              </a:buClr>
              <a:buFont typeface="Calibri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2d9c9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  <a:p>
            <a:pPr lvl="4" marL="1157400" indent="-128520">
              <a:lnSpc>
                <a:spcPct val="90000"/>
              </a:lnSpc>
              <a:spcBef>
                <a:spcPts val="1012"/>
              </a:spcBef>
              <a:buClr>
                <a:srgbClr val="7f7f7f"/>
              </a:buClr>
              <a:buFont typeface="Calibri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2d9c9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  <a:p>
            <a:pPr lvl="5" marL="1157400" indent="-128520">
              <a:lnSpc>
                <a:spcPct val="90000"/>
              </a:lnSpc>
              <a:spcBef>
                <a:spcPts val="1012"/>
              </a:spcBef>
              <a:buClr>
                <a:srgbClr val="5f5f5f"/>
              </a:buClr>
              <a:buFont typeface="Calibri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2d9c9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  <a:p>
            <a:pPr lvl="6" marL="1157400" indent="-128520">
              <a:lnSpc>
                <a:spcPct val="90000"/>
              </a:lnSpc>
              <a:spcBef>
                <a:spcPts val="1012"/>
              </a:spcBef>
              <a:buClr>
                <a:srgbClr val="5f5f5f"/>
              </a:buClr>
              <a:buFont typeface="Calibri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2d9c9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6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6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B12F-0494-4DBC-A632-F141AE210377}" type="slidenum">
              <a:rPr b="0" lang="zh-CN" sz="6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title"/>
          </p:nvPr>
        </p:nvSpPr>
        <p:spPr>
          <a:xfrm>
            <a:off x="566280" y="23976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200" spc="-1" strike="noStrike">
                <a:solidFill>
                  <a:srgbClr val="066c9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4" descr=""/>
          <p:cNvPicPr/>
          <p:nvPr/>
        </p:nvPicPr>
        <p:blipFill>
          <a:blip r:embed="rId3"/>
          <a:srcRect l="0" t="0" r="2343" b="0"/>
          <a:stretch/>
        </p:blipFill>
        <p:spPr>
          <a:xfrm>
            <a:off x="-6480" y="2744640"/>
            <a:ext cx="9159840" cy="27100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" descr=""/>
          <p:cNvPicPr/>
          <p:nvPr/>
        </p:nvPicPr>
        <p:blipFill>
          <a:blip r:embed="rId4"/>
          <a:stretch/>
        </p:blipFill>
        <p:spPr>
          <a:xfrm>
            <a:off x="5078520" y="2744640"/>
            <a:ext cx="3098520" cy="2865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6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6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E285-D931-4C81-B56C-5B3566A621B6}" type="slidenum">
              <a:rPr b="0" lang="zh-CN" sz="6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667800" y="108252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200" spc="-1" strike="noStrike">
                <a:solidFill>
                  <a:srgbClr val="066c9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2d9c9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d9c9f"/>
              </a:solidFill>
              <a:latin typeface="Times New Roman"/>
            </a:endParaRPr>
          </a:p>
          <a:p>
            <a:pPr lvl="1" indent="0" algn="ctr">
              <a:lnSpc>
                <a:spcPct val="13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  <a:p>
            <a:pPr lvl="2" marL="514440" algn="ctr">
              <a:lnSpc>
                <a:spcPct val="90000"/>
              </a:lnSpc>
              <a:spcBef>
                <a:spcPts val="275"/>
              </a:spcBef>
              <a:buClr>
                <a:srgbClr val="7f7f7f"/>
              </a:buClr>
              <a:buFont typeface="Calibri"/>
              <a:buChar char="•"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Times New Roman"/>
            </a:endParaRPr>
          </a:p>
          <a:p>
            <a:pPr lvl="3" marL="771480" algn="ctr">
              <a:lnSpc>
                <a:spcPct val="90000"/>
              </a:lnSpc>
              <a:spcBef>
                <a:spcPts val="275"/>
              </a:spcBef>
              <a:buClr>
                <a:srgbClr val="7f7f7f"/>
              </a:buClr>
              <a:buFont typeface="Calibri"/>
              <a:buChar char="•"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7f7f7f"/>
              </a:solidFill>
              <a:latin typeface="Times New Roman"/>
            </a:endParaRPr>
          </a:p>
          <a:p>
            <a:pPr lvl="4" marL="1028880" algn="ctr">
              <a:lnSpc>
                <a:spcPct val="90000"/>
              </a:lnSpc>
              <a:spcBef>
                <a:spcPts val="275"/>
              </a:spcBef>
              <a:buClr>
                <a:srgbClr val="7f7f7f"/>
              </a:buClr>
              <a:buFont typeface="Calibri"/>
              <a:buChar char="•"/>
              <a:tabLst>
                <a:tab algn="l" pos="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7f7f7f"/>
              </a:solidFill>
              <a:latin typeface="Times New Roman"/>
            </a:endParaRPr>
          </a:p>
          <a:p>
            <a:pPr lvl="5" marL="1028880">
              <a:spcBef>
                <a:spcPts val="249"/>
              </a:spcBef>
              <a:buClr>
                <a:srgbClr val="5f5f5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7f7f7f"/>
              </a:solidFill>
              <a:latin typeface="Times New Roman"/>
            </a:endParaRPr>
          </a:p>
          <a:p>
            <a:pPr lvl="6" marL="1028880">
              <a:spcBef>
                <a:spcPts val="249"/>
              </a:spcBef>
              <a:buClr>
                <a:srgbClr val="5f5f5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nit%208.ppt" TargetMode="External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5438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Times New Roman"/>
              </a:rPr>
              <a:t>Module 4 Activities</a:t>
            </a:r>
            <a:endParaRPr b="0" lang="en-US" sz="6600" spc="-1" strike="noStrike">
              <a:solidFill>
                <a:srgbClr val="066c9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76320" y="1219320"/>
            <a:ext cx="3708360" cy="2327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39280" y="981000"/>
            <a:ext cx="401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 Narrow"/>
              </a:rPr>
              <a:t>l</a:t>
            </a:r>
            <a:r>
              <a:rPr b="1" lang="en-US" sz="3600" spc="-1" strike="noStrike">
                <a:solidFill>
                  <a:srgbClr val="3333ff"/>
                </a:solidFill>
                <a:latin typeface="Arial Narrow"/>
              </a:rPr>
              <a:t>isten to music </a:t>
            </a:r>
            <a:r>
              <a:rPr b="1" lang="zh-CN" sz="3600" spc="-1" strike="noStrike">
                <a:solidFill>
                  <a:srgbClr val="3333ff"/>
                </a:solidFill>
                <a:latin typeface="Arial Narrow"/>
              </a:rPr>
              <a:t>听音乐</a:t>
            </a:r>
            <a:r>
              <a:rPr b="1" lang="zh-CN" sz="5400" spc="-1" strike="noStrike">
                <a:solidFill>
                  <a:srgbClr val="3333ff"/>
                </a:solidFill>
                <a:latin typeface="Arial Narrow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1844640"/>
            <a:ext cx="0" cy="647640"/>
          </a:xfrm>
          <a:prstGeom prst="line">
            <a:avLst/>
          </a:prstGeom>
          <a:ln w="73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26880" y="2852640"/>
            <a:ext cx="17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 Narrow"/>
              </a:rPr>
              <a:t>listen</a:t>
            </a:r>
            <a:r>
              <a:rPr b="1" lang="en-US" sz="3600" spc="-1" strike="noStrike">
                <a:solidFill>
                  <a:srgbClr val="ff3300"/>
                </a:solidFill>
                <a:latin typeface="Arial Narrow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22240" y="631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1143000"/>
            <a:ext cx="56577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 Black"/>
              </a:rPr>
              <a:t>watch       watch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 Black"/>
              </a:rPr>
              <a:t>fish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           </a:t>
            </a:r>
            <a:r>
              <a:rPr b="0" lang="en-US" sz="4000" spc="-1" strike="noStrike">
                <a:solidFill>
                  <a:srgbClr val="5f5f5f"/>
                </a:solidFill>
                <a:latin typeface="Arial Black"/>
              </a:rPr>
              <a:t>fish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 Black"/>
              </a:rPr>
              <a:t>fly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             </a:t>
            </a:r>
            <a:r>
              <a:rPr b="0" lang="en-US" sz="4000" spc="-1" strike="noStrike">
                <a:solidFill>
                  <a:srgbClr val="5f5f5f"/>
                </a:solidFill>
                <a:latin typeface="Arial Black"/>
              </a:rPr>
              <a:t>fly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 Black"/>
              </a:rPr>
              <a:t>listen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       </a:t>
            </a:r>
            <a:r>
              <a:rPr b="0" lang="en-US" sz="4000" spc="-1" strike="noStrike">
                <a:solidFill>
                  <a:srgbClr val="5f5f5f"/>
                </a:solidFill>
                <a:latin typeface="Arial Black"/>
              </a:rPr>
              <a:t>listen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2286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借我一双慧眼</a:t>
            </a:r>
            <a:endParaRPr b="1" lang="en-US" sz="1800" spc="-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5" name=""/>
          <p:cNvSpPr/>
          <p:nvPr/>
        </p:nvSpPr>
        <p:spPr>
          <a:xfrm>
            <a:off x="4370760" y="4191120"/>
            <a:ext cx="12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般情况下，在动词后直接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144756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304800" y="1125360"/>
            <a:ext cx="491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 Black"/>
              </a:rPr>
              <a:t>      </a:t>
            </a:r>
            <a:r>
              <a:rPr b="1" lang="en-US" sz="3600" spc="-1" strike="noStrike">
                <a:solidFill>
                  <a:srgbClr val="3333ff"/>
                </a:solidFill>
                <a:latin typeface="Arial Black"/>
              </a:rPr>
              <a:t>sing    and   </a:t>
            </a:r>
            <a:r>
              <a:rPr b="1" lang="en-US" sz="3600" spc="-1" strike="noStrike" u="sng">
                <a:solidFill>
                  <a:srgbClr val="3333ff"/>
                </a:solidFill>
                <a:uFillTx/>
                <a:latin typeface="Arial Black"/>
              </a:rPr>
              <a:t>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1773360"/>
            <a:ext cx="0" cy="647640"/>
          </a:xfrm>
          <a:prstGeom prst="line">
            <a:avLst/>
          </a:prstGeom>
          <a:ln w="73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56960" y="2637000"/>
            <a:ext cx="48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 Black"/>
              </a:rPr>
              <a:t>sing</a:t>
            </a: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ing</a:t>
            </a:r>
            <a:r>
              <a:rPr b="1" lang="en-US" sz="3600" spc="-1" strike="noStrike">
                <a:solidFill>
                  <a:srgbClr val="3333ff"/>
                </a:solidFill>
                <a:latin typeface="Arial Black"/>
              </a:rPr>
              <a:t> and </a:t>
            </a:r>
            <a:r>
              <a:rPr b="1" lang="en-US" sz="3600" spc="-1" strike="noStrike" u="sng">
                <a:solidFill>
                  <a:srgbClr val="3333ff"/>
                </a:solidFill>
                <a:uFillTx/>
                <a:latin typeface="Arial Black"/>
              </a:rPr>
              <a:t>danc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 Black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3456000" cy="2890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667640" y="1916280"/>
            <a:ext cx="0" cy="647640"/>
          </a:xfrm>
          <a:prstGeom prst="line">
            <a:avLst/>
          </a:prstGeom>
          <a:ln w="73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20960" y="490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Arial Black"/>
                <a:ea typeface="黑体"/>
              </a:rPr>
              <a:t>跳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22240" y="631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914400"/>
            <a:ext cx="5734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 Black"/>
              </a:rPr>
              <a:t>dance      danc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2286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借我一双慧眼</a:t>
            </a:r>
            <a:endParaRPr b="1" lang="en-US" sz="1800" spc="-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6" name=""/>
          <p:cNvSpPr/>
          <p:nvPr/>
        </p:nvSpPr>
        <p:spPr>
          <a:xfrm>
            <a:off x="2641320" y="4191120"/>
            <a:ext cx="44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不发音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结尾，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再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1447560" cy="13716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49920" y="2286000"/>
            <a:ext cx="413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 Black"/>
              </a:rPr>
              <a:t>have         hav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 Black"/>
              </a:rPr>
              <a:t>write        writ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564000" y="1268280"/>
            <a:ext cx="51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  <a:ea typeface="Gungsuh"/>
              </a:rPr>
              <a:t>swim in the p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 Black"/>
                <a:ea typeface="Gungsuh"/>
              </a:rPr>
              <a:t>                     </a:t>
            </a:r>
            <a:r>
              <a:rPr b="1" lang="zh-CN" sz="3600" spc="-1" strike="noStrike">
                <a:solidFill>
                  <a:srgbClr val="3333ff"/>
                </a:solidFill>
                <a:latin typeface="Arial Black"/>
                <a:ea typeface="Gungsuh"/>
              </a:rPr>
              <a:t>游泳池</a:t>
            </a:r>
            <a:r>
              <a:rPr b="0" lang="zh-CN" sz="3600" spc="-1" strike="noStrike">
                <a:solidFill>
                  <a:srgbClr val="3333ff"/>
                </a:solidFill>
                <a:latin typeface="Arial Black"/>
                <a:ea typeface="Gungsuh"/>
              </a:rPr>
              <a:t>  </a:t>
            </a:r>
            <a:r>
              <a:rPr b="0" lang="zh-CN" sz="1800" spc="-1" strike="noStrike">
                <a:solidFill>
                  <a:srgbClr val="3333ff"/>
                </a:solidFill>
                <a:latin typeface="Arial Black"/>
                <a:ea typeface="Gungsu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43640" y="249228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242100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51480" y="2209680"/>
            <a:ext cx="22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16720" y="2421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2349360"/>
            <a:ext cx="287640" cy="648000"/>
          </a:xfrm>
          <a:prstGeom prst="downArrow">
            <a:avLst>
              <a:gd name="adj1" fmla="val 50000"/>
              <a:gd name="adj2" fmla="val 563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56360" y="2133720"/>
            <a:ext cx="0" cy="863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2060640"/>
            <a:ext cx="0" cy="647640"/>
          </a:xfrm>
          <a:prstGeom prst="line">
            <a:avLst/>
          </a:prstGeom>
          <a:ln w="66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97800" y="2852640"/>
            <a:ext cx="24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  <a:ea typeface="Gungsuh"/>
              </a:rPr>
              <a:t>swi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Arial Black"/>
                <a:ea typeface="Gungsuh"/>
              </a:rPr>
              <a:t>mm</a:t>
            </a:r>
            <a:r>
              <a:rPr b="0" lang="en-US" sz="3600" spc="-1" strike="noStrike">
                <a:solidFill>
                  <a:srgbClr val="ff3300"/>
                </a:solidFill>
                <a:latin typeface="Arial Black"/>
                <a:ea typeface="Gungsuh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384720" cy="273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708360" y="1413000"/>
            <a:ext cx="25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  <a:ea typeface="Gungsuh"/>
              </a:rPr>
              <a:t>ru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 Black"/>
                <a:ea typeface="Gungsuh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43640" y="249228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6720" y="242100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51480" y="2209680"/>
            <a:ext cx="22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16720" y="2421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24360" y="2349360"/>
            <a:ext cx="287640" cy="648000"/>
          </a:xfrm>
          <a:prstGeom prst="downArrow">
            <a:avLst>
              <a:gd name="adj1" fmla="val 50000"/>
              <a:gd name="adj2" fmla="val 563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56360" y="2133720"/>
            <a:ext cx="0" cy="863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2360" y="2060640"/>
            <a:ext cx="0" cy="647640"/>
          </a:xfrm>
          <a:prstGeom prst="line">
            <a:avLst/>
          </a:prstGeom>
          <a:ln w="73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57000" y="2852640"/>
            <a:ext cx="18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  <a:ea typeface="Gungsuh"/>
              </a:rPr>
              <a:t>ru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Arial Black"/>
                <a:ea typeface="Gungsuh"/>
              </a:rPr>
              <a:t>nn</a:t>
            </a:r>
            <a:r>
              <a:rPr b="0" lang="en-US" sz="3600" spc="-1" strike="noStrike">
                <a:solidFill>
                  <a:srgbClr val="ff3300"/>
                </a:solidFill>
                <a:latin typeface="Arial Black"/>
                <a:ea typeface="Gungsuh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0" t="0" r="0" b="4640"/>
          <a:stretch/>
        </p:blipFill>
        <p:spPr>
          <a:xfrm>
            <a:off x="179280" y="1270080"/>
            <a:ext cx="3132360" cy="2814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22240" y="631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914400"/>
            <a:ext cx="5734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 Black"/>
              </a:rPr>
              <a:t>run          ru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 Black"/>
              </a:rPr>
              <a:t>swim      swi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2286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借我一双慧眼</a:t>
            </a:r>
            <a:endParaRPr b="1" lang="en-US" sz="1800" spc="-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2" name=""/>
          <p:cNvSpPr/>
          <p:nvPr/>
        </p:nvSpPr>
        <p:spPr>
          <a:xfrm>
            <a:off x="3000600" y="4191120"/>
            <a:ext cx="40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些单词要双写词尾字母再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1447560" cy="1371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061360" y="2286000"/>
            <a:ext cx="380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 Black"/>
              </a:rPr>
              <a:t>sit          si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t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 Black"/>
              </a:rPr>
              <a:t>put        pu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t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83059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Read and answer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the questions</a:t>
            </a:r>
            <a:endParaRPr b="0" lang="en-US" sz="40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306864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50760" y="19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557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Gungsuh"/>
              </a:rPr>
              <a:t>1.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Gungsuh"/>
              </a:rPr>
              <a:t>What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Gungsuh"/>
              </a:rPr>
              <a:t>are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Gungsuh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Gungsuh"/>
              </a:rPr>
              <a:t>you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Gungsuh"/>
              </a:rPr>
              <a:t> doing?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Gungsuh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Gungsuh"/>
              </a:rPr>
              <a:t>I am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Gungsuh"/>
              </a:rPr>
              <a:t>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Gungsuh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Gungsuh"/>
              </a:rPr>
              <a:t>你在做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760" y="3048120"/>
            <a:ext cx="863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Gungsuh"/>
              </a:rPr>
              <a:t>2.What is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Gungsuh"/>
              </a:rPr>
              <a:t>she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Gungsuh"/>
              </a:rPr>
              <a:t> doing?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Gungsuh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Gungsuh"/>
              </a:rPr>
              <a:t>She is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Gungsuh"/>
              </a:rPr>
              <a:t>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495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Gungsuh"/>
              </a:rPr>
              <a:t>3.What is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Gungsuh"/>
              </a:rPr>
              <a:t>he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Gungsuh"/>
              </a:rPr>
              <a:t>  doing?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Gungsuh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Gungsuh"/>
              </a:rPr>
              <a:t>He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Gungsuh"/>
              </a:rPr>
              <a:t> i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Gungsuh"/>
              </a:rPr>
              <a:t>s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3733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Gungsuh"/>
              </a:rPr>
              <a:t>她在做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11520" y="5257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Gungsuh"/>
              </a:rPr>
              <a:t>他在做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rcRect l="0" t="0" r="-698" b="3748"/>
          <a:stretch/>
        </p:blipFill>
        <p:spPr>
          <a:xfrm>
            <a:off x="990720" y="457200"/>
            <a:ext cx="4930560" cy="31291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623240" y="3645000"/>
            <a:ext cx="56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 Narrow"/>
              </a:rPr>
              <a:t>I am</a:t>
            </a:r>
            <a:r>
              <a:rPr b="1" lang="en-US" sz="5400" spc="-1" strike="noStrike">
                <a:solidFill>
                  <a:srgbClr val="3333ff"/>
                </a:solidFill>
                <a:latin typeface="Arial Narrow"/>
              </a:rPr>
              <a:t> read</a:t>
            </a:r>
            <a:r>
              <a:rPr b="1" lang="en-US" sz="5400" spc="-1" strike="noStrike">
                <a:solidFill>
                  <a:srgbClr val="ff3300"/>
                </a:solidFill>
                <a:latin typeface="Arial Narrow"/>
              </a:rPr>
              <a:t>ing</a:t>
            </a:r>
            <a:r>
              <a:rPr b="1" lang="en-US" sz="5400" spc="-1" strike="noStrike">
                <a:solidFill>
                  <a:srgbClr val="3333ff"/>
                </a:solidFill>
                <a:latin typeface="Arial Narrow"/>
              </a:rPr>
              <a:t> a boo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 Narrow"/>
              </a:rPr>
              <a:t>我正在看书</a:t>
            </a:r>
            <a:r>
              <a:rPr b="1" lang="zh-CN" sz="5400" spc="-1" strike="noStrike">
                <a:solidFill>
                  <a:srgbClr val="3333ff"/>
                </a:solidFill>
                <a:latin typeface="Arial Narrow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97680" y="763560"/>
            <a:ext cx="281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 Narrow"/>
              </a:rPr>
              <a:t>read a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 Narrow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Arial Narrow"/>
              </a:rPr>
              <a:t>看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are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you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doing?</a:t>
            </a: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43640" y="249228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16720" y="242100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51480" y="2209680"/>
            <a:ext cx="22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16720" y="2421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24360" y="2349360"/>
            <a:ext cx="287640" cy="648000"/>
          </a:xfrm>
          <a:prstGeom prst="downArrow">
            <a:avLst>
              <a:gd name="adj1" fmla="val 50000"/>
              <a:gd name="adj2" fmla="val 563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56360" y="2133720"/>
            <a:ext cx="0" cy="863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843280" y="981000"/>
            <a:ext cx="3456000" cy="272736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sp>
        <p:nvSpPr>
          <p:cNvPr id="264" name=""/>
          <p:cNvSpPr/>
          <p:nvPr/>
        </p:nvSpPr>
        <p:spPr>
          <a:xfrm>
            <a:off x="2670840" y="3657600"/>
            <a:ext cx="58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 Narrow"/>
              </a:rPr>
              <a:t>do</a:t>
            </a:r>
            <a:r>
              <a:rPr b="1" lang="zh-CN" sz="5400" spc="-1" strike="noStrike">
                <a:solidFill>
                  <a:srgbClr val="ff3300"/>
                </a:solidFill>
                <a:latin typeface="Arial Narrow"/>
              </a:rPr>
              <a:t>ing</a:t>
            </a:r>
            <a:r>
              <a:rPr b="1" lang="zh-CN" sz="5400" spc="-1" strike="noStrike">
                <a:solidFill>
                  <a:srgbClr val="3333ff"/>
                </a:solidFill>
                <a:latin typeface="Arial Narrow"/>
              </a:rPr>
              <a:t> my homework</a:t>
            </a:r>
            <a:r>
              <a:rPr b="1" lang="en-US" sz="5400" spc="-1" strike="noStrike">
                <a:solidFill>
                  <a:srgbClr val="3333ff"/>
                </a:solidFill>
                <a:latin typeface="Arial Narrow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 Narrow"/>
              </a:rPr>
              <a:t>      </a:t>
            </a:r>
            <a:r>
              <a:rPr b="1" lang="zh-CN" sz="4400" spc="-1" strike="noStrike">
                <a:solidFill>
                  <a:srgbClr val="3333ff"/>
                </a:solidFill>
                <a:latin typeface="Arial Narrow"/>
              </a:rPr>
              <a:t>我正在写作业</a:t>
            </a:r>
            <a:r>
              <a:rPr b="1" lang="zh-CN" sz="5400" spc="-1" strike="noStrike">
                <a:solidFill>
                  <a:srgbClr val="3333ff"/>
                </a:solidFill>
                <a:latin typeface="Arial Narrow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21480" y="3657600"/>
            <a:ext cx="130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 Narrow"/>
              </a:rPr>
              <a:t>I 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152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</a:rPr>
              <a:t>Unit 8 </a:t>
            </a:r>
            <a:br>
              <a:rPr sz="5400"/>
            </a:br>
            <a:r>
              <a:rPr b="1" lang="zh-CN" sz="5400" spc="-1" strike="noStrike">
                <a:solidFill>
                  <a:srgbClr val="ff9900"/>
                </a:solidFill>
                <a:latin typeface="Times New Roman"/>
              </a:rPr>
              <a:t>What are you doing?</a:t>
            </a:r>
            <a:br>
              <a:rPr sz="5400"/>
            </a:b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课件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2</a:t>
            </a:r>
            <a:br>
              <a:rPr sz="3600"/>
            </a:br>
            <a:endParaRPr b="0" lang="en-US" sz="3600" spc="-1" strike="noStrike">
              <a:solidFill>
                <a:srgbClr val="066c9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4103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What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are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you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 doing?</a:t>
            </a:r>
            <a:endParaRPr b="0" lang="en-US" sz="40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43640" y="249228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16720" y="242100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351480" y="2209680"/>
            <a:ext cx="22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516720" y="2421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24360" y="2349360"/>
            <a:ext cx="287640" cy="648000"/>
          </a:xfrm>
          <a:prstGeom prst="downArrow">
            <a:avLst>
              <a:gd name="adj1" fmla="val 50000"/>
              <a:gd name="adj2" fmla="val 563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2133720"/>
            <a:ext cx="0" cy="863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0" t="0" r="30162" b="-1285"/>
          <a:stretch/>
        </p:blipFill>
        <p:spPr>
          <a:xfrm>
            <a:off x="2133720" y="838080"/>
            <a:ext cx="2916000" cy="2917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013480" y="3809880"/>
            <a:ext cx="683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 Black"/>
                <a:ea typeface="Gungsuh"/>
              </a:rPr>
              <a:t>watch</a:t>
            </a:r>
            <a:r>
              <a:rPr b="1" lang="en-US" sz="2800" spc="-1" strike="noStrike">
                <a:solidFill>
                  <a:srgbClr val="ff3300"/>
                </a:solidFill>
                <a:latin typeface="Arial Black"/>
                <a:ea typeface="Gungsuh"/>
              </a:rPr>
              <a:t>ing </a:t>
            </a:r>
            <a:r>
              <a:rPr b="1" lang="en-US" sz="2800" spc="-1" strike="noStrike">
                <a:solidFill>
                  <a:srgbClr val="3333ff"/>
                </a:solidFill>
                <a:latin typeface="Arial Black"/>
                <a:ea typeface="Gungsuh"/>
              </a:rPr>
              <a:t>cartoons in the living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 Black"/>
                <a:ea typeface="Gungsuh"/>
              </a:rPr>
              <a:t>我在客厅看卡通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1960" y="380988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 Black"/>
                <a:ea typeface="Gungsuh"/>
              </a:rPr>
              <a:t>I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435400" y="3809880"/>
            <a:ext cx="434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 Narrow"/>
              </a:rPr>
              <a:t>sing</a:t>
            </a:r>
            <a:r>
              <a:rPr b="1" lang="zh-CN" sz="4000" spc="-1" strike="noStrike">
                <a:solidFill>
                  <a:srgbClr val="ff3300"/>
                </a:solidFill>
                <a:latin typeface="Arial Narrow"/>
              </a:rPr>
              <a:t>ing</a:t>
            </a:r>
            <a:r>
              <a:rPr b="1" lang="zh-CN" sz="4000" spc="-1" strike="noStrike">
                <a:solidFill>
                  <a:srgbClr val="3333ff"/>
                </a:solidFill>
                <a:latin typeface="Arial Narrow"/>
              </a:rPr>
              <a:t> and danc</a:t>
            </a:r>
            <a:r>
              <a:rPr b="1" lang="zh-CN" sz="4000" spc="-1" strike="noStrike">
                <a:solidFill>
                  <a:srgbClr val="ff3300"/>
                </a:solidFill>
                <a:latin typeface="Arial Narrow"/>
              </a:rPr>
              <a:t>ing</a:t>
            </a:r>
            <a:r>
              <a:rPr b="1" lang="en-US" sz="4000" spc="-1" strike="noStrike">
                <a:solidFill>
                  <a:srgbClr val="3333ff"/>
                </a:solidFill>
                <a:latin typeface="Arial Narrow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 Narrow"/>
              </a:rPr>
              <a:t>她在唱歌和跳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63560" y="0"/>
            <a:ext cx="60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Gungsuh"/>
              </a:rPr>
              <a:t>2.What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  <a:ea typeface="Gungsuh"/>
              </a:rPr>
              <a:t>is 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  <a:ea typeface="Gungsuh"/>
              </a:rPr>
              <a:t>she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Gungsuh"/>
              </a:rPr>
              <a:t> doing?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  <a:ea typeface="Gungsuh"/>
              </a:rPr>
              <a:t>  </a:t>
            </a:r>
            <a:r>
              <a:rPr b="1" lang="zh-CN" sz="1800" spc="-1" strike="noStrike">
                <a:solidFill>
                  <a:srgbClr val="0000cc"/>
                </a:solidFill>
                <a:latin typeface="Arial Black"/>
                <a:ea typeface="Gungsuh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843280" y="765000"/>
            <a:ext cx="3456000" cy="28911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439920" y="3809880"/>
            <a:ext cx="140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 Narrow"/>
              </a:rPr>
              <a:t>She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414240" y="3809880"/>
            <a:ext cx="3432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 Narrow"/>
              </a:rPr>
              <a:t>fly</a:t>
            </a:r>
            <a:r>
              <a:rPr b="1" lang="zh-CN" sz="5400" spc="-1" strike="noStrike">
                <a:solidFill>
                  <a:srgbClr val="ff3300"/>
                </a:solidFill>
                <a:latin typeface="Arial Narrow"/>
              </a:rPr>
              <a:t>ing</a:t>
            </a:r>
            <a:r>
              <a:rPr b="1" lang="zh-CN" sz="5400" spc="-1" strike="noStrike">
                <a:solidFill>
                  <a:srgbClr val="3333ff"/>
                </a:solidFill>
                <a:latin typeface="Arial Narrow"/>
              </a:rPr>
              <a:t> a kite</a:t>
            </a:r>
            <a:r>
              <a:rPr b="1" lang="en-US" sz="5400" spc="-1" strike="noStrike">
                <a:solidFill>
                  <a:srgbClr val="3333ff"/>
                </a:solidFill>
                <a:latin typeface="Arial Narrow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 Narrow"/>
              </a:rPr>
              <a:t>她在放风筝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63560" y="0"/>
            <a:ext cx="60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Gungsuh"/>
              </a:rPr>
              <a:t>2.What is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Gungsuh"/>
              </a:rPr>
              <a:t>she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Gungsuh"/>
              </a:rPr>
              <a:t> doing?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  <a:ea typeface="Gungsuh"/>
              </a:rPr>
              <a:t>  </a:t>
            </a:r>
            <a:r>
              <a:rPr b="1" lang="zh-CN" sz="1800" spc="-1" strike="noStrike">
                <a:solidFill>
                  <a:srgbClr val="0000cc"/>
                </a:solidFill>
                <a:latin typeface="Arial Black"/>
                <a:ea typeface="Gungsuh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63920" y="3809880"/>
            <a:ext cx="18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 Narrow"/>
              </a:rPr>
              <a:t>She 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203280" y="3809880"/>
            <a:ext cx="511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 Narrow"/>
              </a:rPr>
              <a:t>listen</a:t>
            </a:r>
            <a:r>
              <a:rPr b="1" lang="zh-CN" sz="5400" spc="-1" strike="noStrike">
                <a:solidFill>
                  <a:srgbClr val="ff3300"/>
                </a:solidFill>
                <a:latin typeface="Arial Narrow"/>
              </a:rPr>
              <a:t>ing</a:t>
            </a:r>
            <a:r>
              <a:rPr b="1" lang="zh-CN" sz="5400" spc="-1" strike="noStrike">
                <a:solidFill>
                  <a:srgbClr val="3333ff"/>
                </a:solidFill>
                <a:latin typeface="Arial Narrow"/>
              </a:rPr>
              <a:t> to music</a:t>
            </a:r>
            <a:r>
              <a:rPr b="1" lang="en-US" sz="5400" spc="-1" strike="noStrike">
                <a:solidFill>
                  <a:srgbClr val="3333ff"/>
                </a:solidFill>
                <a:latin typeface="Arial Narrow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 Narrow"/>
              </a:rPr>
              <a:t>她在听音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63560" y="0"/>
            <a:ext cx="60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Gungsuh"/>
              </a:rPr>
              <a:t>2.What is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Gungsuh"/>
              </a:rPr>
              <a:t>she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Gungsuh"/>
              </a:rPr>
              <a:t> doing?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  <a:ea typeface="Gungsuh"/>
              </a:rPr>
              <a:t>  </a:t>
            </a:r>
            <a:r>
              <a:rPr b="1" lang="zh-CN" sz="1800" spc="-1" strike="noStrike">
                <a:solidFill>
                  <a:srgbClr val="0000cc"/>
                </a:solidFill>
                <a:latin typeface="Arial Black"/>
                <a:ea typeface="Gungsuh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rcRect l="0" t="0" r="0" b="5093"/>
          <a:stretch/>
        </p:blipFill>
        <p:spPr>
          <a:xfrm>
            <a:off x="2514600" y="1295280"/>
            <a:ext cx="4419720" cy="25876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83040" y="3809880"/>
            <a:ext cx="18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 Narrow"/>
              </a:rPr>
              <a:t>She 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670480" y="3886200"/>
            <a:ext cx="517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 Narrow"/>
              </a:rPr>
              <a:t>fish</a:t>
            </a:r>
            <a:r>
              <a:rPr b="1" lang="zh-CN" sz="5400" spc="-1" strike="noStrike">
                <a:solidFill>
                  <a:srgbClr val="ff3300"/>
                </a:solidFill>
                <a:latin typeface="Arial Narrow"/>
              </a:rPr>
              <a:t>ing</a:t>
            </a:r>
            <a:r>
              <a:rPr b="1" lang="zh-CN" sz="5400" spc="-1" strike="noStrike">
                <a:solidFill>
                  <a:srgbClr val="3333ff"/>
                </a:solidFill>
                <a:latin typeface="Arial Narrow"/>
              </a:rPr>
              <a:t> in the park</a:t>
            </a:r>
            <a:r>
              <a:rPr b="1" lang="en-US" sz="5400" spc="-1" strike="noStrike">
                <a:solidFill>
                  <a:srgbClr val="3333ff"/>
                </a:solidFill>
                <a:latin typeface="Arial Narrow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 Narrow"/>
              </a:rPr>
              <a:t>他在公园钓鱼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30600" y="20520"/>
            <a:ext cx="573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 Black"/>
                <a:ea typeface="Gungsuh"/>
              </a:rPr>
              <a:t>3.What </a:t>
            </a:r>
            <a:r>
              <a:rPr b="1" lang="en-US" sz="4400" spc="-1" strike="noStrike">
                <a:solidFill>
                  <a:srgbClr val="ff0000"/>
                </a:solidFill>
                <a:latin typeface="Arial Black"/>
                <a:ea typeface="Gungsuh"/>
              </a:rPr>
              <a:t>is </a:t>
            </a: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Gungsuh"/>
              </a:rPr>
              <a:t>he</a:t>
            </a:r>
            <a:r>
              <a:rPr b="1" lang="en-US" sz="4400" spc="-1" strike="noStrike">
                <a:solidFill>
                  <a:srgbClr val="0000cc"/>
                </a:solidFill>
                <a:latin typeface="Arial Black"/>
                <a:ea typeface="Gungsuh"/>
              </a:rPr>
              <a:t> 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514600" y="762120"/>
            <a:ext cx="3814920" cy="3024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31120" y="3886200"/>
            <a:ext cx="152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 Narrow"/>
              </a:rPr>
              <a:t>He 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1447560"/>
            <a:ext cx="687708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8000" spc="-1" strike="noStrike">
                <a:solidFill>
                  <a:srgbClr val="9900cc"/>
                </a:solidFill>
                <a:latin typeface="Comic Sans MS"/>
              </a:rPr>
              <a:t>See you!</a:t>
            </a:r>
            <a:endParaRPr b="0" lang="en-US" sz="8000" spc="-1" strike="noStrike">
              <a:solidFill>
                <a:srgbClr val="066c9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443640" y="249228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42100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2057400"/>
            <a:ext cx="22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56600" y="2133720"/>
            <a:ext cx="1437840" cy="1040760"/>
          </a:xfrm>
          <a:prstGeom prst="rightArrow">
            <a:avLst>
              <a:gd name="adj1" fmla="val 50000"/>
              <a:gd name="adj2" fmla="val 3453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 Black"/>
                <a:ea typeface="Gungsuh"/>
              </a:rPr>
              <a:t>动词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Gungsuh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24360" y="2349360"/>
            <a:ext cx="287640" cy="648000"/>
          </a:xfrm>
          <a:prstGeom prst="downArrow">
            <a:avLst>
              <a:gd name="adj1" fmla="val 50000"/>
              <a:gd name="adj2" fmla="val 563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56360" y="2133720"/>
            <a:ext cx="0" cy="863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2560" y="3938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本课重点句子</a:t>
            </a:r>
            <a:endParaRPr b="0" lang="en-US" sz="3200" spc="-1" strike="noStrike">
              <a:solidFill>
                <a:srgbClr val="066c9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75360" y="1125360"/>
            <a:ext cx="53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  <a:ea typeface="Gungsuh"/>
              </a:rPr>
              <a:t>What are you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 Black"/>
                <a:ea typeface="Gungsuh"/>
              </a:rPr>
              <a:t>doing</a:t>
            </a:r>
            <a:r>
              <a:rPr b="0" lang="en-US" sz="2800" spc="-1" strike="noStrike">
                <a:solidFill>
                  <a:srgbClr val="3333ff"/>
                </a:solidFill>
                <a:latin typeface="Arial Black"/>
                <a:ea typeface="Gungsuh"/>
              </a:rPr>
              <a:t>?    </a:t>
            </a:r>
            <a:r>
              <a:rPr b="1" lang="zh-CN" sz="2800" spc="-1" strike="noStrike">
                <a:solidFill>
                  <a:srgbClr val="3333ff"/>
                </a:solidFill>
                <a:latin typeface="Arial Black"/>
                <a:ea typeface="黑体"/>
              </a:rPr>
              <a:t>你在做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2860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 Black"/>
                <a:ea typeface="Gungsuh"/>
              </a:rPr>
              <a:t>现在进行时句子结构</a:t>
            </a:r>
            <a:r>
              <a:rPr b="1" lang="en-US" sz="2800" spc="-1" strike="noStrike">
                <a:solidFill>
                  <a:srgbClr val="3333ff"/>
                </a:solidFill>
                <a:latin typeface="Arial Black"/>
                <a:ea typeface="Gungsuh"/>
              </a:rPr>
              <a:t>:</a:t>
            </a:r>
            <a:r>
              <a:rPr b="1" lang="en-US" sz="1800" spc="-1" strike="noStrike" u="sng">
                <a:solidFill>
                  <a:srgbClr val="00ff00"/>
                </a:solidFill>
                <a:uFillTx/>
                <a:latin typeface="Arial Black"/>
                <a:ea typeface="Gungsu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2349360"/>
            <a:ext cx="2087280" cy="1224000"/>
          </a:xfrm>
          <a:custGeom>
            <a:avLst/>
            <a:gdLst>
              <a:gd name="textAreaLeft" fmla="*/ 1333440 w 2087280"/>
              <a:gd name="textAreaRight" fmla="*/ 2087640 w 20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752480"/>
            <a:ext cx="287280" cy="17319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5000 h 1731960"/>
              <a:gd name="textAreaBottom" fmla="*/ 1686960 h 173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1752480"/>
            <a:ext cx="1219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Gungsuh"/>
              </a:rPr>
              <a:t>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Gungsuh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Gungsuh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93040" y="236232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 Black"/>
                <a:ea typeface="Gungsuh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Arial Black"/>
                <a:ea typeface="Gungsuh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26000" y="5105520"/>
            <a:ext cx="533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黑体"/>
                <a:ea typeface="黑体"/>
              </a:rPr>
              <a:t>思考：</a:t>
            </a:r>
            <a:r>
              <a:rPr b="1" lang="en-US" sz="2400" spc="-1" strike="noStrike">
                <a:solidFill>
                  <a:srgbClr val="00cc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cc00"/>
                </a:solidFill>
                <a:latin typeface="黑体"/>
                <a:ea typeface="黑体"/>
              </a:rPr>
              <a:t>主语，即人称，有几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cc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cc00"/>
                </a:solidFill>
                <a:latin typeface="黑体"/>
                <a:ea typeface="黑体"/>
              </a:rPr>
              <a:t>不同的人称对应的</a:t>
            </a:r>
            <a:r>
              <a:rPr b="1" lang="en-US" sz="2400" spc="-1" strike="noStrike">
                <a:solidFill>
                  <a:srgbClr val="00cc00"/>
                </a:solidFill>
                <a:latin typeface="黑体"/>
                <a:ea typeface="黑体"/>
              </a:rPr>
              <a:t>be</a:t>
            </a:r>
            <a:r>
              <a:rPr b="1" lang="zh-CN" sz="2400" spc="-1" strike="noStrike">
                <a:solidFill>
                  <a:srgbClr val="00cc00"/>
                </a:solidFill>
                <a:latin typeface="黑体"/>
                <a:ea typeface="黑体"/>
              </a:rPr>
              <a:t>动词是不是也不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1752480"/>
            <a:ext cx="144720" cy="1800360"/>
          </a:xfrm>
          <a:custGeom>
            <a:avLst/>
            <a:gdLst>
              <a:gd name="textAreaLeft" fmla="*/ 0 w 144720"/>
              <a:gd name="textAreaRight" fmla="*/ 52200 w 1447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6576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注：英语中有两类动词，一类是与动作有关的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还有一类就是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be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动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熟记：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am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is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are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后的动词要加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ing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243828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362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3569760" y="2286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 Black"/>
                <a:ea typeface="Gungsuh"/>
              </a:rPr>
              <a:t>主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78440" y="228600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 Black"/>
                <a:ea typeface="Gungsuh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Arial Black"/>
                <a:ea typeface="Gungsuh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1"/>
          </p:cNvPr>
          <p:cNvSpPr/>
          <p:nvPr/>
        </p:nvSpPr>
        <p:spPr>
          <a:xfrm>
            <a:off x="4267080" y="2286000"/>
            <a:ext cx="9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 Black"/>
                <a:ea typeface="Gungsuh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Arial Black"/>
                <a:ea typeface="Gungsuh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443640" y="249228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16720" y="242100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51480" y="2209680"/>
            <a:ext cx="22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16720" y="2421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4360" y="2349360"/>
            <a:ext cx="287640" cy="648000"/>
          </a:xfrm>
          <a:prstGeom prst="downArrow">
            <a:avLst>
              <a:gd name="adj1" fmla="val 50000"/>
              <a:gd name="adj2" fmla="val 563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56360" y="2133720"/>
            <a:ext cx="0" cy="863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92560" y="3938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主语（人称）</a:t>
            </a:r>
            <a:endParaRPr b="0" lang="en-US" sz="3600" spc="-1" strike="noStrike">
              <a:solidFill>
                <a:srgbClr val="066c9c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52280" y="1447920"/>
          <a:ext cx="8839080" cy="3483000"/>
        </p:xfrm>
        <a:graphic>
          <a:graphicData uri="http://schemas.openxmlformats.org/drawingml/2006/table">
            <a:tbl>
              <a:tblPr/>
              <a:tblGrid>
                <a:gridCol w="1709640"/>
                <a:gridCol w="3065400"/>
                <a:gridCol w="40640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人 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     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单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复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第一人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I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We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我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第二人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You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You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你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第三人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He /She / It / My mother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My father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幼圆"/>
                        </a:rPr>
                        <a:t>They / some of the children / some of th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443640" y="249228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242100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51480" y="2209680"/>
            <a:ext cx="22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16720" y="2421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24360" y="2349360"/>
            <a:ext cx="287640" cy="648000"/>
          </a:xfrm>
          <a:prstGeom prst="downArrow">
            <a:avLst>
              <a:gd name="adj1" fmla="val 50000"/>
              <a:gd name="adj2" fmla="val 563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56360" y="2133720"/>
            <a:ext cx="0" cy="863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92560" y="3938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167652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1981080"/>
            <a:ext cx="786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用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m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,You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用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第三人称单数用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,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复数用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984000">
            <a:off x="3200040" y="0"/>
            <a:ext cx="3048120" cy="182880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25760" y="4460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口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25"/>
          <p:cNvSpPr/>
          <p:nvPr/>
        </p:nvSpPr>
        <p:spPr>
          <a:xfrm>
            <a:off x="382680" y="1676520"/>
            <a:ext cx="586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Let’s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 learn and s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ext Placeholder 2" descr=""/>
          <p:cNvPicPr/>
          <p:nvPr/>
        </p:nvPicPr>
        <p:blipFill>
          <a:blip r:embed="rId1"/>
          <a:srcRect l="0" t="0" r="26890" b="-1814"/>
          <a:stretch/>
        </p:blipFill>
        <p:spPr>
          <a:xfrm>
            <a:off x="457200" y="1676520"/>
            <a:ext cx="2762280" cy="3152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284720" y="141300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  <a:ea typeface="Gungsuh"/>
              </a:rPr>
              <a:t>watch</a:t>
            </a:r>
            <a:r>
              <a:rPr b="0" lang="en-US" sz="3600" spc="-1" strike="noStrike">
                <a:solidFill>
                  <a:srgbClr val="00cc00"/>
                </a:solidFill>
                <a:latin typeface="Arial Black"/>
                <a:ea typeface="Gungsuh"/>
              </a:rPr>
              <a:t>  </a:t>
            </a:r>
            <a:r>
              <a:rPr b="0" lang="en-US" sz="3600" spc="-1" strike="noStrike">
                <a:solidFill>
                  <a:srgbClr val="3333ff"/>
                </a:solidFill>
                <a:latin typeface="Arial Black"/>
                <a:ea typeface="Gungsuh"/>
              </a:rPr>
              <a:t>cartoons</a:t>
            </a:r>
            <a:r>
              <a:rPr b="0" lang="en-US" sz="1800" spc="-1" strike="noStrike">
                <a:solidFill>
                  <a:srgbClr val="3333ff"/>
                </a:solidFill>
                <a:latin typeface="Arial Black"/>
                <a:ea typeface="Gungsu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9640" y="2060640"/>
            <a:ext cx="0" cy="647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16400" y="2852640"/>
            <a:ext cx="21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  <a:ea typeface="Gungsuh"/>
              </a:rPr>
              <a:t>watch</a:t>
            </a:r>
            <a:r>
              <a:rPr b="0" lang="en-US" sz="3600" spc="-1" strike="noStrike">
                <a:solidFill>
                  <a:srgbClr val="ff3300"/>
                </a:solidFill>
                <a:latin typeface="Arial Black"/>
                <a:ea typeface="Gungsuh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4320" y="3789360"/>
            <a:ext cx="39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  <a:ea typeface="Gungsuh"/>
              </a:rPr>
              <a:t>in the living 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  <a:ea typeface="Gungsuh"/>
              </a:rPr>
              <a:t> </a:t>
            </a:r>
            <a:r>
              <a:rPr b="1" lang="zh-CN" sz="3600" spc="-1" strike="noStrike">
                <a:solidFill>
                  <a:srgbClr val="3333ff"/>
                </a:solidFill>
                <a:latin typeface="Arial Black"/>
                <a:ea typeface="黑体"/>
              </a:rPr>
              <a:t>在客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995640" y="148428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  <a:ea typeface="Gungsuh"/>
              </a:rPr>
              <a:t>fish   </a:t>
            </a:r>
            <a:r>
              <a:rPr b="0" lang="zh-CN" sz="3600" spc="-1" strike="noStrike">
                <a:solidFill>
                  <a:srgbClr val="3333ff"/>
                </a:solidFill>
                <a:latin typeface="Arial Black"/>
                <a:ea typeface="黑体"/>
              </a:rPr>
              <a:t>钓鱼</a:t>
            </a:r>
            <a:r>
              <a:rPr b="0" lang="zh-CN" sz="1800" spc="-1" strike="noStrike">
                <a:solidFill>
                  <a:srgbClr val="3333ff"/>
                </a:solidFill>
                <a:latin typeface="Arial Black"/>
                <a:ea typeface="Gungsu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3640" y="249228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42100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16720" y="2421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24360" y="2349360"/>
            <a:ext cx="287640" cy="648000"/>
          </a:xfrm>
          <a:prstGeom prst="downArrow">
            <a:avLst>
              <a:gd name="adj1" fmla="val 50000"/>
              <a:gd name="adj2" fmla="val 563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56360" y="2133720"/>
            <a:ext cx="0" cy="863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35640" y="2060640"/>
            <a:ext cx="0" cy="647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26880" y="2852640"/>
            <a:ext cx="16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  <a:ea typeface="Gungsuh"/>
              </a:rPr>
              <a:t>fish</a:t>
            </a:r>
            <a:r>
              <a:rPr b="0" lang="en-US" sz="3600" spc="-1" strike="noStrike">
                <a:solidFill>
                  <a:srgbClr val="ff3300"/>
                </a:solidFill>
                <a:latin typeface="Arial Black"/>
                <a:ea typeface="Gungsuh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3814920" cy="3024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353120" y="3789360"/>
            <a:ext cx="35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  <a:ea typeface="Gungsuh"/>
              </a:rPr>
              <a:t>in the park </a:t>
            </a:r>
            <a:r>
              <a:rPr b="1" lang="zh-CN" sz="3600" spc="-1" strike="noStrike">
                <a:solidFill>
                  <a:srgbClr val="3333ff"/>
                </a:solidFill>
                <a:latin typeface="Arial Black"/>
                <a:ea typeface="黑体"/>
              </a:rPr>
              <a:t>在公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00720" y="134136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  <a:ea typeface="Gungsuh"/>
              </a:rPr>
              <a:t>fly a kite   </a:t>
            </a:r>
            <a:r>
              <a:rPr b="0" lang="zh-CN" sz="3600" spc="-1" strike="noStrike">
                <a:solidFill>
                  <a:srgbClr val="3333ff"/>
                </a:solidFill>
                <a:latin typeface="Arial Black"/>
                <a:ea typeface="Gungsuh"/>
              </a:rPr>
              <a:t>放风筝</a:t>
            </a:r>
            <a:r>
              <a:rPr b="0" lang="zh-CN" sz="1800" spc="-1" strike="noStrike">
                <a:solidFill>
                  <a:srgbClr val="3333ff"/>
                </a:solidFill>
                <a:latin typeface="Arial Black"/>
                <a:ea typeface="Gungsu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43640" y="249228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16720" y="242100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51480" y="2209680"/>
            <a:ext cx="22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6720" y="2421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24360" y="2349360"/>
            <a:ext cx="287640" cy="648000"/>
          </a:xfrm>
          <a:prstGeom prst="downArrow">
            <a:avLst>
              <a:gd name="adj1" fmla="val 50000"/>
              <a:gd name="adj2" fmla="val 563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2133720"/>
            <a:ext cx="0" cy="863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2060640"/>
            <a:ext cx="0" cy="647640"/>
          </a:xfrm>
          <a:prstGeom prst="line">
            <a:avLst/>
          </a:prstGeom>
          <a:ln w="66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19800" y="285264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  <a:ea typeface="Gungsuh"/>
              </a:rPr>
              <a:t>fly</a:t>
            </a:r>
            <a:r>
              <a:rPr b="0" lang="en-US" sz="3600" spc="-1" strike="noStrike">
                <a:solidFill>
                  <a:srgbClr val="ff3300"/>
                </a:solidFill>
                <a:latin typeface="Arial Black"/>
                <a:ea typeface="Gungsuh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816360" cy="3175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328640" y="3716280"/>
            <a:ext cx="40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  <a:ea typeface="Gungsuh"/>
              </a:rPr>
              <a:t>in the play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  <a:ea typeface="Gungsuh"/>
              </a:rPr>
              <a:t> </a:t>
            </a:r>
            <a:r>
              <a:rPr b="1" lang="zh-CN" sz="3600" spc="-1" strike="noStrike">
                <a:solidFill>
                  <a:srgbClr val="3333ff"/>
                </a:solidFill>
                <a:latin typeface="Arial Black"/>
                <a:ea typeface="黑体"/>
              </a:rPr>
              <a:t>在操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用户</cp:lastModifiedBy>
  <dcterms:modified xsi:type="dcterms:W3CDTF">2015-05-31T05:58:16Z</dcterms:modified>
  <cp:revision>2</cp:revision>
  <dc:subject/>
  <dc:title>Module 4 Activities</dc:title>
</cp:coreProperties>
</file>