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29.gif" ContentType="image/gif"/>
  <Override PartName="/ppt/media/image9.png" ContentType="image/png"/>
  <Override PartName="/ppt/media/image44.jpeg" ContentType="image/jpeg"/>
  <Override PartName="/ppt/media/image13.jpeg" ContentType="image/jpeg"/>
  <Override PartName="/ppt/media/image23.png" ContentType="image/png"/>
  <Override PartName="/ppt/media/image32.png" ContentType="image/png"/>
  <Override PartName="/ppt/media/image7.png" ContentType="image/png"/>
  <Override PartName="/ppt/media/image33.jpeg" ContentType="image/jpeg"/>
  <Override PartName="/ppt/media/image27.jpeg" ContentType="image/jpeg"/>
  <Override PartName="/ppt/media/image34.png" ContentType="image/png"/>
  <Override PartName="/ppt/media/image12.jpeg" ContentType="image/jpeg"/>
  <Override PartName="/ppt/media/image5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3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22B-4BBF-489C-A562-0395A792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9CA-8A6F-4A5D-A457-0DBA850A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F99-19E3-42E5-BEF0-5725E208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E2B-B278-4EE2-9AA1-3D4589AA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8D1-3BE1-42EA-8E2A-317A641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B74-ECAF-4F1B-93A2-5AC119CB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4B2-5276-4607-AA5A-3DCF7CED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C32-BF5A-4641-ACB9-F17FD70B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47D-06C0-4CEF-B287-E04DE5E3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175-1A6F-41EF-8BAC-38B9BED8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4B0-168D-4A1D-A83F-FBD05F6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479-98B5-4CCC-9EDD-CD7B6489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F600-26E8-4B21-AD73-8A8F03A6B8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7.png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1916280"/>
            <a:ext cx="80773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Unit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My frie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-1677373648.wma" descr=""/>
          <p:cNvPicPr/>
          <p:nvPr/>
        </p:nvPicPr>
        <p:blipFill>
          <a:blip r:embed="rId1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330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050920" y="260280"/>
            <a:ext cx="493560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Choose the right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92360" y="1052640"/>
            <a:ext cx="66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) 1.  _____ is Helen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She          B.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) 2. He is______ Mike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/         B. 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) 3.  _____ is my fath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She          B.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) 4.  _____  your br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He’s         B.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Who’s my m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   ) 5.          _____  your m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                 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0685181"/>
          <p:cNvPicPr/>
          <p:nvPr/>
        </p:nvPicPr>
        <p:blipFill>
          <a:blip r:embed="rId1"/>
          <a:stretch/>
        </p:blipFill>
        <p:spPr>
          <a:xfrm>
            <a:off x="2843280" y="4559400"/>
            <a:ext cx="720720" cy="453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未命名"/>
          <p:cNvPicPr/>
          <p:nvPr/>
        </p:nvPicPr>
        <p:blipFill>
          <a:blip r:embed="rId2"/>
          <a:stretch/>
        </p:blipFill>
        <p:spPr>
          <a:xfrm>
            <a:off x="3851280" y="5445000"/>
            <a:ext cx="86364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010032363677409"/>
          <p:cNvPicPr/>
          <p:nvPr/>
        </p:nvPicPr>
        <p:blipFill>
          <a:blip r:embed="rId3"/>
          <a:stretch/>
        </p:blipFill>
        <p:spPr>
          <a:xfrm>
            <a:off x="5796000" y="5229360"/>
            <a:ext cx="1039680" cy="984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936800" y="103824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936080" y="191772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924920" y="27496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916280" y="363060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924920" y="49258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4643280" y="5300640"/>
            <a:ext cx="1224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4114800" y="492588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8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385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385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156400" y="2432160"/>
            <a:ext cx="26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__ __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i e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_ 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5520" y="4365720"/>
            <a:ext cx="144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773800" y="4292640"/>
            <a:ext cx="175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813560" y="4303800"/>
            <a:ext cx="9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519520" y="249228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朋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Mike"/>
          <p:cNvPicPr/>
          <p:nvPr/>
        </p:nvPicPr>
        <p:blipFill>
          <a:blip r:embed="rId1"/>
          <a:stretch/>
        </p:blipFill>
        <p:spPr>
          <a:xfrm>
            <a:off x="-461880" y="620640"/>
            <a:ext cx="3227400" cy="2425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Yang Ling"/>
          <p:cNvPicPr/>
          <p:nvPr/>
        </p:nvPicPr>
        <p:blipFill>
          <a:blip r:embed="rId2"/>
          <a:stretch/>
        </p:blipFill>
        <p:spPr>
          <a:xfrm>
            <a:off x="4572000" y="3068640"/>
            <a:ext cx="3419640" cy="2565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592920" y="4365720"/>
            <a:ext cx="3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951640" y="4292640"/>
            <a:ext cx="3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962600" y="4292640"/>
            <a:ext cx="79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1763640" y="476280"/>
            <a:ext cx="324180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t’s lea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friend.mp3" descr="friend"/>
          <p:cNvPicPr/>
          <p:nvPr/>
        </p:nvPicPr>
        <p:blipFill>
          <a:blip r:embed="rId3"/>
          <a:stretch/>
        </p:blipFill>
        <p:spPr>
          <a:xfrm>
            <a:off x="421164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58382E-006 L 0.17257 -0.28185 E">
                                      <p:cBhvr>
                                        <p:cTn id="23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78035E-007 L -0.01562 -0.27121 E">
                                      <p:cBhvr>
                                        <p:cTn id="25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5.78035E-007 L -0.08715 -0.26081 E">
                                      <p:cBhvr>
                                        <p:cTn id="26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489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Mike"/>
          <p:cNvPicPr/>
          <p:nvPr/>
        </p:nvPicPr>
        <p:blipFill>
          <a:blip r:embed="rId1"/>
          <a:stretch/>
        </p:blipFill>
        <p:spPr>
          <a:xfrm>
            <a:off x="4284720" y="765000"/>
            <a:ext cx="3233520" cy="2426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1096560" y="1782720"/>
            <a:ext cx="38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, he, he is M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, he, he’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Yang Ling"/>
          <p:cNvPicPr/>
          <p:nvPr/>
        </p:nvPicPr>
        <p:blipFill>
          <a:blip r:embed="rId2"/>
          <a:stretch/>
        </p:blipFill>
        <p:spPr>
          <a:xfrm>
            <a:off x="-390600" y="3141720"/>
            <a:ext cx="3378240" cy="2538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2458080" y="4146480"/>
            <a:ext cx="42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e    she    she     Yang 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e    she    she’s   my 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391840" y="4211640"/>
            <a:ext cx="438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, ____, ___ is 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, ____, ____  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539640" y="549360"/>
            <a:ext cx="266400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t’s ch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 flipV="1" rot="10800000">
            <a:off x="263160" y="4006440"/>
            <a:ext cx="5567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CFrutiger"/>
                <a:ea typeface="Aharoni"/>
              </a:rPr>
              <a:t>They are frien</a:t>
            </a:r>
            <a:r>
              <a:rPr b="0" lang="en-US" sz="4400" spc="-1" strike="noStrike">
                <a:solidFill>
                  <a:srgbClr val="c00000"/>
                </a:solidFill>
                <a:latin typeface="GCFrutiger"/>
                <a:ea typeface="Aharoni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GCFrutiger"/>
                <a:ea typeface="Aharoni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GCFrutiger"/>
                <a:ea typeface="Aharon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5075280" y="53402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CFrutiger"/>
                <a:ea typeface="Times New Roman"/>
              </a:rPr>
              <a:t>bir</a:t>
            </a:r>
            <a:r>
              <a:rPr b="0" lang="en-US" sz="4000" spc="-1" strike="noStrike">
                <a:solidFill>
                  <a:srgbClr val="c00000"/>
                </a:solidFill>
                <a:latin typeface="GCFrutiger"/>
                <a:ea typeface="Times New Roman"/>
              </a:rPr>
              <a:t>d</a:t>
            </a:r>
            <a:r>
              <a:rPr b="0" lang="en-US" sz="4000" spc="-1" strike="noStrike">
                <a:solidFill>
                  <a:srgbClr val="ff0000"/>
                </a:solidFill>
                <a:latin typeface="GCFrutiger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075280" y="46324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CFrutiger"/>
                <a:ea typeface="Times New Roman"/>
              </a:rPr>
              <a:t>be</a:t>
            </a:r>
            <a:r>
              <a:rPr b="0" lang="en-US" sz="4000" spc="-1" strike="noStrike">
                <a:solidFill>
                  <a:srgbClr val="c00000"/>
                </a:solidFill>
                <a:latin typeface="GCFrutiger"/>
                <a:ea typeface="Times New Roman"/>
              </a:rPr>
              <a:t>d</a:t>
            </a:r>
            <a:r>
              <a:rPr b="0" lang="en-US" sz="4000" spc="-1" strike="noStrike">
                <a:solidFill>
                  <a:srgbClr val="ff0000"/>
                </a:solidFill>
                <a:latin typeface="GCFrutiger"/>
                <a:ea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4152960" y="4632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dz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Mike"/>
          <p:cNvPicPr/>
          <p:nvPr/>
        </p:nvPicPr>
        <p:blipFill>
          <a:blip r:embed="rId1"/>
          <a:srcRect l="32042" t="7167" r="29208" b="24807"/>
          <a:stretch/>
        </p:blipFill>
        <p:spPr>
          <a:xfrm>
            <a:off x="622440" y="42840"/>
            <a:ext cx="3025800" cy="3672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11"/>
          <p:cNvPicPr/>
          <p:nvPr/>
        </p:nvPicPr>
        <p:blipFill>
          <a:blip r:embed="rId2"/>
          <a:srcRect l="81496" t="52110" r="1961" b="5900"/>
          <a:stretch/>
        </p:blipFill>
        <p:spPr>
          <a:xfrm>
            <a:off x="6072120" y="401760"/>
            <a:ext cx="24796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Yang Ling"/>
          <p:cNvPicPr/>
          <p:nvPr/>
        </p:nvPicPr>
        <p:blipFill>
          <a:blip r:embed="rId1"/>
          <a:stretch/>
        </p:blipFill>
        <p:spPr>
          <a:xfrm>
            <a:off x="3203640" y="549360"/>
            <a:ext cx="3960720" cy="30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ike"/>
          <p:cNvPicPr/>
          <p:nvPr/>
        </p:nvPicPr>
        <p:blipFill>
          <a:blip r:embed="rId2"/>
          <a:stretch/>
        </p:blipFill>
        <p:spPr>
          <a:xfrm>
            <a:off x="1116000" y="836640"/>
            <a:ext cx="3233880" cy="2425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069720" y="3921120"/>
            <a:ext cx="23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r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i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6000" spc="-1" strike="noStrike">
                <a:solidFill>
                  <a:srgbClr val="0000cc"/>
                </a:solidFill>
                <a:latin typeface="Calibri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11"/>
          <p:cNvPicPr/>
          <p:nvPr/>
        </p:nvPicPr>
        <p:blipFill>
          <a:blip r:embed="rId1"/>
          <a:stretch/>
        </p:blipFill>
        <p:spPr>
          <a:xfrm>
            <a:off x="395280" y="2421000"/>
            <a:ext cx="4032360" cy="3319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22"/>
          <p:cNvPicPr/>
          <p:nvPr/>
        </p:nvPicPr>
        <p:blipFill>
          <a:blip r:embed="rId2"/>
          <a:stretch/>
        </p:blipFill>
        <p:spPr>
          <a:xfrm>
            <a:off x="3276720" y="404640"/>
            <a:ext cx="3887640" cy="3384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13240" y="1204920"/>
            <a:ext cx="249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lp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互相帮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543920" y="4950000"/>
            <a:ext cx="229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起学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48760" y="3013200"/>
            <a:ext cx="19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Calibri"/>
              </a:rPr>
              <a:t>frie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95280" y="98100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ntroduce your good friend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9600" y="3083040"/>
            <a:ext cx="62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Calibri"/>
              </a:rPr>
              <a:t>He</a:t>
            </a:r>
            <a:r>
              <a:rPr b="0" lang="en-US" sz="5400" spc="-1" strike="noStrike">
                <a:solidFill>
                  <a:srgbClr val="660066"/>
                </a:solidFill>
                <a:latin typeface="Calibri"/>
              </a:rPr>
              <a:t>’s/ 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0" lang="en-US" sz="5400" spc="-1" strike="noStrike">
                <a:solidFill>
                  <a:srgbClr val="660066"/>
                </a:solidFill>
                <a:latin typeface="Calibri"/>
              </a:rPr>
              <a:t>’s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Calibri"/>
              </a:rPr>
              <a:t>He</a:t>
            </a:r>
            <a:r>
              <a:rPr b="0" lang="en-US" sz="5400" spc="-1" strike="noStrike">
                <a:solidFill>
                  <a:srgbClr val="660066"/>
                </a:solidFill>
                <a:latin typeface="Calibri"/>
              </a:rPr>
              <a:t>’s/ </a:t>
            </a: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0" lang="en-US" sz="5400" spc="-1" strike="noStrike">
                <a:solidFill>
                  <a:srgbClr val="660066"/>
                </a:solidFill>
                <a:latin typeface="Calibri"/>
              </a:rPr>
              <a:t>’s my friend</a:t>
            </a:r>
            <a:r>
              <a:rPr b="0" lang="en-US" sz="5400" spc="-1" strike="noStrike">
                <a:solidFill>
                  <a:srgbClr val="0000cc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图片1"/>
          <p:cNvPicPr/>
          <p:nvPr/>
        </p:nvPicPr>
        <p:blipFill>
          <a:blip r:embed="rId1"/>
          <a:srcRect l="34677" t="42394" r="33150" b="46913"/>
          <a:stretch/>
        </p:blipFill>
        <p:spPr>
          <a:xfrm>
            <a:off x="826920" y="2205000"/>
            <a:ext cx="3240360" cy="8082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5580000" y="21207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Bye-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70200" y="4559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B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029200" y="52005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Se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924360" y="3284640"/>
            <a:ext cx="1727280" cy="64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211640" y="32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Adobe 繁黑體 Std B"/>
              </a:rPr>
              <a:t>再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708360" y="98100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Arial"/>
                <a:ea typeface="바탕"/>
              </a:rPr>
              <a:t>表达再见的若干词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바탕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11280" y="333360"/>
            <a:ext cx="58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66"/>
                </a:solidFill>
                <a:latin typeface="GCFrutiger"/>
              </a:rPr>
              <a:t>自学情况检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tory time(完整版).mp3" descr="Story time(完整版)"/>
          <p:cNvPicPr/>
          <p:nvPr/>
        </p:nvPicPr>
        <p:blipFill>
          <a:blip r:embed="rId2"/>
          <a:stretch/>
        </p:blipFill>
        <p:spPr>
          <a:xfrm>
            <a:off x="75564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3522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10520" y="1571760"/>
            <a:ext cx="579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____ is my frie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. She     B. Mi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Yang Ling"/>
          <p:cNvPicPr/>
          <p:nvPr/>
        </p:nvPicPr>
        <p:blipFill>
          <a:blip r:embed="rId1"/>
          <a:stretch/>
        </p:blipFill>
        <p:spPr>
          <a:xfrm>
            <a:off x="5508720" y="333360"/>
            <a:ext cx="4608360" cy="3519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650240" y="1571760"/>
            <a:ext cx="5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465120" y="456120"/>
            <a:ext cx="3446640" cy="57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t’s cho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b3b7d0a20cf431adfc7f4d744b36acaf2fdd98c9"/>
          <p:cNvPicPr/>
          <p:nvPr/>
        </p:nvPicPr>
        <p:blipFill>
          <a:blip r:embed="rId1"/>
          <a:stretch/>
        </p:blipFill>
        <p:spPr>
          <a:xfrm>
            <a:off x="0" y="0"/>
            <a:ext cx="9198000" cy="688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2225160" y="3673440"/>
            <a:ext cx="515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____ is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. He     B. Yang 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Mike"/>
          <p:cNvPicPr/>
          <p:nvPr/>
        </p:nvPicPr>
        <p:blipFill>
          <a:blip r:embed="rId2"/>
          <a:stretch/>
        </p:blipFill>
        <p:spPr>
          <a:xfrm>
            <a:off x="-822240" y="3284640"/>
            <a:ext cx="3593880" cy="2700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9040" y="1212840"/>
            <a:ext cx="6686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 It is in the 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orning    B. afternoo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. eve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98764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92040" y="384840"/>
            <a:ext cx="3446640" cy="57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t’s cho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 rot="20403600">
            <a:off x="79200" y="493560"/>
            <a:ext cx="245772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’s 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’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755640" y="3821760"/>
            <a:ext cx="2281320" cy="407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Calibri"/>
              </a:rPr>
              <a:t>Zhang Yu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20140922_082844"/>
          <p:cNvPicPr/>
          <p:nvPr/>
        </p:nvPicPr>
        <p:blipFill>
          <a:blip r:embed="rId1"/>
          <a:stretch/>
        </p:blipFill>
        <p:spPr>
          <a:xfrm>
            <a:off x="3348000" y="476280"/>
            <a:ext cx="43513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b3b7d0a20cf431adfc7f4d744b36acaf2fdd98c9"/>
          <p:cNvPicPr/>
          <p:nvPr/>
        </p:nvPicPr>
        <p:blipFill>
          <a:blip r:embed="rId1"/>
          <a:stretch/>
        </p:blipFill>
        <p:spPr>
          <a:xfrm>
            <a:off x="0" y="0"/>
            <a:ext cx="9198000" cy="6885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2296800" y="4199040"/>
            <a:ext cx="515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____ is my frie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. He     B. Yang 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Mike"/>
          <p:cNvPicPr/>
          <p:nvPr/>
        </p:nvPicPr>
        <p:blipFill>
          <a:blip r:embed="rId2"/>
          <a:stretch/>
        </p:blipFill>
        <p:spPr>
          <a:xfrm>
            <a:off x="-750960" y="3392640"/>
            <a:ext cx="3594240" cy="2700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40680" y="1247760"/>
            <a:ext cx="6686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 It is in the _______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orning    B. afternoo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. eve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>
            <a:hlinkClick r:id="rId3" action="ppaction://hlinksldjump"/>
          </p:cNvPr>
          <p:cNvSpPr/>
          <p:nvPr/>
        </p:nvSpPr>
        <p:spPr>
          <a:xfrm>
            <a:off x="5299560" y="1112760"/>
            <a:ext cx="51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98764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>
            <a:hlinkClick r:id="rId4" action="ppaction://hlinksldjump"/>
          </p:cNvPr>
          <p:cNvSpPr/>
          <p:nvPr/>
        </p:nvSpPr>
        <p:spPr>
          <a:xfrm>
            <a:off x="2923200" y="4064040"/>
            <a:ext cx="51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320760" y="384840"/>
            <a:ext cx="3446280" cy="57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t’s cho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图片1"/>
          <p:cNvPicPr/>
          <p:nvPr/>
        </p:nvPicPr>
        <p:blipFill>
          <a:blip r:embed="rId1"/>
          <a:stretch/>
        </p:blipFill>
        <p:spPr>
          <a:xfrm>
            <a:off x="2268360" y="620640"/>
            <a:ext cx="4757760" cy="55627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3">
            <a:hlinkClick r:id="rId2" action="ppaction://hlinksldjump"/>
          </p:cNvPr>
          <p:cNvSpPr/>
          <p:nvPr/>
        </p:nvSpPr>
        <p:spPr>
          <a:xfrm>
            <a:off x="8496360" y="6381720"/>
            <a:ext cx="647640" cy="476280"/>
          </a:xfrm>
          <a:custGeom>
            <a:avLst/>
            <a:gdLst>
              <a:gd name="textAreaLeft" fmla="*/ 30600 w 647640"/>
              <a:gd name="textAreaRight" fmla="*/ 617040 w 647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6" y="10800"/>
                </a:moveTo>
                <a:lnTo>
                  <a:pt x="21689" y="3794"/>
                </a:lnTo>
                <a:lnTo>
                  <a:pt x="216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50920" y="246600"/>
            <a:ext cx="3220920" cy="57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t’s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图片2"/>
          <p:cNvPicPr/>
          <p:nvPr/>
        </p:nvPicPr>
        <p:blipFill>
          <a:blip r:embed="rId1"/>
          <a:stretch/>
        </p:blipFill>
        <p:spPr>
          <a:xfrm>
            <a:off x="1835280" y="620640"/>
            <a:ext cx="5217840" cy="59770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3"/>
          <p:cNvSpPr/>
          <p:nvPr/>
        </p:nvSpPr>
        <p:spPr>
          <a:xfrm>
            <a:off x="250920" y="273600"/>
            <a:ext cx="3168720" cy="57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t’s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b3b7d0a20cf431adfc7f4d744b36acaf2fdd98c9"/>
          <p:cNvPicPr/>
          <p:nvPr/>
        </p:nvPicPr>
        <p:blipFill>
          <a:blip r:embed="rId1"/>
          <a:stretch/>
        </p:blipFill>
        <p:spPr>
          <a:xfrm>
            <a:off x="0" y="0"/>
            <a:ext cx="9198000" cy="6885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2469960" y="1352520"/>
            <a:ext cx="356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e’s Yang Lin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he’s my fri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432160" y="3656160"/>
            <a:ext cx="330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’s M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’s my fri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 flipV="1">
            <a:off x="539640" y="1844280"/>
            <a:ext cx="14472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 flipV="1">
            <a:off x="826920" y="1699920"/>
            <a:ext cx="64944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250920" y="346680"/>
            <a:ext cx="4152960" cy="57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t’s im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345960" y="5889960"/>
            <a:ext cx="7105680" cy="5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ips: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朗读时，学生需要模仿语音语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Checkout time 01.mp3" descr=""/>
          <p:cNvPicPr/>
          <p:nvPr/>
        </p:nvPicPr>
        <p:blipFill>
          <a:blip r:embed="rId2"/>
          <a:stretch/>
        </p:blipFill>
        <p:spPr>
          <a:xfrm>
            <a:off x="658800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" name="Checkout time 02.mp3" descr=""/>
          <p:cNvPicPr/>
          <p:nvPr/>
        </p:nvPicPr>
        <p:blipFill>
          <a:blip r:embed="rId3"/>
          <a:stretch/>
        </p:blipFill>
        <p:spPr>
          <a:xfrm>
            <a:off x="6372360" y="515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1" name="Oval 46"/>
          <p:cNvSpPr/>
          <p:nvPr/>
        </p:nvSpPr>
        <p:spPr>
          <a:xfrm>
            <a:off x="2627280" y="1989000"/>
            <a:ext cx="14940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5"/>
          <p:cNvSpPr/>
          <p:nvPr/>
        </p:nvSpPr>
        <p:spPr>
          <a:xfrm rot="1475400">
            <a:off x="5468400" y="1272960"/>
            <a:ext cx="903600" cy="355320"/>
          </a:xfrm>
          <a:custGeom>
            <a:avLst/>
            <a:gdLst>
              <a:gd name="textAreaLeft" fmla="*/ 179280 w 903600"/>
              <a:gd name="textAreaRight" fmla="*/ 549000 w 903600"/>
              <a:gd name="textAreaTop" fmla="*/ 47520 h 355320"/>
              <a:gd name="textAreaBottom" fmla="*/ 307800 h 355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6" hR="21600" stAng="10800000" swAng="5400000"/>
                <a:lnTo>
                  <a:pt x="8832" y="0"/>
                </a:lnTo>
                <a:arcTo wR="8576" hR="21600" stAng="-5400000" swAng="2898935"/>
                <a:lnTo>
                  <a:pt x="21110" y="14400"/>
                </a:lnTo>
                <a:lnTo>
                  <a:pt x="17280" y="21600"/>
                </a:lnTo>
                <a:lnTo>
                  <a:pt x="12470" y="14400"/>
                </a:lnTo>
                <a:lnTo>
                  <a:pt x="16662" y="14400"/>
                </a:lnTo>
                <a:arcTo wR="8576" hR="21600" stAng="-2501065" swAng="-2878561"/>
                <a:lnTo>
                  <a:pt x="8704" y="2"/>
                </a:lnTo>
                <a:arcTo wR="8576" hR="21600" stAng="-5420374" swAng="-5379626"/>
                <a:close/>
              </a:path>
              <a:path fill="darkenLess" w="21600" h="21600">
                <a:moveTo>
                  <a:pt x="0" y="21600"/>
                </a:moveTo>
                <a:arcTo wR="8576" hR="21600" stAng="10800000" swAng="5400000"/>
                <a:lnTo>
                  <a:pt x="8576" y="0"/>
                </a:lnTo>
                <a:arcTo wR="8576" hR="21600" stAng="-5400000" swAng="20374"/>
                <a:lnTo>
                  <a:pt x="8704" y="2"/>
                </a:lnTo>
                <a:arcTo wR="8576" hR="21600" stAng="-5420374" swAng="-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5"/>
          <p:cNvSpPr/>
          <p:nvPr/>
        </p:nvSpPr>
        <p:spPr>
          <a:xfrm rot="1577400">
            <a:off x="5630400" y="2423880"/>
            <a:ext cx="936720" cy="350640"/>
          </a:xfrm>
          <a:custGeom>
            <a:avLst/>
            <a:gdLst>
              <a:gd name="textAreaLeft" fmla="*/ 185760 w 936720"/>
              <a:gd name="textAreaRight" fmla="*/ 569160 w 936720"/>
              <a:gd name="textAreaTop" fmla="*/ 46800 h 350640"/>
              <a:gd name="textAreaBottom" fmla="*/ 303840 h 350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6" hR="21600" stAng="10800000" swAng="5400000"/>
                <a:lnTo>
                  <a:pt x="8832" y="0"/>
                </a:lnTo>
                <a:arcTo wR="8576" hR="21600" stAng="-5400000" swAng="2898935"/>
                <a:lnTo>
                  <a:pt x="21110" y="14400"/>
                </a:lnTo>
                <a:lnTo>
                  <a:pt x="17280" y="21600"/>
                </a:lnTo>
                <a:lnTo>
                  <a:pt x="12470" y="14400"/>
                </a:lnTo>
                <a:lnTo>
                  <a:pt x="16662" y="14400"/>
                </a:lnTo>
                <a:arcTo wR="8576" hR="21600" stAng="-2501065" swAng="-2878561"/>
                <a:lnTo>
                  <a:pt x="8704" y="2"/>
                </a:lnTo>
                <a:arcTo wR="8576" hR="21600" stAng="-5420374" swAng="-5379626"/>
                <a:close/>
              </a:path>
              <a:path fill="darkenLess" w="21600" h="21600">
                <a:moveTo>
                  <a:pt x="0" y="21600"/>
                </a:moveTo>
                <a:arcTo wR="8576" hR="21600" stAng="10800000" swAng="5400000"/>
                <a:lnTo>
                  <a:pt x="8576" y="0"/>
                </a:lnTo>
                <a:arcTo wR="8576" hR="21600" stAng="-5400000" swAng="20374"/>
                <a:lnTo>
                  <a:pt x="8704" y="2"/>
                </a:lnTo>
                <a:arcTo wR="8576" hR="21600" stAng="-5420374" swAng="-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5"/>
          <p:cNvSpPr/>
          <p:nvPr/>
        </p:nvSpPr>
        <p:spPr>
          <a:xfrm rot="2028000">
            <a:off x="4138560" y="3618000"/>
            <a:ext cx="865080" cy="341280"/>
          </a:xfrm>
          <a:custGeom>
            <a:avLst/>
            <a:gdLst>
              <a:gd name="textAreaLeft" fmla="*/ 171720 w 865080"/>
              <a:gd name="textAreaRight" fmla="*/ 525600 w 8650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6" hR="21600" stAng="10800000" swAng="5400000"/>
                <a:lnTo>
                  <a:pt x="8832" y="0"/>
                </a:lnTo>
                <a:arcTo wR="8576" hR="21600" stAng="-5400000" swAng="2898935"/>
                <a:lnTo>
                  <a:pt x="21110" y="14400"/>
                </a:lnTo>
                <a:lnTo>
                  <a:pt x="17280" y="21600"/>
                </a:lnTo>
                <a:lnTo>
                  <a:pt x="12470" y="14400"/>
                </a:lnTo>
                <a:lnTo>
                  <a:pt x="16662" y="14400"/>
                </a:lnTo>
                <a:arcTo wR="8576" hR="21600" stAng="-2501065" swAng="-2878561"/>
                <a:lnTo>
                  <a:pt x="8704" y="2"/>
                </a:lnTo>
                <a:arcTo wR="8576" hR="21600" stAng="-5420374" swAng="-5379626"/>
                <a:close/>
              </a:path>
              <a:path fill="darkenLess" w="21600" h="21600">
                <a:moveTo>
                  <a:pt x="0" y="21600"/>
                </a:moveTo>
                <a:arcTo wR="8576" hR="21600" stAng="10800000" swAng="5400000"/>
                <a:lnTo>
                  <a:pt x="8576" y="0"/>
                </a:lnTo>
                <a:arcTo wR="8576" hR="21600" stAng="-5400000" swAng="20374"/>
                <a:lnTo>
                  <a:pt x="8704" y="2"/>
                </a:lnTo>
                <a:arcTo wR="8576" hR="21600" stAng="-5420374" swAng="-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5"/>
          <p:cNvSpPr/>
          <p:nvPr/>
        </p:nvSpPr>
        <p:spPr>
          <a:xfrm rot="2028000">
            <a:off x="8191080" y="5640480"/>
            <a:ext cx="601560" cy="269640"/>
          </a:xfrm>
          <a:custGeom>
            <a:avLst/>
            <a:gdLst>
              <a:gd name="textAreaLeft" fmla="*/ 119160 w 601560"/>
              <a:gd name="textAreaRight" fmla="*/ 365400 w 601560"/>
              <a:gd name="textAreaTop" fmla="*/ 36000 h 269640"/>
              <a:gd name="textAreaBottom" fmla="*/ 233640 h 26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6" hR="21600" stAng="10800000" swAng="5400000"/>
                <a:lnTo>
                  <a:pt x="8832" y="0"/>
                </a:lnTo>
                <a:arcTo wR="8576" hR="21600" stAng="-5400000" swAng="2898935"/>
                <a:lnTo>
                  <a:pt x="21110" y="14400"/>
                </a:lnTo>
                <a:lnTo>
                  <a:pt x="17280" y="21600"/>
                </a:lnTo>
                <a:lnTo>
                  <a:pt x="12470" y="14400"/>
                </a:lnTo>
                <a:lnTo>
                  <a:pt x="16662" y="14400"/>
                </a:lnTo>
                <a:arcTo wR="8576" hR="21600" stAng="-2501065" swAng="-2878561"/>
                <a:lnTo>
                  <a:pt x="8704" y="2"/>
                </a:lnTo>
                <a:arcTo wR="8576" hR="21600" stAng="-5420374" swAng="-5379626"/>
                <a:close/>
              </a:path>
              <a:path fill="darkenLess" w="21600" h="21600">
                <a:moveTo>
                  <a:pt x="0" y="21600"/>
                </a:moveTo>
                <a:arcTo wR="8576" hR="21600" stAng="10800000" swAng="5400000"/>
                <a:lnTo>
                  <a:pt x="8576" y="0"/>
                </a:lnTo>
                <a:arcTo wR="8576" hR="21600" stAng="-5400000" swAng="20374"/>
                <a:lnTo>
                  <a:pt x="8704" y="2"/>
                </a:lnTo>
                <a:arcTo wR="8576" hR="21600" stAng="-5420374" swAng="-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6"/>
          <p:cNvSpPr/>
          <p:nvPr/>
        </p:nvSpPr>
        <p:spPr>
          <a:xfrm>
            <a:off x="2700360" y="3213000"/>
            <a:ext cx="14904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6"/>
          <p:cNvSpPr/>
          <p:nvPr/>
        </p:nvSpPr>
        <p:spPr>
          <a:xfrm>
            <a:off x="2556000" y="4292640"/>
            <a:ext cx="14904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6"/>
          <p:cNvSpPr/>
          <p:nvPr/>
        </p:nvSpPr>
        <p:spPr>
          <a:xfrm>
            <a:off x="2556000" y="5445000"/>
            <a:ext cx="14904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5"/>
          <p:cNvSpPr/>
          <p:nvPr/>
        </p:nvSpPr>
        <p:spPr>
          <a:xfrm rot="2018400">
            <a:off x="5435640" y="4653000"/>
            <a:ext cx="865080" cy="341280"/>
          </a:xfrm>
          <a:custGeom>
            <a:avLst/>
            <a:gdLst>
              <a:gd name="textAreaLeft" fmla="*/ 171720 w 865080"/>
              <a:gd name="textAreaRight" fmla="*/ 525600 w 8650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76" hR="21600" stAng="10800000" swAng="5400000"/>
                <a:lnTo>
                  <a:pt x="8832" y="0"/>
                </a:lnTo>
                <a:arcTo wR="8576" hR="21600" stAng="-5400000" swAng="2898935"/>
                <a:lnTo>
                  <a:pt x="21110" y="14400"/>
                </a:lnTo>
                <a:lnTo>
                  <a:pt x="17280" y="21600"/>
                </a:lnTo>
                <a:lnTo>
                  <a:pt x="12470" y="14400"/>
                </a:lnTo>
                <a:lnTo>
                  <a:pt x="16662" y="14400"/>
                </a:lnTo>
                <a:arcTo wR="8576" hR="21600" stAng="-2501065" swAng="-2878561"/>
                <a:lnTo>
                  <a:pt x="8704" y="2"/>
                </a:lnTo>
                <a:arcTo wR="8576" hR="21600" stAng="-5420374" swAng="-5379626"/>
                <a:close/>
              </a:path>
              <a:path fill="darkenLess" w="21600" h="21600">
                <a:moveTo>
                  <a:pt x="0" y="21600"/>
                </a:moveTo>
                <a:arcTo wR="8576" hR="21600" stAng="10800000" swAng="5400000"/>
                <a:lnTo>
                  <a:pt x="8576" y="0"/>
                </a:lnTo>
                <a:arcTo wR="8576" hR="21600" stAng="-5400000" swAng="20374"/>
                <a:lnTo>
                  <a:pt x="8704" y="2"/>
                </a:lnTo>
                <a:arcTo wR="8576" hR="21600" stAng="-5420374" swAng="-5379626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5676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5467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b3b7d0a20cf431adfc7f4d744b36acaf2fdd98c9"/>
          <p:cNvPicPr/>
          <p:nvPr/>
        </p:nvPicPr>
        <p:blipFill>
          <a:blip r:embed="rId1"/>
          <a:stretch/>
        </p:blipFill>
        <p:spPr>
          <a:xfrm>
            <a:off x="0" y="0"/>
            <a:ext cx="9198000" cy="6885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4175280" y="1287360"/>
            <a:ext cx="357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Yang 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264920" y="2006640"/>
            <a:ext cx="361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my fri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011480" y="2595600"/>
            <a:ext cx="9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Yang Ling"/>
          <p:cNvPicPr/>
          <p:nvPr/>
        </p:nvPicPr>
        <p:blipFill>
          <a:blip r:embed="rId2"/>
          <a:stretch/>
        </p:blipFill>
        <p:spPr>
          <a:xfrm>
            <a:off x="324000" y="692280"/>
            <a:ext cx="3240000" cy="2519280"/>
          </a:xfrm>
          <a:prstGeom prst="rect">
            <a:avLst/>
          </a:prstGeom>
          <a:ln w="0">
            <a:noFill/>
          </a:ln>
        </p:spPr>
      </p:pic>
      <p:pic>
        <p:nvPicPr>
          <p:cNvPr id="216" name="水边的阿狄丽娜.mp3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755640" y="907920"/>
            <a:ext cx="2376360" cy="2376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3995640" y="191628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5653080" y="1844640"/>
            <a:ext cx="21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3995640" y="2637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5653080" y="270828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6300720" y="32130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4067280" y="3213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5"/>
          <p:cNvSpPr/>
          <p:nvPr/>
        </p:nvSpPr>
        <p:spPr>
          <a:xfrm>
            <a:off x="6588000" y="2637000"/>
            <a:ext cx="151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4930920" y="128736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5003640" y="19954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5003640" y="263700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9"/>
          <p:cNvSpPr/>
          <p:nvPr/>
        </p:nvSpPr>
        <p:spPr>
          <a:xfrm>
            <a:off x="755640" y="3500280"/>
            <a:ext cx="2376360" cy="2376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0" descr="Mike"/>
          <p:cNvPicPr/>
          <p:nvPr/>
        </p:nvPicPr>
        <p:blipFill>
          <a:blip r:embed="rId4"/>
          <a:stretch/>
        </p:blipFill>
        <p:spPr>
          <a:xfrm>
            <a:off x="755640" y="3648240"/>
            <a:ext cx="2233800" cy="20127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1"/>
          <p:cNvSpPr/>
          <p:nvPr/>
        </p:nvSpPr>
        <p:spPr>
          <a:xfrm>
            <a:off x="4124520" y="3368520"/>
            <a:ext cx="24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Mi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4300920" y="4089240"/>
            <a:ext cx="34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H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my fri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4047120" y="48276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4859280" y="4797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V="1">
            <a:off x="3995640" y="4076280"/>
            <a:ext cx="647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>
            <a:off x="3995640" y="479736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3995640" y="544500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364000" y="407664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9"/>
          <p:cNvSpPr/>
          <p:nvPr/>
        </p:nvSpPr>
        <p:spPr>
          <a:xfrm>
            <a:off x="5867280" y="5373720"/>
            <a:ext cx="151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0"/>
          <p:cNvSpPr/>
          <p:nvPr/>
        </p:nvSpPr>
        <p:spPr>
          <a:xfrm flipV="1">
            <a:off x="5435640" y="4797000"/>
            <a:ext cx="576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1"/>
          <p:cNvSpPr/>
          <p:nvPr/>
        </p:nvSpPr>
        <p:spPr>
          <a:xfrm flipV="1">
            <a:off x="6300720" y="4797000"/>
            <a:ext cx="1224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2"/>
          <p:cNvSpPr/>
          <p:nvPr/>
        </p:nvSpPr>
        <p:spPr>
          <a:xfrm>
            <a:off x="4788000" y="335772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3"/>
          <p:cNvSpPr/>
          <p:nvPr/>
        </p:nvSpPr>
        <p:spPr>
          <a:xfrm>
            <a:off x="4859280" y="40784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4"/>
          <p:cNvSpPr/>
          <p:nvPr/>
        </p:nvSpPr>
        <p:spPr>
          <a:xfrm>
            <a:off x="6145560" y="2565360"/>
            <a:ext cx="142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5958720" y="4735440"/>
            <a:ext cx="124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6"/>
          <p:cNvSpPr/>
          <p:nvPr/>
        </p:nvSpPr>
        <p:spPr>
          <a:xfrm>
            <a:off x="2916360" y="201960"/>
            <a:ext cx="3446280" cy="57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ke  and 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79280" y="0"/>
            <a:ext cx="3816360" cy="2592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4140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5076720" y="0"/>
            <a:ext cx="3816360" cy="2592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538560" y="2637000"/>
            <a:ext cx="2491200" cy="94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elp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互相帮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6285240" y="2565360"/>
            <a:ext cx="2297520" cy="94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起学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3556800" y="5734080"/>
            <a:ext cx="2468160" cy="9471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ve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互相帮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8"/>
          <p:cNvSpPr/>
          <p:nvPr/>
        </p:nvSpPr>
        <p:spPr>
          <a:xfrm>
            <a:off x="2771640" y="2637000"/>
            <a:ext cx="4032360" cy="32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11280" y="476280"/>
            <a:ext cx="784836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omework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Read the text after the tap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ve tim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.(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听读课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遍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Make two cards about y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wo friends.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（做两张关于朋友的卡片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134080" y="1916280"/>
            <a:ext cx="3634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418840" y="3141720"/>
            <a:ext cx="323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Goodby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042920" y="3675600"/>
            <a:ext cx="2038320" cy="407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Gu Tiany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0140922_082815"/>
          <p:cNvPicPr/>
          <p:nvPr/>
        </p:nvPicPr>
        <p:blipFill>
          <a:blip r:embed="rId1"/>
          <a:stretch/>
        </p:blipFill>
        <p:spPr>
          <a:xfrm>
            <a:off x="3203640" y="476280"/>
            <a:ext cx="4824360" cy="4897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 rot="20403600">
            <a:off x="104040" y="862200"/>
            <a:ext cx="317340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’s she? She’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 rot="20403600">
            <a:off x="439560" y="1143000"/>
            <a:ext cx="338472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’s 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’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116000" y="3812040"/>
            <a:ext cx="2630520" cy="711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X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J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0140922_082827"/>
          <p:cNvPicPr/>
          <p:nvPr/>
        </p:nvPicPr>
        <p:blipFill>
          <a:blip r:embed="rId1"/>
          <a:stretch/>
        </p:blipFill>
        <p:spPr>
          <a:xfrm>
            <a:off x="4002120" y="0"/>
            <a:ext cx="514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20099262219179004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 rot="20403600">
            <a:off x="368280" y="1069920"/>
            <a:ext cx="314784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’s s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’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258920" y="3674880"/>
            <a:ext cx="2232000" cy="407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Zhou Y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20140922_082837"/>
          <p:cNvPicPr/>
          <p:nvPr/>
        </p:nvPicPr>
        <p:blipFill>
          <a:blip r:embed="rId2"/>
          <a:stretch/>
        </p:blipFill>
        <p:spPr>
          <a:xfrm>
            <a:off x="4002120" y="0"/>
            <a:ext cx="51418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Mike"/>
          <p:cNvPicPr/>
          <p:nvPr/>
        </p:nvPicPr>
        <p:blipFill>
          <a:blip r:embed="rId1"/>
          <a:stretch/>
        </p:blipFill>
        <p:spPr>
          <a:xfrm>
            <a:off x="1763640" y="1341360"/>
            <a:ext cx="4896000" cy="3670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4"/>
          <p:cNvSpPr/>
          <p:nvPr/>
        </p:nvSpPr>
        <p:spPr>
          <a:xfrm>
            <a:off x="2268360" y="5091120"/>
            <a:ext cx="4464360" cy="1117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Calibri"/>
              </a:rPr>
              <a:t>h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’s=</a:t>
            </a:r>
            <a:r>
              <a:rPr b="0" lang="en-US" sz="6000" spc="-1" strike="noStrike">
                <a:solidFill>
                  <a:srgbClr val="0000cc"/>
                </a:solidFill>
                <a:latin typeface="Calibri"/>
              </a:rPr>
              <a:t>h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 rot="20403600">
            <a:off x="1158840" y="1214280"/>
            <a:ext cx="245736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’s 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’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714240" y="3460680"/>
            <a:ext cx="1697040" cy="407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M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Yang Ling"/>
          <p:cNvPicPr/>
          <p:nvPr/>
        </p:nvPicPr>
        <p:blipFill>
          <a:blip r:embed="rId1"/>
          <a:stretch/>
        </p:blipFill>
        <p:spPr>
          <a:xfrm>
            <a:off x="1332000" y="333360"/>
            <a:ext cx="6186240" cy="46404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4"/>
          <p:cNvSpPr/>
          <p:nvPr/>
        </p:nvSpPr>
        <p:spPr>
          <a:xfrm>
            <a:off x="2195640" y="5091120"/>
            <a:ext cx="4919400" cy="1117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’s=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20403600">
            <a:off x="680040" y="574920"/>
            <a:ext cx="259272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’s she? She’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611280" y="3156120"/>
            <a:ext cx="2604960" cy="407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Yang 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Mike"/>
          <p:cNvPicPr/>
          <p:nvPr/>
        </p:nvPicPr>
        <p:blipFill>
          <a:blip r:embed="rId1"/>
          <a:stretch/>
        </p:blipFill>
        <p:spPr>
          <a:xfrm>
            <a:off x="3276720" y="765000"/>
            <a:ext cx="302400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Yang Ling"/>
          <p:cNvPicPr/>
          <p:nvPr/>
        </p:nvPicPr>
        <p:blipFill>
          <a:blip r:embed="rId2"/>
          <a:stretch/>
        </p:blipFill>
        <p:spPr>
          <a:xfrm>
            <a:off x="3708360" y="2997360"/>
            <a:ext cx="3522600" cy="2641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516960" y="981000"/>
            <a:ext cx="10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Calibri"/>
              </a:rPr>
              <a:t>h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05360" y="3357720"/>
            <a:ext cx="13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libri"/>
              </a:rPr>
              <a:t>sh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228600" y="5652000"/>
            <a:ext cx="8591400" cy="1049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ips: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男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,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女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完整形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, she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缩写形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’s, she’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5280" y="333360"/>
            <a:ext cx="223200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2011090112534547"/>
          <p:cNvPicPr/>
          <p:nvPr/>
        </p:nvPicPr>
        <p:blipFill>
          <a:blip r:embed="rId3"/>
          <a:stretch/>
        </p:blipFill>
        <p:spPr>
          <a:xfrm>
            <a:off x="5508720" y="907920"/>
            <a:ext cx="3166920" cy="227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20140922_082844"/>
          <p:cNvPicPr/>
          <p:nvPr/>
        </p:nvPicPr>
        <p:blipFill>
          <a:blip r:embed="rId4"/>
          <a:stretch/>
        </p:blipFill>
        <p:spPr>
          <a:xfrm>
            <a:off x="1619280" y="907920"/>
            <a:ext cx="259380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20140922_082815"/>
          <p:cNvPicPr/>
          <p:nvPr/>
        </p:nvPicPr>
        <p:blipFill>
          <a:blip r:embed="rId5"/>
          <a:stretch/>
        </p:blipFill>
        <p:spPr>
          <a:xfrm>
            <a:off x="1692360" y="3357720"/>
            <a:ext cx="2736720" cy="194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20140922_082837"/>
          <p:cNvPicPr/>
          <p:nvPr/>
        </p:nvPicPr>
        <p:blipFill>
          <a:blip r:embed="rId6"/>
          <a:stretch/>
        </p:blipFill>
        <p:spPr>
          <a:xfrm>
            <a:off x="6227640" y="3357720"/>
            <a:ext cx="223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2040" r="0" b="0"/>
          <a:stretch/>
        </p:blipFill>
        <p:spPr>
          <a:xfrm>
            <a:off x="179280" y="1197000"/>
            <a:ext cx="2808360" cy="23032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5" descr="Liu Tao.jpg"/>
          <p:cNvPicPr/>
          <p:nvPr/>
        </p:nvPicPr>
        <p:blipFill>
          <a:blip r:embed="rId2"/>
          <a:stretch/>
        </p:blipFill>
        <p:spPr>
          <a:xfrm>
            <a:off x="755640" y="1628640"/>
            <a:ext cx="2484360" cy="18622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4" descr="Yang Ling.jpg"/>
          <p:cNvPicPr/>
          <p:nvPr/>
        </p:nvPicPr>
        <p:blipFill>
          <a:blip r:embed="rId3"/>
          <a:stretch/>
        </p:blipFill>
        <p:spPr>
          <a:xfrm>
            <a:off x="539640" y="1341360"/>
            <a:ext cx="2772000" cy="20782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2" descr="Miss Li.jpg"/>
          <p:cNvPicPr/>
          <p:nvPr/>
        </p:nvPicPr>
        <p:blipFill>
          <a:blip r:embed="rId4"/>
          <a:srcRect l="37911" t="0" r="35048" b="0"/>
          <a:stretch/>
        </p:blipFill>
        <p:spPr>
          <a:xfrm>
            <a:off x="1332000" y="1268280"/>
            <a:ext cx="934920" cy="222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5"/>
          <a:srcRect l="0" t="0" r="15871" b="0"/>
          <a:stretch/>
        </p:blipFill>
        <p:spPr>
          <a:xfrm>
            <a:off x="4500720" y="3736800"/>
            <a:ext cx="2087280" cy="2932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6"/>
          <a:srcRect l="14447" t="0" r="0" b="1769"/>
          <a:stretch/>
        </p:blipFill>
        <p:spPr>
          <a:xfrm>
            <a:off x="2448000" y="3716280"/>
            <a:ext cx="2124000" cy="28814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5" descr="Andy.bmp"/>
          <p:cNvPicPr/>
          <p:nvPr/>
        </p:nvPicPr>
        <p:blipFill>
          <a:blip r:embed="rId7"/>
          <a:stretch/>
        </p:blipFill>
        <p:spPr>
          <a:xfrm>
            <a:off x="755640" y="15289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6" descr="Bill.bmp"/>
          <p:cNvPicPr/>
          <p:nvPr/>
        </p:nvPicPr>
        <p:blipFill>
          <a:blip r:embed="rId8"/>
          <a:stretch/>
        </p:blipFill>
        <p:spPr>
          <a:xfrm>
            <a:off x="539640" y="15289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7" descr="Joy.bmp"/>
          <p:cNvPicPr/>
          <p:nvPr/>
        </p:nvPicPr>
        <p:blipFill>
          <a:blip r:embed="rId9"/>
          <a:stretch/>
        </p:blipFill>
        <p:spPr>
          <a:xfrm>
            <a:off x="684360" y="155736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8" descr="Lily.bmp"/>
          <p:cNvPicPr/>
          <p:nvPr/>
        </p:nvPicPr>
        <p:blipFill>
          <a:blip r:embed="rId10"/>
          <a:stretch/>
        </p:blipFill>
        <p:spPr>
          <a:xfrm>
            <a:off x="684360" y="148428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9" descr="Yaoyao.bmp"/>
          <p:cNvPicPr/>
          <p:nvPr/>
        </p:nvPicPr>
        <p:blipFill>
          <a:blip r:embed="rId11"/>
          <a:stretch/>
        </p:blipFill>
        <p:spPr>
          <a:xfrm>
            <a:off x="539640" y="1484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3" descr="Mike.jpg"/>
          <p:cNvPicPr/>
          <p:nvPr/>
        </p:nvPicPr>
        <p:blipFill>
          <a:blip r:embed="rId12"/>
          <a:stretch/>
        </p:blipFill>
        <p:spPr>
          <a:xfrm>
            <a:off x="684360" y="1341360"/>
            <a:ext cx="2519280" cy="1889280"/>
          </a:xfrm>
          <a:prstGeom prst="rect">
            <a:avLst/>
          </a:prstGeom>
          <a:ln w="0">
            <a:noFill/>
          </a:ln>
        </p:spPr>
      </p:pic>
      <p:sp>
        <p:nvSpPr>
          <p:cNvPr id="95" name="矩形 43"/>
          <p:cNvSpPr/>
          <p:nvPr/>
        </p:nvSpPr>
        <p:spPr>
          <a:xfrm rot="808200">
            <a:off x="3071160" y="5025600"/>
            <a:ext cx="9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50"/>
                </a:solidFill>
                <a:latin typeface="GCFrutiger"/>
                <a:ea typeface="Times New Roman"/>
              </a:rPr>
              <a:t>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0" descr="he.jpg"/>
          <p:cNvPicPr/>
          <p:nvPr/>
        </p:nvPicPr>
        <p:blipFill>
          <a:blip r:embed="rId13"/>
          <a:srcRect l="28133" t="10427" r="28133" b="40235"/>
          <a:stretch/>
        </p:blipFill>
        <p:spPr>
          <a:xfrm rot="452400">
            <a:off x="3135240" y="4214520"/>
            <a:ext cx="720720" cy="792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she.jpg"/>
          <p:cNvPicPr/>
          <p:nvPr/>
        </p:nvPicPr>
        <p:blipFill>
          <a:blip r:embed="rId14"/>
          <a:srcRect l="33669" t="9270" r="25701" b="36577"/>
          <a:stretch/>
        </p:blipFill>
        <p:spPr>
          <a:xfrm rot="355200">
            <a:off x="5184720" y="4330800"/>
            <a:ext cx="760320" cy="760320"/>
          </a:xfrm>
          <a:prstGeom prst="rect">
            <a:avLst/>
          </a:prstGeom>
          <a:ln w="0">
            <a:noFill/>
          </a:ln>
        </p:spPr>
      </p:pic>
      <p:sp>
        <p:nvSpPr>
          <p:cNvPr id="98" name="矩形 46"/>
          <p:cNvSpPr/>
          <p:nvPr/>
        </p:nvSpPr>
        <p:spPr>
          <a:xfrm rot="21032400">
            <a:off x="4992840" y="514188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CFrutiger"/>
                <a:ea typeface="Times New Roman"/>
              </a:rPr>
              <a:t>s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1403280" y="47628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ang B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46 0.00046 C -0.13229 -0.00717 -0.10607 -0.00069 -0.08038 -0.00647 C -0.06892 -0.00578 -0.05729 -0.00601 -0.04583 -0.00439 C -0.04253 -0.0037 -0.03941 -0.00069 -0.03611 0.00046 C -0.02916 0.00301 -0.01354 0.00416 -0.00816 0.00486 C -0.00607 0.00786 -0.00451 0.01225 -0.00173 0.01387 C 0.00243 0.01642 0.00712 0.01549 0.01163 0.01642 C 0.02361 0.01896 0.0342 0.02266 0.04601 0.02543 C 0.0507 0.02983 0.05434 0.03491 0.0592 0.03908 C 0.06215 0.04555 0.0658 0.0511 0.06893 0.05734 C 0.07969 0.10197 0.07361 0.07191 0.07066 0.17133 C 0.07049 0.17942 0.06233 0.19214 0.06233 0.19237 C 0.06059 0.20902 0.06094 0.22405 0.04757 0.22844 C 0.04167 0.2363 0.04479 0.23098 0.04097 0.24671 C 0.03976 0.25202 0.03663 0.25595 0.03455 0.26035 C 0.03403 0.26173 0.02344 0.28902 0.02309 0.29017 C 0.0158 0.31399 0.02327 0.29804 0.0165 0.31723 C 0.01372 0.32486 0.0099 0.32856 0.0066 0.33572 C 0.00295 0.34312 -1.94443999999979E-006 0.35098 -0.0033 0.35838 C -0.00434 0.36069 -0.0066 0.36532 -0.0066 0.36555 C -0.00746 0.36948 -0.01024 0.38127 -0.01146 0.38358 C -0.01354 0.38821 -0.01962 0.39491 -0.01962 0.39515 C -0.02187 0.40416 -0.02691 0.41017 -0.03125 0.4178 C -0.0335 0.42197 -0.03385 0.42752 -0.03611 0.43168 C -0.03802 0.43468 -0.0408 0.43561 -0.04271 0.43838 C -0.04774 0.44624 -0.05052 0.45572 -0.05573 0.46358 C -0.06024 0.48093 -0.06423 0.50035 -0.07552 0.51145 C -0.07656 0.51376 -0.07725 0.51607 -0.07882 0.51815 C -0.08021 0.52023 -0.08246 0.52046 -0.08368 0.52254 C -0.08541 0.52532 -0.08541 0.52925 -0.08698 0.53179 C -0.09271 0.54173 -0.09184 0.5311 -0.09184 0.54081 E"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4104E-006 C 0.00017 0.00693 -5.55555999999903E-007 0.01387 0.00122 0.02104 C 0.00139 0.02173 0.01181 0.04138 0.01372 0.0437 C 0.01493 0.04531 0.01667 0.04531 0.01788 0.04601 C 0.0217 0.05133 0.02552 0.05387 0.02778 0.06057 C 0.02986 0.06589 0.02917 0.0689 0.03229 0.07329 C 0.03872 0.08162 0.0401 0.08069 0.04635 0.08601 C 0.04896 0.08786 0.05191 0.09202 0.05486 0.09248 C 0.06649 0.09364 0.07778 0.09364 0.08924 0.09433 C 0.15833 0.12855 0.23507 0.09734 0.30816 0.09849 C 0.36337 0.09942 0.41892 0.10173 0.47431 0.10266 C 0.5059 0.10589 0.53767 0.10751 0.56945 0.10913 C 0.57865 0.11352 0.58438 0.12855 0.59097 0.13849 C 0.5934 0.14867 0.59635 0.15583 0.60226 0.16138 C 0.61424 0.18844 0.61181 0.27815 0.59653 0.32115 C 0.59358 0.32994 0.58594 0.33688 0.58108 0.34451 C 0.58056 0.34728 0.58073 0.35052 0.57951 0.3526 C 0.57083 0.37156 0.5783 0.34335 0.57379 0.36323 C 0.57083 0.3882 0.57517 0.36647 0.56823 0.38196 C 0.56788 0.38335 0.56545 0.39653 0.56528 0.39676 C 0.56458 0.39907 0.56302 0.40092 0.5625 0.403 C 0.56129 0.4074 0.56059 0.41156 0.55972 0.41595 C 0.5592 0.4178 0.55833 0.42196 0.55833 0.42219 C 0.55938 0.44693 0.5625 0.47075 0.5625 0.49572 E">
                                      <p:cBhvr>
                                        <p:cTn id="9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4104E-006 C 0.00018 0.0067 -1.94444000000001E-006 0.0141 0.00104 0.02081 C 0.00122 0.0215 0.01372 0.04115 0.0165 0.04346 C 0.01771 0.04531 0.01979 0.04531 0.02136 0.04578 C 0.02552 0.05109 0.03021 0.05341 0.03316 0.06057 C 0.03559 0.06566 0.03455 0.0689 0.0382 0.07306 C 0.04584 0.08138 0.0474 0.08069 0.05538 0.08578 C 0.05834 0.08763 0.06181 0.09179 0.06545 0.09225 C 0.079 0.09364 0.09254 0.09364 0.10608 0.0941 C 0.18854 0.12809 0.28021 0.09711 0.36719 0.09849 C 0.43334 0.09942 0.49931 0.10173 0.56511 0.10266 C 0.6033 0.10566 0.6408 0.10728 0.679 0.1089 C 0.68959 0.11352 0.6967 0.12809 0.70434 0.13826 C 0.70712 0.14844 0.71077 0.15583 0.71788 0.16138 C 0.73229 0.18844 0.72917 0.27815 0.71111 0.32115 C 0.70747 0.32971 0.69809 0.33688 0.69236 0.34427 C 0.69202 0.34705 0.69202 0.35005 0.6908 0.3526 C 0.68056 0.37133 0.68924 0.34335 0.68386 0.363 C 0.68056 0.3882 0.68559 0.36624 0.67743 0.38173 C 0.67656 0.38312 0.67396 0.3963 0.67361 0.3963 C 0.67292 0.39907 0.67118 0.40092 0.67031 0.403 C 0.6691 0.40716 0.66806 0.41156 0.66684 0.41572 C 0.66632 0.41757 0.66528 0.42196 0.66528 0.42219 C 0.6665 0.4467 0.67031 0.47052 0.67031 0.49572 E">
                                      <p:cBhvr>
                                        <p:cTn id="10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-0.00023 C -0.00277 -0.00717 0.01893 -0.00139 0.04028 -0.0067 C 0.04983 -0.00601 0.05938 -0.00624 0.06893 -0.00462 C 0.0717 -0.00416 0.07431 -0.00139 0.07691 -0.00023 C 0.08282 0.00208 0.09584 0.00324 0.10018 0.00416 C 0.10191 0.00694 0.10313 0.01087 0.10556 0.01249 C 0.10903 0.0148 0.11285 0.01387 0.11667 0.0148 C 0.12657 0.01734 0.13542 0.02081 0.14514 0.02335 C 0.14914 0.02775 0.15209 0.03237 0.15608 0.0363 C 0.15868 0.04254 0.16164 0.04763 0.16424 0.05364 C 0.17327 0.09572 0.16823 0.06705 0.16563 0.16093 C 0.16545 0.16856 0.15868 0.18058 0.15868 0.18081 C 0.15729 0.19653 0.15764 0.21064 0.14653 0.2148 C 0.14167 0.2222 0.1441 0.21711 0.14098 0.23214 C 0.13993 0.23699 0.1375 0.24093 0.13559 0.24509 C 0.13525 0.24624 0.12639 0.27191 0.12622 0.27283 C 0.12014 0.29549 0.12622 0.28046 0.12066 0.29873 C 0.11841 0.30567 0.11528 0.30936 0.11233 0.31607 C 0.10938 0.32278 0.10712 0.33041 0.10417 0.33734 C 0.1033 0.33942 0.10157 0.34382 0.10157 0.34405 C 0.10087 0.34775 0.09861 0.35884 0.09757 0.36116 C 0.09584 0.36555 0.09063 0.37179 0.09063 0.37202 C 0.08889 0.38058 0.08473 0.3859 0.08125 0.3933 C 0.07917 0.39699 0.079 0.40254 0.07691 0.40624 C 0.07552 0.40925 0.07309 0.41017 0.07153 0.41272 C 0.06736 0.42035 0.06511 0.42913 0.06077 0.43653 C 0.05695 0.45272 0.05365 0.47121 0.04427 0.48162 C 0.04341 0.4837 0.04289 0.48601 0.04167 0.48809 C 0.04045 0.48994 0.03854 0.49017 0.0375 0.49225 C 0.03611 0.4948 0.03611 0.49827 0.03473 0.50104 C 0.02986 0.51029 0.03073 0.50035 0.03073 0.50936 E">
                                      <p:cBhvr>
                                        <p:cTn id="11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2775E-006 C 0.00017 0.0074 0.00017 0.0148 0.00087 0.02197 C 0.00104 0.02266 0.01024 0.04301 0.01215 0.04555 C 0.01285 0.04717 0.01424 0.04717 0.01545 0.04786 C 0.01858 0.05341 0.02222 0.05619 0.02431 0.06336 C 0.02587 0.06867 0.02517 0.07191 0.02813 0.0763 C 0.03351 0.08486 0.03472 0.08393 0.04045 0.08948 C 0.04236 0.09156 0.04514 0.09572 0.04792 0.09619 C 0.05764 0.09781 0.06771 0.09781 0.07778 0.0985 C 0.13802 0.13388 0.20504 0.10151 0.2684 0.10266 C 0.31684 0.10359 0.36493 0.10613 0.41337 0.10705 C 0.44115 0.11029 0.46875 0.11214 0.49653 0.11376 C 0.50434 0.11815 0.50955 0.13388 0.51493 0.14428 C 0.51684 0.15492 0.51962 0.16231 0.525 0.16833 C 0.53542 0.1963 0.53316 0.28994 0.51997 0.33457 C 0.51719 0.34382 0.51042 0.35122 0.50625 0.35885 C 0.5059 0.36162 0.50608 0.36486 0.50504 0.3674 C 0.49757 0.38705 0.50417 0.35769 0.50017 0.3785 C 0.49757 0.40463 0.50139 0.38174 0.49514 0.39815 C 0.49479 0.39908 0.49271 0.41318 0.49271 0.41341 C 0.49219 0.41572 0.49063 0.41757 0.49028 0.42012 C 0.48924 0.42451 0.48854 0.42914 0.4875 0.43307 C 0.48715 0.43538 0.48646 0.43977 0.48646 0.44 C 0.48733 0.4659 0.49028 0.49041 0.49028 0.51653 E">
                                      <p:cBhvr>
                                        <p:cTn id="12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3.23699E-006 C 0.00469 0.00786 0.00434 0.01618 0.00625 0.02497 C 0.00573 0.03237 0.00573 0.03953 0.00504 0.0467 C 0.00313 0.06289 -0.01337 0.08485 -0.0217 0.08948 C -0.02673 0.09526 -0.03142 0.10242 -0.0368 0.10705 C -0.04149 0.11098 -0.05087 0.11884 -0.05087 0.11907 C -0.05642 0.12832 -0.06302 0.13086 -0.06927 0.13849 C -0.07743 0.15861 -0.06337 0.12416 -0.07639 0.15214 C -0.08316 0.1667 -0.07621 0.15768 -0.08333 0.16578 C -0.08507 0.17456 -0.08958 0.17734 -0.09271 0.1852 C -0.09687 0.1963 -0.09652 0.20254 -0.10312 0.21063 C -0.10347 0.21248 -0.10347 0.21456 -0.10416 0.21641 C -0.10486 0.21803 -0.10625 0.21873 -0.10659 0.22034 C -0.10746 0.22404 -0.10729 0.2282 -0.10781 0.23214 C -0.10816 0.24716 -0.10746 0.26219 -0.10885 0.27699 C -0.1092 0.28046 -0.11632 0.28254 -0.11701 0.28277 C -0.12291 0.2837 -0.12864 0.28393 -0.13437 0.28462 C -0.13576 0.29179 -0.13559 0.28855 -0.13559 0.29456 E">
                                      <p:cBhvr>
                                        <p:cTn id="13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64 -0.00116 C -0.06545 -0.00717 -0.0474 -0.00208 -0.02986 -0.00671 C -0.02205 -0.00624 -0.01424 -0.00624 -0.00625 -0.00509 C -0.00399 -0.00463 -0.00191 -0.00208 0.00035 -0.00116 C 0.00521 0.00069 0.0158 0.00162 0.01944 0.00231 C 0.02101 0.00462 0.02205 0.00809 0.02396 0.00948 C 0.02674 0.01156 0.03003 0.01063 0.03299 0.01156 C 0.04132 0.01341 0.04844 0.01641 0.0566 0.0185 C 0.0599 0.02219 0.06233 0.02613 0.06563 0.02936 C 0.06771 0.03445 0.07014 0.03884 0.0724 0.04393 C 0.07969 0.0793 0.07552 0.05549 0.07344 0.13456 C 0.07326 0.14081 0.06788 0.15075 0.06788 0.15098 C 0.06649 0.16439 0.06684 0.17641 0.05781 0.17965 C 0.05365 0.18613 0.05573 0.18173 0.05313 0.19445 C 0.05226 0.19838 0.05017 0.20162 0.04878 0.20532 C 0.04844 0.20624 0.04115 0.22797 0.04097 0.2289 C 0.03594 0.24786 0.04097 0.23514 0.03628 0.25017 C 0.03455 0.25641 0.03194 0.25919 0.02951 0.2652 C 0.02708 0.27075 0.02517 0.27699 0.02274 0.283 C 0.02205 0.28485 0.02066 0.28855 0.02066 0.28878 C 0.01997 0.29179 0.01823 0.30104 0.01736 0.30312 C 0.0158 0.30682 0.01163 0.31214 0.01163 0.31237 C 0.01024 0.3193 0.00677 0.32393 0.00382 0.33017 C 0.00226 0.33341 0.00191 0.3378 0.00035 0.34104 C -0.00087 0.34335 -0.00278 0.34428 -0.00417 0.34636 C -0.00747 0.3526 -0.00955 0.36023 -0.01302 0.36647 C -0.01615 0.38034 -0.01875 0.39584 -0.02656 0.40439 C -0.02726 0.40624 -0.02778 0.40832 -0.02882 0.40994 C -0.02969 0.41156 -0.03142 0.41156 -0.03229 0.41341 C -0.03333 0.41572 -0.03333 0.4185 -0.03437 0.42081 C -0.03837 0.42867 -0.03767 0.42011 -0.03767 0.42774 E">
                                      <p:cBhvr>
                                        <p:cTn id="14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7 C 0.00018 0.00416 -1.38889000000008E-006 0.00855 0.00122 0.01295 C 0.00139 0.01341 0.01372 0.02566 0.01649 0.02705 C 0.01754 0.02821 0.01927 0.02821 0.02136 0.02844 C 0.02535 0.03168 0.03021 0.03329 0.03316 0.03746 C 0.03507 0.04092 0.03438 0.04301 0.03837 0.04555 C 0.04566 0.05064 0.04722 0.05017 0.05504 0.05341 C 0.05781 0.0548 0.06146 0.05711 0.06528 0.05757 C 0.0783 0.05827 0.09236 0.05827 0.10556 0.05896 C 0.18785 0.08023 0.27899 0.06081 0.36545 0.06127 C 0.4309 0.0622 0.49653 0.06358 0.5625 0.06405 C 0.60035 0.06566 0.63768 0.06682 0.67552 0.06798 C 0.68646 0.07075 0.6934 0.08023 0.7007 0.08624 C 0.70347 0.09272 0.70729 0.09711 0.71441 0.10081 C 0.72847 0.11769 0.72552 0.17364 0.70764 0.20046 C 0.70382 0.20624 0.69462 0.21064 0.68906 0.21503 C 0.68854 0.21688 0.68872 0.21896 0.68733 0.22012 C 0.67726 0.23191 0.68594 0.21457 0.6809 0.22705 C 0.67726 0.24254 0.68229 0.2289 0.67379 0.23861 C 0.67327 0.23954 0.67066 0.24763 0.67049 0.24786 C 0.66979 0.24925 0.66788 0.2504 0.66702 0.25202 C 0.66563 0.25433 0.66511 0.25734 0.66354 0.25988 C 0.66302 0.26104 0.66181 0.26358 0.66181 0.26381 C 0.6632 0.27931 0.66702 0.2941 0.66702 0.31006 E">
                                      <p:cBhvr>
                                        <p:cTn id="15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04624E-007 C 0.00035 0.00555 0.00017 0.01156 0.00139 0.01734 C 0.00156 0.01803 0.0151 0.03445 0.01788 0.0363 C 0.01927 0.03769 0.02135 0.03769 0.02326 0.03838 C 0.0276 0.04277 0.03281 0.04486 0.03594 0.05064 C 0.03837 0.0548 0.03733 0.05757 0.04167 0.06127 C 0.04948 0.06821 0.05139 0.06728 0.05972 0.07168 C 0.06285 0.07353 0.06649 0.07676 0.07083 0.07723 C 0.0849 0.07838 0.1 0.07838 0.11441 0.07884 C 0.20365 0.10728 0.30226 0.08139 0.39583 0.08231 C 0.46719 0.08301 0.53819 0.08509 0.60955 0.08578 C 0.65035 0.08855 0.69115 0.08994 0.73212 0.0911 C 0.74375 0.0948 0.75087 0.10728 0.75938 0.11584 C 0.76233 0.12416 0.76632 0.13017 0.77396 0.13503 C 0.78941 0.15746 0.78611 0.23283 0.76667 0.26867 C 0.76285 0.27607 0.7526 0.28208 0.74653 0.28809 C 0.74601 0.2904 0.74618 0.29318 0.74462 0.29503 C 0.73368 0.31075 0.74323 0.2874 0.73733 0.30381 C 0.73368 0.32486 0.73924 0.30659 0.73004 0.31977 C 0.72951 0.32069 0.72639 0.33179 0.72639 0.33202 C 0.72569 0.33387 0.72344 0.33549 0.72274 0.33734 C 0.72135 0.34081 0.72014 0.34451 0.7191 0.34798 C 0.7184 0.34959 0.71719 0.35283 0.71719 0.35329 C 0.71858 0.3741 0.72274 0.39399 0.72274 0.41503 E">
                                      <p:cBhvr>
                                        <p:cTn id="15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931 0.005648 L 0.098819 0.010741 L 0.107778 0.020926 L 0.119236 0.034537 L 0.124306 0.044722 L 0.128125 0.058241 L 0.129375 0.073519 L 0.129375 0.083796 L 0.129375 0.095648 L 0.129375 0.105833 L 0.129375 0.122778 L 0.129375 0.139815 L 0.125556 0.158426 L 0.121736 0.172037 L 0.117917 0.192407 L 0.114097 0.207685 L 0.109028 0.228056 L 0.105208 0.241667 L 0.101389 0.258611 L 0.097569 0.273889 L 0.0925 0.2875 L 0.088681 0.301111 L 0.084861 0.31463 L 0.081042 0.329907 L 0.075903 0.346944 L 0.072083 0.360463 L 0.068264 0.374074 L 0.065764 0.385926 L 0.063194 0.396111 L 0.060625 0.406296 L 0.056806 0.421574 L 0.054306 0.436852 L 0.051736 0.447037 L 0.049167 0.457222 L 0.047917 0.467407 L 0.047917 0.479352 L 0.047917 0.489537 L 0.047917 0.503148 L 0.047917 0.515 L 0.046667 0.528611 L 0.045347 0.54213 L 0.041528 0.559167 L 0.037708 0.574444 L 0.033889 0.586296 L 0.02625 0.598148 L 0.018611 0.606667 L 0.010972 0.616852 L 0.003333 0.623611 L -0.005556 0.633796 L -0.013194 0.637222 L -0.022153 0.640648 L -0.029792 0.645741 L -0.037431 0.654167 L -0.045069 0.662685 L -0.047569 0.67287 L -0.048889 0.683056 L -0.048889 0.693241 L -0.048889 0.703426 E">
                                      <p:cBhvr>
                                        <p:cTn id="16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1-18T00:04:36Z</dcterms:modified>
  <cp:revision>3</cp:revision>
  <dc:subject/>
  <dc:title>幻灯片 1</dc:title>
</cp:coreProperties>
</file>