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67C-02FD-4A92-933C-04354CA7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00B1-9AA6-4F8B-9397-1211DD12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0E57B-CA7B-4C02-AC96-08AC006E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3AD3D-A88A-4B64-952F-F8487FEA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0BB99-0444-44C5-85A9-05FBA5D3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49224-2F90-4F89-8D6E-9A11F211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0B80D-F9CC-42BA-8726-560E0EC5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8D061-70A5-4AA2-ACCE-B996296B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EC38D-B8C6-4000-B596-6F328DCC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5C853-466D-4D7B-B5D5-646D35D4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29B6B-81C5-4AC7-9FA6-2A1D25CB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BFD6A-C438-45F1-B218-C2344453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CBD-D41C-4ADA-AD8D-FE5C980F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E480C-0645-475C-BCCA-F6DDF1B7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2C8FC-8435-496F-BEC6-BD392413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81146-6FD7-4B75-BEB3-65DD48C4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F9629-C7E6-4771-BA8D-B73CA220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BACC9-84EA-4114-AB1A-5B91023D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80963-6E8B-4454-995D-B597985D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1BCC6-CF8C-4E82-A585-5716CBA2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4AA67-87EB-4A36-999D-6E633685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D8AF1-F015-4DDF-9F2A-D6092809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B1305-B78A-4197-B7B5-FD0022B7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FFA5-A368-4DB8-955B-06961A78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73927-6B64-47BA-9070-BB2340F6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264BC-C36C-4226-A8B1-C86F3A99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7588A-E6E0-452F-95E0-B524B240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87A36-A643-4610-9CA4-91B879FE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0BF41-77AC-4CA5-9134-720A16E4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D1355-982A-4C4D-B967-F49609A7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9DE62-BF1E-4532-A99B-54B0FA5A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DCE87-124E-4FA7-B3F9-39DB8226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6400E-5E9D-4764-AD41-B9AC7F10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91704-1535-465E-955F-FBA97676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5A52-5754-42B8-8944-FAC4CF78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CF57E-967C-4395-BBC7-4D27E341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22508-B957-4D03-B886-3BC178C1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16EB1-0734-4A6A-BBEA-B1B7960A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56CFB-84DA-4229-8BE3-8DB5048E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B91E2-B5E3-4DF1-95C3-831931E7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3AEA3-B514-4B30-96DF-ADE98525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45007-DB68-4BD5-B672-EEBB7DF0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C9088-7B1A-4F41-A41B-0CB1C03F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A2D8A-5910-48B4-9E50-D486BFC9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12B23-9394-43AC-90F3-35C69AF1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3557-BD1B-401D-B8B5-40BE6433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951E2-BFF7-4958-A21B-A5555AA4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4BC67-2607-447B-B301-8C549335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1570C-57DB-47AD-A067-997337BF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0192A-532B-4E5A-9F14-1E002403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47525-BFEF-4A06-8F02-59D3DE69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9D74-F118-44D8-B0E2-BC661989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BD5B-FE4A-496D-AD77-3402A89F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9E36-9AD8-468B-819E-E1FCFD60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5106-3622-4A40-B9D9-D98C4099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33A8-FCB0-43D8-9D04-3B83BF12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935-38C6-407E-946B-68DCB4BA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6340-5EC8-4A31-8646-490E60D6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34A4-416D-4EC6-BFF0-C4CA5B17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5162-60E5-4105-A7B2-076DF19F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E706-F576-4CAB-BB7A-19EB1B95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866F-E36A-4F3A-B8F7-B4EB3F5B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19A9C-9B9A-4B2E-9108-AEA320E2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6B6E3-B49A-4795-BFA3-D0D06F13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1203C-9C14-4E39-AB15-C9070405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3198F-696D-4188-B37A-FE0DFEB7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EBDB8-8061-4F1B-A2EA-D029E987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845-D20D-44FB-85FA-6111981D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FF0CA-D354-409A-8334-715B361C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D721C-CCB9-48A0-A24B-08750FC8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C9A7D-7B03-488A-BE16-68F33A76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24CBE-3D1C-491B-B766-C47F6546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D3317-7601-433E-9324-F5154A11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F0769-A588-4DB7-96B5-8648ABAF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DB845-657E-4D2E-9A7D-CB61A719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1B7B4-6A69-40E9-A6F2-6149903D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C503D-B4A1-44B0-A45E-18A50313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8FC8C-494D-412B-8991-D582E7A9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F37-BF2D-40DE-980E-B4B3BD2E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2D355-798B-415C-9A74-891903DC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8CA4C-A944-4A57-98A7-24ED3EF7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A1336-953B-4879-831B-574D10D4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2A081-6CBE-40C1-A818-2460A349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87782-B95F-44DE-8099-7D6873A3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6B5D0-EAE0-4A0E-9DF7-73FA2FCE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A3204-340F-4C25-A715-1DBD54F5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D97A0-63F6-44E1-A15D-95026E40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77083-3668-424A-A242-F0B8F05A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8E3D8-3741-47D7-ACDD-290BF21D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E0A-545E-4D46-BE9D-6EC2B1AB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2DD18-28B4-4F66-80B1-A75FC6E0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65B34-32FB-41E2-B9B4-29527DA1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69A0D-1DB0-4A1F-820E-924F78AB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0981D-AD99-4BFF-8AFF-9F102CDF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4E96F-012E-4A72-9889-8581C309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1B0F6-4395-42D3-90BE-1CD45B68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5D94F-AFDF-4DF8-97CE-70302531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56EB9-04A3-4433-AC9B-7054063A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74279-BE88-41A7-A27A-CFA2457C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1CFD4-39BF-4306-840F-79D4459A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797-555E-4507-818A-EC693E1C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8EC8D-06A0-4C49-9235-1BE70AC4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2865C-E783-48F0-B92B-517E34AA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9880B-8919-46BB-BBDE-55A19416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C8E75-B2F0-414C-8904-E4C60C4C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C92DB-8027-439C-AB19-7BBB6476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3C35B-4EAE-44D8-9B00-BF287F17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4503A-F89C-4FD8-9193-148BF774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7BCD3-CF32-427E-B920-9E0824C0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9F380-18EF-4B8B-9A0B-FEDF830D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F8581-DD71-4CDC-B358-A085EA7D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D33D-AC9C-4F5D-8376-808E3B52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3D984-2D32-4AF5-A143-A612BD49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8B2DD-9D37-47FA-BEEA-F7EC8A8C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96810-7410-4674-B7A4-14F20FA2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980E3-267A-47BB-AC5C-48898F4B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06A6D-5544-4DCD-9ABA-50A3D219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B0606-CF2A-4129-A5D4-07900A1C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F7690-40EA-4D1E-9153-D96322CE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E28E2-B770-409C-B277-9F453D93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8519F-9A8C-4BB6-BEC3-59940781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E8866-5C98-4535-814B-4223C8EF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9323-D035-4CA2-BBF3-942878B6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0BF58-8AB7-4C04-88D4-085FD931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0214D-D818-4052-B703-A7570678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2B099-BE93-4BC1-9F8A-101D55B5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C3E10-C9AA-4DF7-9631-393C5639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542A8-2F8D-495B-A982-46A4AE5C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C8067-C745-4590-B2DE-D009B10C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85F97-582F-4CE2-863A-D59786DA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A0BEB-49AD-4A4A-9B95-7052BC41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B147B-7453-4804-A10B-B59CBD65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87E6E-4750-4F00-B86F-6194A4DC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0DC1-3ACA-4DA0-94A0-0C60E73C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91A45-71B6-467E-8AAA-8B3B2FC8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A7F96-6E80-4A76-96E7-437CCE62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5B275-0BF5-4753-9240-0FB973DF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D4A73-E881-4CF2-A592-CB587C11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93B84-BE54-43F8-A710-D9359D7F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6B422-9FC3-4725-9CE7-2A55C8ED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9C546-ADC8-42C4-868F-326AB380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F2539-F6DA-4273-A941-C1AA257E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23251-F972-4123-9327-8EC5C9B3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C36B9-4640-43C6-BC97-BED968E7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6DE8-E68D-444C-876C-194E890E16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88DA-D6A0-41C5-BEC2-BDE6ABE3E7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F438-2066-4DBB-AB90-76744FB95B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4287-5DAD-4B7C-ABC4-B211229623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02C8-4790-4CD2-8391-8B3FF44FD5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E2A5-8771-40FB-8289-1020F9B7D2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ACEE-BE1F-4B8E-92EC-F9CE4C088B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729A-E500-4D98-8BC0-CC7DC75C70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7AD8-2439-404A-8FCE-EB86064991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4341-B0EE-4659-A343-3E2625A428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8958-FFC7-4DB5-B751-B151163E73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D487-8A1D-4912-A9F2-8C1B6F09F5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3" descr="gruop talk"/>
          <p:cNvPicPr/>
          <p:nvPr/>
        </p:nvPicPr>
        <p:blipFill>
          <a:blip r:embed="rId1"/>
          <a:stretch/>
        </p:blipFill>
        <p:spPr>
          <a:xfrm>
            <a:off x="1643040" y="2428920"/>
            <a:ext cx="6192720" cy="4968720"/>
          </a:xfrm>
          <a:prstGeom prst="rect">
            <a:avLst/>
          </a:prstGeom>
          <a:ln w="0">
            <a:noFill/>
          </a:ln>
        </p:spPr>
      </p:pic>
      <p:sp>
        <p:nvSpPr>
          <p:cNvPr id="493" name="WordArt 4"/>
          <p:cNvSpPr txBox="1"/>
          <p:nvPr/>
        </p:nvSpPr>
        <p:spPr>
          <a:xfrm>
            <a:off x="326880" y="622440"/>
            <a:ext cx="8569440" cy="388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Welcome to English Talent Show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u=905254141,3198040624&amp;fm=23&amp;gp=0[1]"/>
          <p:cNvPicPr/>
          <p:nvPr/>
        </p:nvPicPr>
        <p:blipFill>
          <a:blip r:embed="rId1"/>
          <a:srcRect l="0" t="0" r="0" b="10708"/>
          <a:stretch/>
        </p:blipFill>
        <p:spPr>
          <a:xfrm>
            <a:off x="0" y="18900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3"/>
          <p:cNvSpPr/>
          <p:nvPr/>
        </p:nvSpPr>
        <p:spPr>
          <a:xfrm>
            <a:off x="2050920" y="189000"/>
            <a:ext cx="65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Arial"/>
              </a:rPr>
              <a:t>         </a:t>
            </a:r>
            <a:r>
              <a:rPr b="0" lang="en-US" sz="6000" spc="-1" strike="noStrike">
                <a:solidFill>
                  <a:srgbClr val="ff00ff"/>
                </a:solidFill>
                <a:latin typeface="华文新魏"/>
                <a:ea typeface="华文新魏"/>
              </a:rPr>
              <a:t>Unit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华文新魏"/>
                <a:ea typeface="华文新魏"/>
              </a:rPr>
              <a:t> </a:t>
            </a:r>
            <a:r>
              <a:rPr b="0" lang="en-US" sz="6000" spc="-1" strike="noStrike">
                <a:solidFill>
                  <a:srgbClr val="ff00ff"/>
                </a:solidFill>
                <a:latin typeface="华文新魏"/>
                <a:ea typeface="华文新魏"/>
              </a:rPr>
              <a:t>Can I have a pet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5" descr="5unit4-1"/>
          <p:cNvPicPr/>
          <p:nvPr/>
        </p:nvPicPr>
        <p:blipFill>
          <a:blip r:embed="rId1">
            <a:lum contrast="24000"/>
          </a:blip>
          <a:srcRect l="26495" t="26271" r="57000" b="65381"/>
          <a:stretch/>
        </p:blipFill>
        <p:spPr>
          <a:xfrm>
            <a:off x="1332000" y="4221000"/>
            <a:ext cx="2663640" cy="18432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6" descr="5unit4-1"/>
          <p:cNvPicPr/>
          <p:nvPr/>
        </p:nvPicPr>
        <p:blipFill>
          <a:blip r:embed="rId2">
            <a:lum contrast="36000"/>
          </a:blip>
          <a:srcRect l="86787" t="10165" r="363" b="80108"/>
          <a:stretch/>
        </p:blipFill>
        <p:spPr>
          <a:xfrm>
            <a:off x="4716360" y="4581360"/>
            <a:ext cx="3311640" cy="13687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8" descr="5unit4-1"/>
          <p:cNvPicPr/>
          <p:nvPr/>
        </p:nvPicPr>
        <p:blipFill>
          <a:blip r:embed="rId3">
            <a:lum contrast="30000"/>
          </a:blip>
          <a:srcRect l="70848" t="43089" r="14385" b="49094"/>
          <a:stretch/>
        </p:blipFill>
        <p:spPr>
          <a:xfrm>
            <a:off x="3886200" y="1523880"/>
            <a:ext cx="2449440" cy="21402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0" descr="屋2"/>
          <p:cNvPicPr/>
          <p:nvPr/>
        </p:nvPicPr>
        <p:blipFill>
          <a:blip r:embed="rId4"/>
          <a:srcRect l="8814" t="15645" r="14779" b="13745"/>
          <a:stretch/>
        </p:blipFill>
        <p:spPr>
          <a:xfrm>
            <a:off x="6480000" y="762120"/>
            <a:ext cx="2664000" cy="19605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1" descr="宠物2"/>
          <p:cNvPicPr/>
          <p:nvPr/>
        </p:nvPicPr>
        <p:blipFill>
          <a:blip r:embed="rId5"/>
          <a:srcRect l="5513" t="3683" r="5513" b="7350"/>
          <a:stretch/>
        </p:blipFill>
        <p:spPr>
          <a:xfrm>
            <a:off x="609480" y="762120"/>
            <a:ext cx="2737080" cy="205236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12"/>
          <p:cNvSpPr/>
          <p:nvPr/>
        </p:nvSpPr>
        <p:spPr>
          <a:xfrm>
            <a:off x="1143000" y="28954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3"/>
          <p:cNvSpPr/>
          <p:nvPr/>
        </p:nvSpPr>
        <p:spPr>
          <a:xfrm>
            <a:off x="4038480" y="365760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rab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7162920" y="28195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5"/>
          <p:cNvSpPr/>
          <p:nvPr/>
        </p:nvSpPr>
        <p:spPr>
          <a:xfrm>
            <a:off x="1752480" y="59436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 c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6"/>
          <p:cNvSpPr/>
          <p:nvPr/>
        </p:nvSpPr>
        <p:spPr>
          <a:xfrm>
            <a:off x="5796000" y="595008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bas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2"/>
          <p:cNvSpPr/>
          <p:nvPr/>
        </p:nvSpPr>
        <p:spPr>
          <a:xfrm>
            <a:off x="990720" y="1066680"/>
            <a:ext cx="2209680" cy="18288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3"/>
          <p:cNvSpPr/>
          <p:nvPr/>
        </p:nvSpPr>
        <p:spPr>
          <a:xfrm>
            <a:off x="1523880" y="4114800"/>
            <a:ext cx="2210040" cy="18288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4"/>
          <p:cNvSpPr/>
          <p:nvPr/>
        </p:nvSpPr>
        <p:spPr>
          <a:xfrm>
            <a:off x="5638680" y="4191120"/>
            <a:ext cx="2210040" cy="18288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5"/>
          <p:cNvSpPr/>
          <p:nvPr/>
        </p:nvSpPr>
        <p:spPr>
          <a:xfrm>
            <a:off x="6553080" y="533520"/>
            <a:ext cx="2210040" cy="18288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6"/>
          <p:cNvSpPr/>
          <p:nvPr/>
        </p:nvSpPr>
        <p:spPr>
          <a:xfrm>
            <a:off x="3886200" y="1981080"/>
            <a:ext cx="2209680" cy="18288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0" y="981000"/>
            <a:ext cx="950580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ask1: I can read.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et \ rabbit \ basket \ 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要求：发音正确，发动全班积极参与，做到激情饱满、自信大方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展示提示：采用游戏形式带读。如：埋炸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开火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快速反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心有灵犀等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ask2: Best Actor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情景剧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角色扮演或自编情景演绎，看哪组情景安排最具创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共同体合作，灵活运用新句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-Can I have a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pet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?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Yes, you c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-Can I have a basket for my pet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?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o, you can’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3"/>
          <p:cNvSpPr txBox="1"/>
          <p:nvPr/>
        </p:nvSpPr>
        <p:spPr>
          <a:xfrm>
            <a:off x="2771640" y="262080"/>
            <a:ext cx="3673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Show Tim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3"/>
          <p:cNvSpPr/>
          <p:nvPr/>
        </p:nvSpPr>
        <p:spPr>
          <a:xfrm>
            <a:off x="5334120" y="5697360"/>
            <a:ext cx="99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1720440" y="476280"/>
            <a:ext cx="477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巩固提升：完成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P23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部分练习。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4"/>
          <p:cNvSpPr/>
          <p:nvPr/>
        </p:nvSpPr>
        <p:spPr>
          <a:xfrm>
            <a:off x="546120" y="1193760"/>
            <a:ext cx="7302600" cy="25560"/>
          </a:xfrm>
          <a:prstGeom prst="line">
            <a:avLst/>
          </a:prstGeom>
          <a:ln w="12600">
            <a:solidFill>
              <a:srgbClr val="ffcc66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611280" y="2895480"/>
            <a:ext cx="114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611280" y="3733920"/>
            <a:ext cx="114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839880" y="1981080"/>
            <a:ext cx="98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685800" y="11430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T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763920" y="4648320"/>
            <a:ext cx="98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WordArt 4"/>
          <p:cNvSpPr txBox="1"/>
          <p:nvPr/>
        </p:nvSpPr>
        <p:spPr>
          <a:xfrm>
            <a:off x="468360" y="1916280"/>
            <a:ext cx="8675640" cy="19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Thank you for listening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  </dc:description>
  <cp:keywords/>
  <dc:language>en-US</dc:language>
  <cp:lastModifiedBy>宋玉交</cp:lastModifiedBy>
  <dcterms:modified xsi:type="dcterms:W3CDTF">2015-02-12T15:19:49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