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789-980A-4383-8E49-2BCBA43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118-AAC3-49E2-A0F1-A6FAB0EF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4859D-ACD1-47A6-9A63-8408811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5184C-3CBA-4D91-B82F-0A1F240E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188F4-C8F7-4D1E-A1A0-313933ED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8AE54-FF75-41F2-8052-7A5BF2C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C79BB-4629-46C0-B35F-8132F09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A4296-54C7-403E-B4C7-19F2C32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FAEF-B181-481B-9E66-B34B06E8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6CF86-5734-40B6-8FC3-33B9B7F3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05C0-904B-4DF5-ADDC-2EBD7811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35E59-B8C3-47DC-8A1B-7949A64A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63F-C4B9-4640-AD08-84634E7E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AB2C8-001D-4E6D-A5A6-50CB36FB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F86D7-74CB-4949-A349-FDF1CE4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6FFF2-2709-4C19-8F1B-B31D89B6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9C0EF-EEA8-4DE1-95DF-37358E36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29F61-EA2D-4062-9BFD-E502ED26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ABE1A-4E6B-4BF7-ABDF-6BCC5B4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C49B4-1F9A-49A8-882E-20DE9A7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5FC6B-2F21-4EA6-8115-BC725DA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116F4-AA0B-4FA2-AA0E-F3BD732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DC809-B5EB-4C4E-AED0-DB0E9FA4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B6D-4267-4275-A66A-54A1D67B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ABA99-5447-45A7-99D2-50C8B942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8A3D9-5182-4C21-B5C7-B74E60B0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76A8C-C2D0-4228-95BC-462EC5F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8783-B0D5-4580-8023-51632010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CBD44-A329-40EE-ABA0-9779AA4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B6629-19F1-4780-9558-BFCFDCF5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9BDF0-8120-49F4-A282-4380000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AD7E2-E4AC-4EFB-B60C-D3729FD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2E9A3-7A8D-4233-A525-8F47595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603AF-A9D4-45A9-9F81-266262C8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63CD-2EC1-4395-814B-0EE915B3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4141E-1D69-4CEB-A15E-131F5D63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AE038-ABBF-4A8C-9A6D-E0D2046F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CEC0-2366-4594-95D4-D673F51B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32EE0-7279-4F6E-8048-19985168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3A42C-8880-44A1-A7AB-F4016F7B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E19E0-E39C-4A0A-BF45-F98833C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F22A1-6567-44C6-B67B-17171A3E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D8E8F-AEF5-4A3D-8130-C3D0604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D00F3-77FF-4D8E-AE44-B55351B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E3ED9-F9FF-4B04-8621-D971E9E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FC7-5B0C-4F57-BD52-53E09B4C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D22E4-7860-4E64-A32A-BDDCD03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BBF8C-0999-49A2-A7D3-57E1E8F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FB94A-E2E5-468C-9D62-D7378404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C310-DCE6-4D64-B082-CD11230A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118BA-3B7B-4782-9495-D5D964C3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12D77-366C-45A0-A75F-22AB3C1B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A417A-D6BD-4010-B3FB-35E64BB0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6893F-8162-46C0-AB65-51888F6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CD4D2-8FB7-4D1B-9473-53E2D1F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82D8C-1A15-428A-9656-155DB9CB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009-9E8F-4E58-9739-0ABFDF5D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BCB47-D9A7-48F4-A59A-8787485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7F4B3-7278-49AE-B4DE-59C499A7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0BA63-C98C-4F26-9EAB-A75A4F85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600A2-7244-4934-BC16-3903781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FCFDC-3E2E-48F6-9280-57106F03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85143-EF6D-40D0-8B03-1D928142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026CE-47DF-4586-BB39-9609C282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DA6A-270C-43A8-A03B-56EB33E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B23-0066-4BBC-B908-EB82EB9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7AE4-D8C6-4CA1-8B18-5B61CB83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C4DD-0A1E-4947-A568-E82A8723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90D-1CB7-4943-A309-03E43292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307-355A-4864-8C93-B805E24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8C7-D520-48C0-9ABB-F0E6D32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06AC-5E89-454F-97BA-DF52E3C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976-6203-42D0-8F0A-47E70C5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88A4-18C0-491C-B793-7CF9C160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DE47-45FB-4DBC-A227-CDAFD7BF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1098-5CB4-4EC3-B496-4C626C3D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925A-EEA6-4B2F-8444-DA8BB72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B598-305F-4432-AE72-2D81689E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1B06-3D4F-4526-BF7F-EF8351B9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6D3-6FB2-41A4-B71C-77FB380D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DDC0-F9B1-4BB6-967B-4CAE0D58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40BD-B729-4011-B569-894F43F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D556-2CCA-4C75-93EA-0B60009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C20B-D650-4646-A279-F770ECFB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D92A-5827-47D9-865E-EA72BE1D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9CC9-FF2F-4F06-832F-930ABD31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B4A3-937D-499D-BAFE-67B56EAA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168C-7BD0-4BDE-AB90-85E46470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E0F63-142C-42BC-AB9B-542056A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C871-C99C-4DF5-82DC-7B5E9F7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598-3ACC-4044-A172-1B23C7D3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56B5-B32B-44CD-971C-8A5D8CC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6A02-68D4-4497-9BE3-63B8361F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EBD1-A5CC-4D4C-9F61-5C18F2DD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1235-8078-4CF8-B8E9-164C65C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71DA-CF77-48E7-92FF-5FC138A1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2364-6777-4BFE-96E4-1CB91346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8D8C-CEDC-486D-B1EB-6DF5E98E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7851-72E2-42F0-85AF-8B89929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7E2A-E478-482C-BDF5-BBFDDD1D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D9FB-9667-4281-999F-7EF61C4E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054-C0ED-43C0-855A-0C7D0FC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6CB6-6B1B-4ECA-9A36-AE03EEC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C78D-9742-4FB3-AAA3-437A75A3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832D7-7B93-4DED-A709-8D967C3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ABDE-BE05-4780-AC8C-791B019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7531-7044-4880-A0C3-0D43CB01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98CF-EB43-4835-84AB-8FC075E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8A49-5D76-4FDC-B44A-71CAFEC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0D7CC-FA00-47E5-AFB8-E417B0EB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755E-6122-429A-82FD-04D8D496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D18F-5026-4F2E-8A20-56ACF44E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D31-CABF-4B54-B7A5-0E4EEAA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1FC8-4665-4BBA-9AF0-BB5817E9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75A5-0A53-4BD5-96A9-01A8170F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4AB8-D41E-4A0D-B1EF-A80683A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529E-FEE2-42B4-852C-9D1DF305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865E-EB32-460F-87AC-7550DF8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C7C7-C61B-4CFE-99DE-B453B065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9B171-D756-4BC8-8EAF-95B6A59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5E98-D61B-4885-9D37-D8C3BB6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E721-B8FC-481F-8AB0-5E4DFAB7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321C-F634-472F-972F-DD8C2C0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8F7-BED5-4F9A-BCC9-B774C2D8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5E5B-DD67-4EAD-BF52-86FA41C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175B0-A4FF-4E5D-A552-37DC84A9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9446D-31EF-4379-9D8D-A3C6E0D7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1058-C460-4CDD-A9E6-56BD5644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44E60-7DFB-449E-8E36-92DB55DD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BCF79-80BB-4541-AB8D-BFBF40F2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6139-B744-46A6-BEAD-B3C7488C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5FF6-4F12-4AAC-A178-60C0F120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F6EF2-B5EB-48D7-AEB6-A573C6C5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6158-44AB-4528-B2B2-85A0575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21D-1564-4CAF-98AD-B63BD79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171B-5C23-4517-B477-36A4A8E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6962-15FE-4700-9BFB-82D4B49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E21D-8289-4771-AD23-AAD075C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5C61-A241-4A0E-8A92-CF801261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B3E41-4D15-4A4C-B576-6AD1B162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DE731-A285-4010-89F2-89BF8F3A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85611-EE96-487D-B46C-68F1FFE9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33F8F-D422-444B-8DB8-BBE80FA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B1C3D-9650-4E7D-ACED-08415FA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EF01-A80C-44B1-B74B-C10364D1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D4D-3C33-4883-A0B5-B7E968D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41A2-1F89-4307-8C86-D902871A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E6F3-2433-4E72-8B77-2E3F9CA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4A31D-8272-4C30-8C75-6C77FB00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48D9A-226F-4824-B129-A8C93F8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FC4A-406A-437A-AE2B-8353F2A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4663B-A51F-43E0-903C-520150D9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1413-0377-47D5-AF7B-DE42A79A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A23B-D730-41D8-9DE4-53748A69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8625D-2C7D-4AA9-9201-41E318BB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FD781-52DE-450C-8E45-1AA42DC5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AB0-7FE7-426D-9691-4AC274E53F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A06-1830-4E88-A6D0-D36D5DA33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F21-5A09-421B-AB99-95E457080B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9E1D-C98E-4618-A235-6C403ABEA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7326-D547-47A3-B8DE-F0A9A2C529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0639-9C7C-4C92-949E-AE6DF3B81A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716D-87E4-4AD3-88A3-3ABFE1426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082-5458-448E-BCD0-550D587D93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AA1-FEE2-4182-9E5E-56EA7BA4F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436-755C-453E-A1DE-6429EFF7E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FD3-7B65-4354-9B0C-C4DB565A3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76B8-DD36-49BF-A0A0-DA6462640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375-D3EF-47F7-9EBE-8A11212E0B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4.jpeg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5.jpeg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image" Target="../media/image7.jpe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4 Can I use your pencil, pl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nese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3" descr="IMG_20140922_102828">
            <a:hlinkClick r:id="rId1"/>
          </p:cNvPr>
          <p:cNvPicPr/>
          <p:nvPr/>
        </p:nvPicPr>
        <p:blipFill>
          <a:blip r:embed="rId2"/>
          <a:srcRect l="19972" t="0" r="20034" b="0"/>
          <a:stretch/>
        </p:blipFill>
        <p:spPr>
          <a:xfrm>
            <a:off x="3429000" y="3049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IMG_20140922_1028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8088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IMG_20140922_104010">
            <a:hlinkClick r:id="rId5"/>
          </p:cNvPr>
          <p:cNvPicPr/>
          <p:nvPr/>
        </p:nvPicPr>
        <p:blipFill>
          <a:blip r:embed="rId6"/>
          <a:srcRect l="8020" t="0" r="11771" b="8474"/>
          <a:stretch/>
        </p:blipFill>
        <p:spPr>
          <a:xfrm>
            <a:off x="6629400" y="4343400"/>
            <a:ext cx="2293920" cy="2286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IMG_20140922_1049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0400" y="4419720"/>
            <a:ext cx="2857680" cy="2155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IMG_20140922_104316">
            <a:hlinkClick r:id="rId9"/>
          </p:cNvPr>
          <p:cNvPicPr/>
          <p:nvPr/>
        </p:nvPicPr>
        <p:blipFill>
          <a:blip r:embed="rId10"/>
          <a:srcRect l="0" t="3626" r="2533" b="11912"/>
          <a:stretch/>
        </p:blipFill>
        <p:spPr>
          <a:xfrm>
            <a:off x="6248520" y="228600"/>
            <a:ext cx="2508120" cy="2590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IMG_20140922_144948">
            <a:hlinkClick r:id="rId11"/>
          </p:cNvPr>
          <p:cNvPicPr/>
          <p:nvPr/>
        </p:nvPicPr>
        <p:blipFill>
          <a:blip r:embed="rId12"/>
          <a:srcRect l="13048" t="8498" r="8825" b="12549"/>
          <a:stretch/>
        </p:blipFill>
        <p:spPr>
          <a:xfrm>
            <a:off x="228600" y="4495680"/>
            <a:ext cx="2743200" cy="20829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9"/>
          <p:cNvSpPr/>
          <p:nvPr/>
        </p:nvSpPr>
        <p:spPr>
          <a:xfrm>
            <a:off x="2895480" y="327672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lay  a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感知课文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is a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ar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粗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oy. Today ,he go to school with nothing. So he want to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bor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from his class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isten to what does Peter b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borrow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use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借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IMG_20140922_104755"/>
          <p:cNvPicPr/>
          <p:nvPr/>
        </p:nvPicPr>
        <p:blipFill>
          <a:blip r:embed="rId1"/>
          <a:stretch/>
        </p:blipFill>
        <p:spPr>
          <a:xfrm>
            <a:off x="1547640" y="1700280"/>
            <a:ext cx="606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 Here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nglish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use your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hinese 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please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r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a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again and answer this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hat does Peter b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 borrow pencil, ruler, English book.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Where are Peter’s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’re in his schoolb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Where is Peter’s schoolb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 schoolbag is at h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What do you think of P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ter is a careless 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loud Unit 4 and write the n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宋玉交</cp:lastModifiedBy>
  <dcterms:modified xsi:type="dcterms:W3CDTF">2015-02-14T16:42:34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