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B21-17DF-471C-AFD7-5F1FFB46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5EC-0C42-4AFF-9C3C-0BF04C5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4C6-530B-4803-ABD7-03EC4F2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18A-692F-4191-96C7-C41F419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D02-6CF5-4DD0-BF4C-77F4567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41E-C73B-4143-B483-E24299C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02D-1957-476D-9CDB-0ABAB36F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FF0-C4FA-4737-8C7F-E9D02314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47D-52D3-48DA-8731-1D85B8A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D3E-A5B8-44DD-906F-B64BC2E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F54-C691-47C7-A244-DD01016D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D91-1935-4EB6-A92F-BE01A17F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A401-3A0F-4C17-8931-187B4DB1A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2147040" y="4036320"/>
            <a:ext cx="1144800" cy="962280"/>
            <a:chOff x="214704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22161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224208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田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4147560" y="4115160"/>
            <a:ext cx="1032840" cy="804240"/>
            <a:chOff x="414756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416052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418536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跳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5978520" y="4317120"/>
            <a:ext cx="1114560" cy="916560"/>
            <a:chOff x="597852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603216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605556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射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7" name="图片 43" descr="1.png"/>
          <p:cNvPicPr/>
          <p:nvPr/>
        </p:nvPicPr>
        <p:blipFill>
          <a:blip r:embed="rId2"/>
          <a:stretch/>
        </p:blipFill>
        <p:spPr>
          <a:xfrm>
            <a:off x="2155680" y="2090880"/>
            <a:ext cx="565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39640" y="2133720"/>
          <a:ext cx="2664000" cy="1871640"/>
        </p:xfrm>
        <a:graphic>
          <a:graphicData uri="http://schemas.openxmlformats.org/drawingml/2006/table">
            <a:tbl>
              <a:tblPr/>
              <a:tblGrid>
                <a:gridCol w="647640"/>
                <a:gridCol w="1152720"/>
                <a:gridCol w="8636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排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金牌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俄罗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3371760" y="2133720"/>
          <a:ext cx="2664000" cy="1871640"/>
        </p:xfrm>
        <a:graphic>
          <a:graphicData uri="http://schemas.openxmlformats.org/drawingml/2006/table">
            <a:tbl>
              <a:tblPr/>
              <a:tblGrid>
                <a:gridCol w="647640"/>
                <a:gridCol w="1152720"/>
                <a:gridCol w="8636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排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金牌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俄罗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6211800" y="2133720"/>
          <a:ext cx="2664000" cy="1871640"/>
        </p:xfrm>
        <a:graphic>
          <a:graphicData uri="http://schemas.openxmlformats.org/drawingml/2006/table">
            <a:tbl>
              <a:tblPr/>
              <a:tblGrid>
                <a:gridCol w="647640"/>
                <a:gridCol w="1152720"/>
                <a:gridCol w="8636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排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金牌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1368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英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26"/>
          <p:cNvSpPr/>
          <p:nvPr/>
        </p:nvSpPr>
        <p:spPr>
          <a:xfrm>
            <a:off x="450720" y="13176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雅典奥运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金牌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7"/>
          <p:cNvSpPr/>
          <p:nvPr/>
        </p:nvSpPr>
        <p:spPr>
          <a:xfrm>
            <a:off x="3276720" y="1341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北京奥运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金牌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8"/>
          <p:cNvSpPr/>
          <p:nvPr/>
        </p:nvSpPr>
        <p:spPr>
          <a:xfrm>
            <a:off x="6084720" y="1341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伦敦奥运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金牌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片 29" descr="1.png"/>
          <p:cNvPicPr/>
          <p:nvPr/>
        </p:nvPicPr>
        <p:blipFill>
          <a:blip r:embed="rId1"/>
          <a:stretch/>
        </p:blipFill>
        <p:spPr>
          <a:xfrm>
            <a:off x="468360" y="4495680"/>
            <a:ext cx="3238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900000" y="1084320"/>
            <a:ext cx="1366920" cy="42372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16"/>
          <p:cNvGrpSpPr/>
          <p:nvPr/>
        </p:nvGrpSpPr>
        <p:grpSpPr>
          <a:xfrm>
            <a:off x="900000" y="1612800"/>
            <a:ext cx="7427880" cy="2303640"/>
            <a:chOff x="900000" y="1612800"/>
            <a:chExt cx="7427880" cy="2303640"/>
          </a:xfrm>
        </p:grpSpPr>
        <p:sp>
          <p:nvSpPr>
            <p:cNvPr id="733" name="折角形 13"/>
            <p:cNvSpPr/>
            <p:nvPr/>
          </p:nvSpPr>
          <p:spPr>
            <a:xfrm>
              <a:off x="900000" y="1612800"/>
              <a:ext cx="7427880" cy="2303640"/>
            </a:xfrm>
            <a:prstGeom prst="foldedCorner">
              <a:avLst>
                <a:gd name="adj" fmla="val 17277"/>
              </a:avLst>
            </a:prstGeom>
            <a:solidFill>
              <a:srgbClr val="ebeeca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" descr=""/>
            <p:cNvPicPr/>
            <p:nvPr/>
          </p:nvPicPr>
          <p:blipFill>
            <a:blip r:embed="rId2"/>
            <a:stretch/>
          </p:blipFill>
          <p:spPr>
            <a:xfrm>
              <a:off x="5180400" y="2015640"/>
              <a:ext cx="298440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Box 15"/>
            <p:cNvSpPr/>
            <p:nvPr/>
          </p:nvSpPr>
          <p:spPr>
            <a:xfrm>
              <a:off x="995760" y="1793160"/>
              <a:ext cx="41364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2004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年奥运会上，中国选手刘翔在男子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110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米栏的比赛中获得了冠军，并打破了当时该项目的奥运会纪录，平了该项目的世界纪录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Box 17"/>
          <p:cNvSpPr/>
          <p:nvPr/>
        </p:nvSpPr>
        <p:spPr>
          <a:xfrm>
            <a:off x="611280" y="4005360"/>
            <a:ext cx="85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表是冠军、亚军和第三名运动员的成绩，分别相差多少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243160" y="4978440"/>
          <a:ext cx="4140000" cy="1403280"/>
        </p:xfrm>
        <a:graphic>
          <a:graphicData uri="http://schemas.openxmlformats.org/drawingml/2006/table">
            <a:tbl>
              <a:tblPr/>
              <a:tblGrid>
                <a:gridCol w="647640"/>
                <a:gridCol w="1763640"/>
                <a:gridCol w="17287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9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拉梅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18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加西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2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8" name="TextBox 20"/>
          <p:cNvSpPr/>
          <p:nvPr/>
        </p:nvSpPr>
        <p:spPr>
          <a:xfrm>
            <a:off x="2482920" y="4494240"/>
            <a:ext cx="36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男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栏决赛成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900000" y="1084320"/>
            <a:ext cx="1366920" cy="423720"/>
          </a:xfrm>
          <a:prstGeom prst="rect">
            <a:avLst/>
          </a:prstGeom>
          <a:ln w="0">
            <a:noFill/>
          </a:ln>
        </p:spPr>
      </p:pic>
      <p:sp>
        <p:nvSpPr>
          <p:cNvPr id="740" name="TextBox 63"/>
          <p:cNvSpPr/>
          <p:nvPr/>
        </p:nvSpPr>
        <p:spPr>
          <a:xfrm>
            <a:off x="504720" y="3429000"/>
            <a:ext cx="80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上表的数据，判断下面的两幅图，哪幅能描述当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决赛的冲刺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2448000" y="1992240"/>
          <a:ext cx="4140000" cy="1403280"/>
        </p:xfrm>
        <a:graphic>
          <a:graphicData uri="http://schemas.openxmlformats.org/drawingml/2006/table">
            <a:tbl>
              <a:tblPr/>
              <a:tblGrid>
                <a:gridCol w="647640"/>
                <a:gridCol w="1763640"/>
                <a:gridCol w="17287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9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拉梅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18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加西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2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2" name="TextBox 65"/>
          <p:cNvSpPr/>
          <p:nvPr/>
        </p:nvSpPr>
        <p:spPr>
          <a:xfrm>
            <a:off x="2687760" y="1508040"/>
            <a:ext cx="36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男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栏决赛成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9" descr=""/>
          <p:cNvPicPr/>
          <p:nvPr/>
        </p:nvPicPr>
        <p:blipFill>
          <a:blip r:embed="rId2"/>
          <a:stretch/>
        </p:blipFill>
        <p:spPr>
          <a:xfrm>
            <a:off x="1042920" y="4348080"/>
            <a:ext cx="6931080" cy="2079720"/>
          </a:xfrm>
          <a:prstGeom prst="rect">
            <a:avLst/>
          </a:prstGeom>
          <a:ln w="0">
            <a:noFill/>
          </a:ln>
        </p:spPr>
      </p:pic>
      <p:sp>
        <p:nvSpPr>
          <p:cNvPr id="7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900000" y="1084320"/>
            <a:ext cx="1366920" cy="423720"/>
          </a:xfrm>
          <a:prstGeom prst="rect">
            <a:avLst/>
          </a:prstGeom>
          <a:ln w="0">
            <a:noFill/>
          </a:ln>
        </p:spPr>
      </p:pic>
      <p:sp>
        <p:nvSpPr>
          <p:cNvPr id="748" name="TextBox 63"/>
          <p:cNvSpPr/>
          <p:nvPr/>
        </p:nvSpPr>
        <p:spPr>
          <a:xfrm>
            <a:off x="504720" y="3429000"/>
            <a:ext cx="80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时男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栏的奥运会纪录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，刘翔用的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间少了多少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448000" y="1992240"/>
          <a:ext cx="4140000" cy="1403280"/>
        </p:xfrm>
        <a:graphic>
          <a:graphicData uri="http://schemas.openxmlformats.org/drawingml/2006/table">
            <a:tbl>
              <a:tblPr/>
              <a:tblGrid>
                <a:gridCol w="647640"/>
                <a:gridCol w="1763640"/>
                <a:gridCol w="17287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9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拉梅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18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加西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2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1368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TextBox 65"/>
          <p:cNvSpPr/>
          <p:nvPr/>
        </p:nvSpPr>
        <p:spPr>
          <a:xfrm>
            <a:off x="2687760" y="1508040"/>
            <a:ext cx="36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男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栏决赛成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63"/>
          <p:cNvSpPr/>
          <p:nvPr/>
        </p:nvSpPr>
        <p:spPr>
          <a:xfrm>
            <a:off x="504720" y="3949560"/>
            <a:ext cx="802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是三名运动员最后一跳的得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5" descr="2.png"/>
          <p:cNvPicPr/>
          <p:nvPr/>
        </p:nvPicPr>
        <p:blipFill>
          <a:blip r:embed="rId1"/>
          <a:stretch/>
        </p:blipFill>
        <p:spPr>
          <a:xfrm>
            <a:off x="900000" y="1092240"/>
            <a:ext cx="1403640" cy="42552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11"/>
          <p:cNvGrpSpPr/>
          <p:nvPr/>
        </p:nvGrpSpPr>
        <p:grpSpPr>
          <a:xfrm>
            <a:off x="900000" y="1612800"/>
            <a:ext cx="7427880" cy="2303640"/>
            <a:chOff x="900000" y="1612800"/>
            <a:chExt cx="7427880" cy="2303640"/>
          </a:xfrm>
        </p:grpSpPr>
        <p:grpSp>
          <p:nvGrpSpPr>
            <p:cNvPr id="757" name="组合 6"/>
            <p:cNvGrpSpPr/>
            <p:nvPr/>
          </p:nvGrpSpPr>
          <p:grpSpPr>
            <a:xfrm>
              <a:off x="900000" y="1612800"/>
              <a:ext cx="7427880" cy="2303640"/>
              <a:chOff x="900000" y="1612800"/>
              <a:chExt cx="7427880" cy="2303640"/>
            </a:xfrm>
          </p:grpSpPr>
          <p:sp>
            <p:nvSpPr>
              <p:cNvPr id="758" name="折角形 7"/>
              <p:cNvSpPr/>
              <p:nvPr/>
            </p:nvSpPr>
            <p:spPr>
              <a:xfrm>
                <a:off x="900000" y="1612800"/>
                <a:ext cx="7427880" cy="2303640"/>
              </a:xfrm>
              <a:prstGeom prst="foldedCorner">
                <a:avLst>
                  <a:gd name="adj" fmla="val 17277"/>
                </a:avLst>
              </a:prstGeom>
              <a:solidFill>
                <a:srgbClr val="ebeeca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Box 9"/>
              <p:cNvSpPr/>
              <p:nvPr/>
            </p:nvSpPr>
            <p:spPr>
              <a:xfrm>
                <a:off x="995760" y="1729080"/>
                <a:ext cx="472824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</a:rPr>
                  <a:t>2008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</a:rPr>
                  <a:t>年奥运会男子单人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</a:rPr>
                  <a:t>米跳板比赛中，何冲以领先第二名德斯帕蒂耶斯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</a:rPr>
                  <a:t>32.45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</a:rPr>
                  <a:t>分的优势进入最后一跳，秦凯则落后德斯帕蒂耶斯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</a:rPr>
                  <a:t>7.65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</a:rPr>
                  <a:t>分，排名第三。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0" name="Picture 2" descr=""/>
            <p:cNvPicPr/>
            <p:nvPr/>
          </p:nvPicPr>
          <p:blipFill>
            <a:blip r:embed="rId2"/>
            <a:stretch/>
          </p:blipFill>
          <p:spPr>
            <a:xfrm>
              <a:off x="5988240" y="1652760"/>
              <a:ext cx="1619640" cy="221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1" name="Picture 3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8656560" cy="649080"/>
          </a:xfrm>
          <a:prstGeom prst="rect">
            <a:avLst/>
          </a:prstGeom>
          <a:ln w="0">
            <a:noFill/>
          </a:ln>
        </p:spPr>
      </p:pic>
      <p:sp>
        <p:nvSpPr>
          <p:cNvPr id="762" name="TextBox 13"/>
          <p:cNvSpPr/>
          <p:nvPr/>
        </p:nvSpPr>
        <p:spPr>
          <a:xfrm>
            <a:off x="504720" y="5300640"/>
            <a:ext cx="80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后一跳前，秦凯落后何冲多少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谁是第一名，谁是第二名，谁是第三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"/>
          <p:cNvPicPr/>
          <p:nvPr/>
        </p:nvPicPr>
        <p:blipFill>
          <a:blip r:embed="rId1"/>
          <a:stretch/>
        </p:blipFill>
        <p:spPr>
          <a:xfrm>
            <a:off x="879480" y="1114560"/>
            <a:ext cx="1295280" cy="420480"/>
          </a:xfrm>
          <a:prstGeom prst="rect">
            <a:avLst/>
          </a:prstGeom>
          <a:ln w="0">
            <a:noFill/>
          </a:ln>
        </p:spPr>
      </p:pic>
      <p:grpSp>
        <p:nvGrpSpPr>
          <p:cNvPr id="767" name="组合 6"/>
          <p:cNvGrpSpPr/>
          <p:nvPr/>
        </p:nvGrpSpPr>
        <p:grpSpPr>
          <a:xfrm>
            <a:off x="915840" y="1676520"/>
            <a:ext cx="7428240" cy="2303280"/>
            <a:chOff x="915840" y="1676520"/>
            <a:chExt cx="7428240" cy="2303280"/>
          </a:xfrm>
        </p:grpSpPr>
        <p:sp>
          <p:nvSpPr>
            <p:cNvPr id="768" name="折角形 7"/>
            <p:cNvSpPr/>
            <p:nvPr/>
          </p:nvSpPr>
          <p:spPr>
            <a:xfrm>
              <a:off x="915840" y="1676520"/>
              <a:ext cx="7428240" cy="2303280"/>
            </a:xfrm>
            <a:prstGeom prst="foldedCorner">
              <a:avLst>
                <a:gd name="adj" fmla="val 17277"/>
              </a:avLst>
            </a:prstGeom>
            <a:solidFill>
              <a:srgbClr val="ebeeca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Box 9"/>
            <p:cNvSpPr/>
            <p:nvPr/>
          </p:nvSpPr>
          <p:spPr>
            <a:xfrm>
              <a:off x="995400" y="1728720"/>
              <a:ext cx="73324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2012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年奥运会女子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米气手枪决赛时，打过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枪后，中国选手郭文珺比法国选手格贝维拉总成绩落后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0.2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环。下面是两人第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枪和第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枪的射击环数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Box 13"/>
          <p:cNvSpPr/>
          <p:nvPr/>
        </p:nvSpPr>
        <p:spPr>
          <a:xfrm>
            <a:off x="504720" y="4076640"/>
            <a:ext cx="80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枪郭文珺打出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.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，格贝维拉至少需要打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才能获得冠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1692360" y="2949480"/>
          <a:ext cx="4500360" cy="936720"/>
        </p:xfrm>
        <a:graphic>
          <a:graphicData uri="http://schemas.openxmlformats.org/drawingml/2006/table">
            <a:tbl>
              <a:tblPr/>
              <a:tblGrid>
                <a:gridCol w="1403280"/>
                <a:gridCol w="1368360"/>
                <a:gridCol w="17287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郭文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.8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4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格贝维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4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1368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2" name="图片 12" descr="3.png"/>
          <p:cNvPicPr/>
          <p:nvPr/>
        </p:nvPicPr>
        <p:blipFill>
          <a:blip r:embed="rId2"/>
          <a:stretch/>
        </p:blipFill>
        <p:spPr>
          <a:xfrm>
            <a:off x="6345360" y="2814480"/>
            <a:ext cx="2106360" cy="13827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6"/>
          <p:cNvSpPr/>
          <p:nvPr/>
        </p:nvSpPr>
        <p:spPr>
          <a:xfrm>
            <a:off x="504720" y="5041800"/>
            <a:ext cx="80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格贝维拉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枪的成绩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.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，两人总成绩相差了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879480" y="1114560"/>
            <a:ext cx="1295280" cy="420480"/>
          </a:xfrm>
          <a:prstGeom prst="rect">
            <a:avLst/>
          </a:prstGeom>
          <a:ln w="0">
            <a:noFill/>
          </a:ln>
        </p:spPr>
      </p:pic>
      <p:sp>
        <p:nvSpPr>
          <p:cNvPr id="778" name="TextBox 13"/>
          <p:cNvSpPr/>
          <p:nvPr/>
        </p:nvSpPr>
        <p:spPr>
          <a:xfrm>
            <a:off x="647640" y="1535040"/>
            <a:ext cx="83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左边图是在空中看到的设计比赛场景。右边四幅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是①②③④哪个位置看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2"/>
          <a:stretch/>
        </p:blipFill>
        <p:spPr>
          <a:xfrm>
            <a:off x="647640" y="2997360"/>
            <a:ext cx="3387960" cy="21319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0" descr="4.png"/>
          <p:cNvPicPr/>
          <p:nvPr/>
        </p:nvPicPr>
        <p:blipFill>
          <a:blip r:embed="rId3"/>
          <a:stretch/>
        </p:blipFill>
        <p:spPr>
          <a:xfrm>
            <a:off x="4335480" y="2997360"/>
            <a:ext cx="4700520" cy="2063520"/>
          </a:xfrm>
          <a:prstGeom prst="rect">
            <a:avLst/>
          </a:prstGeom>
          <a:ln w="0">
            <a:noFill/>
          </a:ln>
        </p:spPr>
      </p:pic>
      <p:sp>
        <p:nvSpPr>
          <p:cNvPr id="7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6T02:05:03Z</dcterms:modified>
  <cp:revision>2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81a000000000001024140</vt:lpwstr>
  </property>
</Properties>
</file>