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gif" ContentType="image/gi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6AD65-C2CA-49AB-830C-87BB8F46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41008-14C1-42EE-B77F-74927196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D1CC3-799D-45DB-BFD1-7288770A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15FCC-C5CF-4896-9A4C-AB75C82A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E6B8B-6A1A-4FBD-A635-54E624E1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7DE6E-7854-4E5E-A53C-A8542ECA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83B72-6170-45C8-84D2-1C9294A4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B5877-DFB0-4E00-AD99-37BFACAD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8F715-E6A8-41CE-A437-8F749119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723BB-11FC-4363-B25B-7BE8F122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38D0C-B8F9-4B9B-8669-8157CA42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22E5D-588E-4346-9A01-5BF506A7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CA08F-6B1E-4C9E-923A-81C541AF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98E67-78AB-48A2-94EB-CCDDFA0D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FD841-E5F9-4EC0-A04E-7852520C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EC573-1DAB-4F20-A366-ED0CD489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D7C9D-28CD-4A97-9148-3A18F32F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AA955-5796-4BC1-B249-11B4A5FE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E0455-2B12-49DE-9288-3B14F80D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B2CFD-F394-47ED-989E-E7B0A6AD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2874D-F90D-4284-97F2-0A2E97D19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51440-6B8C-4AF5-8002-597243A5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26D7E-0671-4581-A1A3-CE662EC2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51B21-9A20-40D3-BF20-A5D1760C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A98EA-8587-44DB-8058-DE858CFF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48DBC-1373-4306-9AA5-CDA02D8E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1EDBF-BABA-44F8-868B-1E15C021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D19DE-8771-407B-BE8E-01D67BB8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A9C27-CC8C-40C7-9487-CB907860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6FBD5-3FE1-479C-9D7A-592E1BCF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3B47F-8677-48E0-938C-7126EFF2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3BA76-CB81-4989-9F04-25CDB13D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9D60C-9306-4378-90FB-894E82DA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6F9DE-6BBC-4198-BB6A-8DE50D29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54D68-2C59-46BA-88D4-99903C04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5A707-0936-41C0-B82E-AFC0BE12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F797E-ECA0-4DDD-A095-DE7224A6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5DCBA-C283-489C-82B8-83206327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C4819-3C21-4845-B352-6A9B2BBD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7FF2B-08E6-4BE7-AE06-822AF134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ACBCE-17B9-4D6D-8D50-4C6A2C82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256C5-E9E8-4C6E-95AC-1EB06DFD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79DF5-9FF8-4C46-8BF3-F99EEF5B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4AC48-95F6-49F3-9999-D9988149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A45C5-5DA8-4D67-9873-C7DB6C9A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7494F-5B7D-484A-A512-977970F0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487BD-B77C-4215-B049-F07D828C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80B78-EFA1-4293-89FC-1074AB54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6D511-06BE-4EEF-92BA-4265D65B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A5396-2F6E-47E4-96D6-4FF84947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86467-B6EE-41E8-882E-A751D368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1C95F-0ED1-4A14-B108-F6B80327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96E7D-51DC-431F-9747-66C63414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B9D04-F172-4ED9-9B75-864BBD09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76017-62BE-4685-B018-E2145779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9446B-C812-4E66-9703-A1B44E4B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BBDCB-803A-465B-994B-A36A7F63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BADF4-454A-40DF-BE96-C2ED5037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828C2-45B5-4857-9D08-2E5D37E4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49C33-F5DA-4457-AF65-19911DCE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FD49C-8D26-4182-B6AE-920DCB17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3A82A-B339-4FBD-97B3-F6F27CD8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09B48-936F-4B4A-85CA-C28402EF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3CA4B-53A4-4011-A51B-96BF29E9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AD942-7359-4E59-921A-66781368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9B421-FE31-40A5-A887-6932B3DB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596B7-4316-4F73-8582-3ED87AFD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1A713-08E0-4035-A025-10E328BB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FCC8E-A47F-4011-922B-50BFC762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6E4B0-AB3B-45F9-98A0-A04DD8D2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EBD42E-FE2E-46B4-9023-FC188C00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25FB75-3F77-4BC3-87FF-3B81BB1F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CEFFB1-2F8B-483B-A2A1-0474EE0E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1FDAA4-F271-445D-B326-018D92D1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777233-283A-4069-86FD-2C218505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7F03BF-14E7-457F-9810-0DF58259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46E9FF-9AD3-471E-8D04-55EDE552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6E137-951D-434B-AD22-A675B5F4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FF5C5-1124-45F4-AFB4-E65426E3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A0EC64-7027-4FC8-B692-44E19D3F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2B6E54-2E02-45D6-B01C-9B96A6FF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A97FC0-62A0-4528-912A-CC4E6EB0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4B22E2-5137-4B8C-A54C-E338FAA5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0ED3EB-0A6A-4B70-92A5-4E45008F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8B8A85-7233-497A-9D5C-0F2CCABA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7ABC89-315B-4D4E-A008-FE21C874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6DB824-789E-46FF-A7FD-0810E99D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234AE4-90AA-4DDC-9223-3842801F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1C9024-CA15-4750-8D6E-4834AF7B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88AF83-63A0-42AC-9598-702D676B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3689E2-15EF-44C1-BA82-F847E98A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BD8FEC-2B22-4769-A42C-2BE716CB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473BA7-8935-4945-9135-148F4B6A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ECE-4F49-41CB-A214-EC8FEE92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5FF5-18A4-43C8-83DC-09E3EE72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3B75-60C1-468A-AF1E-0CB7BFE5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9A9A-2721-4E26-A2DD-4982B6A9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828C-5FBC-489D-A9CA-AC0BC836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B01F-350B-4142-B6D9-3931AA16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C406-4431-4E13-89B8-E17CEB9C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6C74-490F-4185-B5B3-DB1D8B2B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AC1E-AFF2-4CB8-A88A-5D1FC2E9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A8ED-89EF-4BD5-B956-8C55B863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5438-91B0-4F49-9274-D93692DD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E3B8-CC19-4974-96FD-5EEF1B21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14AB-A29A-41D0-A8BC-85BE946E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32C8-0E3F-45B8-9359-04FC95D1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2FFF-0288-49BB-ABA3-8974B6A4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A44E-3E93-4C00-9053-ECEFBF15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04DD-A3C0-465A-A14C-F99320F1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3624-B118-4349-B7DE-30ABFA96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69C0-9829-4F5D-8EA5-5529BED4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9D4F-B810-489C-83A4-757385DD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DEFD-B844-4204-B2A9-B5B0D82F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F388-CD47-407F-B887-95C933CD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6FBE-3131-429E-9B37-A3127484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8695-0B96-4875-B1FB-B792E039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ABB09-8A32-4641-A2CF-7B289CE4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D8011-E523-4DB3-8AA4-C8FA955F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AA70A-53F1-44DD-9E8A-4294FD69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3C12E-FC4C-4CDF-B545-E87D7432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96783-01E9-49A0-BF5B-1E580E05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0CB7A-23BC-4728-8630-8C3CEC5D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78CE1-56E4-4399-8C2F-439A40BF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075A0-A26B-499F-BB56-5DED4E1F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18DB1-1D04-435B-9FD1-CAD40C97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8B394-3D7C-40D4-8922-A400CD3E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4F06D-CB93-413C-AB55-F63ACF1A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CE006-29D8-4E02-8AE0-4E24FD26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6CC76-F09F-4612-A93E-484F4805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8D80D-ED26-4FB2-A3F4-5AFCCEE2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F8670-6EB0-4E33-A7A7-93C2C10B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4FF5D-51C2-41F2-9340-F801ED65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15321-F183-4F14-9E1F-81BB6415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7A42E-581C-4660-9121-BAF52B4A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6933A-7876-4EED-B626-884D58D1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5A289-4AC8-4FCC-BED2-56EAEDBD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E401E-1E2E-4776-9409-16EB1DA9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1AE60-0B0A-4948-93A0-3E252FA6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5B837-E16A-4DB9-972E-683B1F2B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0D7DE-F85A-4C80-A2F7-242019B7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03233-AB47-4618-8009-5BD45F47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616E1-9FDE-4DBF-8B3B-D3979149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E6AF8-955B-4898-BA68-73D59440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60447-EE38-4035-BFCE-BE61A081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9DB52-0B58-48D4-9936-994D8FA9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A6F43-E378-4BB6-8F65-9551E5F4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70AC4-26D0-4394-8993-212EBFDC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DD857-D644-41AD-A31D-79AD9962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A92C1-95A5-42D2-A6DF-99E894B3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53E91-A9D5-4EB7-8A87-B4CF4B9F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BAB7B-398C-4A2B-B544-EAFC30EF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594E9-97FF-4440-959E-205AE963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860E5-1CF3-459A-9FD4-5C79DAE4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79B79-E87C-4C46-A903-F7130951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302EB-02D3-46AD-A3E4-7FF8DC69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A26CE-17BA-4A1D-B3B1-0F1B4769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DFAFC-4547-4E20-B039-5EF92959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1BEBC-0355-4498-BDAF-FA2484EB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E6258-B364-437E-BAB8-3D0A03C9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E4FD3-BF56-4985-A17B-C6E32966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CFD86-C35A-49F5-A5F6-66E24C38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047F1-7EC5-45CB-97B6-86AFE2BC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2E9BD-3F14-4DC5-8A10-FB929FCB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E0E17-28E8-4BD0-94C9-2F661E2A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9B846-D008-4A89-8972-A37E6659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BC9BA-06B4-4F7C-93AF-AC301FBF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487C1-9DD7-4399-82C5-C408A250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7A07-2AFA-46E2-A3A6-B0A013F5F41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6979-EC49-4D08-B2A2-67E1A6CF1F1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C24A-B121-42DC-BB4B-92F9D1A8488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DF1F-E993-4350-950A-9D55F487D3C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97BB-7CF4-4315-B2FE-DBEC0E46A11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EA05-B9D0-41D2-8703-B57C36E2214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0C36-EEAF-48E9-BD81-209EFB0A0D6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29072-4BFA-4C5A-882B-494C7FBF732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4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5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6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2460-C64B-493E-8933-AD6679879B1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dt" idx="7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8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9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E688-2274-45E1-943A-2F8E1C8FE1E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038C-3F4B-49CC-869D-AE45A338236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0035-79E5-41AA-856A-E523E22F46C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2FE0-C4E5-46AD-B53F-DA35371AD1D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90BD-73F6-45E3-859A-57924B37033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64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50" name="TextBox 3"/>
          <p:cNvSpPr/>
          <p:nvPr/>
        </p:nvSpPr>
        <p:spPr>
          <a:xfrm>
            <a:off x="495360" y="125100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速度、时间与路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3851280" y="592200"/>
            <a:ext cx="4678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三     三位数乘两位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653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655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四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椭圆 40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7" name="椭圆 41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8" name="椭圆 42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9" name="椭圆 43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0" name="椭圆 44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1" name="椭圆 45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662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8"/>
          <p:cNvSpPr/>
          <p:nvPr/>
        </p:nvSpPr>
        <p:spPr>
          <a:xfrm>
            <a:off x="826920" y="1866960"/>
            <a:ext cx="741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座大桥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一列火车以每分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的速度行驶，从车头开上桥到车尾离开桥一共用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，这列火车长多少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列火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行驶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这段路程是大桥和火车的总长度，所以火车的长度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写出具体解题过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组合 1"/>
          <p:cNvGrpSpPr/>
          <p:nvPr/>
        </p:nvGrpSpPr>
        <p:grpSpPr>
          <a:xfrm>
            <a:off x="595440" y="1052640"/>
            <a:ext cx="2809800" cy="668160"/>
            <a:chOff x="595440" y="1052640"/>
            <a:chExt cx="2809800" cy="668160"/>
          </a:xfrm>
        </p:grpSpPr>
        <p:sp>
          <p:nvSpPr>
            <p:cNvPr id="694" name="圆角矩形 7"/>
            <p:cNvSpPr/>
            <p:nvPr/>
          </p:nvSpPr>
          <p:spPr>
            <a:xfrm>
              <a:off x="1479600" y="11653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文本框 13"/>
            <p:cNvSpPr/>
            <p:nvPr/>
          </p:nvSpPr>
          <p:spPr>
            <a:xfrm>
              <a:off x="1479600" y="11523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5264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7" name="矩形 10"/>
          <p:cNvSpPr/>
          <p:nvPr/>
        </p:nvSpPr>
        <p:spPr>
          <a:xfrm>
            <a:off x="4365720" y="3463920"/>
            <a:ext cx="1214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矩形 8"/>
          <p:cNvSpPr/>
          <p:nvPr/>
        </p:nvSpPr>
        <p:spPr>
          <a:xfrm>
            <a:off x="6372360" y="4005360"/>
            <a:ext cx="1114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矩形 9"/>
          <p:cNvSpPr/>
          <p:nvPr/>
        </p:nvSpPr>
        <p:spPr>
          <a:xfrm>
            <a:off x="1403280" y="510840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50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4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4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8"/>
          <p:cNvSpPr/>
          <p:nvPr/>
        </p:nvSpPr>
        <p:spPr>
          <a:xfrm>
            <a:off x="826920" y="1341360"/>
            <a:ext cx="741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上题的思路解答下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列火车的长度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它以每分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的速度行驶，从车头开到隧道入口到车尾离开隧道出口一共用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。这条隧道长多少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矩形 10"/>
          <p:cNvSpPr/>
          <p:nvPr/>
        </p:nvSpPr>
        <p:spPr>
          <a:xfrm>
            <a:off x="1330200" y="3573360"/>
            <a:ext cx="6697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20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8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7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705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6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707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矩形 12" descr=""/>
          <p:cNvPicPr/>
          <p:nvPr/>
        </p:nvPicPr>
        <p:blipFill>
          <a:blip r:embed="rId4"/>
          <a:stretch/>
        </p:blipFill>
        <p:spPr>
          <a:xfrm>
            <a:off x="2031840" y="1328760"/>
            <a:ext cx="5291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1233360" y="2060640"/>
            <a:ext cx="6867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根据速度、时间和路程的关系填表　　　　　　　　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解决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665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8" name=""/>
          <p:cNvGraphicFramePr/>
          <p:nvPr/>
        </p:nvGraphicFramePr>
        <p:xfrm>
          <a:off x="1467000" y="2781360"/>
          <a:ext cx="6621480" cy="1834920"/>
        </p:xfrm>
        <a:graphic>
          <a:graphicData uri="http://schemas.openxmlformats.org/drawingml/2006/table">
            <a:tbl>
              <a:tblPr/>
              <a:tblGrid>
                <a:gridCol w="1003320"/>
                <a:gridCol w="2017800"/>
                <a:gridCol w="1800000"/>
                <a:gridCol w="1800360"/>
              </a:tblGrid>
              <a:tr h="61236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路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千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千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速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万千米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千米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9" name="Rectangle 8"/>
          <p:cNvSpPr/>
          <p:nvPr/>
        </p:nvSpPr>
        <p:spPr>
          <a:xfrm>
            <a:off x="825480" y="1957320"/>
            <a:ext cx="756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请把下表填写完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0" name="组合 1"/>
          <p:cNvGrpSpPr/>
          <p:nvPr/>
        </p:nvGrpSpPr>
        <p:grpSpPr>
          <a:xfrm>
            <a:off x="595440" y="1116000"/>
            <a:ext cx="2809800" cy="668520"/>
            <a:chOff x="595440" y="1116000"/>
            <a:chExt cx="2809800" cy="668520"/>
          </a:xfrm>
        </p:grpSpPr>
        <p:sp>
          <p:nvSpPr>
            <p:cNvPr id="671" name="圆角矩形 13"/>
            <p:cNvSpPr/>
            <p:nvPr/>
          </p:nvSpPr>
          <p:spPr>
            <a:xfrm>
              <a:off x="1479600" y="122868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文本框 13"/>
            <p:cNvSpPr/>
            <p:nvPr/>
          </p:nvSpPr>
          <p:spPr>
            <a:xfrm>
              <a:off x="1479600" y="121608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116000"/>
              <a:ext cx="108720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矩形 16"/>
          <p:cNvSpPr/>
          <p:nvPr/>
        </p:nvSpPr>
        <p:spPr>
          <a:xfrm>
            <a:off x="2556000" y="2895480"/>
            <a:ext cx="18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万千米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11"/>
          <p:cNvSpPr/>
          <p:nvPr/>
        </p:nvSpPr>
        <p:spPr>
          <a:xfrm>
            <a:off x="4533840" y="4076640"/>
            <a:ext cx="18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千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分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矩形 12"/>
          <p:cNvSpPr/>
          <p:nvPr/>
        </p:nvSpPr>
        <p:spPr>
          <a:xfrm>
            <a:off x="6350040" y="3481560"/>
            <a:ext cx="18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8"/>
          <p:cNvSpPr/>
          <p:nvPr/>
        </p:nvSpPr>
        <p:spPr>
          <a:xfrm>
            <a:off x="825480" y="1646280"/>
            <a:ext cx="75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猎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，照这样的速度完成下表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1558800" y="2494080"/>
          <a:ext cx="6181560" cy="1224000"/>
        </p:xfrm>
        <a:graphic>
          <a:graphicData uri="http://schemas.openxmlformats.org/drawingml/2006/table">
            <a:tbl>
              <a:tblPr/>
              <a:tblGrid>
                <a:gridCol w="1546200"/>
                <a:gridCol w="1544760"/>
                <a:gridCol w="1544400"/>
                <a:gridCol w="1546200"/>
              </a:tblGrid>
              <a:tr h="61128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间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时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路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千米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9" name="矩形 26"/>
          <p:cNvSpPr/>
          <p:nvPr/>
        </p:nvSpPr>
        <p:spPr>
          <a:xfrm>
            <a:off x="3348000" y="3165480"/>
            <a:ext cx="99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矩形 5"/>
          <p:cNvSpPr/>
          <p:nvPr/>
        </p:nvSpPr>
        <p:spPr>
          <a:xfrm>
            <a:off x="5003640" y="256536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矩形 6"/>
          <p:cNvSpPr/>
          <p:nvPr/>
        </p:nvSpPr>
        <p:spPr>
          <a:xfrm>
            <a:off x="6516720" y="318924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8"/>
          <p:cNvSpPr/>
          <p:nvPr/>
        </p:nvSpPr>
        <p:spPr>
          <a:xfrm>
            <a:off x="800280" y="1236600"/>
            <a:ext cx="780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先补充条件或问题再解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汽车从甲地开往乙地，每小时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甲、乙两地相距多少千米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先补充条件，再解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架飞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飞行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先提问题，再解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矩形 11"/>
          <p:cNvSpPr/>
          <p:nvPr/>
        </p:nvSpPr>
        <p:spPr>
          <a:xfrm>
            <a:off x="1295280" y="5159520"/>
            <a:ext cx="21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略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8"/>
          <p:cNvSpPr/>
          <p:nvPr/>
        </p:nvSpPr>
        <p:spPr>
          <a:xfrm>
            <a:off x="852480" y="1577880"/>
            <a:ext cx="71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李老师家离学校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，她骑自行车的速度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。她从家骑车到学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够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矩形 7"/>
          <p:cNvSpPr/>
          <p:nvPr/>
        </p:nvSpPr>
        <p:spPr>
          <a:xfrm>
            <a:off x="1547640" y="2852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0×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千米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8"/>
          <p:cNvSpPr/>
          <p:nvPr/>
        </p:nvSpPr>
        <p:spPr>
          <a:xfrm>
            <a:off x="852480" y="15778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城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城的铁路总里程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，一列火车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的速度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城出发开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城，行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后，火车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城还有多远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矩形 7"/>
          <p:cNvSpPr/>
          <p:nvPr/>
        </p:nvSpPr>
        <p:spPr>
          <a:xfrm>
            <a:off x="1547640" y="33782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6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0×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3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千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8"/>
          <p:cNvSpPr/>
          <p:nvPr/>
        </p:nvSpPr>
        <p:spPr>
          <a:xfrm>
            <a:off x="852480" y="1577880"/>
            <a:ext cx="695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张大伯把一车蔬菜送到菜市场，去时的速度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用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送到，原路返回时只用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返回时的速度是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矩形 7"/>
          <p:cNvSpPr/>
          <p:nvPr/>
        </p:nvSpPr>
        <p:spPr>
          <a:xfrm>
            <a:off x="1547640" y="34304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×3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千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时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8"/>
          <p:cNvSpPr/>
          <p:nvPr/>
        </p:nvSpPr>
        <p:spPr>
          <a:xfrm>
            <a:off x="923760" y="1577880"/>
            <a:ext cx="681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条公路全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7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，一辆汽车已经行驶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，剩下的路程必须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行完，汽车每小时至少要行多少千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矩形 7"/>
          <p:cNvSpPr/>
          <p:nvPr/>
        </p:nvSpPr>
        <p:spPr>
          <a:xfrm>
            <a:off x="1620720" y="3430440"/>
            <a:ext cx="66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7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)÷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5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千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01:54:42Z</dcterms:created>
  <dc:creator>Administrator</dc:creator>
  <dc:description/>
  <dc:language>en-US</dc:language>
  <cp:lastModifiedBy>相忘于江湖</cp:lastModifiedBy>
  <dcterms:modified xsi:type="dcterms:W3CDTF">2018-01-14T13:36:38Z</dcterms:modified>
  <cp:revision>1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