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0.gif" ContentType="image/gif"/>
  <Override PartName="/ppt/media/image1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25B13-1F80-460D-82FE-D996F334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CB803-07FC-4B5F-8A0E-9EE10DA1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28FF4-80C7-40BD-91AD-408A78E3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B7482-1409-42C1-BFE0-15110463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3185D-7ECF-4331-8FEE-D95E1EC7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9959C-4356-472D-8733-63238250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C9B5C-BEE8-4B38-AA30-8F6E79C3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79CC3-829C-4C48-8E0C-BEE49566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AFF26-945A-4644-89DD-9D62FF7C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F985B-90DE-47CA-B6DC-67C09741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EAC02-00D6-4712-888F-CD7AE996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AF232-039C-42DF-BFEE-18F03664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93A96-DBBF-440E-AC01-666C01E5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B65C9-0E68-4ED6-96B2-D952E459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6FADA-ABD9-4D34-8CCE-F1521CEF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BC8E6-19D5-49BE-8D76-5A95C093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21458-AE5F-407B-8B14-A4E1B196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43270-1212-4FE1-90A6-2ED50BC8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5B7F9-33D4-46EE-9FD9-6D05DB2A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89C6D-EB1F-49D1-8763-8DAC95A6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88557-0056-4ABE-AE12-4F2A00B2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87071-608C-4FE6-8CAE-40027F29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B1EE8-7B45-4276-B83F-82777428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E2FBB-5CFE-4780-B731-5CEDA9A6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7C993-87F4-42D6-8C0D-E6A35E41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875B1-A8A3-4765-BE4F-527E2B7A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9B24A-F016-484B-B548-A34C8C92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19937-3EFC-43BE-A41A-4FA0E673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97628-9ECD-4828-BD4D-8D96BD1B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01F91-11BF-4C10-BB8B-047F9269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4F22E-F95C-4D82-A673-CA29C6F2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29DD2-D1A1-4FF3-ACA6-A9486B0C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A98FF-01A4-44D9-9AA6-700B9BE1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DF7EA-1317-4CB8-9BD3-939F383A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BAF32-3765-4536-885D-DA899C58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A638E-8F1E-4EB7-B2FF-52AA435F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E9813-AA82-45CA-AA57-77BB5889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39FCB-8016-44B1-BB5D-BE050166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154C7-A637-4881-A34B-B79B98FC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7DC8C-53C2-48DE-AC3C-5255E814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52298-6EAF-459E-8B3F-3F25413C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AB580-195C-4DC8-AB4A-605DBF0A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25206-FB7C-4D26-8987-BFA16B7E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505F7-1BC8-4111-934A-D21B0F8C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0F5E2-FFE6-403F-BB11-62DA1833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9FE50-9723-417C-B5B3-F9338C1C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F92DE-63D8-41A4-AFF4-191A510A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B39C5-B16A-40F1-BE8C-92AA87B7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45AD3-FFB2-448A-B8CB-3491F046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B92AF-DBA0-47D1-A9AD-A7838923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1CCFD-BB44-4268-8370-508B211C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315C8-E69D-4B27-82D3-880E5445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AC67D-DEA5-4789-BB73-FDCE5CA3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4B044-F6F4-48BC-AC2F-099B86B8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5E959-359C-4FB7-93CB-4BC58A56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DD947-CF9E-42A2-9185-D1942444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B7D49-9F48-4290-9DFC-EFCE6FB3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4AA19-F11E-4819-89AA-8273529F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2322E-BB52-4C98-8E1D-C3F57A2D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70F46-F714-46B0-83CB-64E43305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DBB32-E2C0-4847-B270-9B9A564B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65FB3-D304-4A4F-B947-AFE53EC4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985CC-AC58-45C2-B361-8BC1151B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D0E39-EFE4-4709-A6F6-CBC06771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73F44-3E08-41E1-B45A-F1407262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28850-A80E-4C36-ABE2-16A953E1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E6C04-6448-4791-95A7-5D07506B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A5ACC-0816-490F-8100-BBD70496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92064-49CA-41AF-B7DE-ACB39BCA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67952-CC6F-43FA-BC6D-422C602F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9F5C3-92F4-4389-A525-43F974C6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C39AD-E863-4F7E-AF7A-22BB71AE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FBD5B-09DF-46FA-9800-C569D810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32A51-A695-46D8-BB3A-96ACB0B3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74674-2151-49D9-AB99-660B6776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018AB7-A536-4FAC-BC88-2550E7D4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15235-C932-40BC-826D-69F55218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59FC0-8EDB-4739-B234-645FC912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23825-2D97-430B-A33C-F454C451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51861-0EEE-49D9-A3C2-5C1718E4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729D87-4C1F-4FC2-B7B3-D49000D7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12AAE-87F8-4A2B-BAF1-6A98C4B0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00B3B-1780-4C7D-B111-301D904B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0DA68-9E02-4175-96AC-E268FF70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DF0C0-D3DA-47ED-981B-7C77DF7B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73F0B5-454C-4FF9-99F8-789C9CE6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261D4-66AF-4720-82A2-039C303C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2B7F90-4051-487E-BD2D-41F0B3C1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BAF855-FDE7-4875-8AD0-00EDFFE2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8B7BF-15B1-48A0-B86F-7CC449EA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8A059F-459E-4DEB-8BEE-F8286543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0654D-F780-468C-BA99-3A052B14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12B75-2E33-4490-9D33-15241DC2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7A11-3908-4689-87B7-11FE0966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14D-22FF-4714-AEA2-A5FD8935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20CC-1CB7-4873-91DA-95071731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23F-9BA5-49D9-9EE2-B88B2351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248-01B9-4DB1-B77E-423C8807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BA2-EB70-4F3B-8B08-3007E5B4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40F-4C74-412A-A631-163720EB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2FF-E3A7-4243-834B-6C11EDD7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B7E-292D-4F17-AE62-D9A5168E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031-B561-4160-B598-1DBE0692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3C1-BE08-4741-AB01-133944CD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13C-2E65-4D67-BE9C-A8FD24E6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5D4F-641B-4280-909B-03A9B8C9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F8A7-A4BE-4230-BC69-2D61F844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942C-F12B-409D-8938-78B8A339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EBB1-5ED9-4082-B51F-043EF318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18C4-DEAD-41C7-8A54-8B184C32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D15A-E72D-4F1D-90FA-602CD32E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0823-CFAD-4E9A-ADE3-9AEEB38B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D5A5-DB3F-4752-9585-6F0EA2F3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7788-9F0E-4E55-AB83-B7BF0476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A54E-55CA-4989-B8D3-4ABF3C4D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0F36-94A1-41A9-9532-2D02D410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2728-D98A-46D8-B278-5DB6DC76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C7BD0-7E01-4CAC-8BEC-A114299F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A7019-41B1-43F3-953B-37964DAD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92B81-F3F8-436C-8473-DD00E03B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6C17-0326-4492-9B5C-B275E41A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B4333-1EB0-4E84-BD6D-D69DF214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A37B9-5878-48E2-BBCB-3707E4E3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ED5C8-F57A-4E48-AA07-C516A4B7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6F4D1-49C4-4733-83D3-399DFCF7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95E8F-DA2E-49FF-A336-B22BA2FE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4D92F-3FD6-490F-A592-B5A2CDCF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6EA26-D706-4C27-BC6F-1CD30BDC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D95A-2C16-4D0A-8E5A-A3116BA0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F62F8-B768-45BA-A376-DE203677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FED17-DE8A-4A8F-BC60-E584DB8C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2ADBF-A6F1-4D91-916B-0BBDF1F0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40392-3BE1-4E9F-B743-BD03B1B5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35E9C-F4F1-4B8D-A955-004E46FC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753D7-3753-4E32-847E-E3DBED26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CD7C1-3374-4949-B823-E94CD49E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EE547-DD6F-43C7-A1DD-053B95A6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5B4B8-8620-4AA2-81B8-A35C0AC7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89011-4CF7-4D2A-8A97-352D9F1E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BC9FF-D795-44A7-88F4-AEBEABEC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DFA76-2223-4476-A1A2-90250352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03212-7CF7-482B-ACA8-1E96B5EA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2B58E-6DB0-4338-A733-117D1910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FD755-9E11-46C4-8CD3-0553BB70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DF7CF-2025-4A12-9191-87AB94F1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23B2C-EF15-428E-87EF-80270E32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A3A8C-6A93-44B8-9A38-3B3F4FB1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604CD-696C-414C-A814-FA9BB72A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2D43B-B3FA-4A3F-93B3-9C7E35C1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521D1-D17E-4DCC-9B12-1BE28E54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9D0AC-7EFE-4EB3-9FC8-98442D9F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45ADD-82A6-4652-AF44-FBD9191A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52EB9-7EE7-4B41-A636-2BADED0B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776EC-94ED-46FA-9071-B3F3F43E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543A6-4A81-45BD-9C73-803052D7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24A54-4FA4-421C-9C24-FCFEAB4E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EFFE3-98E6-46F8-8818-6EE4FACA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81BE6-B8B4-4ABF-A820-40306CCC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658F9-C05A-440C-A940-F93B33AD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E11F9-81C6-4257-A818-C7C0620D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E9F3A-2D91-4EC6-B5D1-29319C6E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D2E5F-13B9-46F7-9828-2A070584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50A3D-CD98-4508-9C0A-E7C7C019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DDA33-2C5E-4AF3-9387-D5DCD78F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A24BF-B566-4B5B-865F-8314FE9E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D2D5F-B0C9-4708-B681-40E81942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A316A-EEB7-454D-951C-E199E079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8C98B-5BB1-4509-8695-855BDC21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67A0-1A73-46FF-B6E0-681226724BB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12E0-D167-42A2-97F8-782E1220331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50B0-5E43-442C-B97F-ABB1134F01C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7753-17F4-4135-A220-DEB73ECF449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DDAC-97C8-4B24-ACEC-656CCCD55A8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3D27-CD86-4330-8A79-F4744613052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A6C1-BDB0-49B0-B6F5-649BBDCEEB1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71A3D-1ADF-4117-92C2-E7D16C292ED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363C-4E4E-4119-A287-9ECA073BC64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5CF3-8059-4393-8440-412D62CE11D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D403-47B0-4BCA-B495-94330C470EA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01CD-BAB1-42AB-BF5A-52C444609B9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B864-0663-41EE-A11C-4BE47520B42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0AF0-160E-49C5-98F9-198568EB714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50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三角形的分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四     多边形的认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3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5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1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1233360" y="2060640"/>
            <a:ext cx="6939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根据图形特点正确分类　　　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根据等腰（边）三角形的特征解决求三角形边长的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动手操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5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11" descr=""/>
          <p:cNvPicPr/>
          <p:nvPr/>
        </p:nvPicPr>
        <p:blipFill>
          <a:blip r:embed="rId1"/>
          <a:stretch/>
        </p:blipFill>
        <p:spPr>
          <a:xfrm>
            <a:off x="1822320" y="1928880"/>
            <a:ext cx="5656320" cy="456408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8"/>
          <p:cNvSpPr/>
          <p:nvPr/>
        </p:nvSpPr>
        <p:spPr>
          <a:xfrm>
            <a:off x="825480" y="1484280"/>
            <a:ext cx="75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下列三角形的序号填在相应的圈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组合 1"/>
          <p:cNvGrpSpPr/>
          <p:nvPr/>
        </p:nvGrpSpPr>
        <p:grpSpPr>
          <a:xfrm>
            <a:off x="595440" y="907920"/>
            <a:ext cx="2809800" cy="668520"/>
            <a:chOff x="595440" y="907920"/>
            <a:chExt cx="2809800" cy="668520"/>
          </a:xfrm>
        </p:grpSpPr>
        <p:sp>
          <p:nvSpPr>
            <p:cNvPr id="671" name="圆角矩形 13"/>
            <p:cNvSpPr/>
            <p:nvPr/>
          </p:nvSpPr>
          <p:spPr>
            <a:xfrm>
              <a:off x="1479600" y="102060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文本框 13"/>
            <p:cNvSpPr/>
            <p:nvPr/>
          </p:nvSpPr>
          <p:spPr>
            <a:xfrm>
              <a:off x="1479600" y="100800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3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95440" y="90792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矩形 10"/>
          <p:cNvSpPr/>
          <p:nvPr/>
        </p:nvSpPr>
        <p:spPr>
          <a:xfrm>
            <a:off x="2195640" y="45086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①②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5"/>
          <p:cNvSpPr/>
          <p:nvPr/>
        </p:nvSpPr>
        <p:spPr>
          <a:xfrm>
            <a:off x="3995640" y="450864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⑤⑥⑦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16"/>
          <p:cNvSpPr/>
          <p:nvPr/>
        </p:nvSpPr>
        <p:spPr>
          <a:xfrm>
            <a:off x="6012000" y="448452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④⑧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矩形 17"/>
          <p:cNvSpPr/>
          <p:nvPr/>
        </p:nvSpPr>
        <p:spPr>
          <a:xfrm>
            <a:off x="3144960" y="5732640"/>
            <a:ext cx="207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③⑥⑦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18"/>
          <p:cNvSpPr/>
          <p:nvPr/>
        </p:nvSpPr>
        <p:spPr>
          <a:xfrm>
            <a:off x="5435640" y="5732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⑦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8"/>
          <p:cNvSpPr/>
          <p:nvPr/>
        </p:nvSpPr>
        <p:spPr>
          <a:xfrm>
            <a:off x="825480" y="1330200"/>
            <a:ext cx="777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王大爷修建了一个周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的等腰三角形花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花坛的底边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那么这个花坛的腰长多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腰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那么花坛的底边长多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这个花坛是等边三角形，那么这个花坛的边长是多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 17"/>
          <p:cNvSpPr/>
          <p:nvPr/>
        </p:nvSpPr>
        <p:spPr>
          <a:xfrm>
            <a:off x="1189080" y="2421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)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5"/>
          <p:cNvSpPr/>
          <p:nvPr/>
        </p:nvSpPr>
        <p:spPr>
          <a:xfrm>
            <a:off x="1258920" y="3573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矩形 6"/>
          <p:cNvSpPr/>
          <p:nvPr/>
        </p:nvSpPr>
        <p:spPr>
          <a:xfrm>
            <a:off x="1260360" y="515772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÷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825480" y="1268280"/>
            <a:ext cx="741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我会分图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下面的直角三角形分成两个直角三角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下图分成一个直角三角形和一个钝角三角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矩形 6"/>
          <p:cNvSpPr/>
          <p:nvPr/>
        </p:nvSpPr>
        <p:spPr>
          <a:xfrm>
            <a:off x="1362240" y="29541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Picture 8" descr=""/>
          <p:cNvPicPr/>
          <p:nvPr/>
        </p:nvPicPr>
        <p:blipFill>
          <a:blip r:embed="rId1"/>
          <a:stretch/>
        </p:blipFill>
        <p:spPr>
          <a:xfrm>
            <a:off x="3890880" y="2521080"/>
            <a:ext cx="1287720" cy="14796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8" descr=""/>
          <p:cNvPicPr/>
          <p:nvPr/>
        </p:nvPicPr>
        <p:blipFill>
          <a:blip r:embed="rId2"/>
          <a:stretch/>
        </p:blipFill>
        <p:spPr>
          <a:xfrm>
            <a:off x="3933720" y="4684680"/>
            <a:ext cx="1285920" cy="1481040"/>
          </a:xfrm>
          <a:prstGeom prst="rect">
            <a:avLst/>
          </a:prstGeom>
          <a:ln w="0">
            <a:noFill/>
          </a:ln>
        </p:spPr>
      </p:pic>
      <p:sp>
        <p:nvSpPr>
          <p:cNvPr id="687" name="矩形 9"/>
          <p:cNvSpPr/>
          <p:nvPr/>
        </p:nvSpPr>
        <p:spPr>
          <a:xfrm>
            <a:off x="1362240" y="513720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8"/>
          <p:cNvSpPr/>
          <p:nvPr/>
        </p:nvSpPr>
        <p:spPr>
          <a:xfrm>
            <a:off x="800280" y="1384200"/>
            <a:ext cx="78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以点子图中左边的线段为一条边画出两个不同的等腰三角形，以右边的线段为一条边画出两个不同的直角三角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矩形 6"/>
          <p:cNvSpPr/>
          <p:nvPr/>
        </p:nvSpPr>
        <p:spPr>
          <a:xfrm>
            <a:off x="1547640" y="5013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Picture 6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4675320" cy="15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8"/>
          <p:cNvSpPr/>
          <p:nvPr/>
        </p:nvSpPr>
        <p:spPr>
          <a:xfrm>
            <a:off x="826920" y="2035080"/>
            <a:ext cx="765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块等腰三角形田地，量得这块地的周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其中一条边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求另外两条边的长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2" name="组合 1"/>
          <p:cNvGrpSpPr/>
          <p:nvPr/>
        </p:nvGrpSpPr>
        <p:grpSpPr>
          <a:xfrm>
            <a:off x="595440" y="1247760"/>
            <a:ext cx="2809800" cy="668520"/>
            <a:chOff x="595440" y="1247760"/>
            <a:chExt cx="2809800" cy="668520"/>
          </a:xfrm>
        </p:grpSpPr>
        <p:sp>
          <p:nvSpPr>
            <p:cNvPr id="693" name="圆角矩形 7"/>
            <p:cNvSpPr/>
            <p:nvPr/>
          </p:nvSpPr>
          <p:spPr>
            <a:xfrm>
              <a:off x="1479600" y="13604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文本框 13"/>
            <p:cNvSpPr/>
            <p:nvPr/>
          </p:nvSpPr>
          <p:spPr>
            <a:xfrm>
              <a:off x="1479600" y="134784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24776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6" name="矩形 9"/>
          <p:cNvSpPr/>
          <p:nvPr/>
        </p:nvSpPr>
        <p:spPr>
          <a:xfrm>
            <a:off x="1479600" y="343548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第一种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6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)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第二种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另外两条边的长度可能都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；也可能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8"/>
          <p:cNvSpPr/>
          <p:nvPr/>
        </p:nvSpPr>
        <p:spPr>
          <a:xfrm>
            <a:off x="826920" y="1916280"/>
            <a:ext cx="765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将上题的“其中一条边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”改为“其中一条边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”，该怎样解答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1479600" y="3094200"/>
            <a:ext cx="676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因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所以不能围成三角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6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)÷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另外两条边的长度都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02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pic>
        <p:nvPicPr>
          <p:cNvPr id="704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14T13:45:44Z</dcterms:modified>
  <cp:revision>19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