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CB1-F263-4082-AA07-753EDFA4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997-2D68-459E-BE15-E0E1C2A9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33E-FBAC-450D-AA2E-CF681979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D9D-4CCD-4766-9C0F-0E2CEEA9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7B1-C20F-416B-91C9-00486E06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C48-9F62-432A-9F71-8515C10C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0F6-8763-4EF7-972A-03070211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BE7-74EA-47F3-A21B-720DE2F1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10F-620D-4295-B734-0997AB82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4D9-BADD-4140-A04B-69C7DCC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41D-D793-49BC-A440-2415F593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348-30FB-48FA-BFA4-86F2F8F3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C45B6DDF-19D6-4824-AFB0-2054F3D24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gif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762120"/>
            <a:ext cx="39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1952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Lesson 17 Danny’s Summer Holid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533520"/>
            <a:ext cx="69343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is Cao Cho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is very cl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71600" y="1990800"/>
            <a:ext cx="583416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943600" cy="4660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609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i Maguang is a clever boy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Monotype Corsiva"/>
              </a:rPr>
              <a:t>Read and answ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 did Danny do last su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ll Danny swim in the s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ll Danny visit his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y will Danny learn to f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25780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1" lang="zh-CN" sz="3000" spc="-1" strike="noStrike">
                <a:solidFill>
                  <a:srgbClr val="1414d6"/>
                </a:solidFill>
                <a:latin typeface="Arial"/>
              </a:rPr>
              <a:t>Because he will fly to China and play with Li M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971800"/>
            <a:ext cx="624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1" lang="zh-CN" sz="3000" spc="-1" strike="noStrike">
                <a:solidFill>
                  <a:srgbClr val="1414d6"/>
                </a:solidFill>
                <a:latin typeface="Arial"/>
              </a:rPr>
              <a:t>No, he will 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1148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1" lang="zh-CN" sz="3000" spc="-1" strike="noStrike">
                <a:solidFill>
                  <a:srgbClr val="1414d6"/>
                </a:solidFill>
                <a:latin typeface="Arial"/>
              </a:rPr>
              <a:t>Yes, he wi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1905120"/>
            <a:ext cx="624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1" lang="zh-CN" sz="3000" spc="-1" strike="noStrike">
                <a:solidFill>
                  <a:srgbClr val="1414d6"/>
                </a:solidFill>
                <a:latin typeface="Arial"/>
              </a:rPr>
              <a:t>He learn to swim and f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6019920" y="2057400"/>
            <a:ext cx="609480" cy="304920"/>
          </a:xfrm>
          <a:custGeom>
            <a:avLst/>
            <a:gdLst>
              <a:gd name="textAreaLeft" fmla="*/ 19080 w 609480"/>
              <a:gd name="textAreaRight" fmla="*/ 590760 w 6094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99" y="1350"/>
                </a:lnTo>
                <a:lnTo>
                  <a:pt x="1350" y="135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99" y="20250"/>
                </a:lnTo>
                <a:lnTo>
                  <a:pt x="41799" y="135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99" y="2025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49" h="21600">
                <a:moveTo>
                  <a:pt x="21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43149" h="21600">
                <a:moveTo>
                  <a:pt x="22686" y="14300"/>
                </a:moveTo>
                <a:lnTo>
                  <a:pt x="22686" y="12331"/>
                </a:lnTo>
                <a:cubicBezTo>
                  <a:pt x="22686" y="11500"/>
                  <a:pt x="23018" y="10800"/>
                  <a:pt x="23622" y="10800"/>
                </a:cubicBezTo>
                <a:cubicBezTo>
                  <a:pt x="24760" y="10800"/>
                  <a:pt x="25661" y="9426"/>
                  <a:pt x="25661" y="7834"/>
                </a:cubicBezTo>
                <a:cubicBezTo>
                  <a:pt x="25661" y="5506"/>
                  <a:pt x="23797" y="3756"/>
                  <a:pt x="21575" y="3756"/>
                </a:cubicBezTo>
                <a:cubicBezTo>
                  <a:pt x="19352" y="3756"/>
                  <a:pt x="17672" y="5506"/>
                  <a:pt x="17672" y="7834"/>
                </a:cubicBezTo>
                <a:lnTo>
                  <a:pt x="19536" y="7834"/>
                </a:lnTo>
                <a:cubicBezTo>
                  <a:pt x="19536" y="6688"/>
                  <a:pt x="20463" y="5795"/>
                  <a:pt x="21575" y="5795"/>
                </a:cubicBezTo>
                <a:cubicBezTo>
                  <a:pt x="22686" y="5795"/>
                  <a:pt x="23622" y="6688"/>
                  <a:pt x="23622" y="7834"/>
                </a:cubicBezTo>
                <a:cubicBezTo>
                  <a:pt x="23622" y="8578"/>
                  <a:pt x="23150" y="9313"/>
                  <a:pt x="22686" y="9313"/>
                </a:cubicBezTo>
                <a:cubicBezTo>
                  <a:pt x="21575" y="9313"/>
                  <a:pt x="20463" y="10800"/>
                  <a:pt x="20463" y="12331"/>
                </a:cubicBezTo>
                <a:lnTo>
                  <a:pt x="20463" y="143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3657600" y="5867280"/>
            <a:ext cx="609480" cy="304920"/>
          </a:xfrm>
          <a:custGeom>
            <a:avLst/>
            <a:gdLst>
              <a:gd name="textAreaLeft" fmla="*/ 19080 w 609480"/>
              <a:gd name="textAreaRight" fmla="*/ 590760 w 6094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99" y="1350"/>
                </a:lnTo>
                <a:lnTo>
                  <a:pt x="1350" y="135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99" y="20250"/>
                </a:lnTo>
                <a:lnTo>
                  <a:pt x="41799" y="135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99" y="2025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49" h="21600">
                <a:moveTo>
                  <a:pt x="21575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43149" h="21600">
                <a:moveTo>
                  <a:pt x="22686" y="14300"/>
                </a:moveTo>
                <a:lnTo>
                  <a:pt x="22686" y="12331"/>
                </a:lnTo>
                <a:cubicBezTo>
                  <a:pt x="22686" y="11500"/>
                  <a:pt x="23018" y="10800"/>
                  <a:pt x="23622" y="10800"/>
                </a:cubicBezTo>
                <a:cubicBezTo>
                  <a:pt x="24760" y="10800"/>
                  <a:pt x="25661" y="9426"/>
                  <a:pt x="25661" y="7834"/>
                </a:cubicBezTo>
                <a:cubicBezTo>
                  <a:pt x="25661" y="5506"/>
                  <a:pt x="23797" y="3756"/>
                  <a:pt x="21575" y="3756"/>
                </a:cubicBezTo>
                <a:cubicBezTo>
                  <a:pt x="19352" y="3756"/>
                  <a:pt x="17672" y="5506"/>
                  <a:pt x="17672" y="7834"/>
                </a:cubicBezTo>
                <a:lnTo>
                  <a:pt x="19536" y="7834"/>
                </a:lnTo>
                <a:cubicBezTo>
                  <a:pt x="19536" y="6688"/>
                  <a:pt x="20463" y="5795"/>
                  <a:pt x="21575" y="5795"/>
                </a:cubicBezTo>
                <a:cubicBezTo>
                  <a:pt x="22686" y="5795"/>
                  <a:pt x="23622" y="6688"/>
                  <a:pt x="23622" y="7834"/>
                </a:cubicBezTo>
                <a:cubicBezTo>
                  <a:pt x="23622" y="8578"/>
                  <a:pt x="23150" y="9313"/>
                  <a:pt x="22686" y="9313"/>
                </a:cubicBezTo>
                <a:cubicBezTo>
                  <a:pt x="21575" y="9313"/>
                  <a:pt x="20463" y="10800"/>
                  <a:pt x="20463" y="12331"/>
                </a:cubicBezTo>
                <a:lnTo>
                  <a:pt x="20463" y="143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3809880" y="4267080"/>
            <a:ext cx="609840" cy="304920"/>
          </a:xfrm>
          <a:custGeom>
            <a:avLst/>
            <a:gdLst>
              <a:gd name="textAreaLeft" fmla="*/ 19080 w 609840"/>
              <a:gd name="textAreaRight" fmla="*/ 591120 w 60984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825" y="1350"/>
                </a:lnTo>
                <a:lnTo>
                  <a:pt x="1350" y="135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825" y="20250"/>
                </a:lnTo>
                <a:lnTo>
                  <a:pt x="41825" y="135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25" y="2025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75" h="21600">
                <a:moveTo>
                  <a:pt x="21587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43175" h="21600">
                <a:moveTo>
                  <a:pt x="22699" y="14300"/>
                </a:moveTo>
                <a:lnTo>
                  <a:pt x="22699" y="12331"/>
                </a:lnTo>
                <a:cubicBezTo>
                  <a:pt x="22699" y="11500"/>
                  <a:pt x="23031" y="10800"/>
                  <a:pt x="23635" y="10800"/>
                </a:cubicBezTo>
                <a:cubicBezTo>
                  <a:pt x="24772" y="10800"/>
                  <a:pt x="25674" y="9426"/>
                  <a:pt x="25674" y="7834"/>
                </a:cubicBezTo>
                <a:cubicBezTo>
                  <a:pt x="25674" y="5506"/>
                  <a:pt x="23810" y="3756"/>
                  <a:pt x="21587" y="3756"/>
                </a:cubicBezTo>
                <a:cubicBezTo>
                  <a:pt x="19365" y="3756"/>
                  <a:pt x="17685" y="5506"/>
                  <a:pt x="17685" y="7834"/>
                </a:cubicBezTo>
                <a:lnTo>
                  <a:pt x="19549" y="7834"/>
                </a:lnTo>
                <a:cubicBezTo>
                  <a:pt x="19549" y="6688"/>
                  <a:pt x="20476" y="5795"/>
                  <a:pt x="21587" y="5795"/>
                </a:cubicBezTo>
                <a:cubicBezTo>
                  <a:pt x="22699" y="5795"/>
                  <a:pt x="23635" y="6688"/>
                  <a:pt x="23635" y="7834"/>
                </a:cubicBezTo>
                <a:cubicBezTo>
                  <a:pt x="23635" y="8578"/>
                  <a:pt x="23162" y="9313"/>
                  <a:pt x="22699" y="9313"/>
                </a:cubicBezTo>
                <a:cubicBezTo>
                  <a:pt x="21587" y="9313"/>
                  <a:pt x="20476" y="10800"/>
                  <a:pt x="20476" y="12331"/>
                </a:cubicBezTo>
                <a:lnTo>
                  <a:pt x="20476" y="143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4038480" y="3048120"/>
            <a:ext cx="609840" cy="304560"/>
          </a:xfrm>
          <a:custGeom>
            <a:avLst/>
            <a:gdLst>
              <a:gd name="textAreaLeft" fmla="*/ 18720 w 609840"/>
              <a:gd name="textAreaRight" fmla="*/ 591120 w 60984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76" y="1350"/>
                </a:lnTo>
                <a:lnTo>
                  <a:pt x="1350" y="135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76" y="20250"/>
                </a:lnTo>
                <a:lnTo>
                  <a:pt x="41876" y="135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76" y="2025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226" h="21600">
                <a:moveTo>
                  <a:pt x="21613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43226" h="21600">
                <a:moveTo>
                  <a:pt x="22724" y="14300"/>
                </a:moveTo>
                <a:lnTo>
                  <a:pt x="22724" y="12331"/>
                </a:lnTo>
                <a:cubicBezTo>
                  <a:pt x="22724" y="11500"/>
                  <a:pt x="23057" y="10800"/>
                  <a:pt x="23660" y="10800"/>
                </a:cubicBezTo>
                <a:cubicBezTo>
                  <a:pt x="24798" y="10800"/>
                  <a:pt x="25699" y="9426"/>
                  <a:pt x="25699" y="7834"/>
                </a:cubicBezTo>
                <a:cubicBezTo>
                  <a:pt x="25699" y="5506"/>
                  <a:pt x="23835" y="3756"/>
                  <a:pt x="21613" y="3756"/>
                </a:cubicBezTo>
                <a:cubicBezTo>
                  <a:pt x="19390" y="3756"/>
                  <a:pt x="17710" y="5506"/>
                  <a:pt x="17710" y="7834"/>
                </a:cubicBezTo>
                <a:lnTo>
                  <a:pt x="19574" y="7834"/>
                </a:lnTo>
                <a:cubicBezTo>
                  <a:pt x="19574" y="6688"/>
                  <a:pt x="20502" y="5795"/>
                  <a:pt x="21613" y="5795"/>
                </a:cubicBezTo>
                <a:cubicBezTo>
                  <a:pt x="22724" y="5795"/>
                  <a:pt x="23660" y="6688"/>
                  <a:pt x="23660" y="7834"/>
                </a:cubicBezTo>
                <a:cubicBezTo>
                  <a:pt x="23660" y="8578"/>
                  <a:pt x="23188" y="9313"/>
                  <a:pt x="22724" y="9313"/>
                </a:cubicBezTo>
                <a:cubicBezTo>
                  <a:pt x="21613" y="9313"/>
                  <a:pt x="20502" y="10800"/>
                  <a:pt x="20502" y="12331"/>
                </a:cubicBezTo>
                <a:lnTo>
                  <a:pt x="20502" y="143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7924680" y="64008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5041800" cy="6324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00400" y="2819520"/>
            <a:ext cx="17524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30481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581280"/>
            <a:ext cx="2438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066680"/>
            <a:ext cx="2362320" cy="2133720"/>
          </a:xfrm>
          <a:prstGeom prst="wedgeRectCallout">
            <a:avLst>
              <a:gd name="adj1" fmla="val -46101"/>
              <a:gd name="adj2" fmla="val 634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44792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zh-CN" sz="2800" spc="-1" strike="noStrike">
                <a:solidFill>
                  <a:srgbClr val="e72903"/>
                </a:solidFill>
                <a:latin typeface="Arial"/>
              </a:rPr>
              <a:t>fi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zh-CN" sz="2800" spc="-1" strike="noStrike">
                <a:solidFill>
                  <a:srgbClr val="e72903"/>
                </a:solidFill>
                <a:latin typeface="Arial"/>
              </a:rPr>
              <a:t>fish</a:t>
            </a:r>
            <a:r>
              <a:rPr b="1" lang="zh-CN" sz="2800" spc="-1" strike="noStrike">
                <a:solidFill>
                  <a:srgbClr val="1414d6"/>
                </a:solidFill>
                <a:latin typeface="Arial"/>
              </a:rPr>
              <a:t>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167520" y="3510000"/>
            <a:ext cx="18190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0"/>
            <a:ext cx="507816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57600" y="91440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1752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4572000"/>
            <a:ext cx="1828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5257800"/>
            <a:ext cx="1524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114800"/>
            <a:ext cx="76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458200" cy="5448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0" y="3886200"/>
            <a:ext cx="83808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1600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533412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990720"/>
            <a:ext cx="1600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426708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13716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438280"/>
            <a:ext cx="1143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209680" y="457200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196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e7290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e72903"/>
                </a:solidFill>
                <a:latin typeface="Arial"/>
              </a:rPr>
              <a:t>Let’s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59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6192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124080" y="1676520"/>
            <a:ext cx="6192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28600" y="2209680"/>
            <a:ext cx="6192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28600" y="1752480"/>
            <a:ext cx="61920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3124080" y="762120"/>
            <a:ext cx="619200" cy="465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716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e72903"/>
                </a:solidFill>
                <a:latin typeface="Arial"/>
              </a:rPr>
              <a:t>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870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e72903"/>
                </a:solidFill>
                <a:latin typeface="Arial"/>
              </a:rPr>
              <a:t>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e72903"/>
                </a:solidFill>
                <a:latin typeface="Arial"/>
              </a:rPr>
              <a:t>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800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e72903"/>
                </a:solidFill>
                <a:latin typeface="Arial"/>
              </a:rPr>
              <a:t>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2419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e72903"/>
                </a:solidFill>
                <a:latin typeface="Arial"/>
              </a:rPr>
              <a:t>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638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e72903"/>
                </a:solidFill>
                <a:latin typeface="Arial"/>
              </a:rPr>
              <a:t>Wil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8305920" y="3352680"/>
            <a:ext cx="609480" cy="53352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323" y="1350"/>
                </a:lnTo>
                <a:lnTo>
                  <a:pt x="1350" y="135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323" y="20250"/>
                </a:lnTo>
                <a:lnTo>
                  <a:pt x="23323" y="135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23" y="2025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73" h="21600">
                <a:moveTo>
                  <a:pt x="12337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4673" h="21600">
                <a:moveTo>
                  <a:pt x="12337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4673" h="21600">
                <a:moveTo>
                  <a:pt x="9747" y="8210"/>
                </a:moveTo>
                <a:lnTo>
                  <a:pt x="13632" y="8210"/>
                </a:lnTo>
                <a:lnTo>
                  <a:pt x="13632" y="15245"/>
                </a:lnTo>
                <a:lnTo>
                  <a:pt x="14927" y="15245"/>
                </a:lnTo>
                <a:lnTo>
                  <a:pt x="14927" y="16173"/>
                </a:lnTo>
                <a:lnTo>
                  <a:pt x="9747" y="16173"/>
                </a:lnTo>
                <a:lnTo>
                  <a:pt x="9747" y="15245"/>
                </a:lnTo>
                <a:lnTo>
                  <a:pt x="11042" y="15245"/>
                </a:lnTo>
                <a:lnTo>
                  <a:pt x="11042" y="9120"/>
                </a:lnTo>
                <a:lnTo>
                  <a:pt x="9747" y="912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8" action="ppaction://hlinksldjump"/>
          </p:cNvPr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14394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8789" h="21600">
                <a:moveTo>
                  <a:pt x="14394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8789" h="21600">
                <a:moveTo>
                  <a:pt x="11804" y="8210"/>
                </a:moveTo>
                <a:lnTo>
                  <a:pt x="15689" y="8210"/>
                </a:lnTo>
                <a:lnTo>
                  <a:pt x="15689" y="15245"/>
                </a:lnTo>
                <a:lnTo>
                  <a:pt x="16984" y="15245"/>
                </a:lnTo>
                <a:lnTo>
                  <a:pt x="16984" y="16173"/>
                </a:lnTo>
                <a:lnTo>
                  <a:pt x="11804" y="16173"/>
                </a:lnTo>
                <a:lnTo>
                  <a:pt x="11804" y="15245"/>
                </a:lnTo>
                <a:lnTo>
                  <a:pt x="13099" y="15245"/>
                </a:lnTo>
                <a:lnTo>
                  <a:pt x="13099" y="9120"/>
                </a:lnTo>
                <a:lnTo>
                  <a:pt x="11804" y="912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9" action="ppaction://hlinksldjump"/>
          </p:cNvPr>
          <p:cNvSpPr/>
          <p:nvPr/>
        </p:nvSpPr>
        <p:spPr>
          <a:xfrm>
            <a:off x="6248520" y="6324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7880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609480" y="2971800"/>
            <a:ext cx="6705720" cy="1905120"/>
            <a:chOff x="609480" y="2971800"/>
            <a:chExt cx="6705720" cy="1905120"/>
          </a:xfrm>
        </p:grpSpPr>
        <p:sp>
          <p:nvSpPr>
            <p:cNvPr id="144" name=""/>
            <p:cNvSpPr/>
            <p:nvPr/>
          </p:nvSpPr>
          <p:spPr>
            <a:xfrm>
              <a:off x="1371600" y="2971800"/>
              <a:ext cx="1447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2971800"/>
              <a:ext cx="1828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1320" y="2971800"/>
              <a:ext cx="1523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480" y="4038480"/>
              <a:ext cx="1600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3000" y="4876920"/>
              <a:ext cx="2971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2280" y="196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e7290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e72903"/>
                </a:solidFill>
                <a:latin typeface="Arial"/>
              </a:rPr>
              <a:t>Let’s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772400" y="640080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86400" y="121932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8600" y="1219320"/>
            <a:ext cx="8381880" cy="3124080"/>
            <a:chOff x="228600" y="1219320"/>
            <a:chExt cx="8381880" cy="3124080"/>
          </a:xfrm>
        </p:grpSpPr>
        <p:sp>
          <p:nvSpPr>
            <p:cNvPr id="154" name=""/>
            <p:cNvSpPr/>
            <p:nvPr/>
          </p:nvSpPr>
          <p:spPr>
            <a:xfrm>
              <a:off x="1371600" y="2438280"/>
              <a:ext cx="1447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00400" y="2438280"/>
              <a:ext cx="1828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438280"/>
              <a:ext cx="1523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480" y="3505320"/>
              <a:ext cx="1600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4343400"/>
              <a:ext cx="2971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" y="1219320"/>
              <a:ext cx="5029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1600200"/>
              <a:ext cx="14475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1523880"/>
              <a:ext cx="35053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1320" y="25146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400" y="2743200"/>
              <a:ext cx="31240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3124080"/>
              <a:ext cx="43434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8280" y="3809880"/>
              <a:ext cx="19051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7772400" y="640080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886200" y="228600"/>
            <a:ext cx="4114800" cy="3171960"/>
            <a:chOff x="3886200" y="228600"/>
            <a:chExt cx="4114800" cy="317196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6095880" y="380880"/>
              <a:ext cx="182880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6019920" y="2057400"/>
              <a:ext cx="198108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886200" y="228600"/>
              <a:ext cx="1585800" cy="31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371600" cy="13208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124080" y="2971800"/>
            <a:ext cx="6019920" cy="3179880"/>
            <a:chOff x="3124080" y="2971800"/>
            <a:chExt cx="6019920" cy="3179880"/>
          </a:xfrm>
        </p:grpSpPr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4952880" y="3733920"/>
              <a:ext cx="266724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124080" y="3276720"/>
              <a:ext cx="2133720" cy="761760"/>
            </a:xfrm>
            <a:prstGeom prst="cloudCallout">
              <a:avLst>
                <a:gd name="adj1" fmla="val 29314"/>
                <a:gd name="adj2" fmla="val 83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0280" y="2971800"/>
              <a:ext cx="2133720" cy="99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990720" y="1219320"/>
            <a:ext cx="2171520" cy="296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920" y="38268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ook and gues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78520" y="609480"/>
            <a:ext cx="76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 will you do in different time or pl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1905120"/>
            <a:ext cx="7543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828800"/>
          <a:ext cx="7754400" cy="3858840"/>
        </p:xfrm>
        <a:graphic>
          <a:graphicData uri="http://schemas.openxmlformats.org/drawingml/2006/table">
            <a:tbl>
              <a:tblPr/>
              <a:tblGrid>
                <a:gridCol w="1914840"/>
                <a:gridCol w="1395000"/>
                <a:gridCol w="2091240"/>
                <a:gridCol w="2353320"/>
              </a:tblGrid>
              <a:tr h="55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will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 friend will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 friend will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ev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the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ummer ho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218960" y="381960"/>
            <a:ext cx="70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1414d6"/>
                </a:solidFill>
                <a:latin typeface="Arial"/>
              </a:rPr>
              <a:t>What will you do in different time or pl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2800" spc="-1" strike="noStrike">
                <a:solidFill>
                  <a:srgbClr val="1414d6"/>
                </a:solidFill>
                <a:latin typeface="Arial"/>
              </a:rPr>
              <a:t>Will your friends do the same things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12193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Monotype Corsiva"/>
              </a:rPr>
              <a:t>Homew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2666880"/>
            <a:ext cx="586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26668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If you were Danny, what else will you do with Li Ming in China? Write and share your plan with your teacher and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925" t="0" r="0" b="0"/>
          <a:stretch/>
        </p:blipFill>
        <p:spPr>
          <a:xfrm>
            <a:off x="7696080" y="5257800"/>
            <a:ext cx="1447920" cy="1370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5334120"/>
            <a:ext cx="1447920" cy="1272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1371600" cy="1292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162920" y="4114800"/>
            <a:ext cx="990360" cy="1390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58672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e72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66688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ow will Danny go to Chin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8560" y="38088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ad and think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137484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4925" t="0" r="0" b="0"/>
          <a:stretch/>
        </p:blipFill>
        <p:spPr>
          <a:xfrm>
            <a:off x="7696080" y="5257800"/>
            <a:ext cx="1447920" cy="137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5334120"/>
            <a:ext cx="1447920" cy="1272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0720" y="4191120"/>
            <a:ext cx="1371600" cy="129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162920" y="4114800"/>
            <a:ext cx="990360" cy="1390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52480" y="58672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e72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505320" y="3581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rcRect l="0" t="0" r="0" b="5652"/>
          <a:stretch/>
        </p:blipFill>
        <p:spPr>
          <a:xfrm>
            <a:off x="4572000" y="3886200"/>
            <a:ext cx="609480" cy="560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15238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learn to f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752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52388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ly to Ch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752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52388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lay with Li 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181480" y="2362320"/>
            <a:ext cx="1166760" cy="1590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8560" y="38088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ad and think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200" y="3049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ad and discu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98680" cy="525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5334120"/>
            <a:ext cx="83808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514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re the monkeys cl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486400" cy="4926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28800" y="609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s the crow cl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876560" cy="466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8800" y="609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s he cl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715000" cy="489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609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o you think he is a clever bo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8:55:19Z</dcterms:created>
  <dc:creator/>
  <dc:description/>
  <dc:language>en-US</dc:language>
  <cp:lastModifiedBy/>
  <dcterms:modified xsi:type="dcterms:W3CDTF">2017-09-20T11:22:35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