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34CD-8231-4381-AD00-B05E6B59E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6A91-49D8-4968-AE9A-D93CB4E5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8F43-5C10-4CFD-8612-3D53955F4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B047-1FB2-48AD-9BE4-EA008C99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7E0-6C8F-4334-92BF-460C30D0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AB3C-67D6-4D1C-BD09-8393A8F8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601F-1339-4CCC-A30D-EEFA8732A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6361-5EE7-4ED7-AAAB-40AF0C4A3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8757-65F8-4C17-BB8B-5E76CFFD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899-F613-4D08-B2B5-192096D1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7504-F207-46D5-9796-883CB547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CFD8-E795-4417-B09C-5016A5E0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B167-7E78-42A1-8A01-E2D4EF56F44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5581440" cy="2951280"/>
          </a:xfrm>
          <a:prstGeom prst="rect">
            <a:avLst/>
          </a:prstGeom>
          <a:ln w="0">
            <a:noFill/>
          </a:ln>
        </p:spPr>
      </p:pic>
      <p:sp>
        <p:nvSpPr>
          <p:cNvPr id="42" name="Line 5"/>
          <p:cNvSpPr/>
          <p:nvPr/>
        </p:nvSpPr>
        <p:spPr>
          <a:xfrm>
            <a:off x="2411280" y="4653000"/>
            <a:ext cx="3168720" cy="288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84360" y="4292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"/>
              </a:rPr>
              <a:t>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1332000" y="83664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 you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brus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our teeth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619280" y="1557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brush my teeth _____ a week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1692360" y="234936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______ brush my tee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"/>
          <p:cNvSpPr/>
          <p:nvPr/>
        </p:nvSpPr>
        <p:spPr>
          <a:xfrm>
            <a:off x="611280" y="5516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and healthy tee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1476360" y="476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24000" y="189000"/>
            <a:ext cx="86040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How often does Jenny go to school? ____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: once  B: five  C: Five tim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She ____ her hands and face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A: washes    B: brushes   C: comb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She brushes her ____ and combs her ha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A: tooth   B: a tooth  C: teet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She works ____ at school. ( A: hard    B: hardly   C: a hard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Saturday and Sunday ____ differ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A: is     B: am    C: ar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:Jenny doesn’t _____ to school ___ those day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A: go , on  B: go , in  C: went , on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484360" y="12812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: Fiv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1680" y="2374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: was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627280" y="3500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: 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3708360" y="40179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: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1860480" y="51325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: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-49320" y="62164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: go ,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5"/>
          <p:cNvSpPr/>
          <p:nvPr/>
        </p:nvSpPr>
        <p:spPr>
          <a:xfrm>
            <a:off x="1187280" y="404640"/>
            <a:ext cx="18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Order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1258920" y="923760"/>
            <a:ext cx="6913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      )Jenny , please answer my questions n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      )Three times a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      )How often do you play baske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      )Because I want strong, healthy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      )What do you do after breakfast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      )I do my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      )Wh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      )I brush my teeth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      )What do you do before supper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1547640" y="90792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547640" y="3141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1547640" y="4797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1547640" y="4292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1547640" y="2565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3"/>
          <p:cNvSpPr/>
          <p:nvPr/>
        </p:nvSpPr>
        <p:spPr>
          <a:xfrm>
            <a:off x="1547640" y="5300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4"/>
          <p:cNvSpPr/>
          <p:nvPr/>
        </p:nvSpPr>
        <p:spPr>
          <a:xfrm>
            <a:off x="1547640" y="371628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5"/>
          <p:cNvSpPr/>
          <p:nvPr/>
        </p:nvSpPr>
        <p:spPr>
          <a:xfrm>
            <a:off x="1547640" y="206064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1547640" y="1557360"/>
            <a:ext cx="2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2852640"/>
            <a:ext cx="91440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词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y goes to school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five ti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week, from Monday to Fri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kes up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 7: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the morning. S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ash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r hand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.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t 7: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he eats breakfast. After breakfast, s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brushes 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ee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ombs her hair. Then s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uts 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r clothes and go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chool. She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ks ha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school. Saturday and Sunday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ffe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Jenny doesn’t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o to 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ose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用词语的正确形式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y is washing ____ face. ( sh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I brush my ____. ( tooth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She’s ____ her hair! ( comb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he ____ hard at school. ( work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Before breakfast, he washes ___ hands. ( h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539640" y="4005360"/>
            <a:ext cx="7056720" cy="1728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42920" y="0"/>
            <a:ext cx="88930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选词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nny goes to school______ a week, from Monday to Frid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wakes up _____in the morning. She washes her hand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e._____, She eats breakfast. After breakfast, she _____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s her hair. Then she _____her clothes and goes to schoo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 _____at school. Saturday and Sunday are _____. Jen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’t _____on those da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685080" y="458136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4. five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5364000" y="4581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. at 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3132360" y="407664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. At 7: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684360" y="5157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7. brushes her 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3925440" y="515772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8. put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2989440" y="458136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5. works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685080" y="407664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. diffe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5078520" y="407664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3. go to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3"/>
          <p:cNvSpPr/>
          <p:nvPr/>
        </p:nvSpPr>
        <p:spPr>
          <a:xfrm>
            <a:off x="1116000" y="112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you want to be strong and health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116000" y="21337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always ____________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116000" y="263700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116000" y="3068640"/>
            <a:ext cx="50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it’s good for you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116000" y="3500280"/>
            <a:ext cx="75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else can we do for strong and healthy bod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1116000" y="162864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be strong and health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3348360" y="210816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t break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1116000" y="4005360"/>
            <a:ext cx="7272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（例如）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brush your teeth ! Do some sports . Often eat fruit and vegetable …</a:t>
            </a:r>
            <a:br>
              <a:rPr sz="2400"/>
            </a:b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2"/>
          <p:cNvSpPr/>
          <p:nvPr/>
        </p:nvSpPr>
        <p:spPr>
          <a:xfrm>
            <a:off x="1619280" y="47628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esson 10  Always brush your teeth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3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103464W7-0"/>
          <p:cNvPicPr/>
          <p:nvPr/>
        </p:nvPicPr>
        <p:blipFill>
          <a:blip r:embed="rId1"/>
          <a:stretch/>
        </p:blipFill>
        <p:spPr>
          <a:xfrm>
            <a:off x="2556000" y="2060640"/>
            <a:ext cx="6048360" cy="4537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900000" y="1052640"/>
            <a:ext cx="1656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ru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eth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95640" y="76500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3851280" y="13413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cause it’s good for you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第八册图片062"/>
          <p:cNvPicPr/>
          <p:nvPr/>
        </p:nvPicPr>
        <p:blipFill>
          <a:blip r:embed="rId1"/>
          <a:stretch/>
        </p:blipFill>
        <p:spPr>
          <a:xfrm>
            <a:off x="1042920" y="1557360"/>
            <a:ext cx="2556000" cy="3168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3780000" y="1844640"/>
            <a:ext cx="45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hen does Li Ming brush his teeth 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1332000" y="476280"/>
            <a:ext cx="6624720" cy="5205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on 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ways Brush Your teet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第八册图片060"/>
          <p:cNvPicPr/>
          <p:nvPr/>
        </p:nvPicPr>
        <p:blipFill>
          <a:blip r:embed="rId1"/>
          <a:stretch/>
        </p:blipFill>
        <p:spPr>
          <a:xfrm>
            <a:off x="770040" y="765000"/>
            <a:ext cx="1655640" cy="2087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第八册图片061"/>
          <p:cNvPicPr/>
          <p:nvPr/>
        </p:nvPicPr>
        <p:blipFill>
          <a:blip r:embed="rId2"/>
          <a:stretch/>
        </p:blipFill>
        <p:spPr>
          <a:xfrm>
            <a:off x="3492360" y="765000"/>
            <a:ext cx="1644840" cy="2089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第八册图片062"/>
          <p:cNvPicPr/>
          <p:nvPr/>
        </p:nvPicPr>
        <p:blipFill>
          <a:blip r:embed="rId3"/>
          <a:stretch/>
        </p:blipFill>
        <p:spPr>
          <a:xfrm>
            <a:off x="6156360" y="765000"/>
            <a:ext cx="1655640" cy="20527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1116000" y="260280"/>
            <a:ext cx="936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:5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3924360" y="260280"/>
            <a:ext cx="936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6516720" y="260280"/>
            <a:ext cx="936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: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3635280" y="292428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5"/>
          <p:cNvSpPr/>
          <p:nvPr/>
        </p:nvSpPr>
        <p:spPr>
          <a:xfrm>
            <a:off x="395280" y="3860640"/>
            <a:ext cx="7920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 Ming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ea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akfast at 7:00 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Befor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akfast, he</a:t>
            </a:r>
            <a:r>
              <a:rPr b="0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ash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and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50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Af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reakfast, he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ush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is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e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36"/>
          <p:cNvSpPr/>
          <p:nvPr/>
        </p:nvSpPr>
        <p:spPr>
          <a:xfrm>
            <a:off x="1692360" y="436572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7"/>
          <p:cNvSpPr/>
          <p:nvPr/>
        </p:nvSpPr>
        <p:spPr>
          <a:xfrm>
            <a:off x="3780000" y="5013360"/>
            <a:ext cx="28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8"/>
          <p:cNvSpPr/>
          <p:nvPr/>
        </p:nvSpPr>
        <p:spPr>
          <a:xfrm>
            <a:off x="3564000" y="5661000"/>
            <a:ext cx="27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39"/>
          <p:cNvSpPr/>
          <p:nvPr/>
        </p:nvSpPr>
        <p:spPr>
          <a:xfrm>
            <a:off x="468360" y="2997360"/>
            <a:ext cx="107928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539640" y="2997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f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41"/>
          <p:cNvSpPr/>
          <p:nvPr/>
        </p:nvSpPr>
        <p:spPr>
          <a:xfrm>
            <a:off x="5867280" y="2924280"/>
            <a:ext cx="1079640" cy="43164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2"/>
          <p:cNvSpPr/>
          <p:nvPr/>
        </p:nvSpPr>
        <p:spPr>
          <a:xfrm>
            <a:off x="6012000" y="2924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fte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reak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第八册图片064"/>
          <p:cNvPicPr/>
          <p:nvPr/>
        </p:nvPicPr>
        <p:blipFill>
          <a:blip r:embed="rId1"/>
          <a:stretch/>
        </p:blipFill>
        <p:spPr>
          <a:xfrm>
            <a:off x="971640" y="549360"/>
            <a:ext cx="154296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第八册图片063"/>
          <p:cNvPicPr/>
          <p:nvPr/>
        </p:nvPicPr>
        <p:blipFill>
          <a:blip r:embed="rId2"/>
          <a:stretch/>
        </p:blipFill>
        <p:spPr>
          <a:xfrm>
            <a:off x="971640" y="4292640"/>
            <a:ext cx="1584360" cy="1800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第八册图片065"/>
          <p:cNvPicPr/>
          <p:nvPr/>
        </p:nvPicPr>
        <p:blipFill>
          <a:blip r:embed="rId3"/>
          <a:stretch/>
        </p:blipFill>
        <p:spPr>
          <a:xfrm>
            <a:off x="900000" y="2276640"/>
            <a:ext cx="1657440" cy="17269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7"/>
          <p:cNvSpPr/>
          <p:nvPr/>
        </p:nvSpPr>
        <p:spPr>
          <a:xfrm>
            <a:off x="3132000" y="1557360"/>
            <a:ext cx="54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1.Jenny is waking 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3132000" y="234936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2.Now she’s washing her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fac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3132000" y="3141720"/>
            <a:ext cx="51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3.She’s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comb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g her hai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3276720" y="692280"/>
            <a:ext cx="43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Jenny do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4"/>
          <p:cNvSpPr/>
          <p:nvPr/>
        </p:nvSpPr>
        <p:spPr>
          <a:xfrm>
            <a:off x="3419640" y="4508640"/>
            <a:ext cx="4681440" cy="1511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3564000" y="4581360"/>
            <a:ext cx="496728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正在进行时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特殊问句： 疑问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be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主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陈述句：主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be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动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7"/>
          <p:cNvSpPr/>
          <p:nvPr/>
        </p:nvSpPr>
        <p:spPr>
          <a:xfrm>
            <a:off x="4932360" y="2060640"/>
            <a:ext cx="1368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8"/>
          <p:cNvSpPr/>
          <p:nvPr/>
        </p:nvSpPr>
        <p:spPr>
          <a:xfrm>
            <a:off x="5292720" y="2852640"/>
            <a:ext cx="273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9"/>
          <p:cNvSpPr/>
          <p:nvPr/>
        </p:nvSpPr>
        <p:spPr>
          <a:xfrm>
            <a:off x="4572000" y="3645000"/>
            <a:ext cx="2592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11"/>
          <p:cNvSpPr/>
          <p:nvPr/>
        </p:nvSpPr>
        <p:spPr>
          <a:xfrm>
            <a:off x="900000" y="3429000"/>
            <a:ext cx="709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1403280" y="1916280"/>
            <a:ext cx="77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ke up                wash her hands       wash her face       brush her teeth       comb her hair        put on her clothes              go to school           work h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AutoShape 5"/>
          <p:cNvSpPr/>
          <p:nvPr/>
        </p:nvSpPr>
        <p:spPr>
          <a:xfrm>
            <a:off x="1116000" y="1052640"/>
            <a:ext cx="7273800" cy="2232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What does Jenny do after breakfast 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What does Jenny do before suppe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’s read “Jenny’s week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405080" y="549360"/>
            <a:ext cx="170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8"/>
          <p:cNvSpPr/>
          <p:nvPr/>
        </p:nvSpPr>
        <p:spPr>
          <a:xfrm>
            <a:off x="1116000" y="3573360"/>
            <a:ext cx="7201080" cy="18734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often does Jenny go to schoo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How often does Jenny play basketball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8"/>
          <p:cNvSpPr/>
          <p:nvPr/>
        </p:nvSpPr>
        <p:spPr>
          <a:xfrm>
            <a:off x="755640" y="692280"/>
            <a:ext cx="7488360" cy="50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nny goes to school five times a week, from Monday to Friday. She wakes up at 7:00 in the morning. She washes her hands and face.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7:15, she eats breakfast. After breakfast, she brushes her teeth and combs her ha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she puts on her clothes and goes to school. She works hard at schoo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turday and Sunday are different. Jenny doesn’t go to school on those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-776160" y="-2826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3"/>
          <p:cNvSpPr/>
          <p:nvPr/>
        </p:nvSpPr>
        <p:spPr>
          <a:xfrm>
            <a:off x="3132000" y="260280"/>
            <a:ext cx="46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nny’s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1835280" y="1197000"/>
            <a:ext cx="79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4572000" y="1628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3708360" y="1989000"/>
            <a:ext cx="12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7"/>
          <p:cNvSpPr/>
          <p:nvPr/>
        </p:nvSpPr>
        <p:spPr>
          <a:xfrm>
            <a:off x="2771640" y="2637000"/>
            <a:ext cx="792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1547640" y="3068640"/>
            <a:ext cx="11512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9"/>
          <p:cNvSpPr/>
          <p:nvPr/>
        </p:nvSpPr>
        <p:spPr>
          <a:xfrm>
            <a:off x="5076720" y="306864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20"/>
          <p:cNvSpPr/>
          <p:nvPr/>
        </p:nvSpPr>
        <p:spPr>
          <a:xfrm>
            <a:off x="2556000" y="3716280"/>
            <a:ext cx="1150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1"/>
          <p:cNvSpPr/>
          <p:nvPr/>
        </p:nvSpPr>
        <p:spPr>
          <a:xfrm>
            <a:off x="6300720" y="3716280"/>
            <a:ext cx="86364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2"/>
          <p:cNvSpPr/>
          <p:nvPr/>
        </p:nvSpPr>
        <p:spPr>
          <a:xfrm>
            <a:off x="2771640" y="4149720"/>
            <a:ext cx="1800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3"/>
          <p:cNvSpPr/>
          <p:nvPr/>
        </p:nvSpPr>
        <p:spPr>
          <a:xfrm>
            <a:off x="900000" y="5229360"/>
            <a:ext cx="302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4"/>
          <p:cNvSpPr/>
          <p:nvPr/>
        </p:nvSpPr>
        <p:spPr>
          <a:xfrm>
            <a:off x="826920" y="5445000"/>
            <a:ext cx="6913800" cy="8636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826920" y="5516640"/>
            <a:ext cx="720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般现在时态第三人称单数要变化，动词后面要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，否定形式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esn’t+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动词原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2411280" y="260280"/>
            <a:ext cx="640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: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Jenny , please answer my questions now. What do you do after breakfas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340000" y="1628640"/>
            <a:ext cx="59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brush my teeth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611280" y="227664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y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611280" y="2781360"/>
            <a:ext cx="90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ecause I want strong, healthy tee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611280" y="3573360"/>
            <a:ext cx="90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What do you do before suppe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611280" y="4076640"/>
            <a:ext cx="90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 do my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611280" y="4869000"/>
            <a:ext cx="90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W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often do you play basketbal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11280" y="5445000"/>
            <a:ext cx="90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: 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hree times a wee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5" descr="第八册图片050"/>
          <p:cNvPicPr/>
          <p:nvPr/>
        </p:nvPicPr>
        <p:blipFill>
          <a:blip r:embed="rId1"/>
          <a:stretch/>
        </p:blipFill>
        <p:spPr>
          <a:xfrm>
            <a:off x="468360" y="260280"/>
            <a:ext cx="1603440" cy="1494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第八册图片035"/>
          <p:cNvPicPr/>
          <p:nvPr/>
        </p:nvPicPr>
        <p:blipFill>
          <a:blip r:embed="rId2"/>
          <a:stretch/>
        </p:blipFill>
        <p:spPr>
          <a:xfrm>
            <a:off x="6084720" y="1341360"/>
            <a:ext cx="1243080" cy="1381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06:39:26Z</dcterms:created>
  <dc:creator> </dc:creator>
  <dc:description> </dc:description>
  <cp:keywords/>
  <dc:language>en-US</dc:language>
  <cp:lastModifiedBy>Administrator</cp:lastModifiedBy>
  <dcterms:modified xsi:type="dcterms:W3CDTF">2015-03-09T09:48:21Z</dcterms:modified>
  <cp:revision>2</cp:revision>
  <dc:subject> </dc:subject>
  <dc:title> </dc:title>
</cp:coreProperties>
</file>