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9.png" ContentType="image/png"/>
  <Override PartName="/ppt/media/image6.gif" ContentType="image/gif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7.gif" ContentType="image/gif"/>
  <Override PartName="/ppt/media/image8.gif" ContentType="image/gif"/>
  <Override PartName="/ppt/media/lase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040-86A6-4D4A-9AA5-0CDEF76AEA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448-B329-4BB8-A658-FD1F40FFB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722-EDCC-4C27-A569-91830B35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7BAE-8027-44CB-AE58-82AD76D68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92B-7346-49B1-BFA6-15BA6001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1F6-14E4-48B5-957A-3E85B40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530-563B-40F7-9C10-44DF24F7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6A8-D8EE-4732-870B-B6451ECE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D8F5-D42B-40CD-B1D3-F25D59C4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0522-5120-48F0-9C5E-AFBEA4A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4412-3F8D-4FED-AB51-197A015A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05B3-F76A-43B4-B34E-E213739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3C40-34EA-4632-AF5B-2D82E7B8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1E6-E006-4F9A-BF97-0562B295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7FAA-91BC-4192-A9A6-6ECCA9E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28C-DF0E-43EC-B64D-1586DBC7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3E9F-4DF8-4D5D-BD4F-9F62037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AAAC-76DE-436F-A0AB-659E5F1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0AED-BD32-4D91-A351-19412DA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AB5-03E4-4760-A0B4-FE1309E8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7A8-1BBF-4A28-9C68-2A77BE63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3F52-3F04-4E2D-AE6E-9ABFF8FC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CFB0-97F8-4DEB-AF98-EAD95C87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044C-E1E7-486E-985E-8CA6F22A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CBF6-07FF-44B1-97C9-B2A6F2B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5E46-A935-46C5-B351-D93D18E6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D5F-9CD7-41C6-A2A1-1606BA2E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30F9-3881-482E-8FEF-B6496E8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F325-DAF8-4439-93F7-9892F8F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84F2-DFEB-41C8-BA68-D2AEDD8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A958-1B52-42E4-99E9-C2C9B84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C508-7CC7-43ED-A1DF-816BAE01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1743-2EC0-46E3-9567-733B7DA0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9994-428B-4A3C-8687-DC15A4AC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456-1EEC-4E9A-8587-38B7BDB0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739-1E3D-4019-A212-B7D6480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F5C-EC37-48C0-BCB9-F7833173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EFE-B307-4BF0-B0EA-F509455B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6E5-3FD8-4908-8E14-451F105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9DA-5A6E-4122-9205-53F47AE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8D78-B65D-41F2-8E12-ABF2EE55D7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0160" y="0"/>
            <a:ext cx="9049320" cy="6858000"/>
            <a:chOff x="-20160" y="0"/>
            <a:chExt cx="90493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5409360" y="61920"/>
              <a:ext cx="3619800" cy="6131880"/>
              <a:chOff x="5409360" y="61920"/>
              <a:chExt cx="3619800" cy="6131880"/>
            </a:xfrm>
          </p:grpSpPr>
          <p:sp>
            <p:nvSpPr>
              <p:cNvPr id="43" name="未知"/>
              <p:cNvSpPr/>
              <p:nvPr/>
            </p:nvSpPr>
            <p:spPr>
              <a:xfrm flipV="1" rot="11970000">
                <a:off x="6572520" y="348840"/>
                <a:ext cx="2125440" cy="2348640"/>
              </a:xfrm>
              <a:custGeom>
                <a:avLst/>
                <a:gdLst>
                  <a:gd name="textAreaLeft" fmla="*/ 0 w 2125440"/>
                  <a:gd name="textAreaRight" fmla="*/ 2125800 w 2125440"/>
                  <a:gd name="textAreaTop" fmla="*/ 0 h 2348640"/>
                  <a:gd name="textAreaBottom" fmla="*/ 2348640 h 2348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 flipV="1" rot="11970000">
                <a:off x="7415640" y="1949760"/>
                <a:ext cx="909720" cy="83988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-360 h 839880"/>
                  <a:gd name="textAreaBottom" fmla="*/ 839880 h 8398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V="1" rot="11970000">
                <a:off x="6816960" y="2583720"/>
                <a:ext cx="441720" cy="393840"/>
              </a:xfrm>
              <a:custGeom>
                <a:avLst/>
                <a:gdLst>
                  <a:gd name="textAreaLeft" fmla="*/ 0 w 441720"/>
                  <a:gd name="textAreaRight" fmla="*/ 442080 w 441720"/>
                  <a:gd name="textAreaTop" fmla="*/ 360 h 393840"/>
                  <a:gd name="textAreaBottom" fmla="*/ 394560 h 39384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V="1" rot="11970000">
                <a:off x="7246800" y="670320"/>
                <a:ext cx="390600" cy="5490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-360 h 549000"/>
                  <a:gd name="textAreaBottom" fmla="*/ 549000 h 5490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 flipV="1" rot="11970000">
                <a:off x="7148880" y="2639880"/>
                <a:ext cx="163800" cy="3304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 flipV="1" rot="11970000">
                <a:off x="7133760" y="1235880"/>
                <a:ext cx="190800" cy="1422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 flipV="1" rot="11970000">
                <a:off x="5937840" y="2942280"/>
                <a:ext cx="525960" cy="3256560"/>
              </a:xfrm>
              <a:custGeom>
                <a:avLst/>
                <a:gdLst>
                  <a:gd name="textAreaLeft" fmla="*/ 0 w 525960"/>
                  <a:gd name="textAreaRight" fmla="*/ 526320 w 525960"/>
                  <a:gd name="textAreaTop" fmla="*/ 360 h 3256560"/>
                  <a:gd name="textAreaBottom" fmla="*/ 3257280 h 325656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未知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7"/>
            <p:cNvGrpSpPr/>
            <p:nvPr/>
          </p:nvGrpSpPr>
          <p:grpSpPr>
            <a:xfrm>
              <a:off x="4089600" y="988560"/>
              <a:ext cx="1017360" cy="1261800"/>
              <a:chOff x="4089600" y="988560"/>
              <a:chExt cx="1017360" cy="1261800"/>
            </a:xfrm>
          </p:grpSpPr>
          <p:sp>
            <p:nvSpPr>
              <p:cNvPr id="57" name="未知"/>
              <p:cNvSpPr/>
              <p:nvPr/>
            </p:nvSpPr>
            <p:spPr>
              <a:xfrm rot="3220200">
                <a:off x="4505760" y="1026720"/>
                <a:ext cx="286920" cy="37944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rot="3220200">
                <a:off x="4589280" y="1559160"/>
                <a:ext cx="489600" cy="316440"/>
              </a:xfrm>
              <a:custGeom>
                <a:avLst/>
                <a:gdLst>
                  <a:gd name="textAreaLeft" fmla="*/ 0 w 489600"/>
                  <a:gd name="textAreaRight" fmla="*/ 489960 w 489600"/>
                  <a:gd name="textAreaTop" fmla="*/ 0 h 316440"/>
                  <a:gd name="textAreaBottom" fmla="*/ 316440 h 316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 rot="3220200">
                <a:off x="4050000" y="1916640"/>
                <a:ext cx="510120" cy="16056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21"/>
            <p:cNvGrpSpPr/>
            <p:nvPr/>
          </p:nvGrpSpPr>
          <p:grpSpPr>
            <a:xfrm>
              <a:off x="5595120" y="255240"/>
              <a:ext cx="889200" cy="825120"/>
              <a:chOff x="5595120" y="255240"/>
              <a:chExt cx="889200" cy="825120"/>
            </a:xfrm>
          </p:grpSpPr>
          <p:sp>
            <p:nvSpPr>
              <p:cNvPr id="61" name="未知"/>
              <p:cNvSpPr/>
              <p:nvPr/>
            </p:nvSpPr>
            <p:spPr>
              <a:xfrm rot="14908200">
                <a:off x="5707440" y="750960"/>
                <a:ext cx="176400" cy="3614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 rot="14908200">
                <a:off x="5656680" y="426960"/>
                <a:ext cx="301320" cy="301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 rot="14908200">
                <a:off x="6198120" y="352800"/>
                <a:ext cx="314280" cy="15300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25"/>
            <p:cNvGrpSpPr/>
            <p:nvPr/>
          </p:nvGrpSpPr>
          <p:grpSpPr>
            <a:xfrm>
              <a:off x="955080" y="5282280"/>
              <a:ext cx="1061280" cy="840960"/>
              <a:chOff x="955080" y="5282280"/>
              <a:chExt cx="1061280" cy="840960"/>
            </a:xfrm>
          </p:grpSpPr>
          <p:sp>
            <p:nvSpPr>
              <p:cNvPr id="65" name="未知"/>
              <p:cNvSpPr/>
              <p:nvPr/>
            </p:nvSpPr>
            <p:spPr>
              <a:xfrm rot="8524800">
                <a:off x="1697400" y="5546880"/>
                <a:ext cx="252360" cy="30276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 rot="8524800">
                <a:off x="1184760" y="5764680"/>
                <a:ext cx="431280" cy="2527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8524800">
                <a:off x="946800" y="5406840"/>
                <a:ext cx="449280" cy="12816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309600" y="383040"/>
              <a:ext cx="1692000" cy="1147680"/>
              <a:chOff x="309600" y="383040"/>
              <a:chExt cx="1692000" cy="1147680"/>
            </a:xfrm>
          </p:grpSpPr>
          <p:sp>
            <p:nvSpPr>
              <p:cNvPr id="69" name="未知"/>
              <p:cNvSpPr/>
              <p:nvPr/>
            </p:nvSpPr>
            <p:spPr>
              <a:xfrm flipH="1" rot="4107000">
                <a:off x="1510560" y="1001520"/>
                <a:ext cx="357120" cy="531000"/>
              </a:xfrm>
              <a:custGeom>
                <a:avLst/>
                <a:gdLst>
                  <a:gd name="textAreaLeft" fmla="*/ 360 w 357120"/>
                  <a:gd name="textAreaRight" fmla="*/ 357840 w 35712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 flipH="1" rot="4107000">
                <a:off x="955800" y="526680"/>
                <a:ext cx="610560" cy="443160"/>
              </a:xfrm>
              <a:custGeom>
                <a:avLst/>
                <a:gdLst>
                  <a:gd name="textAreaLeft" fmla="*/ 360 w 610560"/>
                  <a:gd name="textAreaRight" fmla="*/ 611280 w 61056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flipH="1" rot="4107000">
                <a:off x="212400" y="1041840"/>
                <a:ext cx="636120" cy="22464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33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73" name="未知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>
                  <a:gd name="textAreaLeft" fmla="*/ 360 w 357120"/>
                  <a:gd name="textAreaRight" fmla="*/ 357840 w 35712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>
                  <a:gd name="textAreaLeft" fmla="*/ -360 w 610200"/>
                  <a:gd name="textAreaRight" fmla="*/ 610200 w 61020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未知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7BA9-9874-4A5A-90F1-65ED6E50F53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16C-39B3-4821-984F-25360175C2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4000" y="1484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内废物的排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-828720" y="260280"/>
            <a:ext cx="6769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四、尿的形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468360" y="765000"/>
            <a:ext cx="237636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 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971640" y="1557360"/>
            <a:ext cx="70578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观看动画，讨论下列问题：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684360" y="2276640"/>
            <a:ext cx="770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１、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血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经流肾小球时，哪些物质可以经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肾小球和肾小囊内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到肾小囊中？这说明肾小球有什么作用？到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肾小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液体称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２、肾小囊的液体到达肾小管时成分又发生什么变化？这说明肾小管有什么作用？在肾小管形成的液体称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尿的形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3"/>
          <p:cNvGrpSpPr/>
          <p:nvPr/>
        </p:nvGrpSpPr>
        <p:grpSpPr>
          <a:xfrm>
            <a:off x="1981080" y="6400800"/>
            <a:ext cx="7162920" cy="152280"/>
            <a:chOff x="1981080" y="6400800"/>
            <a:chExt cx="7162920" cy="152280"/>
          </a:xfrm>
        </p:grpSpPr>
        <p:sp>
          <p:nvSpPr>
            <p:cNvPr id="382" name="Line 4"/>
            <p:cNvSpPr/>
            <p:nvPr/>
          </p:nvSpPr>
          <p:spPr>
            <a:xfrm>
              <a:off x="2743200" y="6400800"/>
              <a:ext cx="6400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981080" y="655308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8"/>
          <p:cNvSpPr/>
          <p:nvPr/>
        </p:nvSpPr>
        <p:spPr>
          <a:xfrm>
            <a:off x="8355600" y="5373720"/>
            <a:ext cx="491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ShockwaveFlash1"/>
          <p:cNvGraphicFramePr/>
          <p:nvPr/>
        </p:nvGraphicFramePr>
        <p:xfrm>
          <a:off x="1187280" y="1341360"/>
          <a:ext cx="622008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341360"/>
                    <a:ext cx="6220080" cy="487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505320" cy="5888160"/>
          </a:xfrm>
          <a:prstGeom prst="rect">
            <a:avLst/>
          </a:prstGeom>
          <a:ln w="0">
            <a:noFill/>
          </a:ln>
        </p:spPr>
      </p:pic>
      <p:sp>
        <p:nvSpPr>
          <p:cNvPr id="388" name="Line 3"/>
          <p:cNvSpPr/>
          <p:nvPr/>
        </p:nvSpPr>
        <p:spPr>
          <a:xfrm flipH="1">
            <a:off x="2484360" y="1413000"/>
            <a:ext cx="43200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"/>
          <p:cNvSpPr/>
          <p:nvPr/>
        </p:nvSpPr>
        <p:spPr>
          <a:xfrm flipH="1">
            <a:off x="2700360" y="1557360"/>
            <a:ext cx="28728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3132000" y="1557360"/>
            <a:ext cx="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3348000" y="1557360"/>
            <a:ext cx="14436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"/>
          <p:cNvSpPr/>
          <p:nvPr/>
        </p:nvSpPr>
        <p:spPr>
          <a:xfrm flipV="1">
            <a:off x="3276720" y="1676520"/>
            <a:ext cx="1752480" cy="2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"/>
          <p:cNvSpPr/>
          <p:nvPr/>
        </p:nvSpPr>
        <p:spPr>
          <a:xfrm>
            <a:off x="2987640" y="3139920"/>
            <a:ext cx="576360" cy="1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9"/>
          <p:cNvSpPr/>
          <p:nvPr/>
        </p:nvSpPr>
        <p:spPr>
          <a:xfrm>
            <a:off x="3048120" y="3581280"/>
            <a:ext cx="57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0"/>
          <p:cNvSpPr/>
          <p:nvPr/>
        </p:nvSpPr>
        <p:spPr>
          <a:xfrm>
            <a:off x="2819520" y="3962520"/>
            <a:ext cx="57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>
            <a:off x="3708360" y="2492280"/>
            <a:ext cx="142920" cy="2305080"/>
          </a:xfrm>
          <a:custGeom>
            <a:avLst/>
            <a:gdLst>
              <a:gd name="textAreaLeft" fmla="*/ 0 w 142920"/>
              <a:gd name="textAreaRight" fmla="*/ 51480 w 14292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3780000" y="2421000"/>
            <a:ext cx="75960" cy="3313080"/>
          </a:xfrm>
          <a:custGeom>
            <a:avLst/>
            <a:gdLst>
              <a:gd name="textAreaLeft" fmla="*/ 0 w 75960"/>
              <a:gd name="textAreaRight" fmla="*/ 27360 w 759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4876920" y="1370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肾小球的滤过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4724280" y="28947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肾小管的重吸收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4952880" y="13708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4876920" y="289368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>
            <a:off x="3276720" y="76212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4952880" y="4564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3962520" y="52578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4724280" y="49521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990720" y="5334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952880" y="456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动脉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724280" y="495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静脉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152280" y="502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尿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743200" y="1905120"/>
            <a:ext cx="22096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495288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原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7"/>
          <p:cNvSpPr/>
          <p:nvPr/>
        </p:nvSpPr>
        <p:spPr>
          <a:xfrm>
            <a:off x="3571920" y="3098880"/>
            <a:ext cx="1295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8"/>
          <p:cNvSpPr/>
          <p:nvPr/>
        </p:nvSpPr>
        <p:spPr>
          <a:xfrm flipV="1">
            <a:off x="3343320" y="3174480"/>
            <a:ext cx="1523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3962520" y="762120"/>
            <a:ext cx="99036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0"/>
          <p:cNvSpPr/>
          <p:nvPr/>
        </p:nvSpPr>
        <p:spPr>
          <a:xfrm flipV="1">
            <a:off x="3124080" y="1447560"/>
            <a:ext cx="16002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1"/>
          <p:cNvSpPr/>
          <p:nvPr/>
        </p:nvSpPr>
        <p:spPr>
          <a:xfrm flipV="1">
            <a:off x="4724280" y="76176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2"/>
          <p:cNvSpPr/>
          <p:nvPr/>
        </p:nvSpPr>
        <p:spPr>
          <a:xfrm>
            <a:off x="50292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全部的葡萄糖、大部分的水和部分无机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56448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血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84372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原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7958520" y="594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尿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1447920" y="64008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4724280" y="64008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1717920" y="5791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肾小球滤过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5212800" y="57913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肾小管的重吸收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-539280" y="0"/>
            <a:ext cx="12776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尿的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0"/>
          <p:cNvSpPr/>
          <p:nvPr/>
        </p:nvSpPr>
        <p:spPr>
          <a:xfrm>
            <a:off x="6372360" y="508464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分上有什么变化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6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70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468360" y="1197000"/>
          <a:ext cx="8291520" cy="4910040"/>
        </p:xfrm>
        <a:graphic>
          <a:graphicData uri="http://schemas.openxmlformats.org/drawingml/2006/table">
            <a:tbl>
              <a:tblPr/>
              <a:tblGrid>
                <a:gridCol w="2220840"/>
                <a:gridCol w="2071800"/>
                <a:gridCol w="1965240"/>
                <a:gridCol w="2033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血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原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尿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蛋白质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微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葡萄糖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尿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0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0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尿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0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0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0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无机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Text Box 45"/>
          <p:cNvSpPr/>
          <p:nvPr/>
        </p:nvSpPr>
        <p:spPr>
          <a:xfrm>
            <a:off x="179280" y="259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区分血浆和原尿，原尿和尿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1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7"/>
          <p:cNvGrpSpPr/>
          <p:nvPr/>
        </p:nvGrpSpPr>
        <p:grpSpPr>
          <a:xfrm>
            <a:off x="6588000" y="1773360"/>
            <a:ext cx="2376720" cy="4176720"/>
            <a:chOff x="6588000" y="1773360"/>
            <a:chExt cx="2376720" cy="4176720"/>
          </a:xfrm>
        </p:grpSpPr>
        <p:sp>
          <p:nvSpPr>
            <p:cNvPr id="430" name="竖卷形 3"/>
            <p:cNvSpPr/>
            <p:nvPr/>
          </p:nvSpPr>
          <p:spPr>
            <a:xfrm>
              <a:off x="6588000" y="1773360"/>
              <a:ext cx="2376720" cy="417672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4"/>
            <p:cNvSpPr/>
            <p:nvPr/>
          </p:nvSpPr>
          <p:spPr>
            <a:xfrm>
              <a:off x="6876000" y="2061360"/>
              <a:ext cx="1800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原尿与血浆相比，主要的区别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Box 5"/>
          <p:cNvSpPr/>
          <p:nvPr/>
        </p:nvSpPr>
        <p:spPr>
          <a:xfrm>
            <a:off x="6948360" y="42210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尿中不含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分子蛋白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1"/>
          <p:cNvGrpSpPr/>
          <p:nvPr/>
        </p:nvGrpSpPr>
        <p:grpSpPr>
          <a:xfrm>
            <a:off x="2484360" y="1989000"/>
            <a:ext cx="2303640" cy="4032360"/>
            <a:chOff x="2484360" y="1989000"/>
            <a:chExt cx="2303640" cy="4032360"/>
          </a:xfrm>
        </p:grpSpPr>
        <p:sp>
          <p:nvSpPr>
            <p:cNvPr id="434" name="竖卷形 8"/>
            <p:cNvSpPr/>
            <p:nvPr/>
          </p:nvSpPr>
          <p:spPr>
            <a:xfrm>
              <a:off x="2484360" y="1989000"/>
              <a:ext cx="2303640" cy="403236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9"/>
            <p:cNvSpPr/>
            <p:nvPr/>
          </p:nvSpPr>
          <p:spPr>
            <a:xfrm>
              <a:off x="2916360" y="24930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尿液与原尿相比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主要区别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Box 10"/>
          <p:cNvSpPr/>
          <p:nvPr/>
        </p:nvSpPr>
        <p:spPr>
          <a:xfrm>
            <a:off x="2916360" y="3860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尿液中不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1835280" y="1844640"/>
            <a:ext cx="5400720" cy="2590920"/>
          </a:xfrm>
          <a:prstGeom prst="wedgeEllipseCallout">
            <a:avLst>
              <a:gd name="adj1" fmla="val 17050"/>
              <a:gd name="adj2" fmla="val -97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能说出血液与尿液的区别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3"/>
          <p:cNvSpPr/>
          <p:nvPr/>
        </p:nvSpPr>
        <p:spPr>
          <a:xfrm>
            <a:off x="2987640" y="33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尿液中不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血细胞、蛋白质、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果尿液中出现了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红细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者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葡萄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可能是哪里出问题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接箭头连接符 4"/>
          <p:cNvCxnSpPr/>
          <p:nvPr/>
        </p:nvCxnSpPr>
        <p:spPr>
          <a:xfrm flipV="1">
            <a:off x="6587640" y="2348640"/>
            <a:ext cx="1080" cy="72360"/>
          </a:xfrm>
          <a:prstGeom prst="straightConnector1">
            <a:avLst/>
          </a:prstGeom>
          <a:ln w="9360">
            <a:solidFill>
              <a:srgbClr val="e8f5cc"/>
            </a:solidFill>
            <a:miter/>
            <a:tailEnd len="med" type="arrow" w="med"/>
          </a:ln>
        </p:spPr>
      </p:cxnSp>
      <p:cxnSp>
        <p:nvCxnSpPr>
          <p:cNvPr id="441" name="直接箭头连接符 7"/>
          <p:cNvCxnSpPr/>
          <p:nvPr/>
        </p:nvCxnSpPr>
        <p:spPr>
          <a:xfrm flipV="1">
            <a:off x="5940360" y="1412280"/>
            <a:ext cx="432720" cy="432360"/>
          </a:xfrm>
          <a:prstGeom prst="straightConnector1">
            <a:avLst/>
          </a:prstGeom>
          <a:ln w="15840">
            <a:solidFill>
              <a:srgbClr val="1d2905"/>
            </a:solidFill>
            <a:miter/>
            <a:tailEnd len="med" type="arrow" w="med"/>
          </a:ln>
        </p:spPr>
      </p:cxnSp>
      <p:cxnSp>
        <p:nvCxnSpPr>
          <p:cNvPr id="442" name="直接箭头连接符 9"/>
          <p:cNvCxnSpPr/>
          <p:nvPr/>
        </p:nvCxnSpPr>
        <p:spPr>
          <a:xfrm>
            <a:off x="2843280" y="2781360"/>
            <a:ext cx="505440" cy="792720"/>
          </a:xfrm>
          <a:prstGeom prst="straightConnector1">
            <a:avLst/>
          </a:prstGeom>
          <a:ln w="15840">
            <a:solidFill>
              <a:srgbClr val="1d2905"/>
            </a:solidFill>
            <a:miter/>
            <a:tailEnd len="med" type="arrow" w="med"/>
          </a:ln>
        </p:spPr>
      </p:cxnSp>
      <p:cxnSp>
        <p:nvCxnSpPr>
          <p:cNvPr id="443" name="直接箭头连接符 10"/>
          <p:cNvCxnSpPr/>
          <p:nvPr/>
        </p:nvCxnSpPr>
        <p:spPr>
          <a:xfrm flipV="1">
            <a:off x="7524720" y="1412280"/>
            <a:ext cx="504000" cy="432360"/>
          </a:xfrm>
          <a:prstGeom prst="straightConnector1">
            <a:avLst/>
          </a:prstGeom>
          <a:ln w="15840">
            <a:solidFill>
              <a:srgbClr val="1d2905"/>
            </a:solidFill>
            <a:miter/>
            <a:tailEnd len="med" type="arrow" w="med"/>
          </a:ln>
        </p:spPr>
      </p:cxnSp>
      <p:sp>
        <p:nvSpPr>
          <p:cNvPr id="444" name="TextBox 19"/>
          <p:cNvSpPr/>
          <p:nvPr/>
        </p:nvSpPr>
        <p:spPr>
          <a:xfrm>
            <a:off x="5940360" y="907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7667640" y="907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1"/>
          <p:cNvSpPr/>
          <p:nvPr/>
        </p:nvSpPr>
        <p:spPr>
          <a:xfrm>
            <a:off x="3348000" y="321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"/>
          <p:cNvSpPr/>
          <p:nvPr/>
        </p:nvSpPr>
        <p:spPr>
          <a:xfrm>
            <a:off x="684360" y="4221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人每天形成的原尿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，而排出的尿液只有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1"/>
          <p:cNvSpPr/>
          <p:nvPr/>
        </p:nvSpPr>
        <p:spPr>
          <a:xfrm>
            <a:off x="1835280" y="558972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肾小管的重吸收作用吸收了大量的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96720" y="260280"/>
            <a:ext cx="52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泌尿系统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图片 3" descr="泌尿系统的组成.jpg"/>
          <p:cNvPicPr/>
          <p:nvPr/>
        </p:nvPicPr>
        <p:blipFill>
          <a:blip r:embed="rId1"/>
          <a:stretch/>
        </p:blipFill>
        <p:spPr>
          <a:xfrm>
            <a:off x="3348000" y="1484280"/>
            <a:ext cx="2768760" cy="4343400"/>
          </a:xfrm>
          <a:prstGeom prst="rect">
            <a:avLst/>
          </a:prstGeom>
          <a:ln w="0">
            <a:noFill/>
          </a:ln>
        </p:spPr>
      </p:pic>
      <p:sp>
        <p:nvSpPr>
          <p:cNvPr id="451" name="标题 1"/>
          <p:cNvSpPr/>
          <p:nvPr/>
        </p:nvSpPr>
        <p:spPr>
          <a:xfrm>
            <a:off x="681120" y="2398680"/>
            <a:ext cx="761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左大括号 6"/>
          <p:cNvSpPr/>
          <p:nvPr/>
        </p:nvSpPr>
        <p:spPr>
          <a:xfrm>
            <a:off x="1214280" y="232236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895840"/>
              <a:gd name="textAreaBottom" fmla="*/ 28879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605240" y="2093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1476360" y="2997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尿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1519200" y="3770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膀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>
            <a:off x="1595520" y="4913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3"/>
          <p:cNvSpPr/>
          <p:nvPr/>
        </p:nvSpPr>
        <p:spPr>
          <a:xfrm>
            <a:off x="6700680" y="2170080"/>
            <a:ext cx="18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成尿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4"/>
          <p:cNvSpPr/>
          <p:nvPr/>
        </p:nvSpPr>
        <p:spPr>
          <a:xfrm>
            <a:off x="6588000" y="4005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5"/>
          <p:cNvSpPr/>
          <p:nvPr/>
        </p:nvSpPr>
        <p:spPr>
          <a:xfrm>
            <a:off x="1697760" y="4303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暂时贮存尿液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5796000" y="2492280"/>
            <a:ext cx="10810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1979640" y="2421000"/>
            <a:ext cx="187164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2771640" y="3357720"/>
            <a:ext cx="158436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 flipH="1" flipV="1">
            <a:off x="2484000" y="4149360"/>
            <a:ext cx="2087640" cy="358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8"/>
          <p:cNvSpPr/>
          <p:nvPr/>
        </p:nvSpPr>
        <p:spPr>
          <a:xfrm flipV="1">
            <a:off x="2556000" y="4939920"/>
            <a:ext cx="2160360" cy="36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591920" y="189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五、尿的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405360" y="119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1940040" y="119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输尿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391536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膀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94632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尿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214524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体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853920" y="1501920"/>
            <a:ext cx="9144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2911320" y="1501920"/>
            <a:ext cx="9144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3"/>
          <p:cNvSpPr/>
          <p:nvPr/>
        </p:nvSpPr>
        <p:spPr>
          <a:xfrm>
            <a:off x="4213080" y="1773360"/>
            <a:ext cx="0" cy="57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4"/>
          <p:cNvSpPr/>
          <p:nvPr/>
        </p:nvSpPr>
        <p:spPr>
          <a:xfrm flipH="1">
            <a:off x="2916000" y="2565360"/>
            <a:ext cx="93636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923400" y="968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尿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1964880" y="3284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六、排尿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24000" y="407664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排出代谢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调节人体内水和无机盐的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维持组织细胞正常的生理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图片 3" descr="泌尿系统的组成.jpg"/>
          <p:cNvPicPr/>
          <p:nvPr/>
        </p:nvPicPr>
        <p:blipFill>
          <a:blip r:embed="rId1"/>
          <a:stretch/>
        </p:blipFill>
        <p:spPr>
          <a:xfrm>
            <a:off x="6443640" y="117360"/>
            <a:ext cx="2700360" cy="403236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8"/>
          <p:cNvSpPr/>
          <p:nvPr/>
        </p:nvSpPr>
        <p:spPr>
          <a:xfrm>
            <a:off x="2843280" y="3429000"/>
            <a:ext cx="5400720" cy="2590920"/>
          </a:xfrm>
          <a:prstGeom prst="wedgeEllipseCallout">
            <a:avLst>
              <a:gd name="adj1" fmla="val 28578"/>
              <a:gd name="adj2" fmla="val -71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尿液的形成是连续的，排出是间歇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25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75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25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75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25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75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425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75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119700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与流入肾脏的血液相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肾脏流出的血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明显减少的成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浆、原尿、尿液中都会有的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患尿毒症的人要定期去医院做肾透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为了排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尿液在肾脏中形成的部位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3629160" y="180504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尿素、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965160" y="33177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、无机盐、尿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3340080" y="46864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尿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5788080" y="547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肾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3179520" y="117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复习演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8"/>
          <p:cNvSpPr/>
          <p:nvPr/>
        </p:nvSpPr>
        <p:spPr>
          <a:xfrm>
            <a:off x="324000" y="549360"/>
            <a:ext cx="1657080" cy="57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填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排泄的三条途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52360" y="1844640"/>
          <a:ext cx="8077320" cy="207648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50292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排出的主要代谢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9" name="标题 1"/>
          <p:cNvSpPr/>
          <p:nvPr/>
        </p:nvSpPr>
        <p:spPr>
          <a:xfrm>
            <a:off x="2004840" y="283536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汗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标题 1"/>
          <p:cNvSpPr/>
          <p:nvPr/>
        </p:nvSpPr>
        <p:spPr>
          <a:xfrm>
            <a:off x="2004840" y="2378160"/>
            <a:ext cx="99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尿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标题 1"/>
          <p:cNvSpPr/>
          <p:nvPr/>
        </p:nvSpPr>
        <p:spPr>
          <a:xfrm>
            <a:off x="2004840" y="336852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标题 1"/>
          <p:cNvSpPr/>
          <p:nvPr/>
        </p:nvSpPr>
        <p:spPr>
          <a:xfrm>
            <a:off x="3452760" y="230184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余的水、无机盐、尿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3452760" y="283536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些水、少量无机盐、尿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标题 1"/>
          <p:cNvSpPr/>
          <p:nvPr/>
        </p:nvSpPr>
        <p:spPr>
          <a:xfrm>
            <a:off x="3452760" y="33685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和少量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346760" y="1052640"/>
            <a:ext cx="6766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人体的生理活动中，不属于排泄的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氧化碳和水由呼吸系统排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汗液的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质代谢终产物排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脂腺的分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的形成过程中，起到滤过作用的结构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球毛细血管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球毛细血管和肾小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球毛细血管壁和肾小囊内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囊内壁和外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3"/>
          <p:cNvSpPr/>
          <p:nvPr/>
        </p:nvSpPr>
        <p:spPr>
          <a:xfrm>
            <a:off x="466560" y="260280"/>
            <a:ext cx="1657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755640" y="5493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539640" y="333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选择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7958160" y="112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8317440" y="3502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454560" y="3178080"/>
            <a:ext cx="31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708360" y="2637000"/>
            <a:ext cx="193356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851280" y="2852640"/>
            <a:ext cx="20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体内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物的排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 flipH="1">
            <a:off x="1475640" y="2781360"/>
            <a:ext cx="1800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3348000" y="33577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905480" y="29242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尿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和排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466560" y="836640"/>
            <a:ext cx="863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83280" y="76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396720" y="2060640"/>
            <a:ext cx="648000" cy="28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99600" y="245232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尿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252360" y="5591160"/>
            <a:ext cx="172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396720" y="558972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尿的排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 flipH="1" flipV="1">
            <a:off x="1116000" y="1341360"/>
            <a:ext cx="1008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 flipH="1">
            <a:off x="1115640" y="4076640"/>
            <a:ext cx="115236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1044720" y="3429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249720" y="404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本章知识体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五角星 26"/>
          <p:cNvSpPr/>
          <p:nvPr/>
        </p:nvSpPr>
        <p:spPr>
          <a:xfrm>
            <a:off x="277920" y="42292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0066"/>
          </a:solidFill>
          <a:ln w="25560">
            <a:solidFill>
              <a:srgbClr val="aeb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84160" y="117360"/>
            <a:ext cx="7020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，尿液和原尿相比，增加和失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物质分别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和葡萄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和蛋白质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素和葡萄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机盐和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血管中流动的不是动脉血的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动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球小动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静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球小动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球、肾小囊、肾小管中流出的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浆、原尿、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、原尿、原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、原尿、原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、原尿、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42000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7093080" y="206064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19780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648000" y="549360"/>
            <a:ext cx="777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流入肾脏的血液相比，从肾脏流出的血液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含成分的不同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大量减少  ②二氧化碳含量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的含量降低   ④尿素的含量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的含量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①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③④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④⑤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925080" y="112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右下图是人体某部位毛细血管示意图，下列针对此图的各种分析中，错误的是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肺泡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毛细血管，那么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和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中流动的分别是静脉血和动脉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B</a:t>
            </a: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肾小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那么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和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中流动的都是动脉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肠壁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毛细血管，则血液流过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的变化是营养物质增多、含氧量增加    </a:t>
            </a: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如果［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］为真皮内的毛细血管，除进行物质交换外，还具有调节体温的作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3419640" cy="21049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>
            <a:off x="6084720" y="476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pic_280922"/>
          <p:cNvPicPr/>
          <p:nvPr/>
        </p:nvPicPr>
        <p:blipFill>
          <a:blip r:embed="rId1"/>
          <a:stretch/>
        </p:blipFill>
        <p:spPr>
          <a:xfrm>
            <a:off x="5327640" y="3284640"/>
            <a:ext cx="3816360" cy="33843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611280" y="119700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里面流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的一端包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另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连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它里面的液体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08000" y="11239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2720" y="321300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的结构和功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单位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包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539640" y="404640"/>
            <a:ext cx="1511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539640" y="47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简答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971640" y="1159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_GB2312"/>
              </a:rPr>
              <a:t>下表是正常成年人血浆、原尿和尿的主要成分比较，试解读表中数据回答下面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971640" y="1197000"/>
          <a:ext cx="7153200" cy="3108240"/>
        </p:xfrm>
        <a:graphic>
          <a:graphicData uri="http://schemas.openxmlformats.org/drawingml/2006/table">
            <a:tbl>
              <a:tblPr/>
              <a:tblGrid>
                <a:gridCol w="1789200"/>
                <a:gridCol w="1787400"/>
                <a:gridCol w="1789200"/>
                <a:gridCol w="1787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成   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样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样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样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蛋白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微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葡萄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尿   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尿   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无机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0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仿宋_GB2312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Text Box 57"/>
          <p:cNvSpPr/>
          <p:nvPr/>
        </p:nvSpPr>
        <p:spPr>
          <a:xfrm>
            <a:off x="179280" y="4581360"/>
            <a:ext cx="896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样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，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仿宋_GB2312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样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，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仿宋_GB2312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样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，理由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Verdana"/>
                <a:ea typeface="仿宋_GB2312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124000" y="58053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仿宋_GB2312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9"/>
          <p:cNvSpPr/>
          <p:nvPr/>
        </p:nvSpPr>
        <p:spPr>
          <a:xfrm>
            <a:off x="1979640" y="458136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仿宋_GB2312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0"/>
          <p:cNvSpPr/>
          <p:nvPr/>
        </p:nvSpPr>
        <p:spPr>
          <a:xfrm>
            <a:off x="1979640" y="515772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仿宋_GB2312"/>
              </a:rPr>
              <a:t>原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1"/>
          <p:cNvSpPr/>
          <p:nvPr/>
        </p:nvSpPr>
        <p:spPr>
          <a:xfrm>
            <a:off x="4284720" y="5877000"/>
            <a:ext cx="38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中没有蛋白质和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>
            <a:off x="4427640" y="4437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中含有蛋白质，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>
            <a:off x="4356000" y="4941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中蛋白质含量极少，其他物质的含量与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仿宋_GB2312"/>
              </a:rPr>
              <a:t>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2278440" y="18900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肾单位的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Object 3"/>
          <p:cNvGraphicFramePr/>
          <p:nvPr/>
        </p:nvGraphicFramePr>
        <p:xfrm>
          <a:off x="0" y="907920"/>
          <a:ext cx="74898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74898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Text Box 4"/>
          <p:cNvSpPr/>
          <p:nvPr/>
        </p:nvSpPr>
        <p:spPr>
          <a:xfrm>
            <a:off x="1536480" y="3882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924360" y="390852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554160" y="3763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 flipV="1">
            <a:off x="6804000" y="1773000"/>
            <a:ext cx="936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7924320" y="153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9"/>
          <p:cNvSpPr/>
          <p:nvPr/>
        </p:nvSpPr>
        <p:spPr>
          <a:xfrm flipV="1">
            <a:off x="7093080" y="2252160"/>
            <a:ext cx="792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V="1">
            <a:off x="7524720" y="2252160"/>
            <a:ext cx="36036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798552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囊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7165800" y="3116160"/>
            <a:ext cx="648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69080" y="2828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囊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 flipH="1">
            <a:off x="3563640" y="2971800"/>
            <a:ext cx="647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5"/>
          <p:cNvSpPr/>
          <p:nvPr/>
        </p:nvSpPr>
        <p:spPr>
          <a:xfrm flipH="1">
            <a:off x="3564000" y="3260880"/>
            <a:ext cx="936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6"/>
          <p:cNvSpPr/>
          <p:nvPr/>
        </p:nvSpPr>
        <p:spPr>
          <a:xfrm>
            <a:off x="2739600" y="318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7"/>
          <p:cNvSpPr/>
          <p:nvPr/>
        </p:nvSpPr>
        <p:spPr>
          <a:xfrm>
            <a:off x="466560" y="5445000"/>
            <a:ext cx="13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8"/>
          <p:cNvSpPr/>
          <p:nvPr/>
        </p:nvSpPr>
        <p:spPr>
          <a:xfrm>
            <a:off x="1692360" y="4724280"/>
            <a:ext cx="215640" cy="1944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205020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1835280" y="623736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"/>
          <p:cNvSpPr/>
          <p:nvPr/>
        </p:nvSpPr>
        <p:spPr>
          <a:xfrm>
            <a:off x="3060720" y="46544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3203640" y="4581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球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毛细血管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3387960" y="558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肾小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1"/>
          <p:cNvSpPr/>
          <p:nvPr/>
        </p:nvSpPr>
        <p:spPr>
          <a:xfrm>
            <a:off x="4284720" y="522936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4500720" y="602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肾小囊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3"/>
          <p:cNvSpPr/>
          <p:nvPr/>
        </p:nvSpPr>
        <p:spPr>
          <a:xfrm>
            <a:off x="4500720" y="5229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肾小囊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"/>
          <p:cNvSpPr/>
          <p:nvPr/>
        </p:nvSpPr>
        <p:spPr>
          <a:xfrm>
            <a:off x="5867280" y="501336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360 h 863640"/>
              <a:gd name="textAreaBottom" fmla="*/ 800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42"/>
                  <a:pt x="10800" y="5083"/>
                </a:cubicBezTo>
                <a:lnTo>
                  <a:pt x="10800" y="5717"/>
                </a:lnTo>
                <a:cubicBezTo>
                  <a:pt x="10800" y="8259"/>
                  <a:pt x="5400" y="10800"/>
                  <a:pt x="0" y="10800"/>
                </a:cubicBezTo>
                <a:cubicBezTo>
                  <a:pt x="5400" y="10800"/>
                  <a:pt x="10800" y="13342"/>
                  <a:pt x="10800" y="15883"/>
                </a:cubicBezTo>
                <a:lnTo>
                  <a:pt x="10800" y="16517"/>
                </a:lnTo>
                <a:cubicBezTo>
                  <a:pt x="10800" y="190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3"/>
          <p:cNvSpPr/>
          <p:nvPr/>
        </p:nvSpPr>
        <p:spPr>
          <a:xfrm>
            <a:off x="6300720" y="558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肾小囊外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3"/>
          <p:cNvSpPr/>
          <p:nvPr/>
        </p:nvSpPr>
        <p:spPr>
          <a:xfrm>
            <a:off x="6227640" y="4941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肾小囊内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1"/>
          <p:cNvSpPr/>
          <p:nvPr/>
        </p:nvSpPr>
        <p:spPr>
          <a:xfrm>
            <a:off x="5435640" y="836640"/>
            <a:ext cx="180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2"/>
          <p:cNvSpPr/>
          <p:nvPr/>
        </p:nvSpPr>
        <p:spPr>
          <a:xfrm>
            <a:off x="5219640" y="907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入球小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3"/>
          <p:cNvSpPr/>
          <p:nvPr/>
        </p:nvSpPr>
        <p:spPr>
          <a:xfrm>
            <a:off x="6948360" y="981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球小动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 flipV="1">
            <a:off x="5940360" y="1341000"/>
            <a:ext cx="28728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V="1">
            <a:off x="6659640" y="1341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40"/>
          <p:cNvGrpSpPr/>
          <p:nvPr/>
        </p:nvGrpSpPr>
        <p:grpSpPr>
          <a:xfrm>
            <a:off x="4356000" y="2421000"/>
            <a:ext cx="792360" cy="1224000"/>
            <a:chOff x="4356000" y="2421000"/>
            <a:chExt cx="792360" cy="1224000"/>
          </a:xfrm>
        </p:grpSpPr>
        <p:sp>
          <p:nvSpPr>
            <p:cNvPr id="560" name="Line 7"/>
            <p:cNvSpPr/>
            <p:nvPr/>
          </p:nvSpPr>
          <p:spPr>
            <a:xfrm>
              <a:off x="4356000" y="3645000"/>
              <a:ext cx="72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7"/>
            <p:cNvSpPr/>
            <p:nvPr/>
          </p:nvSpPr>
          <p:spPr>
            <a:xfrm>
              <a:off x="4572000" y="2421000"/>
              <a:ext cx="576360" cy="12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Box 39"/>
          <p:cNvSpPr/>
          <p:nvPr/>
        </p:nvSpPr>
        <p:spPr>
          <a:xfrm>
            <a:off x="4932360" y="3429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肾小管外的毛细血管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右大括号 38"/>
          <p:cNvSpPr/>
          <p:nvPr/>
        </p:nvSpPr>
        <p:spPr>
          <a:xfrm>
            <a:off x="8028000" y="5084640"/>
            <a:ext cx="289080" cy="8654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865440"/>
              <a:gd name="textAreaBottom" fmla="*/ 85824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1"/>
                  <a:pt x="10800" y="601"/>
                </a:cubicBezTo>
                <a:lnTo>
                  <a:pt x="10800" y="10199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1"/>
                  <a:pt x="10800" y="11401"/>
                </a:cubicBezTo>
                <a:lnTo>
                  <a:pt x="10800" y="20999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右大括号 40"/>
          <p:cNvSpPr/>
          <p:nvPr/>
        </p:nvSpPr>
        <p:spPr>
          <a:xfrm>
            <a:off x="8101080" y="5157720"/>
            <a:ext cx="287280" cy="432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432000"/>
              <a:gd name="textAreaBottom" fmla="*/ 4248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9"/>
                  <a:pt x="10800" y="1198"/>
                </a:cubicBezTo>
                <a:lnTo>
                  <a:pt x="10800" y="9602"/>
                </a:lnTo>
                <a:cubicBezTo>
                  <a:pt x="10800" y="10201"/>
                  <a:pt x="16200" y="10800"/>
                  <a:pt x="21600" y="10800"/>
                </a:cubicBezTo>
                <a:cubicBezTo>
                  <a:pt x="16200" y="10800"/>
                  <a:pt x="10800" y="11399"/>
                  <a:pt x="10800" y="11998"/>
                </a:cubicBezTo>
                <a:lnTo>
                  <a:pt x="10800" y="20402"/>
                </a:lnTo>
                <a:cubicBezTo>
                  <a:pt x="10800" y="210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双大括号 41"/>
          <p:cNvSpPr/>
          <p:nvPr/>
        </p:nvSpPr>
        <p:spPr>
          <a:xfrm>
            <a:off x="8317080" y="5084640"/>
            <a:ext cx="358560" cy="792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右大括号 42"/>
          <p:cNvSpPr/>
          <p:nvPr/>
        </p:nvSpPr>
        <p:spPr>
          <a:xfrm>
            <a:off x="8028000" y="5229360"/>
            <a:ext cx="216000" cy="576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576000"/>
              <a:gd name="textAreaBottom" fmla="*/ 570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7"/>
                  <a:pt x="10800" y="674"/>
                </a:cubicBezTo>
                <a:lnTo>
                  <a:pt x="10800" y="10126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7"/>
                  <a:pt x="10800" y="11474"/>
                </a:cubicBezTo>
                <a:lnTo>
                  <a:pt x="10800" y="20926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右大括号 43"/>
          <p:cNvSpPr/>
          <p:nvPr/>
        </p:nvSpPr>
        <p:spPr>
          <a:xfrm>
            <a:off x="8172360" y="5300640"/>
            <a:ext cx="144720" cy="432000"/>
          </a:xfrm>
          <a:custGeom>
            <a:avLst/>
            <a:gdLst>
              <a:gd name="textAreaLeft" fmla="*/ 0 w 144720"/>
              <a:gd name="textAreaRight" fmla="*/ 52200 w 144720"/>
              <a:gd name="textAreaTop" fmla="*/ 3600 h 432000"/>
              <a:gd name="textAreaBottom" fmla="*/ 428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1"/>
                  <a:pt x="10800" y="602"/>
                </a:cubicBezTo>
                <a:lnTo>
                  <a:pt x="10800" y="10198"/>
                </a:lnTo>
                <a:cubicBezTo>
                  <a:pt x="10800" y="10499"/>
                  <a:pt x="16200" y="10800"/>
                  <a:pt x="21600" y="10800"/>
                </a:cubicBezTo>
                <a:cubicBezTo>
                  <a:pt x="16200" y="10800"/>
                  <a:pt x="10800" y="11101"/>
                  <a:pt x="10800" y="11402"/>
                </a:cubicBezTo>
                <a:lnTo>
                  <a:pt x="10800" y="20998"/>
                </a:lnTo>
                <a:cubicBezTo>
                  <a:pt x="10800" y="212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右大括号 45"/>
          <p:cNvSpPr/>
          <p:nvPr/>
        </p:nvSpPr>
        <p:spPr>
          <a:xfrm>
            <a:off x="8820000" y="5229360"/>
            <a:ext cx="324000" cy="936360"/>
          </a:xfrm>
          <a:custGeom>
            <a:avLst/>
            <a:gdLst>
              <a:gd name="textAreaLeft" fmla="*/ 0 w 324000"/>
              <a:gd name="textAreaRight" fmla="*/ 117000 w 324000"/>
              <a:gd name="textAreaTop" fmla="*/ 8280 h 936360"/>
              <a:gd name="textAreaBottom" fmla="*/ 928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1"/>
                  <a:pt x="10800" y="622"/>
                </a:cubicBezTo>
                <a:lnTo>
                  <a:pt x="10800" y="10178"/>
                </a:lnTo>
                <a:cubicBezTo>
                  <a:pt x="10800" y="10489"/>
                  <a:pt x="16200" y="10800"/>
                  <a:pt x="21600" y="10800"/>
                </a:cubicBezTo>
                <a:cubicBezTo>
                  <a:pt x="16200" y="10800"/>
                  <a:pt x="10800" y="11111"/>
                  <a:pt x="10800" y="11422"/>
                </a:cubicBezTo>
                <a:lnTo>
                  <a:pt x="10800" y="20978"/>
                </a:lnTo>
                <a:cubicBezTo>
                  <a:pt x="10800" y="212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5"/>
          <p:cNvSpPr/>
          <p:nvPr/>
        </p:nvSpPr>
        <p:spPr>
          <a:xfrm>
            <a:off x="3564000" y="2421000"/>
            <a:ext cx="228600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395880" cy="41050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6"/>
          <p:cNvSpPr/>
          <p:nvPr/>
        </p:nvSpPr>
        <p:spPr>
          <a:xfrm>
            <a:off x="4067280" y="1773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02e"/>
                </a:solidFill>
                <a:latin typeface="Arial"/>
              </a:rPr>
              <a:t>出球小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067280" y="25653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02e"/>
                </a:solidFill>
                <a:latin typeface="Arial"/>
              </a:rPr>
              <a:t>入球小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5580000" y="3645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0a1a"/>
                </a:solidFill>
                <a:latin typeface="Arial"/>
              </a:rPr>
              <a:t>肾小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3995640" y="4437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1bc"/>
                </a:solidFill>
                <a:latin typeface="Arial"/>
              </a:rPr>
              <a:t>肾小囊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0"/>
          <p:cNvSpPr/>
          <p:nvPr/>
        </p:nvSpPr>
        <p:spPr>
          <a:xfrm>
            <a:off x="5508720" y="4653000"/>
            <a:ext cx="380880" cy="825480"/>
          </a:xfrm>
          <a:custGeom>
            <a:avLst/>
            <a:gdLst>
              <a:gd name="textAreaLeft" fmla="*/ 0 w 380880"/>
              <a:gd name="textAreaRight" fmla="*/ 137520 w 38088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867280" y="4797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肾小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2"/>
          <p:cNvSpPr/>
          <p:nvPr/>
        </p:nvSpPr>
        <p:spPr>
          <a:xfrm>
            <a:off x="7020000" y="378936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7380360" y="4149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肾小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3924360" y="5013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1bc"/>
                </a:solidFill>
                <a:latin typeface="Arial"/>
              </a:rPr>
              <a:t>肾小囊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3255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 flipH="1" flipV="1">
            <a:off x="2842920" y="4149360"/>
            <a:ext cx="1081080" cy="647640"/>
          </a:xfrm>
          <a:prstGeom prst="line">
            <a:avLst/>
          </a:prstGeom>
          <a:ln w="28440">
            <a:solidFill>
              <a:srgbClr val="08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24"/>
          <p:cNvSpPr/>
          <p:nvPr/>
        </p:nvSpPr>
        <p:spPr>
          <a:xfrm rot="1560000">
            <a:off x="250920" y="2420640"/>
            <a:ext cx="720720" cy="214200"/>
          </a:xfrm>
          <a:prstGeom prst="rightArrow">
            <a:avLst>
              <a:gd name="adj1" fmla="val 50000"/>
              <a:gd name="adj2" fmla="val 84118"/>
            </a:avLst>
          </a:prstGeom>
          <a:solidFill>
            <a:srgbClr val="e2102e"/>
          </a:solidFill>
          <a:ln w="9360">
            <a:solidFill>
              <a:srgbClr val="e21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5"/>
          <p:cNvSpPr/>
          <p:nvPr/>
        </p:nvSpPr>
        <p:spPr>
          <a:xfrm rot="19503600">
            <a:off x="2410920" y="1628640"/>
            <a:ext cx="648000" cy="144720"/>
          </a:xfrm>
          <a:prstGeom prst="rightArrow">
            <a:avLst>
              <a:gd name="adj1" fmla="val 50000"/>
              <a:gd name="adj2" fmla="val 111940"/>
            </a:avLst>
          </a:prstGeom>
          <a:solidFill>
            <a:srgbClr val="e2102e"/>
          </a:solidFill>
          <a:ln w="9360">
            <a:solidFill>
              <a:srgbClr val="e21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6"/>
          <p:cNvSpPr/>
          <p:nvPr/>
        </p:nvSpPr>
        <p:spPr>
          <a:xfrm>
            <a:off x="2843280" y="4869000"/>
            <a:ext cx="288720" cy="288720"/>
          </a:xfrm>
          <a:prstGeom prst="line">
            <a:avLst/>
          </a:prstGeom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8"/>
          <p:cNvSpPr/>
          <p:nvPr/>
        </p:nvSpPr>
        <p:spPr>
          <a:xfrm>
            <a:off x="3708360" y="3933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860400" y="55548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396720" y="98100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尿与血浆相比，原尿中不含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分子蛋白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68360" y="2492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尿液与原尿相比，尿液中不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葡萄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1908000" y="3716280"/>
            <a:ext cx="5400720" cy="2590920"/>
          </a:xfrm>
          <a:prstGeom prst="wedgeEllipseCallout">
            <a:avLst>
              <a:gd name="adj1" fmla="val 17050"/>
              <a:gd name="adj2" fmla="val -97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能说出血液与尿液的区别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7"/>
          <p:cNvSpPr/>
          <p:nvPr/>
        </p:nvSpPr>
        <p:spPr>
          <a:xfrm>
            <a:off x="324000" y="3573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尿液中的无机盐、尿素的浓度比原尿增加了，是由于肾小管重吸收了大部分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5236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体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代谢废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排出体外的过程，叫做排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1220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排泄的概念及途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8720" y="261288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氧化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量水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3708360" y="29005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024440" y="22766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气体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024440" y="2900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呼吸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961920" y="3876840"/>
            <a:ext cx="15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865800" y="37180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机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量尿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427640" y="4005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429080" y="357336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汗液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76784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皮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154200" y="3718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出体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867600" y="4724280"/>
            <a:ext cx="28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部分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机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尿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213080" y="50133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140360" y="4508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尿液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384800" y="498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泌尿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5865120" y="47242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出体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72184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出体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0"/>
          <p:cNvGrpSpPr/>
          <p:nvPr/>
        </p:nvGrpSpPr>
        <p:grpSpPr>
          <a:xfrm>
            <a:off x="7524720" y="2565360"/>
            <a:ext cx="863640" cy="581400"/>
            <a:chOff x="7524720" y="2565360"/>
            <a:chExt cx="863640" cy="581400"/>
          </a:xfrm>
        </p:grpSpPr>
        <p:sp>
          <p:nvSpPr>
            <p:cNvPr id="209" name="Oval 21"/>
            <p:cNvSpPr/>
            <p:nvPr/>
          </p:nvSpPr>
          <p:spPr>
            <a:xfrm>
              <a:off x="7524720" y="2637000"/>
              <a:ext cx="863640" cy="50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7750800" y="2565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3"/>
          <p:cNvGrpSpPr/>
          <p:nvPr/>
        </p:nvGrpSpPr>
        <p:grpSpPr>
          <a:xfrm>
            <a:off x="7524720" y="3645000"/>
            <a:ext cx="1152720" cy="647640"/>
            <a:chOff x="7524720" y="3645000"/>
            <a:chExt cx="1152720" cy="647640"/>
          </a:xfrm>
        </p:grpSpPr>
        <p:sp>
          <p:nvSpPr>
            <p:cNvPr id="212" name="Oval 24"/>
            <p:cNvSpPr/>
            <p:nvPr/>
          </p:nvSpPr>
          <p:spPr>
            <a:xfrm>
              <a:off x="7524720" y="3645000"/>
              <a:ext cx="100836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7524720" y="364500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汗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6"/>
          <p:cNvGrpSpPr/>
          <p:nvPr/>
        </p:nvGrpSpPr>
        <p:grpSpPr>
          <a:xfrm>
            <a:off x="7453440" y="4653000"/>
            <a:ext cx="1224000" cy="581400"/>
            <a:chOff x="7453440" y="4653000"/>
            <a:chExt cx="1224000" cy="581400"/>
          </a:xfrm>
        </p:grpSpPr>
        <p:sp>
          <p:nvSpPr>
            <p:cNvPr id="215" name="Oval 27"/>
            <p:cNvSpPr/>
            <p:nvPr/>
          </p:nvSpPr>
          <p:spPr>
            <a:xfrm>
              <a:off x="7453440" y="4653000"/>
              <a:ext cx="935640" cy="57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8"/>
            <p:cNvSpPr/>
            <p:nvPr/>
          </p:nvSpPr>
          <p:spPr>
            <a:xfrm>
              <a:off x="7453440" y="4653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肾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8"/>
          <p:cNvSpPr/>
          <p:nvPr/>
        </p:nvSpPr>
        <p:spPr>
          <a:xfrm>
            <a:off x="3743280" y="3357720"/>
            <a:ext cx="5400720" cy="2590560"/>
          </a:xfrm>
          <a:prstGeom prst="wedgeEllipseCallout">
            <a:avLst>
              <a:gd name="adj1" fmla="val 17050"/>
              <a:gd name="adj2" fmla="val -97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泄途径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是什么物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3"/>
          <p:cNvGrpSpPr/>
          <p:nvPr/>
        </p:nvGrpSpPr>
        <p:grpSpPr>
          <a:xfrm>
            <a:off x="395280" y="1916280"/>
            <a:ext cx="7848720" cy="3546360"/>
            <a:chOff x="395280" y="1916280"/>
            <a:chExt cx="7848720" cy="3546360"/>
          </a:xfrm>
        </p:grpSpPr>
        <p:sp>
          <p:nvSpPr>
            <p:cNvPr id="219" name="圆角矩形标注 29"/>
            <p:cNvSpPr/>
            <p:nvPr/>
          </p:nvSpPr>
          <p:spPr>
            <a:xfrm>
              <a:off x="395280" y="1916280"/>
              <a:ext cx="7848720" cy="3546360"/>
            </a:xfrm>
            <a:prstGeom prst="wedgeRoundRectCallout">
              <a:avLst>
                <a:gd name="adj1" fmla="val -32337"/>
                <a:gd name="adj2" fmla="val 88925"/>
                <a:gd name="adj3" fmla="val 16667"/>
              </a:avLst>
            </a:prstGeom>
            <a:solidFill>
              <a:srgbClr val="ffff59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31"/>
            <p:cNvSpPr/>
            <p:nvPr/>
          </p:nvSpPr>
          <p:spPr>
            <a:xfrm>
              <a:off x="539640" y="1933560"/>
              <a:ext cx="6120000" cy="32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16·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福州）下列现象不属于排泄的是（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通过肛门将粪便排出体外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通过尿道将尿液排出体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通过汗腺将多余水分排出体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通过呼吸将二氧化碳排出体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5"/>
          <p:cNvSpPr/>
          <p:nvPr/>
        </p:nvSpPr>
        <p:spPr>
          <a:xfrm>
            <a:off x="6084720" y="1989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7"/>
          <p:cNvGrpSpPr/>
          <p:nvPr/>
        </p:nvGrpSpPr>
        <p:grpSpPr>
          <a:xfrm>
            <a:off x="324000" y="2205000"/>
            <a:ext cx="7451640" cy="3240000"/>
            <a:chOff x="324000" y="2205000"/>
            <a:chExt cx="7451640" cy="3240000"/>
          </a:xfrm>
        </p:grpSpPr>
        <p:sp>
          <p:nvSpPr>
            <p:cNvPr id="223" name="椭圆形标注 34"/>
            <p:cNvSpPr/>
            <p:nvPr/>
          </p:nvSpPr>
          <p:spPr>
            <a:xfrm>
              <a:off x="324000" y="2205000"/>
              <a:ext cx="7451640" cy="32400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35"/>
            <p:cNvSpPr/>
            <p:nvPr/>
          </p:nvSpPr>
          <p:spPr>
            <a:xfrm>
              <a:off x="1187280" y="2636640"/>
              <a:ext cx="583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16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梅州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人体排出下列物质时，只有一条途的径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二氧化碳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尿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水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无机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"/>
          <p:cNvSpPr/>
          <p:nvPr/>
        </p:nvSpPr>
        <p:spPr>
          <a:xfrm>
            <a:off x="2916360" y="321300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7"/>
          <p:cNvSpPr/>
          <p:nvPr/>
        </p:nvSpPr>
        <p:spPr>
          <a:xfrm>
            <a:off x="4643280" y="2708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96720" y="260280"/>
            <a:ext cx="52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人体泌尿系统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3" descr="泌尿系统的组成.jpg"/>
          <p:cNvPicPr/>
          <p:nvPr/>
        </p:nvPicPr>
        <p:blipFill>
          <a:blip r:embed="rId1"/>
          <a:stretch/>
        </p:blipFill>
        <p:spPr>
          <a:xfrm>
            <a:off x="3348000" y="1484280"/>
            <a:ext cx="276876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标题 1"/>
          <p:cNvSpPr/>
          <p:nvPr/>
        </p:nvSpPr>
        <p:spPr>
          <a:xfrm>
            <a:off x="681120" y="2398680"/>
            <a:ext cx="761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左大括号 6"/>
          <p:cNvSpPr/>
          <p:nvPr/>
        </p:nvSpPr>
        <p:spPr>
          <a:xfrm>
            <a:off x="1214280" y="232236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895840"/>
              <a:gd name="textAreaBottom" fmla="*/ 28879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605240" y="2093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1476360" y="2997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尿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1519200" y="3770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膀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1595520" y="4913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3"/>
          <p:cNvSpPr/>
          <p:nvPr/>
        </p:nvSpPr>
        <p:spPr>
          <a:xfrm>
            <a:off x="6700680" y="2170080"/>
            <a:ext cx="18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成尿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4"/>
          <p:cNvSpPr/>
          <p:nvPr/>
        </p:nvSpPr>
        <p:spPr>
          <a:xfrm>
            <a:off x="6588000" y="4005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>
            <a:off x="5796000" y="2492280"/>
            <a:ext cx="10810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979640" y="2421000"/>
            <a:ext cx="187164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2771640" y="3357720"/>
            <a:ext cx="158436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 flipH="1" flipV="1">
            <a:off x="2484000" y="4149360"/>
            <a:ext cx="2087640" cy="358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2556000" y="4939920"/>
            <a:ext cx="2160360" cy="36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96720" y="26028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肾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865800" y="112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复习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951200" y="1917720"/>
            <a:ext cx="90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描述肾的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描述肾的形态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20051128463156050"/>
          <p:cNvPicPr/>
          <p:nvPr/>
        </p:nvPicPr>
        <p:blipFill>
          <a:blip r:embed="rId1"/>
          <a:stretch/>
        </p:blipFill>
        <p:spPr>
          <a:xfrm>
            <a:off x="6372360" y="620640"/>
            <a:ext cx="1873080" cy="29545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79280" y="270828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肾位于腹腔背面腰部脊柱的两侧，左右各一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987000" y="45813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似蚕豆，前后略扁，表面光滑，呈红褐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52360" y="33336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肾的结构分为哪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肾的皮质部分比髓质部分颜色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11-1-2肾的立体解剖图"/>
          <p:cNvPicPr/>
          <p:nvPr/>
        </p:nvPicPr>
        <p:blipFill>
          <a:blip r:embed="rId1"/>
          <a:stretch/>
        </p:blipFill>
        <p:spPr>
          <a:xfrm>
            <a:off x="0" y="2637000"/>
            <a:ext cx="2735280" cy="3674880"/>
          </a:xfrm>
          <a:prstGeom prst="rect">
            <a:avLst/>
          </a:prstGeom>
          <a:ln w="0">
            <a:noFill/>
          </a:ln>
        </p:spPr>
      </p:pic>
      <p:sp>
        <p:nvSpPr>
          <p:cNvPr id="250" name="Line 4"/>
          <p:cNvSpPr/>
          <p:nvPr/>
        </p:nvSpPr>
        <p:spPr>
          <a:xfrm>
            <a:off x="1763640" y="3141720"/>
            <a:ext cx="1728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1765440" y="378936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1765440" y="4437000"/>
            <a:ext cx="20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99036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皮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828720" y="3502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髓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91908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肾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 flipV="1">
            <a:off x="4718160" y="3429000"/>
            <a:ext cx="10062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826240" y="3067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肾动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789440" y="4581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724360" y="4290840"/>
            <a:ext cx="14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肾静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716360" y="537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797440" y="50864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输尿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596320" y="1484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皮质内含有丰富的毛细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左大括号 16"/>
          <p:cNvSpPr/>
          <p:nvPr/>
        </p:nvSpPr>
        <p:spPr>
          <a:xfrm>
            <a:off x="468360" y="3068640"/>
            <a:ext cx="44280" cy="216000"/>
          </a:xfrm>
          <a:custGeom>
            <a:avLst/>
            <a:gdLst>
              <a:gd name="textAreaLeft" fmla="*/ 28440 w 44280"/>
              <a:gd name="textAreaRight" fmla="*/ 44640 w 44280"/>
              <a:gd name="textAreaTop" fmla="*/ 1080 h 216000"/>
              <a:gd name="textAreaBottom" fmla="*/ 21492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"/>
                  <a:pt x="10800" y="371"/>
                </a:cubicBezTo>
                <a:lnTo>
                  <a:pt x="10800" y="10429"/>
                </a:lnTo>
                <a:cubicBezTo>
                  <a:pt x="10800" y="10615"/>
                  <a:pt x="5400" y="10800"/>
                  <a:pt x="0" y="10800"/>
                </a:cubicBezTo>
                <a:cubicBezTo>
                  <a:pt x="5400" y="10800"/>
                  <a:pt x="10800" y="10986"/>
                  <a:pt x="10800" y="11171"/>
                </a:cubicBezTo>
                <a:lnTo>
                  <a:pt x="10800" y="21229"/>
                </a:lnTo>
                <a:cubicBezTo>
                  <a:pt x="10800" y="214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左大括号 17"/>
          <p:cNvSpPr/>
          <p:nvPr/>
        </p:nvSpPr>
        <p:spPr>
          <a:xfrm>
            <a:off x="0" y="2781360"/>
            <a:ext cx="826920" cy="1130400"/>
          </a:xfrm>
          <a:custGeom>
            <a:avLst/>
            <a:gdLst>
              <a:gd name="textAreaLeft" fmla="*/ 528480 w 826920"/>
              <a:gd name="textAreaRight" fmla="*/ 827280 w 826920"/>
              <a:gd name="textAreaTop" fmla="*/ 21240 h 1130400"/>
              <a:gd name="textAreaBottom" fmla="*/ 110916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59"/>
                  <a:pt x="10800" y="1317"/>
                </a:cubicBezTo>
                <a:lnTo>
                  <a:pt x="10800" y="9483"/>
                </a:lnTo>
                <a:cubicBezTo>
                  <a:pt x="10800" y="10142"/>
                  <a:pt x="5400" y="10800"/>
                  <a:pt x="0" y="10800"/>
                </a:cubicBezTo>
                <a:cubicBezTo>
                  <a:pt x="5400" y="10800"/>
                  <a:pt x="10800" y="11459"/>
                  <a:pt x="10800" y="12117"/>
                </a:cubicBezTo>
                <a:lnTo>
                  <a:pt x="10800" y="20283"/>
                </a:lnTo>
                <a:cubicBezTo>
                  <a:pt x="10800" y="209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8f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539640" y="2924280"/>
            <a:ext cx="216000" cy="172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760 h 1728720"/>
              <a:gd name="textAreaBottom" fmla="*/ 167796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4"/>
                  <a:pt x="10800" y="2027"/>
                </a:cubicBezTo>
                <a:lnTo>
                  <a:pt x="10800" y="8773"/>
                </a:lnTo>
                <a:cubicBezTo>
                  <a:pt x="10800" y="9787"/>
                  <a:pt x="5400" y="10800"/>
                  <a:pt x="0" y="10800"/>
                </a:cubicBezTo>
                <a:cubicBezTo>
                  <a:pt x="5400" y="10800"/>
                  <a:pt x="10800" y="11814"/>
                  <a:pt x="10800" y="12827"/>
                </a:cubicBezTo>
                <a:lnTo>
                  <a:pt x="10800" y="19573"/>
                </a:lnTo>
                <a:cubicBezTo>
                  <a:pt x="10800" y="2058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0" y="357336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23"/>
          <p:cNvPicPr/>
          <p:nvPr/>
        </p:nvPicPr>
        <p:blipFill>
          <a:blip r:embed="rId1"/>
          <a:stretch/>
        </p:blipFill>
        <p:spPr>
          <a:xfrm flipH="1" rot="10800000">
            <a:off x="1143000" y="4038120"/>
            <a:ext cx="685800" cy="874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3"/>
          <p:cNvGrpSpPr/>
          <p:nvPr/>
        </p:nvGrpSpPr>
        <p:grpSpPr>
          <a:xfrm>
            <a:off x="685800" y="4038480"/>
            <a:ext cx="1523880" cy="74880"/>
            <a:chOff x="685800" y="4038480"/>
            <a:chExt cx="1523880" cy="74880"/>
          </a:xfrm>
        </p:grpSpPr>
        <p:pic>
          <p:nvPicPr>
            <p:cNvPr id="269" name="Picture 4" descr="23"/>
            <p:cNvPicPr/>
            <p:nvPr/>
          </p:nvPicPr>
          <p:blipFill>
            <a:blip r:embed="rId2"/>
            <a:stretch/>
          </p:blipFill>
          <p:spPr>
            <a:xfrm flipH="1" rot="10800000">
              <a:off x="685800" y="4038480"/>
              <a:ext cx="703440" cy="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" descr="23"/>
            <p:cNvPicPr/>
            <p:nvPr/>
          </p:nvPicPr>
          <p:blipFill>
            <a:blip r:embed="rId3"/>
            <a:stretch/>
          </p:blipFill>
          <p:spPr>
            <a:xfrm flipH="1" rot="10800000">
              <a:off x="1506600" y="4038480"/>
              <a:ext cx="703080" cy="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Text Box 6"/>
          <p:cNvSpPr/>
          <p:nvPr/>
        </p:nvSpPr>
        <p:spPr>
          <a:xfrm>
            <a:off x="2666880" y="5257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23"/>
          <p:cNvPicPr/>
          <p:nvPr/>
        </p:nvPicPr>
        <p:blipFill>
          <a:blip r:embed="rId4"/>
          <a:stretch/>
        </p:blipFill>
        <p:spPr>
          <a:xfrm>
            <a:off x="6324480" y="2438280"/>
            <a:ext cx="1055880" cy="609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23"/>
          <p:cNvPicPr/>
          <p:nvPr/>
        </p:nvPicPr>
        <p:blipFill>
          <a:blip r:embed="rId5"/>
          <a:stretch/>
        </p:blipFill>
        <p:spPr>
          <a:xfrm>
            <a:off x="7554960" y="2438280"/>
            <a:ext cx="1055520" cy="6098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9"/>
          <p:cNvSpPr/>
          <p:nvPr/>
        </p:nvSpPr>
        <p:spPr>
          <a:xfrm>
            <a:off x="-380880" y="6858000"/>
            <a:ext cx="70866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0"/>
          <p:cNvGrpSpPr/>
          <p:nvPr/>
        </p:nvGrpSpPr>
        <p:grpSpPr>
          <a:xfrm>
            <a:off x="-2052720" y="0"/>
            <a:ext cx="11505960" cy="8629560"/>
            <a:chOff x="-2052720" y="0"/>
            <a:chExt cx="11505960" cy="8629560"/>
          </a:xfrm>
        </p:grpSpPr>
        <p:pic>
          <p:nvPicPr>
            <p:cNvPr id="276" name="Picture 11" descr="9"/>
            <p:cNvPicPr/>
            <p:nvPr/>
          </p:nvPicPr>
          <p:blipFill>
            <a:blip r:embed="rId6"/>
            <a:stretch/>
          </p:blipFill>
          <p:spPr>
            <a:xfrm>
              <a:off x="-2052720" y="0"/>
              <a:ext cx="11505960" cy="862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Group 12"/>
            <p:cNvGrpSpPr/>
            <p:nvPr/>
          </p:nvGrpSpPr>
          <p:grpSpPr>
            <a:xfrm>
              <a:off x="3814560" y="5410080"/>
              <a:ext cx="136440" cy="1036800"/>
              <a:chOff x="3814560" y="5410080"/>
              <a:chExt cx="136440" cy="1036800"/>
            </a:xfrm>
          </p:grpSpPr>
          <p:pic>
            <p:nvPicPr>
              <p:cNvPr id="278" name="Picture 13" descr="0042"/>
              <p:cNvPicPr/>
              <p:nvPr/>
            </p:nvPicPr>
            <p:blipFill>
              <a:blip r:embed="rId7"/>
              <a:stretch/>
            </p:blipFill>
            <p:spPr>
              <a:xfrm>
                <a:off x="3814560" y="5410080"/>
                <a:ext cx="13644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4" descr="0042"/>
              <p:cNvPicPr/>
              <p:nvPr/>
            </p:nvPicPr>
            <p:blipFill>
              <a:blip r:embed="rId8"/>
              <a:stretch/>
            </p:blipFill>
            <p:spPr>
              <a:xfrm>
                <a:off x="3814560" y="5867280"/>
                <a:ext cx="13644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5" descr="0042"/>
              <p:cNvPicPr/>
              <p:nvPr/>
            </p:nvPicPr>
            <p:blipFill>
              <a:blip r:embed="rId9"/>
              <a:stretch/>
            </p:blipFill>
            <p:spPr>
              <a:xfrm>
                <a:off x="3814560" y="6172200"/>
                <a:ext cx="13644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6" descr="0042"/>
              <p:cNvPicPr/>
              <p:nvPr/>
            </p:nvPicPr>
            <p:blipFill>
              <a:blip r:embed="rId10"/>
              <a:stretch/>
            </p:blipFill>
            <p:spPr>
              <a:xfrm>
                <a:off x="3814560" y="5638680"/>
                <a:ext cx="136440" cy="274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2" name="Picture 17" descr="0030"/>
            <p:cNvPicPr/>
            <p:nvPr/>
          </p:nvPicPr>
          <p:blipFill>
            <a:blip r:embed="rId11"/>
            <a:stretch/>
          </p:blipFill>
          <p:spPr>
            <a:xfrm>
              <a:off x="842760" y="3809880"/>
              <a:ext cx="990720" cy="1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3" name="Group 18"/>
            <p:cNvGrpSpPr/>
            <p:nvPr/>
          </p:nvGrpSpPr>
          <p:grpSpPr>
            <a:xfrm>
              <a:off x="80640" y="4038480"/>
              <a:ext cx="1752480" cy="76320"/>
              <a:chOff x="80640" y="4038480"/>
              <a:chExt cx="1752480" cy="76320"/>
            </a:xfrm>
          </p:grpSpPr>
          <p:pic>
            <p:nvPicPr>
              <p:cNvPr id="284" name="Picture 19" descr="23"/>
              <p:cNvPicPr/>
              <p:nvPr/>
            </p:nvPicPr>
            <p:blipFill>
              <a:blip r:embed="rId12"/>
              <a:stretch/>
            </p:blipFill>
            <p:spPr>
              <a:xfrm>
                <a:off x="995040" y="4038480"/>
                <a:ext cx="838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20" descr="23"/>
              <p:cNvPicPr/>
              <p:nvPr/>
            </p:nvPicPr>
            <p:blipFill>
              <a:blip r:embed="rId13"/>
              <a:stretch/>
            </p:blipFill>
            <p:spPr>
              <a:xfrm>
                <a:off x="537840" y="4038480"/>
                <a:ext cx="8380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21" descr="23"/>
              <p:cNvPicPr/>
              <p:nvPr/>
            </p:nvPicPr>
            <p:blipFill>
              <a:blip r:embed="rId14"/>
              <a:stretch/>
            </p:blipFill>
            <p:spPr>
              <a:xfrm>
                <a:off x="80640" y="4038480"/>
                <a:ext cx="838080" cy="7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7" name="Text Box 22"/>
          <p:cNvSpPr/>
          <p:nvPr/>
        </p:nvSpPr>
        <p:spPr>
          <a:xfrm>
            <a:off x="2590920" y="5257800"/>
            <a:ext cx="1218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600200" y="3049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肾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4"/>
          <p:cNvGrpSpPr/>
          <p:nvPr/>
        </p:nvGrpSpPr>
        <p:grpSpPr>
          <a:xfrm>
            <a:off x="2700360" y="2060640"/>
            <a:ext cx="3166560" cy="520560"/>
            <a:chOff x="2700360" y="2060640"/>
            <a:chExt cx="3166560" cy="520560"/>
          </a:xfrm>
        </p:grpSpPr>
        <p:sp>
          <p:nvSpPr>
            <p:cNvPr id="290" name="Line 25"/>
            <p:cNvSpPr/>
            <p:nvPr/>
          </p:nvSpPr>
          <p:spPr>
            <a:xfrm>
              <a:off x="2700360" y="2365200"/>
              <a:ext cx="1886400" cy="0"/>
            </a:xfrm>
            <a:prstGeom prst="line">
              <a:avLst/>
            </a:prstGeom>
            <a:ln w="349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519440" y="2060640"/>
              <a:ext cx="13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Arial"/>
                </a:rPr>
                <a:t>肾小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AutoShape 28"/>
          <p:cNvSpPr/>
          <p:nvPr/>
        </p:nvSpPr>
        <p:spPr>
          <a:xfrm>
            <a:off x="7380360" y="227664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7532640" y="3038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肾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0" descr="22"/>
          <p:cNvPicPr/>
          <p:nvPr/>
        </p:nvPicPr>
        <p:blipFill>
          <a:blip r:embed="rId15"/>
          <a:stretch/>
        </p:blipFill>
        <p:spPr>
          <a:xfrm>
            <a:off x="2590920" y="1066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3"/>
          <p:cNvSpPr/>
          <p:nvPr/>
        </p:nvSpPr>
        <p:spPr>
          <a:xfrm>
            <a:off x="5867280" y="400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肾小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0"/>
          <p:cNvGrpSpPr/>
          <p:nvPr/>
        </p:nvGrpSpPr>
        <p:grpSpPr>
          <a:xfrm>
            <a:off x="2700360" y="2492280"/>
            <a:ext cx="3486240" cy="520560"/>
            <a:chOff x="2700360" y="2492280"/>
            <a:chExt cx="3486240" cy="520560"/>
          </a:xfrm>
        </p:grpSpPr>
        <p:sp>
          <p:nvSpPr>
            <p:cNvPr id="297" name="Line 34"/>
            <p:cNvSpPr/>
            <p:nvPr/>
          </p:nvSpPr>
          <p:spPr>
            <a:xfrm>
              <a:off x="2700360" y="2708640"/>
              <a:ext cx="1872000" cy="72000"/>
            </a:xfrm>
            <a:prstGeom prst="line">
              <a:avLst/>
            </a:prstGeom>
            <a:ln w="349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5"/>
            <p:cNvSpPr/>
            <p:nvPr/>
          </p:nvSpPr>
          <p:spPr>
            <a:xfrm>
              <a:off x="4501080" y="2492280"/>
              <a:ext cx="16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Arial"/>
                </a:rPr>
                <a:t>肾小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36"/>
          <p:cNvSpPr/>
          <p:nvPr/>
        </p:nvSpPr>
        <p:spPr>
          <a:xfrm>
            <a:off x="5651640" y="2133720"/>
            <a:ext cx="288720" cy="934920"/>
          </a:xfrm>
          <a:custGeom>
            <a:avLst/>
            <a:gdLst>
              <a:gd name="textAreaLeft" fmla="*/ 0 w 288720"/>
              <a:gd name="textAreaRight" fmla="*/ 104040 w 288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5940360" y="227664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肾小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7"/>
          <p:cNvSpPr/>
          <p:nvPr/>
        </p:nvSpPr>
        <p:spPr>
          <a:xfrm>
            <a:off x="4716360" y="76500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口诀：肾单位里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39"/>
          <p:cNvGrpSpPr/>
          <p:nvPr/>
        </p:nvGrpSpPr>
        <p:grpSpPr>
          <a:xfrm>
            <a:off x="3132000" y="4005360"/>
            <a:ext cx="2519640" cy="360360"/>
            <a:chOff x="3132000" y="4005360"/>
            <a:chExt cx="2519640" cy="360360"/>
          </a:xfrm>
        </p:grpSpPr>
        <p:sp>
          <p:nvSpPr>
            <p:cNvPr id="303" name="Line 32"/>
            <p:cNvSpPr/>
            <p:nvPr/>
          </p:nvSpPr>
          <p:spPr>
            <a:xfrm>
              <a:off x="3492000" y="4365720"/>
              <a:ext cx="2133360" cy="0"/>
            </a:xfrm>
            <a:prstGeom prst="line">
              <a:avLst/>
            </a:prstGeom>
            <a:ln w="349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2"/>
            <p:cNvSpPr/>
            <p:nvPr/>
          </p:nvSpPr>
          <p:spPr>
            <a:xfrm>
              <a:off x="3132000" y="4005360"/>
              <a:ext cx="2519640" cy="360360"/>
            </a:xfrm>
            <a:prstGeom prst="line">
              <a:avLst/>
            </a:prstGeom>
            <a:ln w="349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6"/>
          <p:cNvGrpSpPr/>
          <p:nvPr/>
        </p:nvGrpSpPr>
        <p:grpSpPr>
          <a:xfrm>
            <a:off x="0" y="2491920"/>
            <a:ext cx="2484360" cy="368640"/>
            <a:chOff x="0" y="2491920"/>
            <a:chExt cx="2484360" cy="368640"/>
          </a:xfrm>
        </p:grpSpPr>
        <p:sp>
          <p:nvSpPr>
            <p:cNvPr id="306" name="TextBox 42"/>
            <p:cNvSpPr/>
            <p:nvPr/>
          </p:nvSpPr>
          <p:spPr>
            <a:xfrm>
              <a:off x="0" y="2492280"/>
              <a:ext cx="16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入球小动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 flipV="1">
              <a:off x="1332000" y="2491920"/>
              <a:ext cx="1152360" cy="14436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47"/>
          <p:cNvGrpSpPr/>
          <p:nvPr/>
        </p:nvGrpSpPr>
        <p:grpSpPr>
          <a:xfrm>
            <a:off x="0" y="1844640"/>
            <a:ext cx="2411280" cy="504720"/>
            <a:chOff x="0" y="1844640"/>
            <a:chExt cx="2411280" cy="504720"/>
          </a:xfrm>
        </p:grpSpPr>
        <p:sp>
          <p:nvSpPr>
            <p:cNvPr id="309" name="TextBox 43"/>
            <p:cNvSpPr/>
            <p:nvPr/>
          </p:nvSpPr>
          <p:spPr>
            <a:xfrm>
              <a:off x="0" y="184464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出球小动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1259280" y="2061000"/>
              <a:ext cx="1152000" cy="288360"/>
            </a:xfrm>
            <a:prstGeom prst="line">
              <a:avLst/>
            </a:prstGeom>
            <a:ln w="31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Box 48"/>
          <p:cNvSpPr/>
          <p:nvPr/>
        </p:nvSpPr>
        <p:spPr>
          <a:xfrm>
            <a:off x="10800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肾小管周围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毛细血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1"/>
          <p:cNvGrpSpPr/>
          <p:nvPr/>
        </p:nvGrpSpPr>
        <p:grpSpPr>
          <a:xfrm>
            <a:off x="1763640" y="4581360"/>
            <a:ext cx="1656000" cy="432000"/>
            <a:chOff x="1763640" y="4581360"/>
            <a:chExt cx="1656000" cy="432000"/>
          </a:xfrm>
        </p:grpSpPr>
        <p:sp>
          <p:nvSpPr>
            <p:cNvPr id="313" name="Line 32"/>
            <p:cNvSpPr/>
            <p:nvPr/>
          </p:nvSpPr>
          <p:spPr>
            <a:xfrm flipV="1">
              <a:off x="1835640" y="4581360"/>
              <a:ext cx="1440000" cy="432000"/>
            </a:xfrm>
            <a:prstGeom prst="line">
              <a:avLst/>
            </a:prstGeom>
            <a:ln w="349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2"/>
            <p:cNvSpPr/>
            <p:nvPr/>
          </p:nvSpPr>
          <p:spPr>
            <a:xfrm flipV="1">
              <a:off x="1763640" y="4941360"/>
              <a:ext cx="1656000" cy="72000"/>
            </a:xfrm>
            <a:prstGeom prst="line">
              <a:avLst/>
            </a:prstGeom>
            <a:ln w="349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704880" y="1625760"/>
            <a:ext cx="8259840" cy="34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11-1-3肾单位结构模式图"/>
          <p:cNvPicPr/>
          <p:nvPr/>
        </p:nvPicPr>
        <p:blipFill>
          <a:blip r:embed="rId1"/>
          <a:srcRect l="0" t="0" r="13051" b="0"/>
          <a:stretch/>
        </p:blipFill>
        <p:spPr>
          <a:xfrm>
            <a:off x="2638440" y="824040"/>
            <a:ext cx="4336920" cy="5844960"/>
          </a:xfrm>
          <a:prstGeom prst="rect">
            <a:avLst/>
          </a:prstGeom>
          <a:ln w="0">
            <a:noFill/>
          </a:ln>
        </p:spPr>
      </p:pic>
      <p:sp>
        <p:nvSpPr>
          <p:cNvPr id="317" name="Line 4"/>
          <p:cNvSpPr/>
          <p:nvPr/>
        </p:nvSpPr>
        <p:spPr>
          <a:xfrm>
            <a:off x="2405160" y="2557440"/>
            <a:ext cx="120492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3817800" y="1660680"/>
            <a:ext cx="2841840" cy="3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4857840" y="4146480"/>
            <a:ext cx="1801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2363760" y="1320840"/>
            <a:ext cx="84600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2435400" y="5033880"/>
            <a:ext cx="156528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V="1">
            <a:off x="3673440" y="2276640"/>
            <a:ext cx="305928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667080" y="4794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毛细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662040" y="2274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出球小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7149240" y="135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肾小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7149240" y="2052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肾小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7149240" y="3813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肾小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7"/>
          <p:cNvSpPr/>
          <p:nvPr/>
        </p:nvSpPr>
        <p:spPr>
          <a:xfrm>
            <a:off x="6302520" y="1295280"/>
            <a:ext cx="7077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8"/>
          <p:cNvSpPr/>
          <p:nvPr/>
        </p:nvSpPr>
        <p:spPr>
          <a:xfrm>
            <a:off x="2124000" y="220500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9"/>
          <p:cNvSpPr/>
          <p:nvPr/>
        </p:nvSpPr>
        <p:spPr>
          <a:xfrm>
            <a:off x="6324480" y="3753000"/>
            <a:ext cx="708120" cy="70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6324480" y="203508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1908000" y="465300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3"/>
          <p:cNvSpPr/>
          <p:nvPr/>
        </p:nvSpPr>
        <p:spPr>
          <a:xfrm>
            <a:off x="1979640" y="8366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3089520" y="333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  <a:ea typeface="华文行楷"/>
              </a:rPr>
              <a:t>肾单位结构模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>
            <a:off x="8094600" y="1628640"/>
            <a:ext cx="287280" cy="2448000"/>
          </a:xfrm>
          <a:custGeom>
            <a:avLst/>
            <a:gdLst>
              <a:gd name="textAreaLeft" fmla="*/ 0 w 287280"/>
              <a:gd name="textAreaRight" fmla="*/ 103680 w 287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8247600" y="18759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中宋"/>
              </a:rPr>
              <a:t>肾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681120" y="103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入球小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581280" cy="6016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3"/>
          <p:cNvSpPr/>
          <p:nvPr/>
        </p:nvSpPr>
        <p:spPr>
          <a:xfrm>
            <a:off x="1321920" y="189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血液在肾单位里的流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6019920" y="2209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肾小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5638680" y="1219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入球小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2"/>
          <p:cNvSpPr/>
          <p:nvPr/>
        </p:nvSpPr>
        <p:spPr>
          <a:xfrm>
            <a:off x="5638680" y="3200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球小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3"/>
          <p:cNvSpPr/>
          <p:nvPr/>
        </p:nvSpPr>
        <p:spPr>
          <a:xfrm>
            <a:off x="4800600" y="4267080"/>
            <a:ext cx="3809880" cy="45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肾小管周围的毛细血管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4"/>
          <p:cNvSpPr/>
          <p:nvPr/>
        </p:nvSpPr>
        <p:spPr>
          <a:xfrm>
            <a:off x="5940360" y="5334120"/>
            <a:ext cx="13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肾静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5"/>
          <p:cNvSpPr/>
          <p:nvPr/>
        </p:nvSpPr>
        <p:spPr>
          <a:xfrm>
            <a:off x="6012000" y="3049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肾动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"/>
          <p:cNvSpPr/>
          <p:nvPr/>
        </p:nvSpPr>
        <p:spPr>
          <a:xfrm flipH="1">
            <a:off x="2771640" y="1197000"/>
            <a:ext cx="14472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2629080" y="1844640"/>
            <a:ext cx="287280" cy="73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3276720" y="1413000"/>
            <a:ext cx="287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 flipH="1">
            <a:off x="3564000" y="2205000"/>
            <a:ext cx="28872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3348000" y="2997360"/>
            <a:ext cx="180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 flipH="1">
            <a:off x="2339640" y="2565360"/>
            <a:ext cx="360360" cy="142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6"/>
          <p:cNvSpPr/>
          <p:nvPr/>
        </p:nvSpPr>
        <p:spPr>
          <a:xfrm>
            <a:off x="1692360" y="4076640"/>
            <a:ext cx="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619280" y="5589720"/>
            <a:ext cx="1440" cy="43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8"/>
          <p:cNvSpPr/>
          <p:nvPr/>
        </p:nvSpPr>
        <p:spPr>
          <a:xfrm flipV="1">
            <a:off x="1979640" y="5444640"/>
            <a:ext cx="217440" cy="73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"/>
          <p:cNvSpPr/>
          <p:nvPr/>
        </p:nvSpPr>
        <p:spPr>
          <a:xfrm>
            <a:off x="1979640" y="4292640"/>
            <a:ext cx="21744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0"/>
          <p:cNvSpPr/>
          <p:nvPr/>
        </p:nvSpPr>
        <p:spPr>
          <a:xfrm>
            <a:off x="2844720" y="4437000"/>
            <a:ext cx="21600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1"/>
          <p:cNvSpPr/>
          <p:nvPr/>
        </p:nvSpPr>
        <p:spPr>
          <a:xfrm>
            <a:off x="2844720" y="3789360"/>
            <a:ext cx="287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2"/>
          <p:cNvSpPr/>
          <p:nvPr/>
        </p:nvSpPr>
        <p:spPr>
          <a:xfrm flipH="1" flipV="1">
            <a:off x="2987280" y="5084280"/>
            <a:ext cx="7308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3"/>
          <p:cNvSpPr/>
          <p:nvPr/>
        </p:nvSpPr>
        <p:spPr>
          <a:xfrm>
            <a:off x="3203640" y="4797360"/>
            <a:ext cx="431640" cy="73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4"/>
          <p:cNvSpPr/>
          <p:nvPr/>
        </p:nvSpPr>
        <p:spPr>
          <a:xfrm>
            <a:off x="3635280" y="5084640"/>
            <a:ext cx="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 flipV="1">
            <a:off x="2773440" y="6093000"/>
            <a:ext cx="14436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6"/>
          <p:cNvSpPr/>
          <p:nvPr/>
        </p:nvSpPr>
        <p:spPr>
          <a:xfrm>
            <a:off x="6661080" y="3645000"/>
            <a:ext cx="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7"/>
          <p:cNvSpPr/>
          <p:nvPr/>
        </p:nvSpPr>
        <p:spPr>
          <a:xfrm>
            <a:off x="6661080" y="76500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8"/>
          <p:cNvSpPr/>
          <p:nvPr/>
        </p:nvSpPr>
        <p:spPr>
          <a:xfrm>
            <a:off x="6661080" y="17017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9"/>
          <p:cNvSpPr/>
          <p:nvPr/>
        </p:nvSpPr>
        <p:spPr>
          <a:xfrm>
            <a:off x="6661080" y="2708280"/>
            <a:ext cx="0" cy="577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0"/>
          <p:cNvSpPr/>
          <p:nvPr/>
        </p:nvSpPr>
        <p:spPr>
          <a:xfrm>
            <a:off x="6661080" y="479736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36"/>
          <p:cNvGrpSpPr/>
          <p:nvPr/>
        </p:nvGrpSpPr>
        <p:grpSpPr>
          <a:xfrm>
            <a:off x="7596360" y="1268280"/>
            <a:ext cx="1296720" cy="1152720"/>
            <a:chOff x="7596360" y="1268280"/>
            <a:chExt cx="1296720" cy="1152720"/>
          </a:xfrm>
        </p:grpSpPr>
        <p:sp>
          <p:nvSpPr>
            <p:cNvPr id="368" name="椭圆形标注 32"/>
            <p:cNvSpPr/>
            <p:nvPr/>
          </p:nvSpPr>
          <p:spPr>
            <a:xfrm>
              <a:off x="7596360" y="1268280"/>
              <a:ext cx="1296720" cy="1152720"/>
            </a:xfrm>
            <a:prstGeom prst="wedgeEllipseCallout">
              <a:avLst>
                <a:gd name="adj1" fmla="val -56194"/>
                <a:gd name="adj2" fmla="val 60541"/>
              </a:avLst>
            </a:prstGeom>
            <a:solidFill>
              <a:srgbClr val="bbe0e3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4"/>
            <p:cNvSpPr/>
            <p:nvPr/>
          </p:nvSpPr>
          <p:spPr>
            <a:xfrm>
              <a:off x="7668360" y="155628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不进行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b050"/>
                  </a:solidFill>
                  <a:latin typeface="Arial"/>
                </a:rPr>
                <a:t>质交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37"/>
          <p:cNvGrpSpPr/>
          <p:nvPr/>
        </p:nvGrpSpPr>
        <p:grpSpPr>
          <a:xfrm>
            <a:off x="7596360" y="2924280"/>
            <a:ext cx="1368360" cy="1152360"/>
            <a:chOff x="7596360" y="2924280"/>
            <a:chExt cx="1368360" cy="1152360"/>
          </a:xfrm>
        </p:grpSpPr>
        <p:sp>
          <p:nvSpPr>
            <p:cNvPr id="371" name="椭圆形标注 33"/>
            <p:cNvSpPr/>
            <p:nvPr/>
          </p:nvSpPr>
          <p:spPr>
            <a:xfrm>
              <a:off x="7596360" y="2924280"/>
              <a:ext cx="1297080" cy="1152360"/>
            </a:xfrm>
            <a:prstGeom prst="wedgeEllipseCallout">
              <a:avLst>
                <a:gd name="adj1" fmla="val -56194"/>
                <a:gd name="adj2" fmla="val 60541"/>
              </a:avLst>
            </a:prstGeom>
            <a:solidFill>
              <a:srgbClr val="bbe0e3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35"/>
            <p:cNvSpPr/>
            <p:nvPr/>
          </p:nvSpPr>
          <p:spPr>
            <a:xfrm>
              <a:off x="7775640" y="3212280"/>
              <a:ext cx="11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进行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质交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38"/>
          <p:cNvGrpSpPr/>
          <p:nvPr/>
        </p:nvGrpSpPr>
        <p:grpSpPr>
          <a:xfrm>
            <a:off x="4356000" y="1844640"/>
            <a:ext cx="1513080" cy="720720"/>
            <a:chOff x="4356000" y="1844640"/>
            <a:chExt cx="1513080" cy="720720"/>
          </a:xfrm>
        </p:grpSpPr>
        <p:sp>
          <p:nvSpPr>
            <p:cNvPr id="374" name="椭圆形标注 36"/>
            <p:cNvSpPr/>
            <p:nvPr/>
          </p:nvSpPr>
          <p:spPr>
            <a:xfrm>
              <a:off x="4356000" y="1844640"/>
              <a:ext cx="1513080" cy="720720"/>
            </a:xfrm>
            <a:prstGeom prst="wedgeEllipseCallout">
              <a:avLst>
                <a:gd name="adj1" fmla="val 79949"/>
                <a:gd name="adj2" fmla="val 49958"/>
              </a:avLst>
            </a:prstGeom>
            <a:solidFill>
              <a:srgbClr val="bbe0e3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37"/>
            <p:cNvSpPr/>
            <p:nvPr/>
          </p:nvSpPr>
          <p:spPr>
            <a:xfrm>
              <a:off x="4572000" y="19166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泌尿和循环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473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500"/>
                            </p:stCondLst>
                            <p:childTnLst>
                              <p:par>
                                <p:cTn id="479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5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8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1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7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0:42:38Z</dcterms:created>
  <dc:creator> </dc:creator>
  <dc:description/>
  <cp:keywords/>
  <dc:language>en-US</dc:language>
  <cp:lastModifiedBy>admin</cp:lastModifiedBy>
  <cp:lastPrinted>1899-12-30T00:00:00Z</cp:lastPrinted>
  <dcterms:modified xsi:type="dcterms:W3CDTF">2018-01-28T02:30:59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