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文本框 4098"/>
          <p:cNvSpPr/>
          <p:nvPr/>
        </p:nvSpPr>
        <p:spPr>
          <a:xfrm>
            <a:off x="-57240" y="1819440"/>
            <a:ext cx="911880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粗倩简体"/>
              </a:rPr>
              <a:t>第一单元　生物和生物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方正大标宋简体"/>
              </a:rPr>
              <a:t>第二章　了解生物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节　生物与环境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课堂十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文本框 3074"/>
          <p:cNvSpPr/>
          <p:nvPr/>
        </p:nvSpPr>
        <p:spPr>
          <a:xfrm>
            <a:off x="184320" y="233280"/>
            <a:ext cx="68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生物学  七年级  上册  配人教版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文本框 1"/>
          <p:cNvSpPr/>
          <p:nvPr/>
        </p:nvSpPr>
        <p:spPr>
          <a:xfrm>
            <a:off x="374760" y="573120"/>
            <a:ext cx="8394480" cy="33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马里亚纳海沟的最深处在海平面以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 9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，是地球上最深的海沟，也是地球的最低点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科学家在对马里亚纳海沟进行科考时发现，海沟内没有任何绿色植物生长，导致这一现象的非生物因素主要是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阳光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空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6186"/>
          <p:cNvSpPr/>
          <p:nvPr/>
        </p:nvSpPr>
        <p:spPr>
          <a:xfrm>
            <a:off x="1908720" y="36003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文本框 1"/>
          <p:cNvSpPr/>
          <p:nvPr/>
        </p:nvSpPr>
        <p:spPr>
          <a:xfrm>
            <a:off x="274680" y="336600"/>
            <a:ext cx="8278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天空中，越是高处，鸟的种类和数量就越少，决定此现象的主要生态因素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氧气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阳光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现象中，属于生物对环境适应的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沙漠中生活的仙人掌的叶特化成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树底下好乘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橘生淮南则为橘，生于淮北则为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种豆南山下，草盛豆苗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矩形 6186"/>
          <p:cNvSpPr/>
          <p:nvPr/>
        </p:nvSpPr>
        <p:spPr>
          <a:xfrm>
            <a:off x="5340240" y="110016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7376040" y="344952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1"/>
          <p:cNvSpPr/>
          <p:nvPr/>
        </p:nvSpPr>
        <p:spPr>
          <a:xfrm>
            <a:off x="401760" y="262080"/>
            <a:ext cx="8342280" cy="57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下表是某同学“探究温度对鼠妇的影响”的实验设计，但不完善。下列修改意见中，合理的是（     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纸盒的左右两侧应该分别铺上湿土和干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纸盒左右两侧的温度应该同为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20 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纸盒的左右两侧应同为阴暗环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纸盒左右两侧鼠妇初始数量可以不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6759720" y="92376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" descr=""/>
          <p:cNvPicPr/>
          <p:nvPr/>
        </p:nvPicPr>
        <p:blipFill>
          <a:blip r:embed="rId1"/>
          <a:stretch/>
        </p:blipFill>
        <p:spPr>
          <a:xfrm>
            <a:off x="884160" y="1446120"/>
            <a:ext cx="7116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1"/>
          <p:cNvSpPr/>
          <p:nvPr/>
        </p:nvSpPr>
        <p:spPr>
          <a:xfrm>
            <a:off x="374760" y="530280"/>
            <a:ext cx="8394480" cy="56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.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间四月芳菲尽，山寺桃花始盛开”，造成这一差异的环境因素是 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温度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湿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物与环境的关系是（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互影响，毫无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互影响，毫无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毫无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相互影响，相互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186"/>
          <p:cNvSpPr/>
          <p:nvPr/>
        </p:nvSpPr>
        <p:spPr>
          <a:xfrm>
            <a:off x="4438800" y="99540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4674600" y="337356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1"/>
          <p:cNvSpPr/>
          <p:nvPr/>
        </p:nvSpPr>
        <p:spPr>
          <a:xfrm>
            <a:off x="374760" y="282600"/>
            <a:ext cx="8394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属于与多风气候相适应的现象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候鸟迁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山顶的旗形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蛾类夜间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仙人掌叶特化成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关于生物与环境关系的叙述正确的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物能适应环境，但不会影响和改变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知细叶谁裁出，二月春风似剪刀”体现了生物影响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夹竹桃茎叶有毒，体现了生物对环境的适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影响生物的生态因素只包括阳光、空气、水等非生物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186"/>
          <p:cNvSpPr/>
          <p:nvPr/>
        </p:nvSpPr>
        <p:spPr>
          <a:xfrm>
            <a:off x="7045200" y="3999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"/>
          <p:cNvSpPr/>
          <p:nvPr/>
        </p:nvSpPr>
        <p:spPr>
          <a:xfrm>
            <a:off x="7694640" y="29732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"/>
          <p:cNvSpPr/>
          <p:nvPr/>
        </p:nvSpPr>
        <p:spPr>
          <a:xfrm>
            <a:off x="309600" y="195120"/>
            <a:ext cx="8394840" cy="60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探究“光对鼠妇生活的影响”实验中，为什么每组装置至少要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只鼠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采集方便，材料充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了设置重复，减少误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了方便数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了方便对鼠妇进行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186"/>
          <p:cNvSpPr/>
          <p:nvPr/>
        </p:nvSpPr>
        <p:spPr>
          <a:xfrm>
            <a:off x="5586480" y="824040"/>
            <a:ext cx="5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"/>
          <p:cNvSpPr/>
          <p:nvPr/>
        </p:nvSpPr>
        <p:spPr>
          <a:xfrm>
            <a:off x="244440" y="249120"/>
            <a:ext cx="8394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.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些叶子铺在墙上那么均匀，没有重叠起来的，也不留一点儿空隙”（如右图）。从生物学角度分析，这段美文所描述的现象体现了哪一种非生物因素对生物的影响？（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阳光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空气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水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"/>
          <p:cNvSpPr/>
          <p:nvPr/>
        </p:nvSpPr>
        <p:spPr>
          <a:xfrm>
            <a:off x="2800080" y="202248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4389480" y="2022480"/>
            <a:ext cx="25700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1"/>
          <p:cNvSpPr/>
          <p:nvPr/>
        </p:nvSpPr>
        <p:spPr>
          <a:xfrm>
            <a:off x="374760" y="184320"/>
            <a:ext cx="83944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些昆虫的身体颜色与它生活的环境颜色极为相近，这属于 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物对环境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环境对生物的制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物对环境的适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环境对生物的适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列叙述中，不正确的是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花儿朵朵向太阳”体现了环境对生物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.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南橘北枳”反映了环境对生物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雁南飞”体现了生物对环境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枯叶蝶”体现了生物对环境的适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186"/>
          <p:cNvSpPr/>
          <p:nvPr/>
        </p:nvSpPr>
        <p:spPr>
          <a:xfrm>
            <a:off x="3138480" y="8222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5558040" y="355752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01T03:55:43Z</dcterms:created>
  <dc:creator>Administrator</dc:creator>
  <dc:description/>
  <dc:language>en-US</dc:language>
  <cp:lastModifiedBy>Administrator</cp:lastModifiedBy>
  <dcterms:modified xsi:type="dcterms:W3CDTF">2017-07-08T02:11:07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