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819440"/>
            <a:ext cx="9118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一单元　生物和生物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二章　了解生物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节　生物与环境组成生态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堂十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"/>
          <p:cNvSpPr/>
          <p:nvPr/>
        </p:nvSpPr>
        <p:spPr>
          <a:xfrm>
            <a:off x="276120" y="96840"/>
            <a:ext cx="839484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选项中，可以构成一个生态系统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池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池塘中所有的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池塘中所有的鱼及其生活的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池塘中所有的植物和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生态系统的叙述，不正确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影响生物的生态因素包括非生物因素和生物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阳能是所有生物生命活动能量的最终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→草→鼠→狐”可称为一条完整的食物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麦田中的小麦和杂草之间是竞争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6186"/>
          <p:cNvSpPr/>
          <p:nvPr/>
        </p:nvSpPr>
        <p:spPr>
          <a:xfrm>
            <a:off x="7683840" y="2476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"/>
          <p:cNvSpPr/>
          <p:nvPr/>
        </p:nvSpPr>
        <p:spPr>
          <a:xfrm>
            <a:off x="6897600" y="34466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10960" y="149400"/>
            <a:ext cx="875520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个生态系统中，细菌和真菌所起的作用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成有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解有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吸收太阳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吸收二氧化碳，产生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态系统中的各种生物相互依存，在下列吃与被吃的生物关系中，能构成食物链的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菜→菜青虫→食虫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→牧草→牦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蝗虫→青蛙→蛇→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分→牧草→绵羊→牧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186"/>
          <p:cNvSpPr/>
          <p:nvPr/>
        </p:nvSpPr>
        <p:spPr>
          <a:xfrm>
            <a:off x="8090280" y="3430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6239160" y="38718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401760" y="262080"/>
            <a:ext cx="834228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原上放养的牲畜太多，就会严重破坏草场植被，造成土地沙化，草场就很难恢复原样了，这一事实说明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态系统的调节能力是巨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态系统的调节能力是有一定限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态系统中，生物的数量只能一成不变，否则生态系统就会遭到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原上放养的牲畜越少越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1820520" y="16812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374760" y="530280"/>
            <a:ext cx="839448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能表示出一个生态系统的（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物链与食物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质流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成分及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流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186"/>
          <p:cNvSpPr/>
          <p:nvPr/>
        </p:nvSpPr>
        <p:spPr>
          <a:xfrm>
            <a:off x="6483240" y="5954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704960" y="1495440"/>
            <a:ext cx="46292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374760" y="282600"/>
            <a:ext cx="839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为一个生态系统中某些生物的相对数量关系，这些生物构成了一条食物链。这条食物链最有可能是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→乙→丙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→丙→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丙→乙→甲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→丙→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186"/>
          <p:cNvSpPr/>
          <p:nvPr/>
        </p:nvSpPr>
        <p:spPr>
          <a:xfrm>
            <a:off x="1366920" y="13622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2341440" y="1886040"/>
            <a:ext cx="4840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309600" y="195120"/>
            <a:ext cx="839484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为某生态系统中的食物网示意图。据图分析，下列说法正确的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食物网中包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食物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蛇和鹰之间既存在捕食关系，又存在竞争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分解者，图中所示各食物链均不完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该生态系统被污染，则蛇体内有害物质的浓度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186"/>
          <p:cNvSpPr/>
          <p:nvPr/>
        </p:nvSpPr>
        <p:spPr>
          <a:xfrm>
            <a:off x="3954600" y="803160"/>
            <a:ext cx="3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592280" y="1609560"/>
            <a:ext cx="54244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244440" y="249120"/>
            <a:ext cx="83948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图表示生态系统中的三种生物的关系，甲、乙、丙分别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是生产者，乙是消费者，丙是分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是生产者，甲是消费者，丙是分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丙是生产者，乙是消费者，甲是分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是生产者，丙是消费者，乙是分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2208600" y="9507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778040" y="1473120"/>
            <a:ext cx="4572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"/>
          <p:cNvSpPr/>
          <p:nvPr/>
        </p:nvSpPr>
        <p:spPr>
          <a:xfrm>
            <a:off x="374760" y="184320"/>
            <a:ext cx="83944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表为某生态系统四种生物的调查统计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些生物构成了一条食物链，此食物链的正确构成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丙→甲→乙→丁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→乙→丙→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丁→丙→乙→甲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丁→乙→甲→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113120" y="40989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560520" y="852480"/>
            <a:ext cx="79390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08T02:20:2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