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文本框 4098"/>
          <p:cNvSpPr/>
          <p:nvPr/>
        </p:nvSpPr>
        <p:spPr>
          <a:xfrm>
            <a:off x="-57240" y="1819440"/>
            <a:ext cx="91188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粗倩简体"/>
              </a:rPr>
              <a:t>第二单元　生物体的结构层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标宋简体"/>
              </a:rPr>
              <a:t>第二章　细胞怎样构成生物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节　细胞通过分裂产生新细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课堂十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文本框 3074"/>
          <p:cNvSpPr/>
          <p:nvPr/>
        </p:nvSpPr>
        <p:spPr>
          <a:xfrm>
            <a:off x="184320" y="233280"/>
            <a:ext cx="68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生物学  七年级  上册  配人教版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文本框 1"/>
          <p:cNvSpPr/>
          <p:nvPr/>
        </p:nvSpPr>
        <p:spPr>
          <a:xfrm>
            <a:off x="282600" y="281160"/>
            <a:ext cx="85788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单细胞生物通过细胞分裂进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复制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体的生长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老细胞的更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鱼长成大鱼”与下列哪一项有直接关系？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分裂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生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分裂和生长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6186"/>
          <p:cNvSpPr/>
          <p:nvPr/>
        </p:nvSpPr>
        <p:spPr>
          <a:xfrm>
            <a:off x="5823000" y="58572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1"/>
          <p:cNvSpPr/>
          <p:nvPr/>
        </p:nvSpPr>
        <p:spPr>
          <a:xfrm>
            <a:off x="1093680" y="41734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433440" y="804960"/>
            <a:ext cx="8278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分裂产生的新细胞与亲代细胞相同或相似的关键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核平均分为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质的平均分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遗传物质经过复制而数量增倍，并平均分配到两个新细胞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两个新细胞核之间的细胞质中央形成细胞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1978920" y="16002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1"/>
          <p:cNvSpPr/>
          <p:nvPr/>
        </p:nvSpPr>
        <p:spPr>
          <a:xfrm>
            <a:off x="401760" y="231840"/>
            <a:ext cx="83422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关于癌细胞与正常细胞的说法错误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常细胞的分裂是有序的，而癌细胞的分裂是无序的，是不受控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常细胞的分裂次数是有限的，而癌细胞的分裂次数是无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癌细胞无控制的分裂和生长严重干扰正常细胞的生命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常细胞不会转变为癌细胞，癌细胞也不会转变成正常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911160" y="87012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1"/>
          <p:cNvSpPr/>
          <p:nvPr/>
        </p:nvSpPr>
        <p:spPr>
          <a:xfrm>
            <a:off x="374760" y="820800"/>
            <a:ext cx="839448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关于细胞分裂的叙述正确的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分裂是不断的、无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物体内任何细胞都具有分裂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分裂可使生物体细胞的数量增加，是细胞生长的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分裂次数越多细胞内的染色体数目越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186"/>
          <p:cNvSpPr/>
          <p:nvPr/>
        </p:nvSpPr>
        <p:spPr>
          <a:xfrm>
            <a:off x="6745320" y="10638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"/>
          <p:cNvSpPr/>
          <p:nvPr/>
        </p:nvSpPr>
        <p:spPr>
          <a:xfrm>
            <a:off x="276120" y="743040"/>
            <a:ext cx="839484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下图所示过程的描述，正确的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该过程表示细胞生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该过程可以表示动物细胞的分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该过程表示植物细胞的分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的新细胞内遗传物质减少一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"/>
          <p:cNvSpPr/>
          <p:nvPr/>
        </p:nvSpPr>
        <p:spPr>
          <a:xfrm>
            <a:off x="6664320" y="94932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411120" y="1722600"/>
            <a:ext cx="81248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473040" y="789120"/>
            <a:ext cx="83948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玉米的一个体细胞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染色体，经过四次分裂，形成的新体细胞的个数和每个新细胞内含有染色体的数量分别是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3009960" y="2085840"/>
            <a:ext cx="5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"/>
          <p:cNvSpPr/>
          <p:nvPr/>
        </p:nvSpPr>
        <p:spPr>
          <a:xfrm>
            <a:off x="298440" y="109440"/>
            <a:ext cx="839484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常情况下，下图中甲细胞与其分裂形成的乙、丙两个新细胞中的染色体数目的关系是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乙、丙细胞中的染色体数目均为甲细胞中的一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乙、丙细胞中的染色体数目均为甲细胞中的二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乙、丙细胞中的染色体数目均与甲细胞中的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甲、乙、丙这三个细胞中的染色体数目各不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7104240" y="11034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1914480" y="1835280"/>
            <a:ext cx="48625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244440" y="163440"/>
            <a:ext cx="83948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关于动物细胞分裂的叙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错误的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核先分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质再分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膜从中部向内凹陷，缢裂为两个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分裂的结果是细胞的数目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分裂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细胞的遗传物质比亲代细胞减少一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图表示某细胞分裂过程中遗传物质的含量曲线，正确的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7443000" y="32400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2288880" y="40640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345960" y="4808520"/>
            <a:ext cx="81900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1T03:55:43Z</dcterms:created>
  <dc:creator>Administrator</dc:creator>
  <dc:description/>
  <dc:language>en-US</dc:language>
  <cp:lastModifiedBy>Administrator</cp:lastModifiedBy>
  <dcterms:modified xsi:type="dcterms:W3CDTF">2017-07-10T03:02:03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38</vt:lpwstr>
  </property>
</Properties>
</file>