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文本框 4098"/>
          <p:cNvSpPr/>
          <p:nvPr/>
        </p:nvSpPr>
        <p:spPr>
          <a:xfrm>
            <a:off x="-57240" y="1927080"/>
            <a:ext cx="911880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粗倩简体"/>
              </a:rPr>
              <a:t>第三单元　生物圈中的绿色植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方正大标宋简体"/>
              </a:rPr>
              <a:t>第二章　被子植物的一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一节　种子的萌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文本框 3074"/>
          <p:cNvSpPr/>
          <p:nvPr/>
        </p:nvSpPr>
        <p:spPr>
          <a:xfrm>
            <a:off x="184320" y="233280"/>
            <a:ext cx="68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生物学  七年级  上册  配人教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1"/>
          <p:cNvSpPr/>
          <p:nvPr/>
        </p:nvSpPr>
        <p:spPr>
          <a:xfrm>
            <a:off x="406440" y="193680"/>
            <a:ext cx="842652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于种子萌发的过程，叙述错误的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子萌发时，首先要吸收水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子萌发时的营养都是来自子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子萌发时，最先突破种皮的是胚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胚轴伸长，发育成连接根和茎的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表是某同学四次测得小麦的发芽率，结果都不相同，你认为他测得的小麦种子的发芽率应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9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9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9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7910280" y="342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7089480" y="341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663480" y="4073400"/>
            <a:ext cx="768528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1"/>
          <p:cNvSpPr/>
          <p:nvPr/>
        </p:nvSpPr>
        <p:spPr>
          <a:xfrm>
            <a:off x="268200" y="152280"/>
            <a:ext cx="84600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图是菜豆幼苗示意图，有关叙述错误的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菜豆幼苗是由种子的胚发育而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菜豆种子萌发初期所需营养物质来自胚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是由胚芽发育而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是由胚根发育而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7993080" y="414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" descr=""/>
          <p:cNvPicPr/>
          <p:nvPr/>
        </p:nvPicPr>
        <p:blipFill>
          <a:blip r:embed="rId1"/>
          <a:srcRect l="0" t="0" r="0" b="3308"/>
          <a:stretch/>
        </p:blipFill>
        <p:spPr>
          <a:xfrm>
            <a:off x="2427120" y="868320"/>
            <a:ext cx="29592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1"/>
          <p:cNvSpPr/>
          <p:nvPr/>
        </p:nvSpPr>
        <p:spPr>
          <a:xfrm>
            <a:off x="590400" y="351000"/>
            <a:ext cx="79232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黄豆发育成豆苗的过程中，有机物的变化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减少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变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先少后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有关种子萌发的过程的说法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正确的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子萌发先要吸收大量的水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子叶或胚乳里的营养物质转运给胚根、胚芽和胚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胚根先发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先突破种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形成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胚芽先突破种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育成茎和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1159560" y="1008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1423800" y="3492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"/>
          <p:cNvSpPr/>
          <p:nvPr/>
        </p:nvSpPr>
        <p:spPr>
          <a:xfrm>
            <a:off x="111240" y="152280"/>
            <a:ext cx="8789760" cy="51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图是菜豆种子萌发示意图，请根据图及有关知识回答下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在空气充足、温度适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情况下，菜豆种子吸收水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体积膨大。子叶中的营养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转运给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在种子萌发过程中，如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示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首先突破种皮，发育成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由种子中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育而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示的结构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种子萌发后它逐渐干瘪的原因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1560600" y="2532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胚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2953080" y="4064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3646800" y="5106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子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2846520" y="2532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胚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6567840" y="3541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胚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4201560" y="4584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胚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2365200" y="56293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营养物质供给植物的生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490680" y="3054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胚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10" descr=""/>
          <p:cNvPicPr/>
          <p:nvPr/>
        </p:nvPicPr>
        <p:blipFill>
          <a:blip r:embed="rId1"/>
          <a:stretch/>
        </p:blipFill>
        <p:spPr>
          <a:xfrm>
            <a:off x="5337000" y="798480"/>
            <a:ext cx="35640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619200" y="866880"/>
            <a:ext cx="78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某同学在光照和黑暗条件下各培养了不同植物的种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粒，数天后统计种子萌发情况，记录数据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2" descr=""/>
          <p:cNvPicPr/>
          <p:nvPr/>
        </p:nvPicPr>
        <p:blipFill>
          <a:blip r:embed="rId1"/>
          <a:stretch/>
        </p:blipFill>
        <p:spPr>
          <a:xfrm>
            <a:off x="1289160" y="2611440"/>
            <a:ext cx="65656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1"/>
          <p:cNvSpPr/>
          <p:nvPr/>
        </p:nvSpPr>
        <p:spPr>
          <a:xfrm>
            <a:off x="463680" y="928800"/>
            <a:ext cx="804204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该实验的变量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你认为该实验是为验证哪一假设而设计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莴苣种子在光下的萌发率为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根据表中的实验数据，可以得出什么结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4182480" y="803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光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2108880" y="4386240"/>
            <a:ext cx="338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部分种子的萌发与光照无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部分种子需要在有光条件下萌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1820520" y="22255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光照对种子发芽率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5807520" y="28814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2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8"/>
          <p:cNvSpPr/>
          <p:nvPr/>
        </p:nvSpPr>
        <p:spPr>
          <a:xfrm>
            <a:off x="838080" y="2882880"/>
            <a:ext cx="75517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9"/>
          <p:cNvSpPr/>
          <p:nvPr/>
        </p:nvSpPr>
        <p:spPr>
          <a:xfrm>
            <a:off x="711360" y="5003640"/>
            <a:ext cx="767844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1"/>
          <p:cNvSpPr/>
          <p:nvPr/>
        </p:nvSpPr>
        <p:spPr>
          <a:xfrm>
            <a:off x="711360" y="5842080"/>
            <a:ext cx="767844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组合 4107"/>
          <p:cNvGrpSpPr/>
          <p:nvPr/>
        </p:nvGrpSpPr>
        <p:grpSpPr>
          <a:xfrm>
            <a:off x="179280" y="476280"/>
            <a:ext cx="2016000" cy="581400"/>
            <a:chOff x="179280" y="476280"/>
            <a:chExt cx="2016000" cy="581400"/>
          </a:xfrm>
        </p:grpSpPr>
        <p:sp>
          <p:nvSpPr>
            <p:cNvPr id="39" name="矩形 4105"/>
            <p:cNvSpPr/>
            <p:nvPr/>
          </p:nvSpPr>
          <p:spPr>
            <a:xfrm>
              <a:off x="179280" y="547560"/>
              <a:ext cx="2016000" cy="50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81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文本框 4106"/>
            <p:cNvSpPr/>
            <p:nvPr/>
          </p:nvSpPr>
          <p:spPr>
            <a:xfrm>
              <a:off x="576720" y="476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ff"/>
                  </a:solidFill>
                  <a:latin typeface="Arial"/>
                  <a:ea typeface="方正大标宋简体"/>
                </a:rPr>
                <a:t>学习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" name="文本框 2"/>
          <p:cNvSpPr/>
          <p:nvPr/>
        </p:nvSpPr>
        <p:spPr>
          <a:xfrm>
            <a:off x="387360" y="1476360"/>
            <a:ext cx="76248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阐明种子萌发的环境条件和自身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阐明种子萌发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6166"/>
          <p:cNvGrpSpPr/>
          <p:nvPr/>
        </p:nvGrpSpPr>
        <p:grpSpPr>
          <a:xfrm>
            <a:off x="157320" y="120600"/>
            <a:ext cx="2016000" cy="581400"/>
            <a:chOff x="157320" y="120600"/>
            <a:chExt cx="2016000" cy="581400"/>
          </a:xfrm>
        </p:grpSpPr>
        <p:sp>
          <p:nvSpPr>
            <p:cNvPr id="43" name="矩形 6167"/>
            <p:cNvSpPr/>
            <p:nvPr/>
          </p:nvSpPr>
          <p:spPr>
            <a:xfrm>
              <a:off x="157320" y="192240"/>
              <a:ext cx="2016000" cy="50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81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6168"/>
            <p:cNvSpPr/>
            <p:nvPr/>
          </p:nvSpPr>
          <p:spPr>
            <a:xfrm>
              <a:off x="555480" y="1206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ff"/>
                  </a:solidFill>
                  <a:latin typeface="Arial"/>
                  <a:ea typeface="方正大标宋简体"/>
                </a:rPr>
                <a:t>课前预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矩形 5152"/>
          <p:cNvSpPr/>
          <p:nvPr/>
        </p:nvSpPr>
        <p:spPr>
          <a:xfrm>
            <a:off x="44280" y="700200"/>
            <a:ext cx="905544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种子萌发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.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界环境条件：适宜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一定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充足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身条件：种子必须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胚的结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储存时间较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度过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检测是指从检测对象中抽取少量个体作为样本进行检测。以样本的检测结果来反映总体情况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种子萌发的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.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种子萌发的过程：① 首先吸收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②同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营养物质转运给胚根、胚芽、胚轴。 ③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发育，突破种皮，形成根。 ④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伸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发育成芽，芽进一步发育成茎和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186"/>
          <p:cNvSpPr/>
          <p:nvPr/>
        </p:nvSpPr>
        <p:spPr>
          <a:xfrm>
            <a:off x="4621320" y="1127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温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862200" y="2935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抽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1062360" y="164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7163640" y="112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水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4335480" y="2509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休眠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2224440" y="2509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7499880" y="1987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完整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5888160" y="4334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水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302760" y="4856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子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1760040" y="4856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胚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933840" y="5378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胚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6927120" y="5378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胚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2"/>
          <p:cNvSpPr/>
          <p:nvPr/>
        </p:nvSpPr>
        <p:spPr>
          <a:xfrm>
            <a:off x="374040" y="5797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胚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3"/>
          <p:cNvSpPr/>
          <p:nvPr/>
        </p:nvSpPr>
        <p:spPr>
          <a:xfrm>
            <a:off x="4620600" y="1987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活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10244"/>
          <p:cNvGrpSpPr/>
          <p:nvPr/>
        </p:nvGrpSpPr>
        <p:grpSpPr>
          <a:xfrm>
            <a:off x="179280" y="476280"/>
            <a:ext cx="2016000" cy="581400"/>
            <a:chOff x="179280" y="476280"/>
            <a:chExt cx="2016000" cy="581400"/>
          </a:xfrm>
        </p:grpSpPr>
        <p:sp>
          <p:nvSpPr>
            <p:cNvPr id="61" name="矩形 10245"/>
            <p:cNvSpPr/>
            <p:nvPr/>
          </p:nvSpPr>
          <p:spPr>
            <a:xfrm>
              <a:off x="179280" y="547560"/>
              <a:ext cx="2016000" cy="50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81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10246"/>
            <p:cNvSpPr/>
            <p:nvPr/>
          </p:nvSpPr>
          <p:spPr>
            <a:xfrm>
              <a:off x="577440" y="476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ff"/>
                  </a:solidFill>
                  <a:latin typeface="Arial"/>
                  <a:ea typeface="方正大标宋简体"/>
                </a:rPr>
                <a:t>同步训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矩形 7177"/>
          <p:cNvSpPr/>
          <p:nvPr/>
        </p:nvSpPr>
        <p:spPr>
          <a:xfrm>
            <a:off x="179280" y="1211400"/>
            <a:ext cx="8653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种子萌发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.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种子萌发所需要的环境条件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适宜的温度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定的水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充足的空气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. 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项全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种子萌发的自身条件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适宜的温度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定的水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充足的空气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完整的活的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178"/>
          <p:cNvSpPr/>
          <p:nvPr/>
        </p:nvSpPr>
        <p:spPr>
          <a:xfrm>
            <a:off x="6273720" y="2152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5059080" y="426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1"/>
          <p:cNvSpPr/>
          <p:nvPr/>
        </p:nvSpPr>
        <p:spPr>
          <a:xfrm>
            <a:off x="271440" y="150840"/>
            <a:ext cx="84279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颗粒完整的种子分成甲、乙两组，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 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下分别播种。甲组种在贫瘠、湿润的土壤里，乙组种在肥沃、干旱的土壤里，这两组种子的发芽状况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甲先发芽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乙先发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时发芽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都不发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米和豆瓣在肥沃的土壤中不能长出幼苗是因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种皮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土壤中没有水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胚根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完整的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178"/>
          <p:cNvSpPr/>
          <p:nvPr/>
        </p:nvSpPr>
        <p:spPr>
          <a:xfrm>
            <a:off x="793440" y="2249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792720" y="478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1"/>
          <p:cNvSpPr/>
          <p:nvPr/>
        </p:nvSpPr>
        <p:spPr>
          <a:xfrm>
            <a:off x="290520" y="219240"/>
            <a:ext cx="81723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某同学设计了一个研究阳光对大豆发芽的影响实验：在①、②两个花盆中种了大豆，并对阳光、温度、水加以控制（如下表所示）。其他同学看了设计后提出下列意见，其中正确的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个花盆都应放在向阳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个花盆的温度都应维持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 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花盆应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8 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②花盆应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 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个花盆都应放在暗室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178"/>
          <p:cNvSpPr/>
          <p:nvPr/>
        </p:nvSpPr>
        <p:spPr>
          <a:xfrm>
            <a:off x="6273720" y="2184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731880" y="2671920"/>
            <a:ext cx="69325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"/>
          <p:cNvSpPr/>
          <p:nvPr/>
        </p:nvSpPr>
        <p:spPr>
          <a:xfrm>
            <a:off x="184320" y="74520"/>
            <a:ext cx="8586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存放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的小麦种子，虽给予了适宜的外界条件，一般也不会萌发，其原因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子仍处于休眠期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子中含有抑制萌发的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胚已经死亡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麦种子种皮过于坚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储存在粮仓里的小麦种子一般不会萌发，主要原因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缺少水分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温度较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缺少阳光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缺乏营养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4984560" y="938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"/>
          <p:cNvSpPr/>
          <p:nvPr/>
        </p:nvSpPr>
        <p:spPr>
          <a:xfrm>
            <a:off x="1088280" y="4678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1"/>
          <p:cNvSpPr/>
          <p:nvPr/>
        </p:nvSpPr>
        <p:spPr>
          <a:xfrm>
            <a:off x="299880" y="376200"/>
            <a:ext cx="85442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种子萌发的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种子萌发的过程中，种子的形态及生理会发生一系列变化。下列变化不会发生的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子萌发时，首先要吸收水分，将营养物质转运到需要部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子的体积变大，重量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子叶或胚乳逐渐萎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子内有机物的总量明显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"/>
          <p:cNvSpPr/>
          <p:nvPr/>
        </p:nvSpPr>
        <p:spPr>
          <a:xfrm>
            <a:off x="6359400" y="1676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1"/>
          <p:cNvSpPr/>
          <p:nvPr/>
        </p:nvSpPr>
        <p:spPr>
          <a:xfrm>
            <a:off x="460440" y="582480"/>
            <a:ext cx="8373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方地区早春播种，用地膜覆盖可以促进种子萌发，主要原因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高地温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降低光照强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高土壤肥力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防治害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玉米种子在萌发过程中，所需营养物质的来源及最先突破种皮的结构依次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子叶胚芽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子叶胚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胚乳胚根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胚乳胚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3465360" y="1081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5440320" y="4111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1T03:55:43Z</dcterms:created>
  <dc:creator>Administrator</dc:creator>
  <dc:description/>
  <dc:language>en-US</dc:language>
  <cp:lastModifiedBy>Administrator</cp:lastModifiedBy>
  <dcterms:modified xsi:type="dcterms:W3CDTF">2017-07-06T06:52:41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