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EE84-4335-475C-A8BE-F7F52F1C72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6006-A8D9-4CD5-90D8-E52F8749C8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C97B-33FA-4D54-A468-B6BE3F6DB0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河鲀为暖温带及热带近海底层鱼类，栖息于海洋的中、下层，有少数种类进入淡水江河中，当遇到外敌，腹腔气囊则迅速膨胀，使整个身体呈球状浮上水面，同时皮肤上的小刺竖起，借以自卫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使用建议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作为讲解动物对外界刺激的反应，河鲀的戏剧性反应是一个很好的例子。下一页是河鲀受惊吓后的样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0FD4-0809-49C9-B949-8164B3D781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河鲀为暖温带及热带近海底层鱼类，栖息于海洋的中、下层，有少数种类进入淡水江河中，当遇到外敌，腹腔气囊则迅速膨胀，使整个身体呈球状浮上水面，同时皮肤上的小刺竖起，借以自卫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使用建议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点击右上角的按钮返回到上一页，点击画面回到二级目录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2F0B-A2D3-4623-AD35-8C6D86A13D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含羞草具有感触性，叶子受到触摸时会下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88F-49D3-4F02-BD4A-2F1A403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4DC-BD96-4C5E-9FC8-24D01FB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F88-1572-4864-A81B-7B2918AE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B52-2EB4-4239-AF0F-6ABA9EF5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A1D4-80AC-4A93-8754-5A7ACD6F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A34B-75AF-459E-B347-A894CC29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F63B-5F5A-40A5-8FEA-FED125C0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C1F-49F0-4D97-83A0-5200072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9BB-7C34-4EDD-B2EE-9A0EC89F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E4AF-73EF-47CB-9EE8-1DC9ECA6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2724-5C26-4277-B7FA-2DB0825B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C5B-F7D1-4202-AD62-339D9C97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1EBE-47DF-41B6-A42C-AB720E2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A7B1-39F7-481C-913D-C2F4AB38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64C6-3562-4316-8F2B-EE56AC96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FE4F-E2F7-4F50-8852-CAAE22D6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601C-AF2D-455A-A4F6-5209F61A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F1BE-C65F-47CC-BAA6-9B332A8A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2066-2547-49F7-8A2F-4DFD52F7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1099-CF66-47EB-9F05-03D8CE66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DC94-C39D-4101-8C18-33D9125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26614-11E9-4AC8-8968-5CF5582B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3A2-EDB2-45BF-ACDC-C9DB0895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72BA-EEA3-4023-ADD2-D4755707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E4F9-9FC8-474B-BCBC-8CB66F2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177D-8C9E-4495-935D-3A52601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B64A-EBDB-411E-B692-D9318741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E18C-11D3-4187-99DF-016BC09B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11FA-B9F8-4249-92E5-9E58EEB5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149C-45FC-4553-8C29-D879A8A1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821F-C804-42BC-838E-7A127130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06B7-BAF4-49CB-AABA-CC42D593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3466-17B8-4301-BFDE-4C57DBD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A11-C102-468E-88AD-FE93F536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E557-5B96-4FBE-B1E4-1659F847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6FDF-79F0-4ABB-A31F-42B8B1F9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CE4E-0AC0-4EDA-830F-D76B21A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B7CFD-AD5D-457D-A36A-76A7DAD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4E8F-FE99-461D-B9C8-C29C5CE8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4A46-9694-423E-8B1A-2DE9B6F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6F85-FDB5-4187-A27F-73460982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5229-05EC-43FC-833F-9239FFA5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AED7-B25E-4196-AF02-663342D7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883-56DD-4F66-A838-D0C7128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2B8-27C4-4AB3-87E9-12FCC40D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284-63D0-40DA-A269-A4EBD76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F8A-7D55-4B7E-B529-0CF3C29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16E-5BAE-4F7E-AD1C-1850E99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74E1-CB82-4CCC-B25D-B4955CB31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378-4FCD-4FA2-A062-F986889E1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71FB-3607-45C4-9155-466F34915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126F-6620-4886-AEC8-37BBB1576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534960" y="1114560"/>
            <a:ext cx="8072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第一单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第一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第一节  生物的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rcRect l="3233" t="0" r="6452" b="0"/>
          <a:stretch/>
        </p:blipFill>
        <p:spPr>
          <a:xfrm>
            <a:off x="0" y="1973160"/>
            <a:ext cx="9144000" cy="48848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ff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二、生物的生活需要营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C:\Documents and Settings\panzhijian.TTN\桌面\精品图库\素材\01生物的特征\04生物体能产生废物\fdfsd.jpg"/>
          <p:cNvPicPr/>
          <p:nvPr/>
        </p:nvPicPr>
        <p:blipFill>
          <a:blip r:embed="rId2"/>
          <a:stretch/>
        </p:blipFill>
        <p:spPr>
          <a:xfrm>
            <a:off x="0" y="476280"/>
            <a:ext cx="4932360" cy="3363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panzhijian.TTN\桌面\精品图库\素材\01生物的特征\04生物体能产生废物\leaf_litter.jpg"/>
          <p:cNvPicPr/>
          <p:nvPr/>
        </p:nvPicPr>
        <p:blipFill>
          <a:blip r:embed="rId3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0"/>
          <p:cNvSpPr/>
          <p:nvPr/>
        </p:nvSpPr>
        <p:spPr>
          <a:xfrm>
            <a:off x="0" y="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生物能排出身体内产生的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932360" y="765000"/>
            <a:ext cx="421164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8" descr="C:\Documents and Settings\panzhijian.TTN\桌面\精品图库\素材\01生物的特征\05对刺激作出反应\3.Balloonfish.jpeg"/>
          <p:cNvPicPr/>
          <p:nvPr/>
        </p:nvPicPr>
        <p:blipFill>
          <a:blip r:embed="rId2"/>
          <a:stretch/>
        </p:blipFill>
        <p:spPr>
          <a:xfrm>
            <a:off x="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391520" y="380880"/>
            <a:ext cx="82368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285840" y="3786120"/>
            <a:ext cx="278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刺豚平静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panzhijian.TTN\桌面\精品图库\素材\01生物的特征\05对刺激作出反应\5._Balloonfish.jpg"/>
          <p:cNvPicPr/>
          <p:nvPr/>
        </p:nvPicPr>
        <p:blipFill>
          <a:blip r:embed="rId3"/>
          <a:stretch/>
        </p:blipFill>
        <p:spPr>
          <a:xfrm>
            <a:off x="3333600" y="2500200"/>
            <a:ext cx="5810400" cy="4357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7021440" y="6262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刺豚受惊吓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C:\Documents and Settings\panzhijian.TTN\桌面\精品图库\素材\01生物的特征\05对刺激作出反应\含羞草对刺激的反应.jpg"/>
          <p:cNvPicPr/>
          <p:nvPr/>
        </p:nvPicPr>
        <p:blipFill>
          <a:blip r:embed="rId2"/>
          <a:stretch/>
        </p:blipFill>
        <p:spPr>
          <a:xfrm>
            <a:off x="0" y="500040"/>
            <a:ext cx="9253440" cy="48736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8"/>
          <p:cNvSpPr/>
          <p:nvPr/>
        </p:nvSpPr>
        <p:spPr>
          <a:xfrm>
            <a:off x="214200" y="385776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含羞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0" y="573408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四、生物对外界各种刺激作出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http://imgsrc.baidu.com/forum/w%3D580/sign=62d25a20b71bb0518f24b320067bda77/1bdc850a19d8bc3e7a9050c8868ba61ea9d345f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C:\Users\Administrator\AppData\Roaming\Tencent\Users\1145311258\QQ\WinTemp\RichOle\8EEK[QUEEMHDBGCG53`6C1M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http://imgsrc.baidu.com/forum/w%3D580/sign=786d57eca918972ba33a00c2d6cc7b9d/4a90f603738da9779169edd3b251f8198718e380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://www.zhuwang.cc/uploadfile/2016/0819/20160819094610344.jpg"/>
          <p:cNvPicPr/>
          <p:nvPr/>
        </p:nvPicPr>
        <p:blipFill>
          <a:blip r:embed="rId2"/>
          <a:stretch/>
        </p:blipFill>
        <p:spPr>
          <a:xfrm>
            <a:off x="0" y="0"/>
            <a:ext cx="5500800" cy="514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Administrator\AppData\Roaming\Tencent\Users\1145311258\QQ\WinTemp\RichOle\K$AUG1~DGTPZQS0)CI~J)AT.png"/>
          <p:cNvPicPr/>
          <p:nvPr/>
        </p:nvPicPr>
        <p:blipFill>
          <a:blip r:embed="rId3"/>
          <a:stretch/>
        </p:blipFill>
        <p:spPr>
          <a:xfrm>
            <a:off x="5500800" y="0"/>
            <a:ext cx="3643200" cy="5157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539640" y="5734080"/>
            <a:ext cx="774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五、生物都能生长发育和繁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http://imgsrc.baidu.com/forum/w%3D580/sign=7fe1edf87fd98d1076d40c39113fb807/8969b2b7d0a20cf4609185db75094b36adaf999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9"/>
          <p:cNvSpPr/>
          <p:nvPr/>
        </p:nvSpPr>
        <p:spPr>
          <a:xfrm>
            <a:off x="395280" y="60879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六、生物都有遗传和变异的现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2000" y="566100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萨摩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357120" y="3571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七、除病毒以外，生物都是由细胞构成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C:\Users\Administrator\Desktop\QQ图片20170109134920.png"/>
          <p:cNvPicPr/>
          <p:nvPr/>
        </p:nvPicPr>
        <p:blipFill>
          <a:blip r:embed="rId2"/>
          <a:stretch/>
        </p:blipFill>
        <p:spPr>
          <a:xfrm>
            <a:off x="571680" y="2571840"/>
            <a:ext cx="3429000" cy="3873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Administrator\AppData\Roaming\Tencent\Users\1145311258\QQ\WinTemp\RichOle\CI6B8UVL9}`R~069GH6{_LK.png"/>
          <p:cNvPicPr/>
          <p:nvPr/>
        </p:nvPicPr>
        <p:blipFill>
          <a:blip r:embed="rId3"/>
          <a:stretch/>
        </p:blipFill>
        <p:spPr>
          <a:xfrm>
            <a:off x="4214880" y="2071800"/>
            <a:ext cx="4214880" cy="4182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探究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3581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析下列图片，指出图片中的物体是生物还是非生物，说明你的理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58920" y="3141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26420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2"/>
          <p:cNvGrpSpPr/>
          <p:nvPr/>
        </p:nvGrpSpPr>
        <p:grpSpPr>
          <a:xfrm>
            <a:off x="1285920" y="1857240"/>
            <a:ext cx="3642840" cy="4675680"/>
            <a:chOff x="1285920" y="1857240"/>
            <a:chExt cx="3642840" cy="4675680"/>
          </a:xfrm>
        </p:grpSpPr>
        <p:pic>
          <p:nvPicPr>
            <p:cNvPr id="234" name="Picture 5" descr=""/>
            <p:cNvPicPr/>
            <p:nvPr/>
          </p:nvPicPr>
          <p:blipFill>
            <a:blip r:embed="rId2"/>
            <a:stretch/>
          </p:blipFill>
          <p:spPr>
            <a:xfrm>
              <a:off x="1285920" y="1857240"/>
              <a:ext cx="3642840" cy="40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10"/>
            <p:cNvSpPr/>
            <p:nvPr/>
          </p:nvSpPr>
          <p:spPr>
            <a:xfrm>
              <a:off x="1285920" y="6134040"/>
              <a:ext cx="35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Arial"/>
                </a:rPr>
                <a:t>机器人在弹钢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3"/>
          <p:cNvGrpSpPr/>
          <p:nvPr/>
        </p:nvGrpSpPr>
        <p:grpSpPr>
          <a:xfrm>
            <a:off x="5072040" y="1857240"/>
            <a:ext cx="2928600" cy="4682160"/>
            <a:chOff x="5072040" y="1857240"/>
            <a:chExt cx="2928600" cy="4682160"/>
          </a:xfrm>
        </p:grpSpPr>
        <p:pic>
          <p:nvPicPr>
            <p:cNvPr id="237" name="Picture 8" descr=""/>
            <p:cNvPicPr/>
            <p:nvPr/>
          </p:nvPicPr>
          <p:blipFill>
            <a:blip r:embed="rId3"/>
            <a:stretch/>
          </p:blipFill>
          <p:spPr>
            <a:xfrm>
              <a:off x="5072040" y="1857240"/>
              <a:ext cx="2867760" cy="40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1"/>
            <p:cNvSpPr/>
            <p:nvPr/>
          </p:nvSpPr>
          <p:spPr>
            <a:xfrm>
              <a:off x="5255280" y="6140520"/>
              <a:ext cx="274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Arial"/>
                </a:rPr>
                <a:t>钟乳石在生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下列属于生物的是（ 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草  ②煮熟的鱼  ③珊瑚   ④钟乳石   ⑤石生花  ⑥恐龙化石   ⑦蘑菇   ⑧家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①③④⑧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①⑤⑦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②③④⑥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②⑤⑥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0666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:\Users\Administrator\AppData\Roaming\Tencent\Users\1145311258\QQ\WinTemp\RichOle\GHT{C(NFTQ{VJG6NN1S8QH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下列古诗中、描写生物生长发育的是（  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红豆生南国，春来发几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明月别枝惊鹊，清风半夜惊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泥融飞燕子，沙暖睡鸳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穿花峡蝶深深见，点水蜻蜓款款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7621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57120" y="121428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调查校园、公园或农田的生物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用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和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85840" y="2858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实地调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http://www.bbioo.com/jiaoxue/uploadfile/2014/0605/201406052337137708.jpg"/>
          <p:cNvPicPr/>
          <p:nvPr/>
        </p:nvPicPr>
        <p:blipFill>
          <a:blip r:embed="rId2"/>
          <a:stretch/>
        </p:blipFill>
        <p:spPr>
          <a:xfrm>
            <a:off x="4000680" y="1785960"/>
            <a:ext cx="452592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administrator\appdata\roaming\360se6\User Data\temp\13b1OOOPIC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图示 3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777708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Administrator\AppData\Roaming\Tencent\Users\1145311258\QQ\WinTemp\RichOle\GHT{C(NFTQ{VJG6NN1S8QH3.png"/>
          <p:cNvPicPr/>
          <p:nvPr/>
        </p:nvPicPr>
        <p:blipFill>
          <a:blip r:embed="rId2"/>
          <a:stretch/>
        </p:blipFill>
        <p:spPr>
          <a:xfrm>
            <a:off x="0" y="2438280"/>
            <a:ext cx="4543560" cy="4419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C:\Users\Administrator\AppData\Roaming\Tencent\Users\1145311258\QQ\WinTemp\RichOle\OM30$D)1_MR{99PZDS)[H6R.png"/>
          <p:cNvPicPr/>
          <p:nvPr/>
        </p:nvPicPr>
        <p:blipFill>
          <a:blip r:embed="rId3"/>
          <a:stretch/>
        </p:blipFill>
        <p:spPr>
          <a:xfrm>
            <a:off x="4581360" y="2428920"/>
            <a:ext cx="4562640" cy="4429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42920" y="142920"/>
            <a:ext cx="85723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导入新课：</a:t>
            </a:r>
            <a:r>
              <a:rPr b="1" lang="zh-CN" sz="4800" spc="-1" strike="noStrike">
                <a:solidFill>
                  <a:srgbClr val="c00000"/>
                </a:solidFill>
                <a:latin typeface="Calibri"/>
              </a:rPr>
              <a:t>你们知道生物圈中都有哪些生物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77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你是通过什么方法确认它们是生物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alibri"/>
              </a:rPr>
              <a:t>观察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观察用具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观察前准备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观察过程中应注意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观察后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571680" y="747720"/>
            <a:ext cx="82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仔细观察区分生物和非生物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administrator\appdata\roaming\360se6\User Data\temp\t0167d2bfab0c39af8c.jpg"/>
          <p:cNvPicPr/>
          <p:nvPr/>
        </p:nvPicPr>
        <p:blipFill>
          <a:blip r:embed="rId2"/>
          <a:stretch/>
        </p:blipFill>
        <p:spPr>
          <a:xfrm>
            <a:off x="4357800" y="2421000"/>
            <a:ext cx="4786200" cy="4437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高山流水"/>
          <p:cNvPicPr/>
          <p:nvPr/>
        </p:nvPicPr>
        <p:blipFill>
          <a:blip r:embed="rId3"/>
          <a:stretch/>
        </p:blipFill>
        <p:spPr>
          <a:xfrm>
            <a:off x="0" y="2421000"/>
            <a:ext cx="435600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c:\users\administrator\appdata\roaming\360se6\User Data\temp\meilimingchuandashanbizhi_466347_m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Administrator\AppData\Roaming\Tencent\Users\1145311258\QQ\WinTemp\RichOle\044%O5IMYKN3XS9_6AI%3IE.png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红珊瑚图片欣赏"/>
          <p:cNvPicPr/>
          <p:nvPr/>
        </p:nvPicPr>
        <p:blipFill>
          <a:blip r:embed="rId2"/>
          <a:stretch/>
        </p:blipFill>
        <p:spPr>
          <a:xfrm>
            <a:off x="4716360" y="27000"/>
            <a:ext cx="4427640" cy="6145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796000" y="615636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珊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文本占位符 2" descr=""/>
          <p:cNvPicPr/>
          <p:nvPr/>
        </p:nvPicPr>
        <p:blipFill>
          <a:blip r:embed="rId3"/>
          <a:stretch/>
        </p:blipFill>
        <p:spPr>
          <a:xfrm>
            <a:off x="0" y="0"/>
            <a:ext cx="4716360" cy="6165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03280" y="6156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生石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2"/>
          <p:cNvSpPr/>
          <p:nvPr/>
        </p:nvSpPr>
        <p:spPr>
          <a:xfrm>
            <a:off x="357120" y="157176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生物具有哪些基本特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763640" y="260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具有生命的物体，非生物是没有生命的物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http://img.51ztzj.com/upload/image/20140108/dn201401084008_670x419.jpg"/>
          <p:cNvPicPr/>
          <p:nvPr/>
        </p:nvPicPr>
        <p:blipFill>
          <a:blip r:embed="rId2"/>
          <a:stretch/>
        </p:blipFill>
        <p:spPr>
          <a:xfrm>
            <a:off x="1785960" y="2286000"/>
            <a:ext cx="6381720" cy="4276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Administrator\AppData\Roaming\Tencent\Users\1145311258\QQ\WinTemp\RichOle\UCATVM5]UZ$7~0MH[0LIU15.png"/>
          <p:cNvPicPr/>
          <p:nvPr/>
        </p:nvPicPr>
        <p:blipFill>
          <a:blip r:embed="rId3"/>
          <a:stretch/>
        </p:blipFill>
        <p:spPr>
          <a:xfrm>
            <a:off x="1763640" y="2286000"/>
            <a:ext cx="6408720" cy="4314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404640"/>
            <a:ext cx="17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文本占位符 2" descr=""/>
          <p:cNvPicPr/>
          <p:nvPr/>
        </p:nvPicPr>
        <p:blipFill>
          <a:blip r:embed="rId2"/>
          <a:stretch/>
        </p:blipFill>
        <p:spPr>
          <a:xfrm>
            <a:off x="0" y="2332080"/>
            <a:ext cx="91440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Calibri"/>
              </a:rPr>
              <a:t>生物的特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5573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一、生物能进行呼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06:46:53Z</dcterms:created>
  <dc:creator>詹木四</dc:creator>
  <dc:description/>
  <dc:language>en-US</dc:language>
  <cp:lastModifiedBy>微软用户</cp:lastModifiedBy>
  <dcterms:modified xsi:type="dcterms:W3CDTF">2017-09-07T09:16:42Z</dcterms:modified>
  <cp:revision>1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