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0"/>
          <p:cNvSpPr/>
          <p:nvPr/>
        </p:nvSpPr>
        <p:spPr>
          <a:xfrm>
            <a:off x="0" y="2362320"/>
            <a:ext cx="9144000" cy="1523880"/>
          </a:xfrm>
          <a:prstGeom prst="rect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Box 3"/>
          <p:cNvSpPr/>
          <p:nvPr/>
        </p:nvSpPr>
        <p:spPr>
          <a:xfrm>
            <a:off x="228600" y="2482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Unit 2  What time do you go to schoo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Line 12"/>
          <p:cNvSpPr/>
          <p:nvPr/>
        </p:nvSpPr>
        <p:spPr>
          <a:xfrm>
            <a:off x="685800" y="312408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2438280" y="3733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Section A 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课时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(1a-1c)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981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329"/>
          <p:cNvPicPr/>
          <p:nvPr/>
        </p:nvPicPr>
        <p:blipFill>
          <a:blip r:embed="rId2"/>
          <a:stretch/>
        </p:blipFill>
        <p:spPr>
          <a:xfrm>
            <a:off x="5651640" y="404640"/>
            <a:ext cx="2106360" cy="3241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96720" y="3645000"/>
            <a:ext cx="84250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:what time do you usually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ake a sh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nd brush tee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,R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I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ake a shower and brush tee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at si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132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774S02`FT(XFEYBA_AY}K]R"/>
          <p:cNvPicPr/>
          <p:nvPr/>
        </p:nvPicPr>
        <p:blipFill>
          <a:blip r:embed="rId1"/>
          <a:stretch/>
        </p:blipFill>
        <p:spPr>
          <a:xfrm>
            <a:off x="468360" y="642960"/>
            <a:ext cx="3189240" cy="2712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xs406001"/>
          <p:cNvPicPr/>
          <p:nvPr/>
        </p:nvPicPr>
        <p:blipFill>
          <a:blip r:embed="rId2"/>
          <a:stretch/>
        </p:blipFill>
        <p:spPr>
          <a:xfrm>
            <a:off x="0" y="3935520"/>
            <a:ext cx="3429000" cy="2690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809880" y="304920"/>
            <a:ext cx="4537080" cy="69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What time do you usually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t breakfa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I usuall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t breakfa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seven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What time do you usually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t dres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I usuall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t dres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seven twen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753080" cy="3311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24000" y="3860640"/>
            <a:ext cx="84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: What time do you usually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g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o schoo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I usually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go to schoo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at seven thi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468360" y="1341360"/>
            <a:ext cx="8136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What timedo you gp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time..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用于询问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具体时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的特殊疑问句句型，意为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几点，什么时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。回答时可直接用表示时间的短语，也可用完整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 tim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you go to b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什么时候睡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often go to bed after mid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经常过了半夜才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104760" y="108000"/>
            <a:ext cx="4660920" cy="11113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685800"/>
            <a:ext cx="8424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名词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don‘t have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tim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 do my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没时间做家庭作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可作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讲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three times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watch TV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three tim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一周看三次电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有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机，机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的意思，常用句型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t‘s time for sth./to do sth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了干某事的时机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It‘s time t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go to be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是睡觉的时候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9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57200" y="1295280"/>
            <a:ext cx="829008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候，时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讲，常用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询问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time is it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‘s the time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几点了？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回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It’s +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问“在几点做某事时”，时间前面应加介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time is it 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几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It‘s seven o’clock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点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47640" y="1143000"/>
            <a:ext cx="849636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常用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具体的某一时刻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ixty forty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六点四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表示地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一般用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较小的地名（方）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译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...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ho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家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statio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457200" y="914400"/>
            <a:ext cx="842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usuall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uall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意思是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，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频率副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可位于句首或句中，在句中实际时位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动词之后或行为动词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uall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t up early in the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在早晨通常起得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2971800" y="152280"/>
            <a:ext cx="2913120" cy="920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结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68360" y="1486080"/>
            <a:ext cx="84247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早上六点起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______ ______ ______ six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的爸爸晚上九点洗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father ______ ______ ______ 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ne in the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姐姐几点刷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______ ______ your sister bru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e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47640" y="2133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        up        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48120" y="3286080"/>
            <a:ext cx="51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s     a        shower     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116000" y="5013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   time     doe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124000" y="18511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ve (o' clock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97080" y="34336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ine o tw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2720" y="914400"/>
            <a:ext cx="811224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出下列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:00 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:00 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:02 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:20 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:25  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24000" y="27147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ight (o' clock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68360" y="42274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n twent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7080" y="50180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leven twenty-fiv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3" descr="8875077_135557505192_2"/>
          <p:cNvPicPr/>
          <p:nvPr/>
        </p:nvPicPr>
        <p:blipFill>
          <a:blip r:embed="rId1"/>
          <a:srcRect l="1836" t="1836" r="5508" b="5508"/>
          <a:stretch/>
        </p:blipFill>
        <p:spPr>
          <a:xfrm>
            <a:off x="5715000" y="3733920"/>
            <a:ext cx="2668680" cy="2668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85800" y="5257800"/>
            <a:ext cx="345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is seven thi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t01cbb108121ec5c906"/>
          <p:cNvPicPr/>
          <p:nvPr/>
        </p:nvPicPr>
        <p:blipFill>
          <a:blip r:embed="rId2"/>
          <a:srcRect l="16063" t="2277" r="12284" b="14800"/>
          <a:stretch/>
        </p:blipFill>
        <p:spPr>
          <a:xfrm>
            <a:off x="914400" y="2133720"/>
            <a:ext cx="2951280" cy="2877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876920" y="2209680"/>
            <a:ext cx="410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: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is ten twenty-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52280" y="152280"/>
            <a:ext cx="2819520" cy="80640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ading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195640" y="1363680"/>
            <a:ext cx="490536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836720" y="3524400"/>
            <a:ext cx="5846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完成当堂测评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图片1"/>
          <p:cNvPicPr/>
          <p:nvPr/>
        </p:nvPicPr>
        <p:blipFill>
          <a:blip r:embed="rId1"/>
          <a:stretch/>
        </p:blipFill>
        <p:spPr>
          <a:xfrm>
            <a:off x="0" y="502920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7485157_073341707000_2副本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416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图形1"/>
          <p:cNvPicPr/>
          <p:nvPr/>
        </p:nvPicPr>
        <p:blipFill>
          <a:blip r:embed="rId3"/>
          <a:stretch/>
        </p:blipFill>
        <p:spPr>
          <a:xfrm>
            <a:off x="380880" y="380880"/>
            <a:ext cx="7696440" cy="64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图21"/>
          <p:cNvPicPr/>
          <p:nvPr/>
        </p:nvPicPr>
        <p:blipFill>
          <a:blip r:embed="rId4"/>
          <a:stretch/>
        </p:blipFill>
        <p:spPr>
          <a:xfrm>
            <a:off x="380880" y="3276720"/>
            <a:ext cx="2210040" cy="520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1066680" y="464724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任何倏忽的灵感事实上不能代替长期的功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 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罗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828800" y="6094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ime is i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2X5I504250-32492"/>
          <p:cNvPicPr/>
          <p:nvPr/>
        </p:nvPicPr>
        <p:blipFill>
          <a:blip r:embed="rId1"/>
          <a:srcRect l="13841" t="2072" r="13841" b="0"/>
          <a:stretch/>
        </p:blipFill>
        <p:spPr>
          <a:xfrm>
            <a:off x="914400" y="1371600"/>
            <a:ext cx="2728800" cy="246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medium_24571dd129e96b9520f5705e6c9e0281"/>
          <p:cNvPicPr/>
          <p:nvPr/>
        </p:nvPicPr>
        <p:blipFill>
          <a:blip r:embed="rId2"/>
          <a:srcRect l="0" t="5400" r="0" b="8999"/>
          <a:stretch/>
        </p:blipFill>
        <p:spPr>
          <a:xfrm>
            <a:off x="990720" y="4343400"/>
            <a:ext cx="2655720" cy="2220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191120" y="1828800"/>
            <a:ext cx="3311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is eight (o’cloc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24360" y="4797360"/>
            <a:ext cx="35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: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is nine o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457200" y="914400"/>
            <a:ext cx="8424720" cy="8618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What time is it ?To say it in English.Have a 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2230200" cy="215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609480" y="48769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t is seven fift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257800" y="4800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t is nine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447920" y="762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tch the activities with the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{6VJ[}ZCLH8)@D)}(N(XZDE"/>
          <p:cNvPicPr/>
          <p:nvPr/>
        </p:nvPicPr>
        <p:blipFill>
          <a:blip r:embed="rId1"/>
          <a:stretch/>
        </p:blipFill>
        <p:spPr>
          <a:xfrm>
            <a:off x="4191120" y="1523880"/>
            <a:ext cx="4376520" cy="488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468360" y="1628640"/>
            <a:ext cx="3600360" cy="3684960"/>
            <a:chOff x="468360" y="1628640"/>
            <a:chExt cx="3600360" cy="3684960"/>
          </a:xfrm>
        </p:grpSpPr>
        <p:sp>
          <p:nvSpPr>
            <p:cNvPr id="59" name="Text Box 6"/>
            <p:cNvSpPr/>
            <p:nvPr/>
          </p:nvSpPr>
          <p:spPr>
            <a:xfrm>
              <a:off x="468360" y="1628640"/>
              <a:ext cx="3527280" cy="36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.Get u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.Go to scho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.Get dress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.Brush tee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.Eat breakf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.Take a show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2123640" y="21333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03280" y="2707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2987280" y="335772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2987280" y="393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3203280" y="4581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3348000" y="5229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3"/>
          <p:cNvSpPr/>
          <p:nvPr/>
        </p:nvSpPr>
        <p:spPr>
          <a:xfrm>
            <a:off x="2268360" y="162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276720" y="220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203640" y="2852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203640" y="3429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3348000" y="407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34800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9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wv1wddif"/>
          <p:cNvPicPr/>
          <p:nvPr/>
        </p:nvPicPr>
        <p:blipFill>
          <a:blip r:embed="rId1"/>
          <a:srcRect l="26316" t="12655" r="31579" b="8437"/>
          <a:stretch/>
        </p:blipFill>
        <p:spPr>
          <a:xfrm>
            <a:off x="179280" y="2730600"/>
            <a:ext cx="2006640" cy="3421080"/>
          </a:xfrm>
          <a:prstGeom prst="rect">
            <a:avLst/>
          </a:prstGeom>
          <a:ln w="0">
            <a:noFill/>
          </a:ln>
        </p:spPr>
      </p:pic>
      <p:sp>
        <p:nvSpPr>
          <p:cNvPr id="74" name="Oval 3"/>
          <p:cNvSpPr/>
          <p:nvPr/>
        </p:nvSpPr>
        <p:spPr>
          <a:xfrm>
            <a:off x="2268360" y="3666960"/>
            <a:ext cx="17272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 flipV="1">
            <a:off x="2843280" y="2946960"/>
            <a:ext cx="3168720" cy="576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771640" y="1219320"/>
            <a:ext cx="5904000" cy="15825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do you get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do you brush tee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286000" y="4530600"/>
            <a:ext cx="64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按照上述问题模式，对你的同学做一个问卷调查，并制成表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4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85800" y="1676520"/>
            <a:ext cx="8077320" cy="16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sten aned match the times with the actio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raw lines from the clocks to the pictur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图8"/>
          <p:cNvPicPr/>
          <p:nvPr/>
        </p:nvPicPr>
        <p:blipFill>
          <a:blip r:embed="rId1"/>
          <a:stretch/>
        </p:blipFill>
        <p:spPr>
          <a:xfrm>
            <a:off x="6523200" y="3917880"/>
            <a:ext cx="2620800" cy="2940120"/>
          </a:xfrm>
          <a:prstGeom prst="rect">
            <a:avLst/>
          </a:prstGeom>
          <a:ln w="0">
            <a:noFill/>
          </a:ln>
        </p:spPr>
      </p:pic>
      <p:pic>
        <p:nvPicPr>
          <p:cNvPr id="81" name="01 Unit 2 Section A Activity 1B.mp3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5958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{6VJ[}ZCLH8)@D)}(N(XZDE"/>
          <p:cNvPicPr/>
          <p:nvPr/>
        </p:nvPicPr>
        <p:blipFill>
          <a:blip r:embed="rId1"/>
          <a:stretch/>
        </p:blipFill>
        <p:spPr>
          <a:xfrm>
            <a:off x="1547640" y="990720"/>
            <a:ext cx="5616720" cy="5184720"/>
          </a:xfrm>
          <a:prstGeom prst="rect">
            <a:avLst/>
          </a:prstGeom>
          <a:ln w="0">
            <a:noFill/>
          </a:ln>
        </p:spPr>
      </p:pic>
      <p:sp>
        <p:nvSpPr>
          <p:cNvPr id="83" name="Line 3"/>
          <p:cNvSpPr/>
          <p:nvPr/>
        </p:nvSpPr>
        <p:spPr>
          <a:xfrm>
            <a:off x="5148360" y="1927080"/>
            <a:ext cx="1439640" cy="230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 flipH="1" flipV="1">
            <a:off x="2411280" y="2646000"/>
            <a:ext cx="1656000" cy="11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2268000" y="3438360"/>
            <a:ext cx="57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5651640" y="4159080"/>
            <a:ext cx="7207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203640" y="3235320"/>
            <a:ext cx="2054160" cy="207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635280" y="2719440"/>
            <a:ext cx="2376720" cy="27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01 Unit 2 Section A Activity 1B.mp3" descr=""/>
          <p:cNvPicPr/>
          <p:nvPr/>
        </p:nvPicPr>
        <p:blipFill>
          <a:blip r:embed="rId2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5958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11280" y="206064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t011d3a37bdee03ef0e"/>
          <p:cNvPicPr/>
          <p:nvPr/>
        </p:nvPicPr>
        <p:blipFill>
          <a:blip r:embed="rId1"/>
          <a:stretch/>
        </p:blipFill>
        <p:spPr>
          <a:xfrm>
            <a:off x="380880" y="3276720"/>
            <a:ext cx="3456000" cy="2952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4267080" y="2819520"/>
            <a:ext cx="4391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what time do you    usuall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et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? 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I usuall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et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t six thi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523880" y="914400"/>
            <a:ext cx="693432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udents A is the interviewer.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ck.Ask and answer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o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ck’s day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8-10T08:46:04Z</dcterms:modified>
  <cp:revision>12</cp:revision>
  <dc:subject/>
  <dc:title>PowerPoint Presentation</dc:title>
</cp:coreProperties>
</file>