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png" ContentType="image/png"/>
  <Override PartName="/ppt/media/image10.png" ContentType="image/png"/>
  <Override PartName="/ppt/media/image6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5"/>
          <p:cNvSpPr/>
          <p:nvPr/>
        </p:nvSpPr>
        <p:spPr>
          <a:xfrm>
            <a:off x="0" y="2362320"/>
            <a:ext cx="9144000" cy="152388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Box 3"/>
          <p:cNvSpPr/>
          <p:nvPr/>
        </p:nvSpPr>
        <p:spPr>
          <a:xfrm>
            <a:off x="228600" y="2482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Unit 2  What time do you go to schoo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Line 17"/>
          <p:cNvSpPr/>
          <p:nvPr/>
        </p:nvSpPr>
        <p:spPr>
          <a:xfrm>
            <a:off x="685800" y="312408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2438280" y="3733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Section A 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课时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(2a-3c)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609480" y="990720"/>
            <a:ext cx="830592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ike English very much. I will always work hard at it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非常喜欢英语，我要永远努力学习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意思为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常常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经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不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频繁，表示动作重复，中间有间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is often late for school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经常上学迟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意思是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从不，决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 ，通常位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般现在时中，常置于连系动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be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助动词、情态动词之后，实义动词之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never drink wi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我从不喝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04880" y="990720"/>
            <a:ext cx="782964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介词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rom…to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……到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have lun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fro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12 o’clock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lve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吃午餐时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nigh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he morning 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fternoon /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1620720" y="189000"/>
            <a:ext cx="4753080" cy="936360"/>
          </a:xfrm>
          <a:prstGeom prst="wedgeEllipseCallout">
            <a:avLst>
              <a:gd name="adj1" fmla="val 11754"/>
              <a:gd name="adj2" fmla="val 35083"/>
            </a:avLst>
          </a:prstGeom>
          <a:solidFill>
            <a:srgbClr val="66ffff"/>
          </a:solidFill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Gramme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1413000"/>
          <a:ext cx="8229600" cy="516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880"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ime do you usually get up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usually get up at six thirt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880"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ime do they  get dress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always get dressed at seven twe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880"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ime does Rick eat breakfas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 eats breakfast at seven o’clo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4480"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does Scott go to wor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 always goes to workat eleven o’clock.He’snever la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880"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do your friends exercis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usually exercise on weeken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990720" y="914400"/>
            <a:ext cx="752472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rite answers or questions.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suall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eve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2641680"/>
            <a:ext cx="86104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hat time do you get up on school da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__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k always gets up at 6:2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00000" y="3649680"/>
            <a:ext cx="66294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I usually get up at seven o’clock.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28720" y="4513320"/>
            <a:ext cx="7391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hat time does Rick gets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838080"/>
            <a:ext cx="86104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at time do you have breakf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___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a never eats breakfas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at time does your best friend go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55640" y="1557360"/>
            <a:ext cx="80773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usually have breakfast at eight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28720" y="2278080"/>
            <a:ext cx="7467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time does Anna eat 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55640" y="5157720"/>
            <a:ext cx="7162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usually go to school at six fo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4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04920" y="1905120"/>
            <a:ext cx="8458200" cy="20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rite about something you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omething you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usuall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do and someth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you never do.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图片9"/>
          <p:cNvPicPr/>
          <p:nvPr/>
        </p:nvPicPr>
        <p:blipFill>
          <a:blip r:embed="rId1"/>
          <a:srcRect l="0" t="5491" r="0" b="0"/>
          <a:stretch/>
        </p:blipFill>
        <p:spPr>
          <a:xfrm>
            <a:off x="0" y="5137200"/>
            <a:ext cx="91440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380880" y="1305000"/>
            <a:ext cx="828036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1873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I always go to school at seven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00000" y="3024360"/>
            <a:ext cx="77724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I usually play the guitar at 6:00 after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00000" y="47530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I never watch TV on school days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304920" y="1828800"/>
            <a:ext cx="8534160" cy="281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rview three of your class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ind out what time they do these activ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Give a report to the clas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79280" y="1219320"/>
          <a:ext cx="8785440" cy="4476600"/>
        </p:xfrm>
        <a:graphic>
          <a:graphicData uri="http://schemas.openxmlformats.org/drawingml/2006/table">
            <a:tbl>
              <a:tblPr/>
              <a:tblGrid>
                <a:gridCol w="2305080"/>
                <a:gridCol w="2232000"/>
                <a:gridCol w="2232000"/>
                <a:gridCol w="2016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Student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Student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Student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et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xerc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at din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: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ake a sh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o to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762120" y="1066680"/>
            <a:ext cx="77785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i, Jenny. What time d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on weeken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get up 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seven o’clo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hat time do you exerci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exercise a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eigh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t011980828ac852492e"/>
          <p:cNvPicPr/>
          <p:nvPr/>
        </p:nvPicPr>
        <p:blipFill>
          <a:blip r:embed="rId1"/>
          <a:srcRect l="49607" t="0" r="0" b="0"/>
          <a:stretch/>
        </p:blipFill>
        <p:spPr>
          <a:xfrm>
            <a:off x="838080" y="3657600"/>
            <a:ext cx="2468520" cy="2646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1359987769890cls325_b"/>
          <p:cNvPicPr/>
          <p:nvPr/>
        </p:nvPicPr>
        <p:blipFill>
          <a:blip r:embed="rId2"/>
          <a:stretch/>
        </p:blipFill>
        <p:spPr>
          <a:xfrm>
            <a:off x="533520" y="838080"/>
            <a:ext cx="3025800" cy="2792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4246560" y="914400"/>
            <a:ext cx="4897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what time do you    usually get u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I usually get up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t six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what time do you    usually brush teeth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I usually brush  teeth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t six fo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52280" y="184320"/>
            <a:ext cx="2590920" cy="57780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ading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38080" y="1066680"/>
            <a:ext cx="74692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at time do yo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eat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nn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eat dinner 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six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r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at time do yo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take a show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take a shower 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nin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at time do yo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go to schoo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2819520" y="228600"/>
            <a:ext cx="2913120" cy="920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结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61800" y="1457280"/>
            <a:ext cx="824256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总是起得很早，所以他们上学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没有迟到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_______ _______ _______ ear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y _______ _______ late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通常晚饭后看电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________ ________ T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fter sup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97080" y="27097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ways       get        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844720" y="32860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      n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92360" y="50864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sually    wa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268360" y="1844640"/>
            <a:ext cx="490572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81080" y="3581280"/>
            <a:ext cx="5846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完成当堂测评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图片1"/>
          <p:cNvPicPr/>
          <p:nvPr/>
        </p:nvPicPr>
        <p:blipFill>
          <a:blip r:embed="rId1"/>
          <a:stretch/>
        </p:blipFill>
        <p:spPr>
          <a:xfrm>
            <a:off x="0" y="502920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485157_073341707000_2副本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416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图形1"/>
          <p:cNvPicPr/>
          <p:nvPr/>
        </p:nvPicPr>
        <p:blipFill>
          <a:blip r:embed="rId3"/>
          <a:stretch/>
        </p:blipFill>
        <p:spPr>
          <a:xfrm>
            <a:off x="380880" y="380880"/>
            <a:ext cx="7696440" cy="6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图21"/>
          <p:cNvPicPr/>
          <p:nvPr/>
        </p:nvPicPr>
        <p:blipFill>
          <a:blip r:embed="rId4"/>
          <a:stretch/>
        </p:blipFill>
        <p:spPr>
          <a:xfrm>
            <a:off x="380880" y="3276720"/>
            <a:ext cx="2210040" cy="520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1219320" y="45709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发明是百分之一的聪明加百分之九十九的勤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爱迪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0171f0cdf14699506a"/>
          <p:cNvPicPr/>
          <p:nvPr/>
        </p:nvPicPr>
        <p:blipFill>
          <a:blip r:embed="rId1"/>
          <a:stretch/>
        </p:blipFill>
        <p:spPr>
          <a:xfrm>
            <a:off x="250920" y="3573360"/>
            <a:ext cx="298440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t01b88e8fa6cfdb225e"/>
          <p:cNvPicPr/>
          <p:nvPr/>
        </p:nvPicPr>
        <p:blipFill>
          <a:blip r:embed="rId2"/>
          <a:stretch/>
        </p:blipFill>
        <p:spPr>
          <a:xfrm>
            <a:off x="4500720" y="3645000"/>
            <a:ext cx="3951000" cy="298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24000" y="476280"/>
            <a:ext cx="828180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W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o you usually  eat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I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at breakfa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even o’clo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What time do you usually  get dre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I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t dress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even twent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320946_114642006317_2"/>
          <p:cNvPicPr/>
          <p:nvPr/>
        </p:nvPicPr>
        <p:blipFill>
          <a:blip r:embed="rId1"/>
          <a:srcRect l="0" t="0" r="0" b="5624"/>
          <a:stretch/>
        </p:blipFill>
        <p:spPr>
          <a:xfrm>
            <a:off x="304920" y="1143000"/>
            <a:ext cx="4519440" cy="4319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5334120" y="1676520"/>
            <a:ext cx="34560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What time do you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sual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go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I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o to school at seven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828720" y="1157400"/>
            <a:ext cx="7477200" cy="1438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isten to the conversation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 sentences.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3098880"/>
            <a:ext cx="784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m has ____ brothers and ____ sis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m’s family has ________ sh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629080" y="324324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229440" y="324324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356000" y="461160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ly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2 Unit 2 Section A Activity 2A.mp3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图片16"/>
          <p:cNvPicPr/>
          <p:nvPr/>
        </p:nvPicPr>
        <p:blipFill>
          <a:blip r:embed="rId2"/>
          <a:stretch/>
        </p:blipFill>
        <p:spPr>
          <a:xfrm>
            <a:off x="8107200" y="5272200"/>
            <a:ext cx="10368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5007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3182760"/>
          <a:ext cx="8218440" cy="2303640"/>
        </p:xfrm>
        <a:graphic>
          <a:graphicData uri="http://schemas.openxmlformats.org/drawingml/2006/table">
            <a:tbl>
              <a:tblPr/>
              <a:tblGrid>
                <a:gridCol w="1369800"/>
                <a:gridCol w="1370160"/>
                <a:gridCol w="1370160"/>
                <a:gridCol w="1368360"/>
                <a:gridCol w="1369800"/>
                <a:gridCol w="1370160"/>
              </a:tblGrid>
              <a:tr h="1105200"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8440"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25"/>
          <p:cNvSpPr/>
          <p:nvPr/>
        </p:nvSpPr>
        <p:spPr>
          <a:xfrm>
            <a:off x="3419640" y="4622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: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4788000" y="4622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6227640" y="46227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7451640" y="46227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9"/>
          <p:cNvSpPr/>
          <p:nvPr/>
        </p:nvSpPr>
        <p:spPr>
          <a:xfrm>
            <a:off x="838080" y="1143000"/>
            <a:ext cx="7377120" cy="165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gain. Complete the sh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hedule for Jim’s family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1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3 Unit 2 Section A Activity 2B.mp3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5091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600200" y="685800"/>
            <a:ext cx="55339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w talk about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u=2417153747,3223574158&amp;fm=23&amp;gp=0"/>
          <p:cNvPicPr/>
          <p:nvPr/>
        </p:nvPicPr>
        <p:blipFill>
          <a:blip r:embed="rId1"/>
          <a:srcRect l="0" t="14475" r="0" b="14349"/>
          <a:stretch/>
        </p:blipFill>
        <p:spPr>
          <a:xfrm>
            <a:off x="3348000" y="3422520"/>
            <a:ext cx="4826160" cy="34354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5"/>
          <p:cNvSpPr/>
          <p:nvPr/>
        </p:nvSpPr>
        <p:spPr>
          <a:xfrm>
            <a:off x="4788000" y="1844640"/>
            <a:ext cx="4105080" cy="1441440"/>
          </a:xfrm>
          <a:prstGeom prst="wedgeEllipseCallout">
            <a:avLst>
              <a:gd name="adj1" fmla="val -13342"/>
              <a:gd name="adj2" fmla="val 91300"/>
            </a:avLst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always get up at five fif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79280" y="3716280"/>
            <a:ext cx="3456000" cy="2017800"/>
          </a:xfrm>
          <a:prstGeom prst="wedgeEllipseCallout">
            <a:avLst>
              <a:gd name="adj1" fmla="val 58587"/>
              <a:gd name="adj2" fmla="val -37254"/>
            </a:avLst>
          </a:prstGeom>
          <a:solidFill>
            <a:srgbClr val="99ff99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w! I  never get up so 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68360" y="2060640"/>
            <a:ext cx="3600360" cy="1152360"/>
          </a:xfrm>
          <a:prstGeom prst="wedgeRoundRectCallout">
            <a:avLst>
              <a:gd name="adj1" fmla="val 45282"/>
              <a:gd name="adj2" fmla="val 80578"/>
              <a:gd name="adj3" fmla="val 16667"/>
            </a:avLst>
          </a:prstGeom>
          <a:solidFill>
            <a:srgbClr val="ffcc99"/>
          </a:solidFill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ime do you usually get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7920" y="838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ole-play the convers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42920" y="1773360"/>
            <a:ext cx="6842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读对话，回答下列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ime does Scott usually get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Scott exercise at 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never late for 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译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3068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usually get up at eight thirty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58920" y="4292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, he exercise at about ten twent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447920" y="55627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上班从不迟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04 Unit 2 Section A Activity 2D.mp3" descr=""/>
          <p:cNvPicPr/>
          <p:nvPr/>
        </p:nvPicPr>
        <p:blipFill>
          <a:blip r:embed="rId1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图片4"/>
          <p:cNvPicPr/>
          <p:nvPr/>
        </p:nvPicPr>
        <p:blipFill>
          <a:blip r:embed="rId2"/>
          <a:stretch/>
        </p:blipFill>
        <p:spPr>
          <a:xfrm>
            <a:off x="7599240" y="5327640"/>
            <a:ext cx="1544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47152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457200" y="22860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3520" y="1676520"/>
            <a:ext cx="806436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频率副词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译为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通常”、“平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可以指通常的动作，但是侧重已经形成的习惯，它是从已经形成的角度来说明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He usually goes to bed at ten 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ck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平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钟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思是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总是”、“永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进行时态连用，用于完成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“一向”、“始终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8-10T08:46:22Z</dcterms:modified>
  <cp:revision>10</cp:revision>
  <dc:subject/>
  <dc:title>PowerPoint Presentation</dc:title>
</cp:coreProperties>
</file>