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23.wmf" ContentType="image/x-wmf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26.png" ContentType="image/png"/>
  <Override PartName="/ppt/media/image25.png" ContentType="image/png"/>
  <Override PartName="/ppt/media/image22.wmf" ContentType="image/x-wmf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1.gif" ContentType="image/gif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5"/>
          <p:cNvSpPr/>
          <p:nvPr/>
        </p:nvSpPr>
        <p:spPr>
          <a:xfrm>
            <a:off x="0" y="2362320"/>
            <a:ext cx="9144000" cy="1523880"/>
          </a:xfrm>
          <a:prstGeom prst="rect">
            <a:avLst/>
          </a:prstGeom>
          <a:solidFill>
            <a:srgbClr val="ffffff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Box 3"/>
          <p:cNvSpPr/>
          <p:nvPr/>
        </p:nvSpPr>
        <p:spPr>
          <a:xfrm>
            <a:off x="76320" y="24829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Unit 2  What time do you go to school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Line 17"/>
          <p:cNvSpPr/>
          <p:nvPr/>
        </p:nvSpPr>
        <p:spPr>
          <a:xfrm>
            <a:off x="228600" y="3124080"/>
            <a:ext cx="8763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2438280" y="373392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黑体"/>
              </a:rPr>
              <a:t>Section B 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第</a:t>
            </a: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课时</a:t>
            </a: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黑体"/>
              </a:rPr>
              <a:t>(1a-1e)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6"/>
          <p:cNvSpPr/>
          <p:nvPr/>
        </p:nvSpPr>
        <p:spPr>
          <a:xfrm>
            <a:off x="250920" y="2655720"/>
            <a:ext cx="8497800" cy="326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8080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get up    5:30   6. do my homework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8080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run                      7. clean my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8080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eat breakfast                8. eat di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8080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go to school                  9. take a wal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8080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go home                 10. go to 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"/>
          <p:cNvSpPr/>
          <p:nvPr/>
        </p:nvSpPr>
        <p:spPr>
          <a:xfrm>
            <a:off x="684360" y="2871720"/>
            <a:ext cx="1368360" cy="504720"/>
          </a:xfrm>
          <a:prstGeom prst="ellipse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2340000" y="330372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6877080" y="32320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877080" y="27288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:30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763640" y="35211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:00 a.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1979640" y="40244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6732720" y="39528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2987640" y="40244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:00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3132000" y="452916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6877080" y="4600440"/>
            <a:ext cx="158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6877080" y="40957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:15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2916360" y="51768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2124000" y="52484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:15 p.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6"/>
          <p:cNvSpPr/>
          <p:nvPr/>
        </p:nvSpPr>
        <p:spPr>
          <a:xfrm>
            <a:off x="7164360" y="51768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2771640" y="46720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:45 a.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2268360" y="575316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6156360" y="52484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: 00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6227640" y="5753160"/>
            <a:ext cx="151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>
            <a:off x="457200" y="1066680"/>
            <a:ext cx="8424720" cy="1154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sten again. Write the time next to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ctivities you circled in 1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3"/>
          <p:cNvSpPr/>
          <p:nvPr/>
        </p:nvSpPr>
        <p:spPr>
          <a:xfrm>
            <a:off x="228600" y="152280"/>
            <a:ext cx="1066680" cy="76212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06 Unit 2 Section B Activity 1D.mp3" descr=""/>
          <p:cNvPicPr/>
          <p:nvPr/>
        </p:nvPicPr>
        <p:blipFill>
          <a:blip r:embed="rId1"/>
          <a:stretch/>
        </p:blipFill>
        <p:spPr>
          <a:xfrm>
            <a:off x="380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47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65568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457200" y="838080"/>
            <a:ext cx="8209080" cy="847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sk and answer questions about To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108000" y="1701720"/>
            <a:ext cx="5400360" cy="4851000"/>
            <a:chOff x="108000" y="1701720"/>
            <a:chExt cx="5400360" cy="4851000"/>
          </a:xfrm>
        </p:grpSpPr>
        <p:pic>
          <p:nvPicPr>
            <p:cNvPr id="133" name="Picture 9" descr="http://t3.baidu.com/it/u=3598328032,691448860&amp;fm=23&amp;gp=0.jpg"/>
            <p:cNvPicPr/>
            <p:nvPr/>
          </p:nvPicPr>
          <p:blipFill>
            <a:blip r:embed="rId1"/>
            <a:srcRect l="0" t="0" r="51077" b="3814"/>
            <a:stretch/>
          </p:blipFill>
          <p:spPr>
            <a:xfrm>
              <a:off x="108000" y="2448000"/>
              <a:ext cx="1944000" cy="41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5"/>
            <p:cNvSpPr/>
            <p:nvPr/>
          </p:nvSpPr>
          <p:spPr>
            <a:xfrm>
              <a:off x="1836000" y="1701720"/>
              <a:ext cx="3672360" cy="1512000"/>
            </a:xfrm>
            <a:prstGeom prst="wedgeRoundRectCallout">
              <a:avLst>
                <a:gd name="adj1" fmla="val -49773"/>
                <a:gd name="adj2" fmla="val 72546"/>
                <a:gd name="adj3" fmla="val 16667"/>
              </a:avLst>
            </a:prstGeom>
            <a:solidFill>
              <a:srgbClr val="ffff99"/>
            </a:solidFill>
            <a:ln w="63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When does To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usually get up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6"/>
          <p:cNvGrpSpPr/>
          <p:nvPr/>
        </p:nvGrpSpPr>
        <p:grpSpPr>
          <a:xfrm>
            <a:off x="3132000" y="2317680"/>
            <a:ext cx="5923080" cy="4203720"/>
            <a:chOff x="3132000" y="2317680"/>
            <a:chExt cx="5923080" cy="4203720"/>
          </a:xfrm>
        </p:grpSpPr>
        <p:pic>
          <p:nvPicPr>
            <p:cNvPr id="136" name="Picture 9" descr="http://t3.baidu.com/it/u=3598328032,691448860&amp;fm=23&amp;gp=0.jpg"/>
            <p:cNvPicPr/>
            <p:nvPr/>
          </p:nvPicPr>
          <p:blipFill>
            <a:blip r:embed="rId2"/>
            <a:srcRect l="49393" t="0" r="0" b="2594"/>
            <a:stretch/>
          </p:blipFill>
          <p:spPr>
            <a:xfrm>
              <a:off x="7021440" y="2317680"/>
              <a:ext cx="2033640" cy="42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>
              <a:off x="3132000" y="3645720"/>
              <a:ext cx="3744360" cy="1800000"/>
            </a:xfrm>
            <a:prstGeom prst="wedgeRoundRectCallout">
              <a:avLst>
                <a:gd name="adj1" fmla="val 67111"/>
                <a:gd name="adj2" fmla="val -50000"/>
                <a:gd name="adj3" fmla="val 16667"/>
              </a:avLst>
            </a:prstGeom>
            <a:solidFill>
              <a:srgbClr val="ccffcc"/>
            </a:solidFill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80808"/>
                  </a:solidFill>
                  <a:latin typeface="Times New Roman"/>
                </a:rPr>
                <a:t>He usually gets u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80808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80808"/>
                  </a:solidFill>
                  <a:latin typeface="Times New Roman"/>
                </a:rPr>
                <a:t>at half past five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Oval 9"/>
          <p:cNvSpPr/>
          <p:nvPr/>
        </p:nvSpPr>
        <p:spPr>
          <a:xfrm>
            <a:off x="228600" y="152280"/>
            <a:ext cx="1066680" cy="76212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3"/>
          <p:cNvGrpSpPr/>
          <p:nvPr/>
        </p:nvGrpSpPr>
        <p:grpSpPr>
          <a:xfrm>
            <a:off x="324000" y="1628640"/>
            <a:ext cx="5038560" cy="4905360"/>
            <a:chOff x="324000" y="1628640"/>
            <a:chExt cx="5038560" cy="4905360"/>
          </a:xfrm>
        </p:grpSpPr>
        <p:pic>
          <p:nvPicPr>
            <p:cNvPr id="140" name="Picture 9" descr="http://t3.baidu.com/it/u=3598328032,691448860&amp;fm=23&amp;gp=0.jpg"/>
            <p:cNvPicPr/>
            <p:nvPr/>
          </p:nvPicPr>
          <p:blipFill>
            <a:blip r:embed="rId1"/>
            <a:srcRect l="0" t="0" r="48316" b="2920"/>
            <a:stretch/>
          </p:blipFill>
          <p:spPr>
            <a:xfrm>
              <a:off x="324000" y="2853720"/>
              <a:ext cx="1823040" cy="368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AutoShape 5"/>
            <p:cNvSpPr/>
            <p:nvPr/>
          </p:nvSpPr>
          <p:spPr>
            <a:xfrm>
              <a:off x="1763640" y="1628640"/>
              <a:ext cx="3598920" cy="18723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763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What time does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om usually …?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6"/>
          <p:cNvGrpSpPr/>
          <p:nvPr/>
        </p:nvGrpSpPr>
        <p:grpSpPr>
          <a:xfrm>
            <a:off x="3637080" y="2925720"/>
            <a:ext cx="5148000" cy="3660840"/>
            <a:chOff x="3637080" y="2925720"/>
            <a:chExt cx="5148000" cy="3660840"/>
          </a:xfrm>
        </p:grpSpPr>
        <p:pic>
          <p:nvPicPr>
            <p:cNvPr id="143" name="Picture 9" descr="http://t3.baidu.com/it/u=3598328032,691448860&amp;fm=23&amp;gp=0.jpg"/>
            <p:cNvPicPr/>
            <p:nvPr/>
          </p:nvPicPr>
          <p:blipFill>
            <a:blip r:embed="rId2"/>
            <a:srcRect l="52017" t="0" r="0" b="3419"/>
            <a:stretch/>
          </p:blipFill>
          <p:spPr>
            <a:xfrm>
              <a:off x="7092720" y="2925720"/>
              <a:ext cx="1692360" cy="366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AutoShape 8"/>
            <p:cNvSpPr/>
            <p:nvPr/>
          </p:nvSpPr>
          <p:spPr>
            <a:xfrm>
              <a:off x="3637080" y="4653720"/>
              <a:ext cx="3528000" cy="1296000"/>
            </a:xfrm>
            <a:prstGeom prst="wedgeEllipseCallout">
              <a:avLst>
                <a:gd name="adj1" fmla="val 50699"/>
                <a:gd name="adj2" fmla="val -97833"/>
              </a:avLst>
            </a:prstGeom>
            <a:solidFill>
              <a:srgbClr val="ffffff"/>
            </a:solidFill>
            <a:ln w="76320">
              <a:solidFill>
                <a:srgbClr val="ff339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He usually.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t01b844c12f748b3da8"/>
          <p:cNvPicPr/>
          <p:nvPr/>
        </p:nvPicPr>
        <p:blipFill>
          <a:blip r:embed="rId1"/>
          <a:stretch/>
        </p:blipFill>
        <p:spPr>
          <a:xfrm>
            <a:off x="395280" y="2852640"/>
            <a:ext cx="2084400" cy="3456000"/>
          </a:xfrm>
          <a:prstGeom prst="rect">
            <a:avLst/>
          </a:prstGeom>
          <a:ln w="0">
            <a:noFill/>
          </a:ln>
        </p:spPr>
      </p:pic>
      <p:sp>
        <p:nvSpPr>
          <p:cNvPr id="146" name="Oval 3"/>
          <p:cNvSpPr/>
          <p:nvPr/>
        </p:nvSpPr>
        <p:spPr>
          <a:xfrm>
            <a:off x="2771640" y="4365720"/>
            <a:ext cx="1584360" cy="36036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3348000" y="3284640"/>
            <a:ext cx="2808360" cy="57456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2124000" y="404640"/>
            <a:ext cx="6480360" cy="2737080"/>
          </a:xfrm>
          <a:prstGeom prst="ellipse">
            <a:avLst/>
          </a:prstGeom>
          <a:solidFill>
            <a:srgbClr val="ffff9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7160" bIns="4716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会用”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what time / usuall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询问别人的日常活动，你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说出哪些句子？试试看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1371600"/>
            <a:ext cx="8153640" cy="53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.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时间表达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整点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表达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数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o’clock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（ 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o’clock 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可省）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如：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t‘s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n o’clock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.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现在是十点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非整点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表达分为以下两种情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分钟数不超过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分钟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分钟数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304920" y="0"/>
            <a:ext cx="4660920" cy="11113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698400" y="990720"/>
            <a:ext cx="8064720" cy="468108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分钟数超过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分钟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分钟数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to+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下一个钟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注：在这种表达法中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三十分钟可用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alf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来代替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十五分钟可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arter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代替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如：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1:05     five past elve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0:55    five to el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3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09480" y="1066680"/>
            <a:ext cx="8136000" cy="48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时间表达法—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分时表达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表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几点过几分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，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分钟后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t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，再加小时，即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分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past+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小时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”，这时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分钟数不能超过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分钟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如：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five past seven 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七点过五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   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half past six 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六点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图片4"/>
          <p:cNvPicPr/>
          <p:nvPr/>
        </p:nvPicPr>
        <p:blipFill>
          <a:blip r:embed="rId1"/>
          <a:stretch/>
        </p:blipFill>
        <p:spPr>
          <a:xfrm>
            <a:off x="7458120" y="5187960"/>
            <a:ext cx="1685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609480" y="1219320"/>
            <a:ext cx="8137800" cy="37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2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表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几点差几分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，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分钟后面加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再加小时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，即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分钟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to+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小时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”，这时的分钟数限定在</a:t>
            </a: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9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分钟以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如：</a:t>
            </a: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ten to eight 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七点五十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 quarter to twelve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十一点四十五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u=2182722899,2041596049&amp;fm=21&amp;gp=0"/>
          <p:cNvPicPr/>
          <p:nvPr/>
        </p:nvPicPr>
        <p:blipFill>
          <a:blip r:embed="rId1"/>
          <a:stretch/>
        </p:blipFill>
        <p:spPr>
          <a:xfrm>
            <a:off x="0" y="57913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304920" y="1612800"/>
            <a:ext cx="868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词成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tim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doe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l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volleyba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lay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an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igh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schoo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: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762120" y="244332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at time is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457200" y="32209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at time does she usually get up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628560" y="41054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at time does he play volleybal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33520" y="49579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e plays the piano at eight a.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55480" y="57816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often go to school at 6: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3124080" y="304920"/>
            <a:ext cx="2913120" cy="920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76320">
            <a:solidFill>
              <a:srgbClr val="ff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小结训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971640" y="1066680"/>
            <a:ext cx="7489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二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用分时表达法写出下列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080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6: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080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10: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080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7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080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11: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080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9:45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080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8:0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"/>
          <p:cNvSpPr/>
          <p:nvPr/>
        </p:nvSpPr>
        <p:spPr>
          <a:xfrm>
            <a:off x="2629080" y="2938320"/>
            <a:ext cx="302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2556000" y="3730680"/>
            <a:ext cx="33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2700360" y="4451400"/>
            <a:ext cx="31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2556000" y="5170320"/>
            <a:ext cx="32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2484360" y="589104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2556000" y="229068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556000" y="17859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n past s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2556000" y="2435400"/>
            <a:ext cx="37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quarter past 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556000" y="466740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quarter to 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2771640" y="394668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wo to twe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2629080" y="3227400"/>
            <a:ext cx="36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lf past s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2413080" y="5315040"/>
            <a:ext cx="36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ight o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6" descr="图8"/>
          <p:cNvPicPr/>
          <p:nvPr/>
        </p:nvPicPr>
        <p:blipFill>
          <a:blip r:embed="rId1"/>
          <a:stretch/>
        </p:blipFill>
        <p:spPr>
          <a:xfrm>
            <a:off x="6862680" y="4299120"/>
            <a:ext cx="228132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2"/>
          <p:cNvSpPr/>
          <p:nvPr/>
        </p:nvSpPr>
        <p:spPr>
          <a:xfrm>
            <a:off x="3492360" y="4365720"/>
            <a:ext cx="6767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4" descr="http://www.yooyoo360.com/photo/2009-1-5/20090116102935119.jpg"/>
          <p:cNvPicPr/>
          <p:nvPr/>
        </p:nvPicPr>
        <p:blipFill>
          <a:blip r:embed="rId1"/>
          <a:stretch/>
        </p:blipFill>
        <p:spPr>
          <a:xfrm>
            <a:off x="685800" y="2362320"/>
            <a:ext cx="1936800" cy="2087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6858000" y="2286000"/>
            <a:ext cx="2016000" cy="1893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6858000" y="4932360"/>
            <a:ext cx="2160720" cy="1925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228600" y="4724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quart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twe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2971800" y="289548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 quart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st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809880" y="586728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alf past 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1981080" y="1143000"/>
            <a:ext cx="5113440" cy="100800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Times New Roman"/>
              </a:rPr>
              <a:t>what time is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152280" y="152280"/>
            <a:ext cx="2819520" cy="806400"/>
          </a:xfrm>
          <a:prstGeom prst="flowChartAlternateProcess">
            <a:avLst/>
          </a:prstGeom>
          <a:solidFill>
            <a:srgbClr val="ccff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eading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2197080" y="1952640"/>
            <a:ext cx="490536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楷体_GB2312"/>
              </a:rPr>
              <a:t>Homework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836720" y="3753000"/>
            <a:ext cx="5846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完成当堂测评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图片1"/>
          <p:cNvPicPr/>
          <p:nvPr/>
        </p:nvPicPr>
        <p:blipFill>
          <a:blip r:embed="rId1"/>
          <a:stretch/>
        </p:blipFill>
        <p:spPr>
          <a:xfrm>
            <a:off x="0" y="5029200"/>
            <a:ext cx="1714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7485157_073341707000_2副本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4168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rcRect l="218" t="92229" r="19959" b="4445"/>
          <a:stretch/>
        </p:blipFill>
        <p:spPr>
          <a:xfrm>
            <a:off x="0" y="6627960"/>
            <a:ext cx="7380360" cy="230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图形1"/>
          <p:cNvPicPr/>
          <p:nvPr/>
        </p:nvPicPr>
        <p:blipFill>
          <a:blip r:embed="rId3"/>
          <a:stretch/>
        </p:blipFill>
        <p:spPr>
          <a:xfrm>
            <a:off x="380880" y="380880"/>
            <a:ext cx="7696440" cy="649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图21"/>
          <p:cNvPicPr/>
          <p:nvPr/>
        </p:nvPicPr>
        <p:blipFill>
          <a:blip r:embed="rId4"/>
          <a:stretch/>
        </p:blipFill>
        <p:spPr>
          <a:xfrm>
            <a:off x="380880" y="3276720"/>
            <a:ext cx="2210040" cy="5205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1219320" y="472356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构成我们学习最大障碍的是已知的东西，而不是未知的东西。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黑体"/>
              </a:rPr>
              <a:t>——</a:t>
            </a:r>
            <a:r>
              <a:rPr b="1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贝尔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24000" y="333360"/>
            <a:ext cx="785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 this time,what do you do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468360" y="1557360"/>
            <a:ext cx="8064360" cy="1746360"/>
            <a:chOff x="468360" y="1557360"/>
            <a:chExt cx="8064360" cy="1746360"/>
          </a:xfrm>
        </p:grpSpPr>
        <p:pic>
          <p:nvPicPr>
            <p:cNvPr id="51" name="Picture 4" descr=""/>
            <p:cNvPicPr/>
            <p:nvPr/>
          </p:nvPicPr>
          <p:blipFill>
            <a:blip r:embed="rId1"/>
            <a:stretch/>
          </p:blipFill>
          <p:spPr>
            <a:xfrm>
              <a:off x="468360" y="1557360"/>
              <a:ext cx="1800360" cy="173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9" descr=""/>
            <p:cNvPicPr/>
            <p:nvPr/>
          </p:nvPicPr>
          <p:blipFill>
            <a:blip r:embed="rId2"/>
            <a:stretch/>
          </p:blipFill>
          <p:spPr>
            <a:xfrm>
              <a:off x="3851280" y="1557360"/>
              <a:ext cx="1800360" cy="16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" descr=""/>
            <p:cNvPicPr/>
            <p:nvPr/>
          </p:nvPicPr>
          <p:blipFill>
            <a:blip r:embed="rId3"/>
            <a:stretch/>
          </p:blipFill>
          <p:spPr>
            <a:xfrm>
              <a:off x="6732720" y="1557360"/>
              <a:ext cx="1800000" cy="174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7"/>
          <p:cNvGrpSpPr/>
          <p:nvPr/>
        </p:nvGrpSpPr>
        <p:grpSpPr>
          <a:xfrm>
            <a:off x="395280" y="4149720"/>
            <a:ext cx="8369280" cy="2419200"/>
            <a:chOff x="395280" y="4149720"/>
            <a:chExt cx="8369280" cy="2419200"/>
          </a:xfrm>
        </p:grpSpPr>
        <p:pic>
          <p:nvPicPr>
            <p:cNvPr id="55" name="Picture 8" descr="1359987769890cls325_b"/>
            <p:cNvPicPr/>
            <p:nvPr/>
          </p:nvPicPr>
          <p:blipFill>
            <a:blip r:embed="rId4"/>
            <a:srcRect l="18898" t="5264" r="0" b="0"/>
            <a:stretch/>
          </p:blipFill>
          <p:spPr>
            <a:xfrm>
              <a:off x="6516720" y="4149720"/>
              <a:ext cx="2247840" cy="24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9" descr="774S02`FT(XFEYBA_AY}K]R"/>
            <p:cNvPicPr/>
            <p:nvPr/>
          </p:nvPicPr>
          <p:blipFill>
            <a:blip r:embed="rId5"/>
            <a:stretch/>
          </p:blipFill>
          <p:spPr>
            <a:xfrm>
              <a:off x="395280" y="4149720"/>
              <a:ext cx="2303640" cy="19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2" descr="http://img03.tooopen.com/uploadfile/downs/images/20110808/sy_20110808163822838032.jpg"/>
            <p:cNvPicPr/>
            <p:nvPr/>
          </p:nvPicPr>
          <p:blipFill>
            <a:blip r:embed="rId6"/>
            <a:stretch/>
          </p:blipFill>
          <p:spPr>
            <a:xfrm>
              <a:off x="3492360" y="4365720"/>
              <a:ext cx="2160720" cy="182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Line 11"/>
          <p:cNvSpPr/>
          <p:nvPr/>
        </p:nvSpPr>
        <p:spPr>
          <a:xfrm>
            <a:off x="1979640" y="3068640"/>
            <a:ext cx="511344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1763280" y="3068640"/>
            <a:ext cx="2303640" cy="115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 flipH="1">
            <a:off x="4427640" y="3141720"/>
            <a:ext cx="2520720" cy="1008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4"/>
          <p:cNvSpPr/>
          <p:nvPr/>
        </p:nvSpPr>
        <p:spPr>
          <a:xfrm>
            <a:off x="762120" y="1828800"/>
            <a:ext cx="7924680" cy="2514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e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do students usually do the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ings? Match the activities with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ime of day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304920" y="304920"/>
            <a:ext cx="1066680" cy="76176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图片9"/>
          <p:cNvPicPr/>
          <p:nvPr/>
        </p:nvPicPr>
        <p:blipFill>
          <a:blip r:embed="rId1"/>
          <a:srcRect l="0" t="10956" r="0" b="0"/>
          <a:stretch/>
        </p:blipFill>
        <p:spPr>
          <a:xfrm>
            <a:off x="0" y="5619600"/>
            <a:ext cx="91440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96720" y="1182600"/>
            <a:ext cx="1438560" cy="792360"/>
          </a:xfrm>
          <a:prstGeom prst="rect">
            <a:avLst/>
          </a:prstGeom>
          <a:solidFill>
            <a:srgbClr val="ffcc99"/>
          </a:solidFill>
          <a:ln w="63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95280" y="3773520"/>
            <a:ext cx="1441440" cy="720720"/>
          </a:xfrm>
          <a:prstGeom prst="rect">
            <a:avLst/>
          </a:prstGeom>
          <a:solidFill>
            <a:srgbClr val="ffff99"/>
          </a:solidFill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:45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95280" y="2478240"/>
            <a:ext cx="1441440" cy="720720"/>
          </a:xfrm>
          <a:prstGeom prst="rect">
            <a:avLst/>
          </a:prstGeom>
          <a:solidFill>
            <a:srgbClr val="ccffcc"/>
          </a:solidFill>
          <a:ln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15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95280" y="5070600"/>
            <a:ext cx="1441440" cy="720720"/>
          </a:xfrm>
          <a:prstGeom prst="rect">
            <a:avLst/>
          </a:prstGeom>
          <a:solidFill>
            <a:srgbClr val="ccff66"/>
          </a:solidFill>
          <a:ln w="63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:45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124000" y="12542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half past six in the morning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197080" y="2046240"/>
            <a:ext cx="6696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 quarter past three in the afternoon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_____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2124000" y="3774960"/>
            <a:ext cx="669780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a quarter to ten in the evening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 _____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2052720" y="4925880"/>
            <a:ext cx="6912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 quarter to seven in the evening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2484360" y="2622600"/>
            <a:ext cx="9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7813800" y="3846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7164360" y="1182600"/>
            <a:ext cx="9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8029440" y="49989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N6B2]4[P`K50N`8C5)_6@LR"/>
          <p:cNvPicPr/>
          <p:nvPr/>
        </p:nvPicPr>
        <p:blipFill>
          <a:blip r:embed="rId1"/>
          <a:stretch/>
        </p:blipFill>
        <p:spPr>
          <a:xfrm>
            <a:off x="1260360" y="909720"/>
            <a:ext cx="2930760" cy="208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X~PIIZCPH@G60W6}(I2NU0B"/>
          <p:cNvPicPr/>
          <p:nvPr/>
        </p:nvPicPr>
        <p:blipFill>
          <a:blip r:embed="rId2"/>
          <a:stretch/>
        </p:blipFill>
        <p:spPr>
          <a:xfrm>
            <a:off x="5221440" y="909720"/>
            <a:ext cx="3168360" cy="2027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S%SGY16GC44036%{UNB}V3M"/>
          <p:cNvPicPr/>
          <p:nvPr/>
        </p:nvPicPr>
        <p:blipFill>
          <a:blip r:embed="rId3"/>
          <a:stretch/>
        </p:blipFill>
        <p:spPr>
          <a:xfrm>
            <a:off x="1332000" y="3718080"/>
            <a:ext cx="2811240" cy="1869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%W0)}I_NRY[(K($~L~HK}B8"/>
          <p:cNvPicPr/>
          <p:nvPr/>
        </p:nvPicPr>
        <p:blipFill>
          <a:blip r:embed="rId4"/>
          <a:stretch/>
        </p:blipFill>
        <p:spPr>
          <a:xfrm>
            <a:off x="5221440" y="3645000"/>
            <a:ext cx="2928960" cy="19224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1025640" y="3097080"/>
            <a:ext cx="34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. do 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221440" y="3070080"/>
            <a:ext cx="34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. eat d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187280" y="566100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. eat break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5292720" y="5589720"/>
            <a:ext cx="34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4. go to b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279360" y="812880"/>
            <a:ext cx="871236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Check you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answer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with your partner.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u=2009988403,1959459772&amp;fm=21&amp;gp=0"/>
          <p:cNvPicPr/>
          <p:nvPr/>
        </p:nvPicPr>
        <p:blipFill>
          <a:blip r:embed="rId1"/>
          <a:srcRect l="58303" t="0" r="0" b="6872"/>
          <a:stretch/>
        </p:blipFill>
        <p:spPr>
          <a:xfrm>
            <a:off x="3813120" y="3962520"/>
            <a:ext cx="1905120" cy="2895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u=2009988403,1959459772&amp;fm=21&amp;gp=0"/>
          <p:cNvPicPr/>
          <p:nvPr/>
        </p:nvPicPr>
        <p:blipFill>
          <a:blip r:embed="rId2"/>
          <a:srcRect l="0" t="0" r="41912" b="6872"/>
          <a:stretch/>
        </p:blipFill>
        <p:spPr>
          <a:xfrm>
            <a:off x="533520" y="3962520"/>
            <a:ext cx="2652480" cy="289548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5"/>
          <p:cNvSpPr/>
          <p:nvPr/>
        </p:nvSpPr>
        <p:spPr>
          <a:xfrm>
            <a:off x="152280" y="1981080"/>
            <a:ext cx="4392720" cy="1584360"/>
          </a:xfrm>
          <a:prstGeom prst="wedgeRoundRectCallout">
            <a:avLst>
              <a:gd name="adj1" fmla="val 2513"/>
              <a:gd name="adj2" fmla="val 77152"/>
              <a:gd name="adj3" fmla="val 16667"/>
            </a:avLst>
          </a:prstGeom>
          <a:solidFill>
            <a:srgbClr val="ffff99"/>
          </a:solidFill>
          <a:ln w="76320">
            <a:solidFill>
              <a:srgbClr val="008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en do students usually eat dinn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5638680" y="1828800"/>
            <a:ext cx="3097440" cy="3308400"/>
          </a:xfrm>
          <a:prstGeom prst="wedgeRoundRectCallout">
            <a:avLst>
              <a:gd name="adj1" fmla="val -57944"/>
              <a:gd name="adj2" fmla="val 67467"/>
              <a:gd name="adj3" fmla="val 16667"/>
            </a:avLst>
          </a:prstGeom>
          <a:solidFill>
            <a:srgbClr val="ffcc99"/>
          </a:solidFill>
          <a:ln w="7632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They usually eat dinner at a quarter to seven in the ev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228600" y="152280"/>
            <a:ext cx="1066680" cy="76212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5"/>
          <p:cNvSpPr/>
          <p:nvPr/>
        </p:nvSpPr>
        <p:spPr>
          <a:xfrm>
            <a:off x="1116000" y="476280"/>
            <a:ext cx="802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08000" y="981000"/>
            <a:ext cx="5040360" cy="5545080"/>
            <a:chOff x="108000" y="981000"/>
            <a:chExt cx="5040360" cy="5545080"/>
          </a:xfrm>
        </p:grpSpPr>
        <p:pic>
          <p:nvPicPr>
            <p:cNvPr id="92" name="Picture 5" descr="u=2009988403,1959459772&amp;fm=21&amp;gp=0"/>
            <p:cNvPicPr/>
            <p:nvPr/>
          </p:nvPicPr>
          <p:blipFill>
            <a:blip r:embed="rId1"/>
            <a:srcRect l="0" t="0" r="43288" b="6872"/>
            <a:stretch/>
          </p:blipFill>
          <p:spPr>
            <a:xfrm>
              <a:off x="108000" y="3429720"/>
              <a:ext cx="2770920" cy="309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矩形标注 16"/>
            <p:cNvSpPr/>
            <p:nvPr/>
          </p:nvSpPr>
          <p:spPr>
            <a:xfrm>
              <a:off x="1548000" y="981000"/>
              <a:ext cx="3600360" cy="2304360"/>
            </a:xfrm>
            <a:prstGeom prst="wedgeRectCallout">
              <a:avLst>
                <a:gd name="adj1" fmla="val -38023"/>
                <a:gd name="adj2" fmla="val 63916"/>
              </a:avLst>
            </a:prstGeom>
            <a:solidFill>
              <a:srgbClr val="ffffff"/>
            </a:solidFill>
            <a:ln w="76320">
              <a:solidFill>
                <a:srgbClr val="ff339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They usually go to bed at a quarter to ten in the evening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7"/>
          <p:cNvGrpSpPr/>
          <p:nvPr/>
        </p:nvGrpSpPr>
        <p:grpSpPr>
          <a:xfrm>
            <a:off x="4140360" y="1701720"/>
            <a:ext cx="4752720" cy="4680000"/>
            <a:chOff x="4140360" y="1701720"/>
            <a:chExt cx="4752720" cy="4680000"/>
          </a:xfrm>
        </p:grpSpPr>
        <p:sp>
          <p:nvSpPr>
            <p:cNvPr id="95" name="矩形标注 21"/>
            <p:cNvSpPr/>
            <p:nvPr/>
          </p:nvSpPr>
          <p:spPr>
            <a:xfrm>
              <a:off x="6084360" y="1701720"/>
              <a:ext cx="2808720" cy="2304360"/>
            </a:xfrm>
            <a:prstGeom prst="wedgeRectCallout">
              <a:avLst>
                <a:gd name="adj1" fmla="val -56101"/>
                <a:gd name="adj2" fmla="val 78162"/>
              </a:avLst>
            </a:prstGeom>
            <a:solidFill>
              <a:srgbClr val="ffffff"/>
            </a:solidFill>
            <a:ln w="76320">
              <a:solidFill>
                <a:srgbClr val="008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hen do students usually go to bed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9" descr="u=2009988403,1959459772&amp;fm=21&amp;gp=0"/>
            <p:cNvPicPr/>
            <p:nvPr/>
          </p:nvPicPr>
          <p:blipFill>
            <a:blip r:embed="rId2"/>
            <a:srcRect l="61097" t="0" r="0" b="6872"/>
            <a:stretch/>
          </p:blipFill>
          <p:spPr>
            <a:xfrm>
              <a:off x="4140360" y="3285360"/>
              <a:ext cx="1901520" cy="309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6"/>
          <p:cNvSpPr/>
          <p:nvPr/>
        </p:nvSpPr>
        <p:spPr>
          <a:xfrm>
            <a:off x="539640" y="2421000"/>
            <a:ext cx="8280360" cy="365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get up  ___   6. do my homework  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run ____         7. clean my room 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at breakfast ___   8. eat dinner 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go to school __        9. take a walk 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go home  ____        10. go to bed 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"/>
          <p:cNvSpPr/>
          <p:nvPr/>
        </p:nvSpPr>
        <p:spPr>
          <a:xfrm>
            <a:off x="971640" y="2637000"/>
            <a:ext cx="1512720" cy="647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4"/>
          <p:cNvSpPr/>
          <p:nvPr/>
        </p:nvSpPr>
        <p:spPr>
          <a:xfrm>
            <a:off x="3924360" y="2565360"/>
            <a:ext cx="3743280" cy="647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971640" y="3357720"/>
            <a:ext cx="936360" cy="502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5148360" y="4149720"/>
            <a:ext cx="2448000" cy="504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971640" y="4076640"/>
            <a:ext cx="2952720" cy="576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900000" y="4797360"/>
            <a:ext cx="2735280" cy="647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971640" y="5516640"/>
            <a:ext cx="2087640" cy="5778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5292720" y="5373720"/>
            <a:ext cx="2158920" cy="719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762120" y="990720"/>
            <a:ext cx="8137440" cy="1066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isten and circle the activities you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ar.</a:t>
            </a:r>
            <a:r>
              <a:rPr b="1" lang="en-US" sz="40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3"/>
          <p:cNvSpPr/>
          <p:nvPr/>
        </p:nvSpPr>
        <p:spPr>
          <a:xfrm>
            <a:off x="228600" y="152280"/>
            <a:ext cx="1066680" cy="76212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05 Unit 2 Section B Activity 1C.mp3" descr=""/>
          <p:cNvPicPr/>
          <p:nvPr/>
        </p:nvPicPr>
        <p:blipFill>
          <a:blip r:embed="rId1"/>
          <a:stretch/>
        </p:blipFill>
        <p:spPr>
          <a:xfrm>
            <a:off x="15228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4" dur="66378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8-10T08:46:46Z</dcterms:modified>
  <cp:revision>9</cp:revision>
  <dc:subject/>
  <dc:title>PowerPoint Presentation</dc:title>
</cp:coreProperties>
</file>