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gif" ContentType="image/gif"/>
  <Override PartName="/ppt/media/image22.png" ContentType="image/png"/>
  <Override PartName="/ppt/media/image16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15"/>
          <p:cNvSpPr/>
          <p:nvPr/>
        </p:nvSpPr>
        <p:spPr>
          <a:xfrm>
            <a:off x="0" y="2362320"/>
            <a:ext cx="9144000" cy="1523880"/>
          </a:xfrm>
          <a:prstGeom prst="rect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TextBox 3"/>
          <p:cNvSpPr/>
          <p:nvPr/>
        </p:nvSpPr>
        <p:spPr>
          <a:xfrm>
            <a:off x="76320" y="2482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Unit 2  What time do you go to schoo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Line 17"/>
          <p:cNvSpPr/>
          <p:nvPr/>
        </p:nvSpPr>
        <p:spPr>
          <a:xfrm>
            <a:off x="228600" y="3124080"/>
            <a:ext cx="876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2438280" y="373392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Section B 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3399"/>
                </a:solidFill>
                <a:latin typeface="黑体"/>
                <a:ea typeface="黑体"/>
              </a:rPr>
              <a:t>课时</a:t>
            </a:r>
            <a:r>
              <a:rPr b="1" lang="en-US" sz="2800" spc="-1" strike="noStrike">
                <a:solidFill>
                  <a:srgbClr val="ff3399"/>
                </a:solidFill>
                <a:latin typeface="黑体"/>
                <a:ea typeface="黑体"/>
              </a:rPr>
              <a:t>(2a-3b)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609480" y="18288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ber these sentences in order to make a story about a daily rout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图片9"/>
          <p:cNvPicPr/>
          <p:nvPr/>
        </p:nvPicPr>
        <p:blipFill>
          <a:blip r:embed="rId1"/>
          <a:srcRect l="0" t="10956" r="0" b="0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u=3805323836,491540217&amp;fm=21&amp;gp=0"/>
          <p:cNvPicPr/>
          <p:nvPr/>
        </p:nvPicPr>
        <p:blipFill>
          <a:blip r:embed="rId2"/>
          <a:stretch/>
        </p:blipFill>
        <p:spPr>
          <a:xfrm>
            <a:off x="228600" y="4038480"/>
            <a:ext cx="190512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0" y="73188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22160" indent="-7221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usually exercise from six to sev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always get up at si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After that, I always brush my teeth and go to school at e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Then I quickly have a shower and eat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have lunch at a quarter to twel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get home from school at half past four and do  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have a very healthy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have dinner at seven th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22160" indent="-7221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 I go to bed at 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28600" y="609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79280" y="1217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50920" y="1793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50920" y="2801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920" y="33051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9280" y="3881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50920" y="48182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0920" y="53942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50920" y="5867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752480" y="838080"/>
            <a:ext cx="66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lk about your daily routine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t011980828ac852492e"/>
          <p:cNvPicPr/>
          <p:nvPr/>
        </p:nvPicPr>
        <p:blipFill>
          <a:blip r:embed="rId1"/>
          <a:srcRect l="49607" t="0" r="0" b="0"/>
          <a:stretch/>
        </p:blipFill>
        <p:spPr>
          <a:xfrm>
            <a:off x="304920" y="4191120"/>
            <a:ext cx="2184120" cy="234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3320946_114642006317_2"/>
          <p:cNvPicPr/>
          <p:nvPr/>
        </p:nvPicPr>
        <p:blipFill>
          <a:blip r:embed="rId2"/>
          <a:srcRect l="0" t="0" r="0" b="5624"/>
          <a:stretch/>
        </p:blipFill>
        <p:spPr>
          <a:xfrm>
            <a:off x="6477120" y="4267080"/>
            <a:ext cx="2225520" cy="212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6705720" y="2133720"/>
            <a:ext cx="1744560" cy="1807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492360" y="4221000"/>
            <a:ext cx="297180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 usually get up at seven o’c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 exerci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20071118111853916_2"/>
          <p:cNvPicPr/>
          <p:nvPr/>
        </p:nvPicPr>
        <p:blipFill>
          <a:blip r:embed="rId4"/>
          <a:srcRect l="0" t="0" r="0" b="5149"/>
          <a:stretch/>
        </p:blipFill>
        <p:spPr>
          <a:xfrm>
            <a:off x="2971800" y="1905120"/>
            <a:ext cx="2938320" cy="204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774S02`FT(XFEYBA_AY}K]R"/>
          <p:cNvPicPr/>
          <p:nvPr/>
        </p:nvPicPr>
        <p:blipFill>
          <a:blip r:embed="rId5"/>
          <a:stretch/>
        </p:blipFill>
        <p:spPr>
          <a:xfrm>
            <a:off x="533520" y="2209680"/>
            <a:ext cx="1814400" cy="1587600"/>
          </a:xfrm>
          <a:prstGeom prst="rect">
            <a:avLst/>
          </a:prstGeom>
          <a:ln w="0">
            <a:noFill/>
          </a:ln>
        </p:spPr>
      </p:pic>
      <p:sp>
        <p:nvSpPr>
          <p:cNvPr id="119" name="Oval 10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68360" y="1066680"/>
            <a:ext cx="828036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either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副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意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（用于否定句或否定词组后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 I don’t like hamburgers,ei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构成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either…or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构，意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要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；或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....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或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.....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它连接两个并列主语时，谓语动词要与其邻近的主语在人称和数上保持一致，即谓语动词要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or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后的主语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保持一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Either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ou and I are good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和我都是好学生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152280" y="0"/>
            <a:ext cx="4613400" cy="9460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685800" y="762120"/>
            <a:ext cx="813600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At twelve,she eats lots of fruit and vegetables for lunch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ots o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很多，许多，大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既可以修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可数名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可以修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可数名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lots o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potatoes in my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房子里有许多土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dxr3upv4tz"/>
          <p:cNvPicPr/>
          <p:nvPr/>
        </p:nvPicPr>
        <p:blipFill>
          <a:blip r:embed="rId1"/>
          <a:srcRect l="15000" t="3331" r="11250" b="5000"/>
          <a:stretch/>
        </p:blipFill>
        <p:spPr>
          <a:xfrm>
            <a:off x="0" y="5578560"/>
            <a:ext cx="13716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96720" y="914400"/>
            <a:ext cx="8568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ts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当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lot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意为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许多，很多，大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后面接可数名词和不可数名词均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接可数名词时谓语用复数，接不可数名词时，谓语用单数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s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lot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ce-crea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她有许多冰淇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lot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oks to be wash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好多衣服要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Ul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685800" y="838080"/>
            <a:ext cx="820908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She knows it‘s not good for her,but it tastes go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‘s not good for h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对她（某方面）不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，常用句型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’s not good for .....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对什么不好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对什么不利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k food is not good for our health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垃圾食品对我们的身体不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786040" y="262080"/>
            <a:ext cx="2913120" cy="920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76320">
            <a:solidFill>
              <a:srgbClr val="ff00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结训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4360" y="1054080"/>
            <a:ext cx="788976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单项选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Tony doesn't have healthy lifestyle, 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ther doesn't have a healthy lifestyl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too      B. also       C. either        D.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Doing exercise every day is good 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for      B. at       C. with        D.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20720" y="3070080"/>
            <a:ext cx="6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164360" y="4365720"/>
            <a:ext cx="6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31800" y="990720"/>
            <a:ext cx="813132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根据提示完成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 do _____ _____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home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The food ______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尝起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delic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He doesn't like getting up earl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Either you or he _____ (be)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Healthy food is _____ _____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好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144880" y="1565280"/>
            <a:ext cx="25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ts      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08160" y="2575080"/>
            <a:ext cx="13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08160" y="365436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592520" y="4230720"/>
            <a:ext cx="6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303800" y="4734000"/>
            <a:ext cx="253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ood   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u=1467356995,1826011103&amp;fm=90&amp;gp=0"/>
          <p:cNvPicPr/>
          <p:nvPr/>
        </p:nvPicPr>
        <p:blipFill>
          <a:blip r:embed="rId1"/>
          <a:stretch/>
        </p:blipFill>
        <p:spPr>
          <a:xfrm>
            <a:off x="7924680" y="5419800"/>
            <a:ext cx="1105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2070000" y="1825560"/>
            <a:ext cx="4905360" cy="12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楷体_GB2312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925640" y="4057560"/>
            <a:ext cx="5846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完成当堂测评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图片1"/>
          <p:cNvPicPr/>
          <p:nvPr/>
        </p:nvPicPr>
        <p:blipFill>
          <a:blip r:embed="rId1"/>
          <a:stretch/>
        </p:blipFill>
        <p:spPr>
          <a:xfrm>
            <a:off x="0" y="5029200"/>
            <a:ext cx="1714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Oval 2"/>
          <p:cNvSpPr/>
          <p:nvPr/>
        </p:nvSpPr>
        <p:spPr>
          <a:xfrm>
            <a:off x="152280" y="152280"/>
            <a:ext cx="2016360" cy="865440"/>
          </a:xfrm>
          <a:prstGeom prst="ellipse">
            <a:avLst/>
          </a:prstGeom>
          <a:solidFill>
            <a:srgbClr val="cc0099"/>
          </a:solidFill>
          <a:ln w="2556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2743200" y="6858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when/what time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和你的同学编一段对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4"/>
          <p:cNvGrpSpPr/>
          <p:nvPr/>
        </p:nvGrpSpPr>
        <p:grpSpPr>
          <a:xfrm>
            <a:off x="324000" y="3645000"/>
            <a:ext cx="8669160" cy="2832120"/>
            <a:chOff x="324000" y="3645000"/>
            <a:chExt cx="8669160" cy="2832120"/>
          </a:xfrm>
        </p:grpSpPr>
        <p:pic>
          <p:nvPicPr>
            <p:cNvPr id="43" name="Picture 5" descr="u=3754613597,1862178907&amp;fm=56"/>
            <p:cNvPicPr/>
            <p:nvPr/>
          </p:nvPicPr>
          <p:blipFill>
            <a:blip r:embed="rId1"/>
            <a:srcRect l="4220" t="3265" r="75294" b="54352"/>
            <a:stretch/>
          </p:blipFill>
          <p:spPr>
            <a:xfrm>
              <a:off x="324000" y="3645000"/>
              <a:ext cx="205272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6" descr="u=3754613597,1862178907&amp;fm=56"/>
            <p:cNvPicPr/>
            <p:nvPr/>
          </p:nvPicPr>
          <p:blipFill>
            <a:blip r:embed="rId2"/>
            <a:srcRect l="24643" t="7496" r="52849" b="54142"/>
            <a:stretch/>
          </p:blipFill>
          <p:spPr>
            <a:xfrm>
              <a:off x="6737400" y="3915000"/>
              <a:ext cx="2255760" cy="25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AutoShape 7"/>
          <p:cNvSpPr/>
          <p:nvPr/>
        </p:nvSpPr>
        <p:spPr>
          <a:xfrm>
            <a:off x="179280" y="1989000"/>
            <a:ext cx="4032360" cy="1295640"/>
          </a:xfrm>
          <a:prstGeom prst="wedgeEllipseCallout">
            <a:avLst>
              <a:gd name="adj1" fmla="val -7912"/>
              <a:gd name="adj2" fmla="val 92648"/>
            </a:avLst>
          </a:prstGeom>
          <a:solidFill>
            <a:srgbClr val="ffff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do you usually get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5219640" y="2060640"/>
            <a:ext cx="3600360" cy="1512720"/>
          </a:xfrm>
          <a:prstGeom prst="wedgeEllipseCallout">
            <a:avLst>
              <a:gd name="adj1" fmla="val 4407"/>
              <a:gd name="adj2" fmla="val 76759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 usually get up at seven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2627280" y="4724280"/>
            <a:ext cx="4032360" cy="1656000"/>
          </a:xfrm>
          <a:prstGeom prst="wedgeEllipseCallout">
            <a:avLst>
              <a:gd name="adj1" fmla="val 51851"/>
              <a:gd name="adj2" fmla="val -46740"/>
            </a:avLst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ime do you usually go to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1835280" y="2492280"/>
            <a:ext cx="4321080" cy="1513080"/>
          </a:xfrm>
          <a:prstGeom prst="wedgeEllipseCallout">
            <a:avLst>
              <a:gd name="adj1" fmla="val -37546"/>
              <a:gd name="adj2" fmla="val 70249"/>
            </a:avLst>
          </a:prstGeom>
          <a:solidFill>
            <a:srgbClr val="ffffff"/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 usually go to school at seven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7485157_073341707000_2副本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416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rcRect l="218" t="92229" r="19959" b="4445"/>
          <a:stretch/>
        </p:blipFill>
        <p:spPr>
          <a:xfrm>
            <a:off x="0" y="6627960"/>
            <a:ext cx="7380360" cy="230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图形1"/>
          <p:cNvPicPr/>
          <p:nvPr/>
        </p:nvPicPr>
        <p:blipFill>
          <a:blip r:embed="rId3"/>
          <a:stretch/>
        </p:blipFill>
        <p:spPr>
          <a:xfrm>
            <a:off x="380880" y="380880"/>
            <a:ext cx="7696440" cy="64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图21"/>
          <p:cNvPicPr/>
          <p:nvPr/>
        </p:nvPicPr>
        <p:blipFill>
          <a:blip r:embed="rId4"/>
          <a:stretch/>
        </p:blipFill>
        <p:spPr>
          <a:xfrm>
            <a:off x="380880" y="3276720"/>
            <a:ext cx="2210040" cy="5205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685800" y="46476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天才就是无止境刻苦勤奋的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                 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卡莱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132000" y="4292640"/>
            <a:ext cx="756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1658-110Q911142187"/>
          <p:cNvPicPr/>
          <p:nvPr/>
        </p:nvPicPr>
        <p:blipFill>
          <a:blip r:embed="rId1"/>
          <a:srcRect l="8504" t="33999" r="52443" b="17000"/>
          <a:stretch/>
        </p:blipFill>
        <p:spPr>
          <a:xfrm>
            <a:off x="468360" y="1600200"/>
            <a:ext cx="2579760" cy="22575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4"/>
          <p:cNvSpPr/>
          <p:nvPr/>
        </p:nvSpPr>
        <p:spPr>
          <a:xfrm>
            <a:off x="533520" y="304920"/>
            <a:ext cx="5113080" cy="1008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用英语说出下列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t01abf6c0cf522020e5"/>
          <p:cNvPicPr/>
          <p:nvPr/>
        </p:nvPicPr>
        <p:blipFill>
          <a:blip r:embed="rId2"/>
          <a:stretch/>
        </p:blipFill>
        <p:spPr>
          <a:xfrm>
            <a:off x="5796000" y="1557360"/>
            <a:ext cx="2592360" cy="237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t01c6838a8ba49e135c"/>
          <p:cNvPicPr/>
          <p:nvPr/>
        </p:nvPicPr>
        <p:blipFill>
          <a:blip r:embed="rId3"/>
          <a:stretch/>
        </p:blipFill>
        <p:spPr>
          <a:xfrm>
            <a:off x="3348000" y="42926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539640" y="4149720"/>
            <a:ext cx="194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ve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we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940360" y="4724280"/>
            <a:ext cx="194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in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995640" y="21337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n past el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692360" y="333360"/>
            <a:ext cx="66247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eck(   ) the activities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ink are healt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7"/>
          <p:cNvSpPr/>
          <p:nvPr/>
        </p:nvSpPr>
        <p:spPr>
          <a:xfrm>
            <a:off x="3132000" y="4046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468360" y="2133720"/>
            <a:ext cx="8064360" cy="3887640"/>
          </a:xfrm>
          <a:prstGeom prst="roundRect">
            <a:avLst>
              <a:gd name="adj" fmla="val 9574"/>
            </a:avLst>
          </a:prstGeom>
          <a:solidFill>
            <a:srgbClr val="ffff66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go to bed ear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at  ice-cre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at quick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eat veget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lay spor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take a wal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7"/>
          <p:cNvSpPr/>
          <p:nvPr/>
        </p:nvSpPr>
        <p:spPr>
          <a:xfrm>
            <a:off x="3708360" y="27082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7"/>
          <p:cNvSpPr/>
          <p:nvPr/>
        </p:nvSpPr>
        <p:spPr>
          <a:xfrm>
            <a:off x="2916360" y="4726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7"/>
          <p:cNvSpPr/>
          <p:nvPr/>
        </p:nvSpPr>
        <p:spPr>
          <a:xfrm>
            <a:off x="7596360" y="3716280"/>
            <a:ext cx="6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7"/>
          <p:cNvSpPr/>
          <p:nvPr/>
        </p:nvSpPr>
        <p:spPr>
          <a:xfrm>
            <a:off x="7021440" y="472608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762120" y="990720"/>
            <a:ext cx="7851600" cy="151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ead the passage, and answer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questions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746280" y="2409840"/>
            <a:ext cx="75596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Who is healthier, Tony or Ma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en does Tony go to b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177920" y="34178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ary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177920" y="514656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t ten thi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07 Unit 2 Section B Activity 2B.mp3" descr=""/>
          <p:cNvPicPr/>
          <p:nvPr/>
        </p:nvPicPr>
        <p:blipFill>
          <a:blip r:embed="rId1"/>
          <a:stretch/>
        </p:blipFill>
        <p:spPr>
          <a:xfrm>
            <a:off x="22860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图8"/>
          <p:cNvPicPr/>
          <p:nvPr/>
        </p:nvPicPr>
        <p:blipFill>
          <a:blip r:embed="rId2"/>
          <a:stretch/>
        </p:blipFill>
        <p:spPr>
          <a:xfrm>
            <a:off x="6970680" y="4419720"/>
            <a:ext cx="2173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0490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828720" y="762120"/>
            <a:ext cx="75596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en does Mary go to b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What’s the relationship between Mary and Ton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403280" y="1841400"/>
            <a:ext cx="4321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 nine thi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260360" y="4721400"/>
            <a:ext cx="5545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ary is Tony’s si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914400" y="1828800"/>
            <a:ext cx="76201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rite down the unhealthy habits of each person. Then think of healthy activities for the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28600" y="152280"/>
            <a:ext cx="1066680" cy="762120"/>
          </a:xfrm>
          <a:prstGeom prst="ellipse">
            <a:avLst/>
          </a:prstGeom>
          <a:solidFill>
            <a:srgbClr val="99cc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图片9"/>
          <p:cNvPicPr/>
          <p:nvPr/>
        </p:nvPicPr>
        <p:blipFill>
          <a:blip r:embed="rId1"/>
          <a:srcRect l="0" t="10956" r="0" b="0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820800" y="1295280"/>
            <a:ext cx="7713720" cy="4684680"/>
            <a:chOff x="820800" y="1295280"/>
            <a:chExt cx="7713720" cy="4684680"/>
          </a:xfrm>
        </p:grpSpPr>
        <p:sp>
          <p:nvSpPr>
            <p:cNvPr id="79" name="AutoShape 5"/>
            <p:cNvSpPr/>
            <p:nvPr/>
          </p:nvSpPr>
          <p:spPr>
            <a:xfrm>
              <a:off x="820800" y="1295280"/>
              <a:ext cx="7713720" cy="4684680"/>
            </a:xfrm>
            <a:prstGeom prst="roundRect">
              <a:avLst>
                <a:gd name="adj" fmla="val 296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Arial"/>
                </a:rPr>
                <a:t>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nhealthy habi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ony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r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6"/>
            <p:cNvSpPr/>
            <p:nvPr/>
          </p:nvSpPr>
          <p:spPr>
            <a:xfrm>
              <a:off x="2468520" y="3344760"/>
              <a:ext cx="299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"/>
            <p:cNvSpPr/>
            <p:nvPr/>
          </p:nvSpPr>
          <p:spPr>
            <a:xfrm>
              <a:off x="2542320" y="4075560"/>
              <a:ext cx="299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"/>
            <p:cNvSpPr/>
            <p:nvPr/>
          </p:nvSpPr>
          <p:spPr>
            <a:xfrm>
              <a:off x="2542320" y="4808520"/>
              <a:ext cx="299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"/>
            <p:cNvSpPr/>
            <p:nvPr/>
          </p:nvSpPr>
          <p:spPr>
            <a:xfrm>
              <a:off x="2468520" y="5613840"/>
              <a:ext cx="299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9"/>
          <p:cNvSpPr/>
          <p:nvPr/>
        </p:nvSpPr>
        <p:spPr>
          <a:xfrm>
            <a:off x="2476440" y="2884320"/>
            <a:ext cx="26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ts up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33520" y="3603600"/>
            <a:ext cx="45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ats breakfast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405160" y="43959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at ice-cream after d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333520" y="50436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rush teeth raraly in the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914400" y="1344600"/>
            <a:ext cx="7342200" cy="4522680"/>
            <a:chOff x="914400" y="1344600"/>
            <a:chExt cx="7342200" cy="4522680"/>
          </a:xfrm>
        </p:grpSpPr>
        <p:sp>
          <p:nvSpPr>
            <p:cNvPr id="89" name="AutoShape 3"/>
            <p:cNvSpPr/>
            <p:nvPr/>
          </p:nvSpPr>
          <p:spPr>
            <a:xfrm>
              <a:off x="914400" y="1344600"/>
              <a:ext cx="7342200" cy="45226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Healthy activiti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ony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ry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"/>
            <p:cNvSpPr/>
            <p:nvPr/>
          </p:nvSpPr>
          <p:spPr>
            <a:xfrm>
              <a:off x="3097440" y="3534840"/>
              <a:ext cx="396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3195720" y="4100760"/>
              <a:ext cx="396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6"/>
            <p:cNvSpPr/>
            <p:nvPr/>
          </p:nvSpPr>
          <p:spPr>
            <a:xfrm>
              <a:off x="3097440" y="4806000"/>
              <a:ext cx="396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2997000" y="5655240"/>
              <a:ext cx="396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570040" y="29145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ts up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570040" y="34909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es to bed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70040" y="4211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 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498760" y="5003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es to bed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8-10T08:47:17Z</dcterms:modified>
  <cp:revision>9</cp:revision>
  <dc:subject/>
  <dc:title>PowerPoint Presentation</dc:title>
</cp:coreProperties>
</file>