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F237-112F-4952-82C0-625B6A737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8626-1CFC-4756-85BB-D4020E98F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2E3B-FFB0-41A9-8B46-C0DF16E60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DD7F-0343-46D1-94F5-5CAB0CB60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021E-128C-4A9B-86AA-8EBF2C059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5BB7-A150-4ABC-A185-4F22B889D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90CB-0EF3-4BC6-ABC3-F8B2873D8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F14A-76F5-44A0-9F21-81B85CC6E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C898-B3AF-4913-858D-360DE505D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B65C-801F-433E-A938-F8C313628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17A9-4E3B-48BC-8179-AD03221C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AFFB-4BF1-4713-AC54-33A1FC2F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00091-DBE3-4786-BDE9-5990EB51E50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8"/>
          <p:cNvSpPr txBox="1"/>
          <p:nvPr/>
        </p:nvSpPr>
        <p:spPr>
          <a:xfrm>
            <a:off x="1301760" y="985680"/>
            <a:ext cx="154296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Unit 2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2" name="WordArt 10"/>
          <p:cNvSpPr txBox="1"/>
          <p:nvPr/>
        </p:nvSpPr>
        <p:spPr>
          <a:xfrm>
            <a:off x="3657600" y="762120"/>
            <a:ext cx="5105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Comic Sans MS"/>
              </a:rPr>
              <a:t> </a:t>
            </a: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Comic Sans MS"/>
              </a:rPr>
              <a:t>Let’s play sports!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WordArt 11"/>
          <p:cNvSpPr txBox="1"/>
          <p:nvPr/>
        </p:nvSpPr>
        <p:spPr>
          <a:xfrm>
            <a:off x="3048120" y="2133720"/>
            <a:ext cx="42670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7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My favourite football player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44" name="Picture 4" descr="http://img.taopic.com/uploads/allimg/140427/235049-14042F3540460.jpg"/>
          <p:cNvPicPr/>
          <p:nvPr/>
        </p:nvPicPr>
        <p:blipFill>
          <a:blip r:embed="rId1"/>
          <a:stretch/>
        </p:blipFill>
        <p:spPr>
          <a:xfrm>
            <a:off x="1219320" y="2928960"/>
            <a:ext cx="685800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r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V Boli"/>
                <a:ea typeface="MV Bol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MV Boli"/>
                <a:ea typeface="MV Boli"/>
              </a:rPr>
              <a:t>Li Hua’s </a:t>
            </a:r>
            <a:r>
              <a:rPr b="0" lang="en-US" sz="3200" spc="-1" strike="noStrike" u="sng">
                <a:solidFill>
                  <a:srgbClr val="00b050"/>
                </a:solidFill>
                <a:uFillTx/>
                <a:latin typeface="MV Boli"/>
                <a:ea typeface="MV Boli"/>
              </a:rPr>
              <a:t>dream</a:t>
            </a:r>
            <a:r>
              <a:rPr b="0" lang="en-US" sz="3200" spc="-1" strike="noStrike">
                <a:solidFill>
                  <a:srgbClr val="000000"/>
                </a:solidFill>
                <a:latin typeface="MV Boli"/>
                <a:ea typeface="MV Boli"/>
              </a:rPr>
              <a:t> is to play in the next World C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V Boli"/>
                <a:ea typeface="MV Bol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MV Boli"/>
                <a:ea typeface="MV Boli"/>
              </a:rPr>
              <a:t>I often </a:t>
            </a:r>
            <a:r>
              <a:rPr b="0" lang="en-US" sz="3200" spc="-1" strike="noStrike" u="sng">
                <a:solidFill>
                  <a:srgbClr val="00b050"/>
                </a:solidFill>
                <a:uFillTx/>
                <a:latin typeface="MV Boli"/>
                <a:ea typeface="MV Boli"/>
              </a:rPr>
              <a:t>dream</a:t>
            </a:r>
            <a:r>
              <a:rPr b="0" lang="en-US" sz="3200" spc="-1" strike="noStrike">
                <a:solidFill>
                  <a:srgbClr val="00b050"/>
                </a:solidFill>
                <a:latin typeface="MV Boli"/>
                <a:ea typeface="MV Bol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MV Boli"/>
                <a:ea typeface="MV Boli"/>
              </a:rPr>
              <a:t>of</a:t>
            </a:r>
            <a:r>
              <a:rPr b="0" lang="en-US" sz="3200" spc="-1" strike="noStrike">
                <a:solidFill>
                  <a:srgbClr val="00b050"/>
                </a:solidFill>
                <a:latin typeface="MV Boli"/>
                <a:ea typeface="MV Bol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MV Boli"/>
                <a:ea typeface="MV Boli"/>
              </a:rPr>
              <a:t>my grandp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V Boli"/>
                <a:ea typeface="MV Bol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MV Boli"/>
                <a:ea typeface="MV Boli"/>
              </a:rPr>
              <a:t>daydream: </a:t>
            </a:r>
            <a:r>
              <a:rPr b="0" lang="zh-CN" sz="3200" spc="-1" strike="noStrike">
                <a:solidFill>
                  <a:srgbClr val="000000"/>
                </a:solidFill>
                <a:latin typeface="MV Boli"/>
                <a:ea typeface="MV Boli"/>
              </a:rPr>
              <a:t>白日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3352680" y="236232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名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梦想；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2971800" y="441972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动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做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V Boli"/>
                <a:ea typeface="MV Boli"/>
              </a:rPr>
              <a:t>We </a:t>
            </a:r>
            <a:r>
              <a:rPr b="0" lang="en-US" sz="3200" spc="-1" strike="noStrike">
                <a:solidFill>
                  <a:srgbClr val="ff0000"/>
                </a:solidFill>
                <a:latin typeface="MV Boli"/>
                <a:ea typeface="MV Boli"/>
              </a:rPr>
              <a:t>hope</a:t>
            </a:r>
            <a:r>
              <a:rPr b="0" lang="en-US" sz="3200" spc="-1" strike="noStrike">
                <a:solidFill>
                  <a:srgbClr val="000000"/>
                </a:solidFill>
                <a:latin typeface="MV Boli"/>
                <a:ea typeface="MV Boli"/>
              </a:rPr>
              <a:t> Li Hua’s dream comes tr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V Boli"/>
                <a:ea typeface="MV Bol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MV Boli"/>
                <a:ea typeface="MV Boli"/>
              </a:rPr>
              <a:t>hope+</a:t>
            </a:r>
            <a:r>
              <a:rPr b="0" lang="zh-CN" sz="3200" spc="-1" strike="noStrike">
                <a:solidFill>
                  <a:srgbClr val="000000"/>
                </a:solidFill>
                <a:latin typeface="MV Boli"/>
                <a:ea typeface="MV Boli"/>
              </a:rPr>
              <a:t>句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V Boli"/>
                <a:ea typeface="MV Boli"/>
              </a:rPr>
              <a:t>She </a:t>
            </a:r>
            <a:r>
              <a:rPr b="0" lang="en-US" sz="3200" spc="-1" strike="noStrike">
                <a:solidFill>
                  <a:srgbClr val="ff0000"/>
                </a:solidFill>
                <a:latin typeface="MV Boli"/>
                <a:ea typeface="MV Boli"/>
              </a:rPr>
              <a:t>hopes</a:t>
            </a:r>
            <a:r>
              <a:rPr b="0" lang="en-US" sz="3200" spc="-1" strike="noStrike">
                <a:solidFill>
                  <a:srgbClr val="000000"/>
                </a:solidFill>
                <a:latin typeface="MV Boli"/>
                <a:ea typeface="MV Boli"/>
              </a:rPr>
              <a:t> to go to Beijing next summ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V Boli"/>
                <a:ea typeface="MV Bol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MV Boli"/>
                <a:ea typeface="MV Boli"/>
              </a:rPr>
              <a:t>hope to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me tr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MV Boli"/>
                <a:ea typeface="MV Boli"/>
              </a:rPr>
              <a:t>true VS re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V Boli"/>
                <a:ea typeface="MV Boli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MV Boli"/>
                <a:ea typeface="MV Boli"/>
              </a:rPr>
              <a:t>I want to have a </a:t>
            </a:r>
            <a:r>
              <a:rPr b="0" lang="en-US" sz="3600" spc="-1" strike="noStrike">
                <a:solidFill>
                  <a:srgbClr val="00b050"/>
                </a:solidFill>
                <a:latin typeface="MV Boli"/>
                <a:ea typeface="MV Boli"/>
              </a:rPr>
              <a:t>true</a:t>
            </a:r>
            <a:r>
              <a:rPr b="0" lang="en-US" sz="3600" spc="-1" strike="noStrike">
                <a:solidFill>
                  <a:srgbClr val="000000"/>
                </a:solidFill>
                <a:latin typeface="MV Boli"/>
                <a:ea typeface="MV Boli"/>
              </a:rPr>
              <a:t> frie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V Boli"/>
                <a:ea typeface="MV Boli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MV Boli"/>
                <a:ea typeface="MV Boli"/>
              </a:rPr>
              <a:t>我想要一位真诚的朋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V Boli"/>
                <a:ea typeface="MV Boli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MV Boli"/>
                <a:ea typeface="MV Boli"/>
              </a:rPr>
              <a:t>One is a paper tiger, the other    is a </a:t>
            </a:r>
            <a:r>
              <a:rPr b="0" lang="en-US" sz="3600" spc="-1" strike="noStrike">
                <a:solidFill>
                  <a:srgbClr val="00b050"/>
                </a:solidFill>
                <a:latin typeface="MV Boli"/>
                <a:ea typeface="MV Boli"/>
              </a:rPr>
              <a:t>real</a:t>
            </a:r>
            <a:r>
              <a:rPr b="0" lang="en-US" sz="3600" spc="-1" strike="noStrike">
                <a:solidFill>
                  <a:srgbClr val="000000"/>
                </a:solidFill>
                <a:latin typeface="MV Boli"/>
                <a:ea typeface="MV Boli"/>
              </a:rPr>
              <a:t> tig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MV Boli"/>
                <a:ea typeface="MV Boli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MV Boli"/>
                <a:ea typeface="MV Boli"/>
              </a:rPr>
              <a:t>一个是纸老虎，一个是真老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MV Boli"/>
                <a:ea typeface="MV Boli"/>
              </a:rPr>
              <a:t>make sb. + ad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V Boli"/>
                <a:ea typeface="MV Bol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MV Boli"/>
                <a:ea typeface="MV Boli"/>
              </a:rPr>
              <a:t>make him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MV Boli"/>
                <a:ea typeface="MV Boli"/>
              </a:rPr>
              <a:t>make sb.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V Boli"/>
                <a:ea typeface="MV Bol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MV Boli"/>
                <a:ea typeface="MV Boli"/>
              </a:rPr>
              <a:t>make the baby c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MV Boli"/>
                <a:ea typeface="MV Boli"/>
              </a:rPr>
              <a:t>make sb. not d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V Boli"/>
                <a:ea typeface="MV Bol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MV Boli"/>
                <a:ea typeface="MV Boli"/>
              </a:rPr>
              <a:t>make the baby not c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xercis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V Boli"/>
                <a:ea typeface="MV Boli"/>
              </a:rPr>
              <a:t>a. Eddie often eats five _____ (time) a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V Boli"/>
                <a:ea typeface="MV Boli"/>
              </a:rPr>
              <a:t>b. We hope your dream _____ (come) tr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V Boli"/>
                <a:ea typeface="MV Boli"/>
              </a:rPr>
              <a:t>c. Sandy enjoys _________ (swim) very mu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V Boli"/>
                <a:ea typeface="MV Boli"/>
              </a:rPr>
              <a:t>d. Ronaldo is a famous football ______ (play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rans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V Boli"/>
                <a:ea typeface="MV Boli"/>
              </a:rPr>
              <a:t>a. </a:t>
            </a:r>
            <a:r>
              <a:rPr b="0" lang="zh-CN" sz="3200" spc="-1" strike="noStrike">
                <a:solidFill>
                  <a:srgbClr val="000000"/>
                </a:solidFill>
                <a:latin typeface="MV Boli"/>
                <a:ea typeface="MV Boli"/>
              </a:rPr>
              <a:t>课堂上我们必须认真听老师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V Boli"/>
                <a:ea typeface="MV Bol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MV Boli"/>
                <a:ea typeface="MV Boli"/>
              </a:rPr>
              <a:t>We ______________________ carefully in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V Boli"/>
                <a:ea typeface="MV Boli"/>
              </a:rPr>
              <a:t>b. </a:t>
            </a:r>
            <a:r>
              <a:rPr b="0" lang="zh-CN" sz="3200" spc="-1" strike="noStrike">
                <a:solidFill>
                  <a:srgbClr val="000000"/>
                </a:solidFill>
                <a:latin typeface="MV Boli"/>
                <a:ea typeface="MV Boli"/>
              </a:rPr>
              <a:t>什么使你高兴</a:t>
            </a:r>
            <a:r>
              <a:rPr b="0" lang="en-US" sz="3200" spc="-1" strike="noStrike">
                <a:solidFill>
                  <a:srgbClr val="000000"/>
                </a:solidFill>
                <a:latin typeface="MV Boli"/>
                <a:ea typeface="MV Boli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V Boli"/>
                <a:ea typeface="MV Bol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MV Boli"/>
                <a:ea typeface="MV Boli"/>
              </a:rPr>
              <a:t>What _____________________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V Boli"/>
                <a:ea typeface="MV Boli"/>
              </a:rPr>
              <a:t>c. </a:t>
            </a:r>
            <a:r>
              <a:rPr b="0" lang="zh-CN" sz="3200" spc="-1" strike="noStrike">
                <a:solidFill>
                  <a:srgbClr val="000000"/>
                </a:solidFill>
                <a:latin typeface="MV Boli"/>
                <a:ea typeface="MV Boli"/>
              </a:rPr>
              <a:t>谁是你最喜爱的网球运动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V Boli"/>
                <a:ea typeface="MV Bol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MV Boli"/>
                <a:ea typeface="MV Boli"/>
              </a:rPr>
              <a:t>Who _____________________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V Boli"/>
                <a:ea typeface="MV Boli"/>
              </a:rPr>
              <a:t>d. </a:t>
            </a:r>
            <a:r>
              <a:rPr b="0" lang="zh-CN" sz="3200" spc="-1" strike="noStrike">
                <a:solidFill>
                  <a:srgbClr val="000000"/>
                </a:solidFill>
                <a:latin typeface="MV Boli"/>
                <a:ea typeface="MV Boli"/>
              </a:rPr>
              <a:t>他哥哥看上去强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V Boli"/>
                <a:ea typeface="MV Bol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MV Boli"/>
                <a:ea typeface="MV Boli"/>
              </a:rPr>
              <a:t>His brother 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V Bol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V Boli"/>
                <a:ea typeface="MV Boli"/>
              </a:rPr>
              <a:t>Recite the article about Li Hu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V Bol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V Boli"/>
                <a:ea typeface="MV Boli"/>
              </a:rPr>
              <a:t>2. Review the words, phrases and language point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V Boli"/>
                <a:ea typeface="MV Boli"/>
              </a:rPr>
              <a:t>3. Write an article about your favourite player and share it with your frie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y favourite football play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600200"/>
          <a:ext cx="8229600" cy="40384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 Hu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b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tball play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b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anghe Football Clu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e fr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angd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ve 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ij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free 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y English  ;  listen to mus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0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ea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y in the next World C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hat are the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http://www.hinews.cn/pic/0/10/97/56/10975650_953257.jpg"/>
          <p:cNvPicPr/>
          <p:nvPr/>
        </p:nvPicPr>
        <p:blipFill>
          <a:blip r:embed="rId1"/>
          <a:stretch/>
        </p:blipFill>
        <p:spPr>
          <a:xfrm>
            <a:off x="0" y="1828800"/>
            <a:ext cx="2962440" cy="3703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http://p4.so.qhmsg.com/t01c68a71b01adb9c9e.jpg"/>
          <p:cNvPicPr/>
          <p:nvPr/>
        </p:nvPicPr>
        <p:blipFill>
          <a:blip r:embed="rId2"/>
          <a:stretch/>
        </p:blipFill>
        <p:spPr>
          <a:xfrm>
            <a:off x="3124080" y="1752480"/>
            <a:ext cx="3009960" cy="38102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http://ww4.sinaimg.cn/large/72ee9c10jw1eb94cuixbaj20hs0npq4z.jpg"/>
          <p:cNvPicPr/>
          <p:nvPr/>
        </p:nvPicPr>
        <p:blipFill>
          <a:blip r:embed="rId3"/>
          <a:stretch/>
        </p:blipFill>
        <p:spPr>
          <a:xfrm>
            <a:off x="6299280" y="1752480"/>
            <a:ext cx="2844720" cy="3791160"/>
          </a:xfrm>
          <a:prstGeom prst="rect">
            <a:avLst/>
          </a:prstGeom>
          <a:ln w="0">
            <a:noFill/>
          </a:ln>
        </p:spPr>
      </p:pic>
      <p:sp>
        <p:nvSpPr>
          <p:cNvPr id="51" name="TextBox 6"/>
          <p:cNvSpPr/>
          <p:nvPr/>
        </p:nvSpPr>
        <p:spPr>
          <a:xfrm>
            <a:off x="0" y="57913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ketball p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2971800" y="5867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dminton p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6324480" y="5867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leyball p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ttention pl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是所有的运动员都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例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im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l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动词               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+er                   p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+er                  teac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+ner                  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im+mer                   swim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nce+r                   dan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ive+r                   d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直接箭头连接符 4"/>
          <p:cNvCxnSpPr/>
          <p:nvPr/>
        </p:nvCxnSpPr>
        <p:spPr>
          <a:xfrm>
            <a:off x="3962160" y="1904760"/>
            <a:ext cx="1524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" name="直接箭头连接符 5"/>
          <p:cNvCxnSpPr/>
          <p:nvPr/>
        </p:nvCxnSpPr>
        <p:spPr>
          <a:xfrm>
            <a:off x="3962160" y="2514240"/>
            <a:ext cx="1524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" name="直接箭头连接符 6"/>
          <p:cNvCxnSpPr/>
          <p:nvPr/>
        </p:nvCxnSpPr>
        <p:spPr>
          <a:xfrm>
            <a:off x="3962160" y="3123720"/>
            <a:ext cx="1524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1" name="直接箭头连接符 7"/>
          <p:cNvCxnSpPr/>
          <p:nvPr/>
        </p:nvCxnSpPr>
        <p:spPr>
          <a:xfrm>
            <a:off x="3962160" y="3657240"/>
            <a:ext cx="1524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" name="直接箭头连接符 8"/>
          <p:cNvCxnSpPr/>
          <p:nvPr/>
        </p:nvCxnSpPr>
        <p:spPr>
          <a:xfrm>
            <a:off x="3962160" y="4266720"/>
            <a:ext cx="1524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" name="直接箭头连接符 9"/>
          <p:cNvCxnSpPr/>
          <p:nvPr/>
        </p:nvCxnSpPr>
        <p:spPr>
          <a:xfrm>
            <a:off x="3962160" y="4876560"/>
            <a:ext cx="1524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" name="直接箭头连接符 10"/>
          <p:cNvCxnSpPr/>
          <p:nvPr/>
        </p:nvCxnSpPr>
        <p:spPr>
          <a:xfrm>
            <a:off x="4038480" y="837720"/>
            <a:ext cx="1524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member o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is 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a member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anghe Football Clu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wa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is 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uanghe Football Clu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plays fo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anghe Football Clu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内容占位符 4" descr="Li Hua.jpg"/>
          <p:cNvPicPr/>
          <p:nvPr/>
        </p:nvPicPr>
        <p:blipFill>
          <a:blip r:embed="rId1"/>
          <a:stretch/>
        </p:blipFill>
        <p:spPr>
          <a:xfrm>
            <a:off x="5689440" y="4267080"/>
            <a:ext cx="34545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u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http://s4.sinaimg.cn/middle/49151e88gafbc61354cb3&amp;690"/>
          <p:cNvPicPr/>
          <p:nvPr/>
        </p:nvPicPr>
        <p:blipFill>
          <a:blip r:embed="rId1"/>
          <a:stretch/>
        </p:blipFill>
        <p:spPr>
          <a:xfrm>
            <a:off x="304920" y="1219320"/>
            <a:ext cx="6572160" cy="4905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http://i3.s1.dpfile.com/pc/d8e0859104cad5658dd1a4b04cb8e56d%28700x700%29/thumb.jpg"/>
          <p:cNvPicPr/>
          <p:nvPr/>
        </p:nvPicPr>
        <p:blipFill>
          <a:blip r:embed="rId2"/>
          <a:stretch/>
        </p:blipFill>
        <p:spPr>
          <a:xfrm>
            <a:off x="838080" y="1295280"/>
            <a:ext cx="6667560" cy="50007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http://image.hnol.net/c/2015-06/23/17/20150623170918441-4712922.jpg"/>
          <p:cNvPicPr/>
          <p:nvPr/>
        </p:nvPicPr>
        <p:blipFill>
          <a:blip r:embed="rId3"/>
          <a:stretch/>
        </p:blipFill>
        <p:spPr>
          <a:xfrm>
            <a:off x="1523880" y="1523880"/>
            <a:ext cx="731520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 one’s free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V Boli"/>
                <a:ea typeface="MV Bol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MV Boli"/>
                <a:ea typeface="MV Boli"/>
              </a:rPr>
              <a:t>Li Hua studies English and listens to the music </a:t>
            </a:r>
            <a:r>
              <a:rPr b="0" lang="en-US" sz="2800" spc="-1" strike="noStrike">
                <a:solidFill>
                  <a:srgbClr val="ff0000"/>
                </a:solidFill>
                <a:latin typeface="MV Boli"/>
                <a:ea typeface="MV Boli"/>
              </a:rPr>
              <a:t>in his free time</a:t>
            </a:r>
            <a:r>
              <a:rPr b="0" lang="en-US" sz="2800" spc="-1" strike="noStrike">
                <a:solidFill>
                  <a:srgbClr val="000000"/>
                </a:solidFill>
                <a:latin typeface="MV Boli"/>
                <a:ea typeface="MV Bol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V Boli"/>
                <a:ea typeface="MV Bol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MV Boli"/>
                <a:ea typeface="MV Boli"/>
              </a:rPr>
              <a:t>What do you usually do </a:t>
            </a:r>
            <a:r>
              <a:rPr b="0" lang="en-US" sz="2800" spc="-1" strike="noStrike">
                <a:solidFill>
                  <a:srgbClr val="ff0000"/>
                </a:solidFill>
                <a:latin typeface="MV Boli"/>
                <a:ea typeface="MV Boli"/>
              </a:rPr>
              <a:t>in your free time</a:t>
            </a:r>
            <a:r>
              <a:rPr b="0" lang="en-US" sz="2800" spc="-1" strike="noStrike">
                <a:solidFill>
                  <a:srgbClr val="000000"/>
                </a:solidFill>
                <a:latin typeface="MV Boli"/>
                <a:ea typeface="MV Bol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V Boli"/>
                <a:ea typeface="MV Boli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5181480" y="1600200"/>
            <a:ext cx="3962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V Boli"/>
                <a:ea typeface="MV Boli"/>
              </a:rPr>
              <a:t>Li Hua studies English and listens to the music </a:t>
            </a:r>
            <a:r>
              <a:rPr b="0" lang="en-US" sz="2800" spc="-1" strike="noStrike">
                <a:solidFill>
                  <a:srgbClr val="ff0000"/>
                </a:solidFill>
                <a:latin typeface="MV Boli"/>
                <a:ea typeface="MV Boli"/>
              </a:rPr>
              <a:t>when he is free</a:t>
            </a:r>
            <a:r>
              <a:rPr b="0" lang="en-US" sz="2800" spc="-1" strike="noStrike">
                <a:solidFill>
                  <a:srgbClr val="000000"/>
                </a:solidFill>
                <a:latin typeface="MV Boli"/>
                <a:ea typeface="MV Bol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V Boli"/>
                <a:ea typeface="MV Boli"/>
              </a:rPr>
              <a:t>What do you usually do </a:t>
            </a:r>
            <a:r>
              <a:rPr b="0" lang="en-US" sz="2800" spc="-1" strike="noStrike">
                <a:solidFill>
                  <a:srgbClr val="ff0000"/>
                </a:solidFill>
                <a:latin typeface="MV Boli"/>
                <a:ea typeface="MV Boli"/>
              </a:rPr>
              <a:t>when you are free</a:t>
            </a:r>
            <a:r>
              <a:rPr b="0" lang="en-US" sz="2800" spc="-1" strike="noStrike">
                <a:solidFill>
                  <a:srgbClr val="000000"/>
                </a:solidFill>
                <a:latin typeface="MV Boli"/>
                <a:ea typeface="MV Bol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等于号 4"/>
          <p:cNvSpPr/>
          <p:nvPr/>
        </p:nvSpPr>
        <p:spPr>
          <a:xfrm>
            <a:off x="4114800" y="2057400"/>
            <a:ext cx="990720" cy="457200"/>
          </a:xfrm>
          <a:custGeom>
            <a:avLst/>
            <a:gdLst>
              <a:gd name="textAreaLeft" fmla="*/ 131040 w 990720"/>
              <a:gd name="textAreaRight" fmla="*/ 859680 w 990720"/>
              <a:gd name="textAreaTop" fmla="*/ 93960 h 457200"/>
              <a:gd name="textAreaBottom" fmla="*/ 363240 h 457200"/>
            </a:gdLst>
            <a:ahLst/>
            <a:rect l="textAreaLeft" t="textAreaTop" r="textAreaRight" b="textAreaBottom"/>
            <a:pathLst>
              <a:path w="990600" h="457200">
                <a:moveTo>
                  <a:pt x="131304" y="94183"/>
                </a:moveTo>
                <a:lnTo>
                  <a:pt x="859296" y="94183"/>
                </a:lnTo>
                <a:lnTo>
                  <a:pt x="859296" y="201717"/>
                </a:lnTo>
                <a:lnTo>
                  <a:pt x="131304" y="201717"/>
                </a:lnTo>
                <a:close/>
                <a:moveTo>
                  <a:pt x="131304" y="255483"/>
                </a:moveTo>
                <a:lnTo>
                  <a:pt x="859296" y="255483"/>
                </a:lnTo>
                <a:lnTo>
                  <a:pt x="859296" y="363017"/>
                </a:lnTo>
                <a:lnTo>
                  <a:pt x="131304" y="363017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等于号 5"/>
          <p:cNvSpPr/>
          <p:nvPr/>
        </p:nvSpPr>
        <p:spPr>
          <a:xfrm>
            <a:off x="4114800" y="3962520"/>
            <a:ext cx="990720" cy="457200"/>
          </a:xfrm>
          <a:custGeom>
            <a:avLst/>
            <a:gdLst>
              <a:gd name="textAreaLeft" fmla="*/ 131040 w 990720"/>
              <a:gd name="textAreaRight" fmla="*/ 859680 w 990720"/>
              <a:gd name="textAreaTop" fmla="*/ 93960 h 457200"/>
              <a:gd name="textAreaBottom" fmla="*/ 363240 h 457200"/>
            </a:gdLst>
            <a:ahLst/>
            <a:rect l="textAreaLeft" t="textAreaTop" r="textAreaRight" b="textAreaBottom"/>
            <a:pathLst>
              <a:path w="990600" h="457200">
                <a:moveTo>
                  <a:pt x="131304" y="94183"/>
                </a:moveTo>
                <a:lnTo>
                  <a:pt x="859296" y="94183"/>
                </a:lnTo>
                <a:lnTo>
                  <a:pt x="859296" y="201717"/>
                </a:lnTo>
                <a:lnTo>
                  <a:pt x="131304" y="201717"/>
                </a:lnTo>
                <a:close/>
                <a:moveTo>
                  <a:pt x="131304" y="255483"/>
                </a:moveTo>
                <a:lnTo>
                  <a:pt x="859296" y="255483"/>
                </a:lnTo>
                <a:lnTo>
                  <a:pt x="859296" y="363017"/>
                </a:lnTo>
                <a:lnTo>
                  <a:pt x="131304" y="363017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04560" y="1523880"/>
            <a:ext cx="4647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). I like reading in my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). Birds ar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They can fly everyw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3). You can ge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u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6248520" y="1447920"/>
            <a:ext cx="22096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免费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由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空闲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直接连接符 5"/>
          <p:cNvSpPr/>
          <p:nvPr/>
        </p:nvSpPr>
        <p:spPr>
          <a:xfrm>
            <a:off x="4572000" y="1905120"/>
            <a:ext cx="1676520" cy="35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直接连接符 6"/>
          <p:cNvSpPr/>
          <p:nvPr/>
        </p:nvSpPr>
        <p:spPr>
          <a:xfrm flipH="1">
            <a:off x="4190760" y="1828800"/>
            <a:ext cx="2057400" cy="32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直接连接符 9"/>
          <p:cNvSpPr/>
          <p:nvPr/>
        </p:nvSpPr>
        <p:spPr>
          <a:xfrm>
            <a:off x="4724280" y="3581280"/>
            <a:ext cx="1524240" cy="12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17T09:30:35Z</dcterms:created>
  <dc:creator>Administrator</dc:creator>
  <dc:description/>
  <dc:language>en-US</dc:language>
  <cp:lastModifiedBy>Administrator</cp:lastModifiedBy>
  <dcterms:modified xsi:type="dcterms:W3CDTF">2016-09-17T11:21:03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008000000000001024140</vt:lpwstr>
  </property>
  <property fmtid="{D5CDD505-2E9C-101B-9397-08002B2CF9AE}" pid="3" name="Version">
    <vt:r8>1</vt:r8>
  </property>
</Properties>
</file>