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2E6-4E3E-4B8F-8E4A-34B06A20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B47-BD74-400E-AB27-B2A6A11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2C2-A962-4563-A435-97104E7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ECC-39EB-450C-B861-05E36E60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4D9-A41B-46F4-9B37-1AF3F40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0CE-4790-424E-B272-27F8C179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BD0-461D-485A-A84B-99593C21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952-7E61-4018-A13A-969125B7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DE8-4D4E-4177-89B9-0526308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54B-2ADA-4988-9F69-2134772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4C9-CD58-4FC5-90CE-2F71EE9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276-7813-4A34-9BE7-FA74D31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C337-5592-43AC-B5C2-86A10F5F0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4.gif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77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907920"/>
            <a:ext cx="1087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Unit 2  Let’s play spor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421000"/>
            <a:ext cx="25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80"/>
                </a:solidFill>
                <a:latin typeface="Times New Roman"/>
              </a:rPr>
              <a:t>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516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14600" y="76320"/>
            <a:ext cx="7331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love spor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like …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enjo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s my favourite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s my favourite…player/s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like walking/swimming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like playing football/basketball/volleyball/tenni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often play …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(s) me happy/feel gr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 is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14480"/>
            <a:ext cx="24382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sefu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29242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2222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71640" y="1916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Show your profil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76160" y="-360"/>
            <a:ext cx="801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堂清巩固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括号内所给单词的适当形式填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197000"/>
            <a:ext cx="907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ere are three ___________(match)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e football players are our _________(her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is mother is a teacher. What about ________(you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clothes are the _______(pla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Kobe is ______(real) a good basketball 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Mike goes ______(run) for fifteen minut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They are talking about __________(have) a picnic nex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112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773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263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er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3068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3716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65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My mother spends half an hour _______(cook) supper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66100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．书面表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是贝蒂。我喜欢运动，非常爱打排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是校排球队的成员。放学后，我常和同学们打排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谈论排球，在电视上看排球比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冯坤是我最喜爱的排球运动员，她是我心中的英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己发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65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’m Betty. I like sports and I like playing volleyball very much .I’m a member of the school volleyball team. I often play volleyball with my classmates after school. We talk about volleyball matches and watch volleyball matches on TV. Feng Kun is my favourite volleyball player.She is my hero. I do sports every day. It makes me strong. I want to be a volleyball player when I grow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0066cc"/>
                </a:solidFill>
                <a:latin typeface="Times New Roman"/>
                <a:ea typeface="隶书"/>
              </a:rPr>
              <a:t>课前热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2060640"/>
            <a:ext cx="532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92280"/>
            <a:ext cx="835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队，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谈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比赛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复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偶像，英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复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我们校篮球队的一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学后和我的朋友打篮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谈论篮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谈论某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谈论做某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电视上看篮球比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692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76500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lk about/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197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134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tch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7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ro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58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 member of our school basketbal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573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lay basketball with my friends afte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41497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lk about basketb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92428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65300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alk about sb./s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alk about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5516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atch basketball matches o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22100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某方面花费（时间、金钱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金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4640"/>
            <a:ext cx="70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最喜爱的篮球运动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篮球打得非常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的偶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我高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我感觉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某事是有趣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692280"/>
            <a:ext cx="58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my favourite basketball player/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628640"/>
            <a:ext cx="453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Play basketball ver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2060640"/>
            <a:ext cx="20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my h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99736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make me happy/make me feel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716280"/>
            <a:ext cx="331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It is fun to do sth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pend (time/money) on s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653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pend  (time/money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1916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9640" y="2060640"/>
          <a:ext cx="6935760" cy="4063680"/>
        </p:xfrm>
        <a:graphic>
          <a:graphicData uri="http://schemas.openxmlformats.org/drawingml/2006/table">
            <a:tbl>
              <a:tblPr/>
              <a:tblGrid>
                <a:gridCol w="3527280"/>
                <a:gridCol w="3408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 favourite spor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often play 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often play on/at/aft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often watch match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 favourite playe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00720" y="2133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3141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y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39337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fter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724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544500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Yao 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6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cc"/>
                </a:solidFill>
                <a:latin typeface="Times New Roman"/>
              </a:rPr>
              <a:t>Please read David’s article in Part A on Page 28 and complete a table about Dav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05264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Please read his article in PartA after the tape .Try to classify th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341360"/>
            <a:ext cx="568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aragraph One: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aragraph Two: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aragraph Three:(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13000"/>
            <a:ext cx="86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What’s David’s favourite s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.What team is David 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When does David often play basketb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.Who does David often play basketball wi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.What else do David and his friends often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.What do they watch on T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.Who is David’s h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.Why does David like YaoMing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134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19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  C  D  E 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708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G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05264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Please read his article in PartA again and answer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620720" y="333360"/>
            <a:ext cx="9505800" cy="71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.What’s David’s favourite s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.What team is David 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.When does David often play basketb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4).Who does David often play basketball wi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5).What else do David and his friends often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).What do they watch on T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7).Who is David’s h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8).Why does David like YaoMing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125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Basketball is David’s favourite 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628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e is in the school basketball 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fter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357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e often plays football with his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4292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y often talk about basketb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084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y watch basketball matches on T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95008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Yao 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000" y="60357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e plays basketball very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324000" y="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5440" y="7650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17800" y="40053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4720" y="33577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60360" y="19890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19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27082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8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y name is _______.I love ______, and I like ________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am a ________  _________  _________  ___________   ___________  __________. I often play basketball with __________  _____________   _________ _________.We often _________  __________  _________ and watch___________  ___________  ________ 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is my favourite basketball player. He _______ basketball _________  ________.He is m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6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981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98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360" y="75888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155736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617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1989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1989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42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24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24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068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3059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3068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5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3500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005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Yao 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086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4292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13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6720" y="2133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con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720" y="2637000"/>
            <a:ext cx="70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rite about how you practise the s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2000" y="3429000"/>
            <a:ext cx="13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4508640"/>
            <a:ext cx="703080" cy="79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31640" y="119700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rite about your name, age,  and favourite sport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645000"/>
            <a:ext cx="83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bout your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Writing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326160" y="6922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ir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8000" y="1844640"/>
            <a:ext cx="57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Make  profi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for yourselv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4:41:38Z</dcterms:created>
  <dc:creator>为您服务教育网　http://www.wsbedu.com/</dc:creator>
  <dc:description/>
  <dc:language>en-US</dc:language>
  <cp:lastModifiedBy>whb</cp:lastModifiedBy>
  <dcterms:modified xsi:type="dcterms:W3CDTF">2015-07-13T11:24:44Z</dcterms:modified>
  <cp:revision>238</cp:revision>
  <dc:subject/>
  <dc:title>为您服务教育网　http://www.wsbedu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5000000000001024140</vt:lpwstr>
  </property>
</Properties>
</file>