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gif" ContentType="image/gif"/>
  <Override PartName="/ppt/media/image10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8959-BC57-4A52-8A41-AE6A3016D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944B-FA5E-40E0-85ED-6A7D79A0C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C46C-6006-4916-8B23-600BAF797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D36D-2959-4A3B-978D-320D09256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3960-EFD1-4FE7-8D7D-07ECD2FCF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9A6C-D74D-48B8-94DE-10DC9F61C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DCF3-0067-4598-AA5D-8FCF7CC4E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354F-E62C-47FD-872E-CA05B0DDF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C03D-A17F-4CE0-B1B3-1693EA33F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EC77-272E-489C-9205-99D42B65E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88D2-598E-4271-9DE0-CE5493E9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2B92-2698-4BC2-8479-267D15B23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EF76B-0898-4998-97C4-F1C786D0F43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304920" y="1676520"/>
            <a:ext cx="5486400" cy="5181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762120" y="914400"/>
            <a:ext cx="7391160" cy="2514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91216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99cc"/>
                </a:solidFill>
                <a:latin typeface="Impact"/>
              </a:rPr>
              <a:t>welcome to the unit</a:t>
            </a:r>
            <a:endParaRPr b="0" lang="en-US" sz="1800" spc="-1" strike="noStrike">
              <a:ln w="9360">
                <a:solidFill>
                  <a:srgbClr val="00ff00"/>
                </a:solidFill>
                <a:miter/>
              </a:ln>
              <a:solidFill>
                <a:srgbClr val="ff99cc"/>
              </a:solidFill>
              <a:latin typeface="Impact"/>
              <a:ea typeface="Impact"/>
            </a:endParaRPr>
          </a:p>
        </p:txBody>
      </p:sp>
      <p:sp>
        <p:nvSpPr>
          <p:cNvPr id="43" name=""/>
          <p:cNvSpPr/>
          <p:nvPr/>
        </p:nvSpPr>
        <p:spPr>
          <a:xfrm>
            <a:off x="4724280" y="2819520"/>
            <a:ext cx="441972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It’s time for class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It’s time to have our class</a:t>
            </a:r>
            <a:r>
              <a:rPr b="1" lang="en-US" sz="54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-378000" y="-1063800"/>
            <a:ext cx="10941120" cy="8925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1092240" y="635040"/>
            <a:ext cx="713736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003300"/>
                  </a:solidFill>
                  <a:miter/>
                </a:ln>
                <a:solidFill>
                  <a:srgbClr val="ff99cc"/>
                </a:solidFill>
                <a:effectLst>
                  <a:outerShdw dist="53966" dir="2700000" blurRad="0" rotWithShape="0">
                    <a:srgbClr val="c0c0c0">
                      <a:alpha val="79000"/>
                    </a:srgbClr>
                  </a:outerShdw>
                </a:effectLst>
                <a:latin typeface="Arial"/>
              </a:rPr>
              <a:t>Task</a:t>
            </a:r>
            <a:endParaRPr b="1" lang="en-US" sz="6600" spc="1" strike="noStrike">
              <a:ln w="12600">
                <a:solidFill>
                  <a:srgbClr val="003300"/>
                </a:solidFill>
                <a:miter/>
              </a:ln>
              <a:solidFill>
                <a:srgbClr val="ff99cc"/>
              </a:solidFill>
              <a:effectLst>
                <a:outerShdw dist="53966" dir="2700000" blurRad="0" rotWithShape="0">
                  <a:srgbClr val="c0c0c0">
                    <a:alpha val="79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3276720"/>
            <a:ext cx="5688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99"/>
                </a:solidFill>
                <a:latin typeface="Arial"/>
                <a:ea typeface="华文新魏"/>
              </a:rPr>
              <a:t>Unit 4 </a:t>
            </a:r>
            <a:r>
              <a:rPr b="1" lang="zh-CN" sz="5400" spc="-1" strike="noStrike">
                <a:solidFill>
                  <a:srgbClr val="ff3399"/>
                </a:solidFill>
                <a:latin typeface="Arial"/>
              </a:rPr>
              <a:t>My d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371600" y="0"/>
            <a:ext cx="5791320" cy="915840"/>
          </a:xfrm>
          <a:prstGeom prst="flowChartTerminator">
            <a:avLst/>
          </a:prstGeom>
          <a:solidFill>
            <a:srgbClr val="3366ff"/>
          </a:solidFill>
          <a:ln w="475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743200" y="0"/>
            <a:ext cx="335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Acti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9907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t’s do “students in role”. Just suppose that you are Millie. Why do you like morning exercises. Please give some other reas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27432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) I like morning exercises because they can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32767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) I love all my lessons because I can 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38862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) I dislike basketball because I cannot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44956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) I love reading because the book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52578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5) I like drawing because the colou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60199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) I dislike homework because sometimes it is 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629400" y="266688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make me strong</a:t>
            </a:r>
            <a:r>
              <a:rPr b="0" lang="en-US" sz="3200" spc="-1" strike="noStrike">
                <a:solidFill>
                  <a:srgbClr val="cc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91320" y="320040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learn a lot in class</a:t>
            </a:r>
            <a:r>
              <a:rPr b="0" lang="en-US" sz="3200" spc="-1" strike="noStrike">
                <a:solidFill>
                  <a:srgbClr val="cc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943600" y="380988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run very fast</a:t>
            </a:r>
            <a:r>
              <a:rPr b="0" lang="en-US" sz="3200" spc="-1" strike="noStrike">
                <a:solidFill>
                  <a:srgbClr val="cc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44197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very interesting</a:t>
            </a:r>
            <a:r>
              <a:rPr b="0" lang="en-US" sz="3200" spc="-1" strike="noStrike">
                <a:solidFill>
                  <a:srgbClr val="cc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172200" y="518148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all very beautiful</a:t>
            </a:r>
            <a:r>
              <a:rPr b="0" lang="en-US" sz="3200" spc="-1" strike="noStrike">
                <a:solidFill>
                  <a:srgbClr val="cc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010280" y="594360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too difficult</a:t>
            </a:r>
            <a:r>
              <a:rPr b="0" lang="en-US" sz="3200" spc="-1" strike="noStrike">
                <a:solidFill>
                  <a:srgbClr val="cc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124080" y="38088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Comic Sans MS"/>
              </a:rPr>
              <a:t>Discu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447920" y="304920"/>
            <a:ext cx="5790960" cy="915840"/>
          </a:xfrm>
          <a:prstGeom prst="flowChartTerminator">
            <a:avLst/>
          </a:prstGeom>
          <a:solidFill>
            <a:srgbClr val="3366ff"/>
          </a:solidFill>
          <a:ln w="475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819520" y="304920"/>
            <a:ext cx="289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00"/>
                </a:solidFill>
                <a:latin typeface="Comic Sans MS"/>
              </a:rPr>
              <a:t>Discus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137160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ad Millie’s diary and answer the questions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312408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What does she write in the first paragrap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4114800"/>
            <a:ext cx="9448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What does she write in the second paragrap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518148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What is  Paragraph Three ab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358128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Arial"/>
              </a:rPr>
              <a:t>It’s about her loves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143000" y="464832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Arial"/>
              </a:rPr>
              <a:t>It’s about her likes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219320" y="5715000"/>
            <a:ext cx="44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Arial"/>
              </a:rPr>
              <a:t>It’s about her dislik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’s your turn now .Can you design your own happiness char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re your likes and dislike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 in groups of four. Discuss your likes and dislikes with your classmates. You should also tell the reas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 your own happiness ch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600200" y="379440"/>
            <a:ext cx="5791320" cy="915840"/>
          </a:xfrm>
          <a:prstGeom prst="flowChartTerminator">
            <a:avLst/>
          </a:prstGeom>
          <a:solidFill>
            <a:srgbClr val="3366ff"/>
          </a:solidFill>
          <a:ln w="475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62880" y="390600"/>
            <a:ext cx="3478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Group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y your best write your own article . You can use some useful expressions on Page 52. You can also use Millie’s diary as a mode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00200" y="379440"/>
            <a:ext cx="5791320" cy="915840"/>
          </a:xfrm>
          <a:prstGeom prst="flowChartTerminator">
            <a:avLst/>
          </a:prstGeom>
          <a:solidFill>
            <a:srgbClr val="3366ff"/>
          </a:solidFill>
          <a:ln w="475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160080" y="390600"/>
            <a:ext cx="228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Wr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676520" y="0"/>
            <a:ext cx="5790960" cy="915840"/>
          </a:xfrm>
          <a:prstGeom prst="flowChartTerminator">
            <a:avLst/>
          </a:prstGeom>
          <a:solidFill>
            <a:srgbClr val="3366ff"/>
          </a:solidFill>
          <a:ln w="475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182760" y="0"/>
            <a:ext cx="255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3520" y="114300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love …at school. Our teacher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re…and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1752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bjects … .  I love … too.  I can … 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9480" y="236232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like…  . They are … 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y hel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… . I als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32004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ke . It is …  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9480" y="388620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do not like … . I am not … , so I can not … 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457200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dislike … because we always …  .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3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8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3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Times New Roman"/>
              </a:rPr>
              <a:t>Useful phras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-360" y="1218960"/>
            <a:ext cx="937260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. be good for 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. help sb. do sth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3. get ready for the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4. play  w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5. learn a lot about …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6. have too much home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7. like draw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029200" y="1233360"/>
            <a:ext cx="41148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…有好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益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184720" y="1905120"/>
            <a:ext cx="36543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帮助某人做某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2320" y="2604960"/>
            <a:ext cx="30495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为一天做准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57800" y="3276720"/>
            <a:ext cx="21337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打得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410080" y="3962520"/>
            <a:ext cx="38862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学习许多关于…的知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943600" y="4586400"/>
            <a:ext cx="32004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太多的家庭作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181480" y="5348160"/>
            <a:ext cx="32004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喜欢画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1"/>
          <p:cNvSpPr/>
          <p:nvPr/>
        </p:nvSpPr>
        <p:spPr>
          <a:xfrm>
            <a:off x="0" y="33480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1. dis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1"/>
          <p:cNvSpPr/>
          <p:nvPr/>
        </p:nvSpPr>
        <p:spPr>
          <a:xfrm>
            <a:off x="0" y="175248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) I dislike __________ (eat) me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1"/>
          <p:cNvSpPr/>
          <p:nvPr/>
        </p:nvSpPr>
        <p:spPr>
          <a:xfrm>
            <a:off x="7543800" y="48150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好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982880" y="462132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-76320" y="4815000"/>
            <a:ext cx="89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) Fruit and vegetables ____ _____ ____ Childr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191120" y="475452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124080" y="54864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b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1"/>
          <p:cNvSpPr/>
          <p:nvPr/>
        </p:nvSpPr>
        <p:spPr>
          <a:xfrm>
            <a:off x="0" y="2438280"/>
            <a:ext cx="922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) Daniel  ________ ________ __________.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喜欢打篮球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1"/>
          <p:cNvSpPr/>
          <p:nvPr/>
        </p:nvSpPr>
        <p:spPr>
          <a:xfrm>
            <a:off x="3200400" y="68580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 _____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613400" y="2452680"/>
            <a:ext cx="178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asketb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107160" y="2438280"/>
            <a:ext cx="13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lay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601640" y="2438280"/>
            <a:ext cx="134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islik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1"/>
          <p:cNvSpPr/>
          <p:nvPr/>
        </p:nvSpPr>
        <p:spPr>
          <a:xfrm>
            <a:off x="2133720" y="318960"/>
            <a:ext cx="67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n/v  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不喜欢，厌恶（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like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的反义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83960" y="1752480"/>
            <a:ext cx="122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335920" y="4815000"/>
            <a:ext cx="65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0" y="557676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) Watching TV ___ ____ ____ your ey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506760" y="480060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667960" y="55627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1"/>
          <p:cNvSpPr/>
          <p:nvPr/>
        </p:nvSpPr>
        <p:spPr>
          <a:xfrm>
            <a:off x="0" y="37638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2. be good for …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对…有好处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有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114800" y="551664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1"/>
          <p:cNvSpPr/>
          <p:nvPr/>
        </p:nvSpPr>
        <p:spPr>
          <a:xfrm>
            <a:off x="380880" y="99072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dislike doing  sth.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不喜欢做某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304920" y="419112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be bad   for …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对…有坏处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有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6781680" y="557676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11"/>
          <p:cNvSpPr/>
          <p:nvPr/>
        </p:nvSpPr>
        <p:spPr>
          <a:xfrm>
            <a:off x="0" y="48744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3. he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0" y="342900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谢谢你帮助我完成了这项工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981080" y="464832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1"/>
          <p:cNvSpPr/>
          <p:nvPr/>
        </p:nvSpPr>
        <p:spPr>
          <a:xfrm>
            <a:off x="-76320" y="2300400"/>
            <a:ext cx="89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) I can help you __________ (learn)  Englis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505320" y="380988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1"/>
          <p:cNvSpPr/>
          <p:nvPr/>
        </p:nvSpPr>
        <p:spPr>
          <a:xfrm>
            <a:off x="0" y="3886200"/>
            <a:ext cx="922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ank you  ____ _______ ____ ______ this wor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1"/>
          <p:cNvSpPr/>
          <p:nvPr/>
        </p:nvSpPr>
        <p:spPr>
          <a:xfrm>
            <a:off x="3200400" y="68580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 _____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669400" y="3886200"/>
            <a:ext cx="132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el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982520" y="390060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1"/>
          <p:cNvSpPr/>
          <p:nvPr/>
        </p:nvSpPr>
        <p:spPr>
          <a:xfrm>
            <a:off x="1752480" y="54756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V.  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帮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669400" y="2286000"/>
            <a:ext cx="170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to) lea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02040" y="3900600"/>
            <a:ext cx="101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in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1"/>
          <p:cNvSpPr/>
          <p:nvPr/>
        </p:nvSpPr>
        <p:spPr>
          <a:xfrm>
            <a:off x="304920" y="1096920"/>
            <a:ext cx="876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help sb (to)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do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sth.   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帮助某人做某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1"/>
          <p:cNvSpPr/>
          <p:nvPr/>
        </p:nvSpPr>
        <p:spPr>
          <a:xfrm>
            <a:off x="380880" y="160020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help sb with sth.   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在某方面帮助某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2362320" y="28195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_____ 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745360" y="2819520"/>
            <a:ext cx="89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736440" y="281952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y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11"/>
          <p:cNvSpPr/>
          <p:nvPr/>
        </p:nvSpPr>
        <p:spPr>
          <a:xfrm>
            <a:off x="0" y="30492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4. get ready for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1"/>
          <p:cNvSpPr/>
          <p:nvPr/>
        </p:nvSpPr>
        <p:spPr>
          <a:xfrm>
            <a:off x="533520" y="2362320"/>
            <a:ext cx="69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e must _____ ______ _____ cla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982880" y="462132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457200" y="3900600"/>
            <a:ext cx="89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illie always _____ ______ _____ the ex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1"/>
          <p:cNvSpPr/>
          <p:nvPr/>
        </p:nvSpPr>
        <p:spPr>
          <a:xfrm>
            <a:off x="0" y="1752480"/>
            <a:ext cx="922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我们必须做好上课的准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735720" y="38862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ea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725560" y="3900600"/>
            <a:ext cx="85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1"/>
          <p:cNvSpPr/>
          <p:nvPr/>
        </p:nvSpPr>
        <p:spPr>
          <a:xfrm>
            <a:off x="3733920" y="3808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为…做准备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准备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2280" y="3276720"/>
            <a:ext cx="541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Milli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总是为考试做准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954320" y="390060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217600" y="237636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116520" y="236232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ea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344840" y="236232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472428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关野炊的一切事宜已准备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668320" y="5257800"/>
            <a:ext cx="43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278520" y="52578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ea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497120" y="525780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1"/>
          <p:cNvSpPr/>
          <p:nvPr/>
        </p:nvSpPr>
        <p:spPr>
          <a:xfrm>
            <a:off x="457200" y="99072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be ready for……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准备好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1"/>
          <p:cNvSpPr/>
          <p:nvPr/>
        </p:nvSpPr>
        <p:spPr>
          <a:xfrm>
            <a:off x="533520" y="5257800"/>
            <a:ext cx="899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verything _____ _____ _____ the picn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6" dur="indefinite" restart="never" nodeType="tmRoot">
          <p:childTnLst>
            <p:seq>
              <p:cTn id="867" dur="indefinite" nodeType="mainSeq">
                <p:childTnLst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11"/>
          <p:cNvSpPr/>
          <p:nvPr/>
        </p:nvSpPr>
        <p:spPr>
          <a:xfrm>
            <a:off x="0" y="79200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5. learn a lot about 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1"/>
          <p:cNvSpPr/>
          <p:nvPr/>
        </p:nvSpPr>
        <p:spPr>
          <a:xfrm>
            <a:off x="2438280" y="228600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学习许多有关动物的知识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982880" y="462132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1"/>
          <p:cNvSpPr/>
          <p:nvPr/>
        </p:nvSpPr>
        <p:spPr>
          <a:xfrm>
            <a:off x="2971800" y="4510080"/>
            <a:ext cx="89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想了解许多关于这个国家的知识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1"/>
          <p:cNvSpPr/>
          <p:nvPr/>
        </p:nvSpPr>
        <p:spPr>
          <a:xfrm>
            <a:off x="76320" y="1752480"/>
            <a:ext cx="9219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my likes animals so she wants ___ ______ ____ _____ ______ anim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1"/>
          <p:cNvSpPr/>
          <p:nvPr/>
        </p:nvSpPr>
        <p:spPr>
          <a:xfrm>
            <a:off x="3200400" y="68580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 _____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936480" y="3505320"/>
            <a:ext cx="9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ea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226200" y="350532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1"/>
          <p:cNvSpPr/>
          <p:nvPr/>
        </p:nvSpPr>
        <p:spPr>
          <a:xfrm>
            <a:off x="4267080" y="76212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学习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了解许多关于…的知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52280" y="3525840"/>
            <a:ext cx="944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 study in England because I _____ ____ ______ ____ ____ ______ this coun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992520" y="396252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b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487840" y="175248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467840" y="17524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161680" y="350532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8120" y="214776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b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307360" y="1752480"/>
            <a:ext cx="5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187320" y="1752480"/>
            <a:ext cx="9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ea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06360" y="3962520"/>
            <a:ext cx="5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8231400" y="3505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2" dur="indefinite" restart="never" nodeType="tmRoot">
          <p:childTnLst>
            <p:seq>
              <p:cTn id="983" dur="indefinite" nodeType="mainSeq">
                <p:childTnLst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91440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do you think of your schoo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14400" y="0"/>
            <a:ext cx="7620120" cy="915840"/>
          </a:xfrm>
          <a:prstGeom prst="flowChartTerminator">
            <a:avLst/>
          </a:prstGeom>
          <a:solidFill>
            <a:srgbClr val="3366ff"/>
          </a:solidFill>
          <a:ln w="475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96560" y="0"/>
            <a:ext cx="726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Talk and learn new phra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29528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 you like i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your school lif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nteresting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74320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 have some pictures here. What activity is this in the picture? Do you like it? Why do you like it? Why don’t you like it? Why do you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islik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057400" y="411480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不喜欢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讨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2860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Is it  colourful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48006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t’s talk about our school activities . I want to know your likes and your dislikes .Are you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ead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 Do you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get ready fo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la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21648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adj.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准备好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00400" y="64008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为… 准备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11"/>
          <p:cNvSpPr/>
          <p:nvPr/>
        </p:nvSpPr>
        <p:spPr>
          <a:xfrm>
            <a:off x="0" y="76212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6.  too much +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不可数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n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1"/>
          <p:cNvSpPr/>
          <p:nvPr/>
        </p:nvSpPr>
        <p:spPr>
          <a:xfrm>
            <a:off x="533520" y="1371600"/>
            <a:ext cx="44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too many +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可数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n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复数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1"/>
          <p:cNvSpPr/>
          <p:nvPr/>
        </p:nvSpPr>
        <p:spPr>
          <a:xfrm>
            <a:off x="5410080" y="7621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太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1"/>
          <p:cNvSpPr/>
          <p:nvPr/>
        </p:nvSpPr>
        <p:spPr>
          <a:xfrm>
            <a:off x="5410080" y="12952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太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1"/>
          <p:cNvSpPr/>
          <p:nvPr/>
        </p:nvSpPr>
        <p:spPr>
          <a:xfrm>
            <a:off x="533520" y="19810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much too + adj. / adv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1"/>
          <p:cNvSpPr/>
          <p:nvPr/>
        </p:nvSpPr>
        <p:spPr>
          <a:xfrm>
            <a:off x="5410080" y="19810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简直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1"/>
          <p:cNvSpPr/>
          <p:nvPr/>
        </p:nvSpPr>
        <p:spPr>
          <a:xfrm>
            <a:off x="304920" y="281952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) ________ ____ _____ TV  is  bad for your ey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1"/>
          <p:cNvSpPr/>
          <p:nvPr/>
        </p:nvSpPr>
        <p:spPr>
          <a:xfrm>
            <a:off x="2362320" y="33526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视看的太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1"/>
          <p:cNvSpPr/>
          <p:nvPr/>
        </p:nvSpPr>
        <p:spPr>
          <a:xfrm>
            <a:off x="609480" y="281952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at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1"/>
          <p:cNvSpPr/>
          <p:nvPr/>
        </p:nvSpPr>
        <p:spPr>
          <a:xfrm>
            <a:off x="304920" y="38862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) There are _____ ______  cars  in the pa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1"/>
          <p:cNvSpPr/>
          <p:nvPr/>
        </p:nvSpPr>
        <p:spPr>
          <a:xfrm>
            <a:off x="304920" y="46483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) The picture is _____ _______ beautifu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1"/>
          <p:cNvSpPr/>
          <p:nvPr/>
        </p:nvSpPr>
        <p:spPr>
          <a:xfrm>
            <a:off x="2438280" y="38862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o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1"/>
          <p:cNvSpPr/>
          <p:nvPr/>
        </p:nvSpPr>
        <p:spPr>
          <a:xfrm>
            <a:off x="2362320" y="28195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o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1"/>
          <p:cNvSpPr/>
          <p:nvPr/>
        </p:nvSpPr>
        <p:spPr>
          <a:xfrm>
            <a:off x="3048120" y="281952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u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1"/>
          <p:cNvSpPr/>
          <p:nvPr/>
        </p:nvSpPr>
        <p:spPr>
          <a:xfrm>
            <a:off x="3352680" y="38862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1"/>
          <p:cNvSpPr/>
          <p:nvPr/>
        </p:nvSpPr>
        <p:spPr>
          <a:xfrm>
            <a:off x="2895480" y="464832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u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1"/>
          <p:cNvSpPr/>
          <p:nvPr/>
        </p:nvSpPr>
        <p:spPr>
          <a:xfrm>
            <a:off x="4267080" y="46483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o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0" dur="indefinite" restart="never" nodeType="tmRoot">
          <p:childTnLst>
            <p:seq>
              <p:cTn id="1091" dur="indefinite" nodeType="mainSeq">
                <p:childTnLst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486400" y="609480"/>
            <a:ext cx="2629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morning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exerci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-76320" y="34290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Do you like doing morning exercises ?  Why……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-76320" y="48006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morning exercises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s good fo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u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54100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y help us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get ready fo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he da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638680" y="441972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Verdana"/>
              </a:rPr>
              <a:t>对…有好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971800" y="609588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0000"/>
                </a:solidFill>
                <a:latin typeface="Verdana"/>
              </a:rPr>
              <a:t>为…准备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rcRect l="0" t="0" r="0" b="25"/>
          <a:stretch/>
        </p:blipFill>
        <p:spPr>
          <a:xfrm>
            <a:off x="304920" y="228600"/>
            <a:ext cx="3047760" cy="2743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5715000" y="2286000"/>
            <a:ext cx="932040" cy="8222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7010280" y="243828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Verdana"/>
              </a:rPr>
              <a:t>(lik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3048120" y="228600"/>
            <a:ext cx="201600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410080" cy="38862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486400" y="89856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Verdana"/>
              </a:rPr>
              <a:t> </a:t>
            </a:r>
            <a:r>
              <a:rPr b="1" i="1" lang="en-US" sz="3600" spc="-1" strike="noStrike">
                <a:solidFill>
                  <a:srgbClr val="0000cc"/>
                </a:solidFill>
                <a:latin typeface="Verdana"/>
              </a:rPr>
              <a:t>lessons</a:t>
            </a:r>
            <a:r>
              <a:rPr b="1" i="1" lang="en-US" sz="4000" spc="-1" strike="noStrike">
                <a:solidFill>
                  <a:srgbClr val="0000cc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6320" y="38862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Do you like having Chinese lessons ?  Why……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6320" y="51814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Because the teacher 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is nice to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u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6320" y="58672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Chinese lessons are 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very interesting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5791320" y="2057400"/>
            <a:ext cx="990360" cy="9144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7010280" y="220968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Verdana"/>
              </a:rPr>
              <a:t>(lo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181480" cy="38307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691960" y="1219320"/>
            <a:ext cx="226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cc"/>
                </a:solidFill>
                <a:latin typeface="Verdana"/>
              </a:rPr>
              <a:t>Read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6320" y="3962520"/>
            <a:ext cx="9067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Do you like reading ?  Why……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-76320" y="4800600"/>
            <a:ext cx="937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I can 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learn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a lot about the 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world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19400" y="5257800"/>
            <a:ext cx="119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0000"/>
                </a:solidFill>
                <a:latin typeface="Verdana"/>
              </a:rPr>
              <a:t>v. </a:t>
            </a:r>
            <a:r>
              <a:rPr b="1" i="1" lang="zh-CN" sz="2800" spc="-1" strike="noStrike">
                <a:solidFill>
                  <a:srgbClr val="ff0000"/>
                </a:solidFill>
                <a:latin typeface="Verdana"/>
              </a:rPr>
              <a:t>学习</a:t>
            </a:r>
            <a:r>
              <a:rPr b="1" i="1" lang="zh-CN" sz="40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587000" y="4800600"/>
            <a:ext cx="136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0000"/>
                </a:solidFill>
                <a:latin typeface="Verdana"/>
              </a:rPr>
              <a:t>n. </a:t>
            </a:r>
            <a:r>
              <a:rPr b="1" i="1" lang="zh-CN" sz="3200" spc="-1" strike="noStrike">
                <a:solidFill>
                  <a:srgbClr val="ff0000"/>
                </a:solidFill>
                <a:latin typeface="Verdana"/>
              </a:rPr>
              <a:t>世界</a:t>
            </a:r>
            <a:r>
              <a:rPr b="1" i="1" lang="zh-CN" sz="40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066680" y="5867280"/>
            <a:ext cx="335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cc"/>
                </a:solidFill>
                <a:latin typeface="Times New Roman"/>
              </a:rPr>
              <a:t>learn a lot abou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495680" y="5867280"/>
            <a:ext cx="388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cc"/>
                </a:solidFill>
                <a:latin typeface="Times New Roman"/>
              </a:rPr>
              <a:t>了解</a:t>
            </a:r>
            <a:r>
              <a:rPr b="0" lang="zh-CN" sz="3200" spc="-1" strike="noStrike">
                <a:solidFill>
                  <a:srgbClr val="cc00cc"/>
                </a:solidFill>
                <a:latin typeface="Times New Roman"/>
              </a:rPr>
              <a:t>/</a:t>
            </a:r>
            <a:r>
              <a:rPr b="0" lang="zh-CN" sz="3200" spc="-1" strike="noStrike">
                <a:solidFill>
                  <a:srgbClr val="cc00cc"/>
                </a:solidFill>
                <a:latin typeface="Times New Roman"/>
              </a:rPr>
              <a:t>学校许多关于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5791320" y="2057400"/>
            <a:ext cx="990360" cy="9144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7010280" y="220968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Verdana"/>
              </a:rPr>
              <a:t>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524560" y="990720"/>
            <a:ext cx="2781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3124080"/>
            <a:ext cx="9067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Do you like homework 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4419720"/>
            <a:ext cx="9067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Why do you 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dislike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homework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90920" y="403848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0000"/>
                </a:solidFill>
                <a:latin typeface="Verdana"/>
              </a:rPr>
              <a:t>不喜欢，厌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334120"/>
            <a:ext cx="9067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We always have 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too much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homework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267080" y="505944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0000"/>
                </a:solidFill>
                <a:latin typeface="Verdana"/>
              </a:rPr>
              <a:t>太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6019920"/>
            <a:ext cx="9067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The homework is 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difficult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95880" y="61722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0000"/>
                </a:solidFill>
                <a:latin typeface="Verdana"/>
              </a:rPr>
              <a:t>难的，困难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3962520" cy="27432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5867280" y="1981080"/>
            <a:ext cx="878040" cy="8226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7086600" y="21337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Verdana"/>
              </a:rPr>
              <a:t>disl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990720"/>
            <a:ext cx="9296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re are many activities in Millie’s school . Do you want to know her likes and dislikes? Look at Millie’s happiness chart in Part A. Please tell me 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2400" y="2362320"/>
            <a:ext cx="86648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What activities does Millie love /like/disli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2895480"/>
            <a:ext cx="63244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She loves lessons and rea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828800" y="0"/>
            <a:ext cx="4952880" cy="915840"/>
          </a:xfrm>
          <a:prstGeom prst="flowChartTerminator">
            <a:avLst/>
          </a:prstGeom>
          <a:solidFill>
            <a:srgbClr val="3366ff"/>
          </a:solidFill>
          <a:ln w="475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10280" y="228600"/>
            <a:ext cx="366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ead and 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3429000"/>
            <a:ext cx="8458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She likes morning exercises and draw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3962520"/>
            <a:ext cx="7696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She dislikes basketball and home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5029200"/>
            <a:ext cx="9296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lease read the rest of Part A. Can you tell me the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reaso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 of her likes and dislik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5943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0000"/>
                </a:solidFill>
                <a:latin typeface="Verdana"/>
              </a:rPr>
              <a:t>原因，理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80880" y="335268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Becaus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he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 is not tall.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he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 cannot play it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426708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Arial"/>
              </a:rPr>
              <a:t>Becaus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he</a:t>
            </a:r>
            <a:r>
              <a:rPr b="0" lang="en-US" sz="3200" spc="-1" strike="noStrike">
                <a:solidFill>
                  <a:srgbClr val="cc00cc"/>
                </a:solidFill>
                <a:latin typeface="Arial"/>
              </a:rPr>
              <a:t> can learn a lot about the 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129528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cc"/>
                </a:solidFill>
                <a:latin typeface="Arial"/>
              </a:rPr>
              <a:t>Because they are good for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hem</a:t>
            </a:r>
            <a:r>
              <a:rPr b="1" i="1" lang="en-US" sz="2400" spc="-1" strike="noStrike">
                <a:solidFill>
                  <a:srgbClr val="cc00cc"/>
                </a:solidFill>
                <a:latin typeface="Arial"/>
              </a:rPr>
              <a:t>. They can help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hem</a:t>
            </a:r>
            <a:r>
              <a:rPr b="1" i="1" lang="en-US" sz="2400" spc="-1" strike="noStrike">
                <a:solidFill>
                  <a:srgbClr val="cc00cc"/>
                </a:solidFill>
                <a:latin typeface="Arial"/>
              </a:rPr>
              <a:t> get ready for the 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95280" y="0"/>
            <a:ext cx="7543800" cy="915840"/>
          </a:xfrm>
          <a:prstGeom prst="flowChartTerminator">
            <a:avLst/>
          </a:prstGeom>
          <a:solidFill>
            <a:srgbClr val="3366ff"/>
          </a:solidFill>
          <a:ln w="475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95280" y="0"/>
            <a:ext cx="701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Read the form and answe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83808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Why does she like morning exerci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198108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Why does she love all her less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243828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Because teachers are nice and the subjects are inter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289548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Why does she dislike basketba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380988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Why does she love read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480060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Why does she like draw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52578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Arial"/>
              </a:rPr>
              <a:t>Because it is fu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57913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Why does she dislike home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3520" y="633888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Becaus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ey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 always have too much ho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523880" y="914400"/>
            <a:ext cx="5791320" cy="915840"/>
          </a:xfrm>
          <a:prstGeom prst="flowChartTerminator">
            <a:avLst/>
          </a:prstGeom>
          <a:solidFill>
            <a:srgbClr val="3366ff"/>
          </a:solidFill>
          <a:ln w="475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819520" y="914400"/>
            <a:ext cx="365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00"/>
                </a:solidFill>
                <a:latin typeface="Comic Sans MS"/>
              </a:rPr>
              <a:t>Do part 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2438280"/>
            <a:ext cx="8915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llie is writing about her likes and dislikes in her diary. Can you help her complete her diary entry in Part B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为您服务教育网　http://www.wsbedu.com/</dc:creator>
  <dc:description/>
  <dc:language>en-US</dc:language>
  <cp:lastModifiedBy>whb</cp:lastModifiedBy>
  <dcterms:modified xsi:type="dcterms:W3CDTF">2015-07-13T11:29:24Z</dcterms:modified>
  <cp:revision>102</cp:revision>
  <dc:subject/>
  <dc:title>为您服务教育网　http://www.wsbedu.com/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408000000000001024140</vt:lpwstr>
  </property>
  <property fmtid="{D5CDD505-2E9C-101B-9397-08002B2CF9AE}" pid="3" name="Version">
    <vt:r8>1</vt:r8>
  </property>
</Properties>
</file>