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5"/>
          <p:cNvSpPr/>
          <p:nvPr/>
        </p:nvSpPr>
        <p:spPr>
          <a:xfrm>
            <a:off x="1116000" y="3282840"/>
            <a:ext cx="7345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Section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课时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c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6"/>
          <p:cNvSpPr/>
          <p:nvPr/>
        </p:nvSpPr>
        <p:spPr>
          <a:xfrm>
            <a:off x="0" y="1482840"/>
            <a:ext cx="9144000" cy="1523880"/>
          </a:xfrm>
          <a:prstGeom prst="rect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044720" y="1555920"/>
            <a:ext cx="74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Unit 7 It's raining!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8"/>
          <p:cNvSpPr/>
          <p:nvPr/>
        </p:nvSpPr>
        <p:spPr>
          <a:xfrm flipV="1">
            <a:off x="612720" y="2418840"/>
            <a:ext cx="770436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84360" y="1413000"/>
            <a:ext cx="77770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's the weather in Shangha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's the weather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意为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气怎么样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该句型常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用于询问天气状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其同义句为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’s the weather like?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611280" y="260280"/>
            <a:ext cx="4660920" cy="1111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5280" y="1547640"/>
            <a:ext cx="849780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th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不可数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意为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，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同音异形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ther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是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常用短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e weathe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晴天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udy weather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阴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ther foreca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气预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611280" y="260280"/>
            <a:ext cx="4660920" cy="1111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55640" y="54936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95280" y="1312920"/>
            <a:ext cx="8353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’s clo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ud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形容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阴天的，多云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，是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名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u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加上后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构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英语中有许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名词可以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构成形容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样的词叫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派生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如表达天气的形容词还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ind 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 + y = wind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有风的，多风的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rain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 + 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rain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有雨的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611280" y="260280"/>
            <a:ext cx="4660920" cy="1111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6720" y="1460520"/>
            <a:ext cx="849636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n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太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y = sunn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阳光明媚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now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y = snow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雪的，多雪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注：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一个元音字母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一个辅音字母”结尾的名词，需先双写末尾的辅音字母，再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才能变成形容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太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y = sunny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晴朗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阳光灿烂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y =f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雾的，模糊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611280" y="260280"/>
            <a:ext cx="4660920" cy="1111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541440" y="1379520"/>
            <a:ext cx="83516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rain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名词时，分为可数和不可数两种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当表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雨”时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不可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当表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一阵雨；雨季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可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avy rain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场大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意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下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raining outside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面在下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611280" y="260280"/>
            <a:ext cx="4660920" cy="1111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92120" y="1198080"/>
            <a:ext cx="85420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所给词的适当形式完成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It’s kind of hot because it’s 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’s the weather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Look, they 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lish under the tree over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ank you for 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sh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t’s a beautiful 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Everyone 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a good time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796000" y="1844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24000" y="30700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76720" y="371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stu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849840" y="4869000"/>
            <a:ext cx="17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o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52720" y="5589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916360" y="6165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2987640" y="260280"/>
            <a:ext cx="2951280" cy="863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7632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结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95280" y="1341360"/>
            <a:ext cx="842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选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--- _____ the weather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It's s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When's             B. What's              C. How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---How's the we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It's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wind                 B. sun                   C. cl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-2880" y="-72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-2880" y="-72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2880" y="-72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547640" y="1989000"/>
            <a:ext cx="6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100240" y="494172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2987640" y="260280"/>
            <a:ext cx="2951280" cy="863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7632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结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1341360"/>
            <a:ext cx="889308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 按要求完成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nn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re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对划线部分提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he weather there?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回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students are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ving an English clas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划线提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-2880" y="-72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2880" y="-72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-2880" y="-72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2565360"/>
            <a:ext cx="80643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is the weather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’s the weather lik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39640" y="44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’s s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84360" y="609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are the students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2987640" y="260280"/>
            <a:ext cx="2951280" cy="863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7632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结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195640" y="1916280"/>
            <a:ext cx="5256000" cy="13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619280" y="3933720"/>
            <a:ext cx="6697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完成当堂测评作业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7485157_073341707000_2副本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416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324000" y="460296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在寻求真理的长河中，唯有学习，不断地学习，勤奋地学习，有创造性地学习，才能越重山跨峻岭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——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华罗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图形1"/>
          <p:cNvPicPr/>
          <p:nvPr/>
        </p:nvPicPr>
        <p:blipFill>
          <a:blip r:embed="rId3"/>
          <a:stretch/>
        </p:blipFill>
        <p:spPr>
          <a:xfrm>
            <a:off x="1066680" y="533520"/>
            <a:ext cx="7391520" cy="62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图21"/>
          <p:cNvPicPr/>
          <p:nvPr/>
        </p:nvPicPr>
        <p:blipFill>
          <a:blip r:embed="rId4"/>
          <a:stretch/>
        </p:blipFill>
        <p:spPr>
          <a:xfrm>
            <a:off x="380880" y="3276720"/>
            <a:ext cx="221004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324000" y="260280"/>
            <a:ext cx="4751280" cy="14400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s the we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Beij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02bOOOPIC00_202"/>
          <p:cNvPicPr/>
          <p:nvPr/>
        </p:nvPicPr>
        <p:blipFill>
          <a:blip r:embed="rId1"/>
          <a:stretch/>
        </p:blipFill>
        <p:spPr>
          <a:xfrm>
            <a:off x="324000" y="1989000"/>
            <a:ext cx="2565360" cy="2463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0911161602eb26d40fee8229a5"/>
          <p:cNvPicPr/>
          <p:nvPr/>
        </p:nvPicPr>
        <p:blipFill>
          <a:blip r:embed="rId2"/>
          <a:stretch/>
        </p:blipFill>
        <p:spPr>
          <a:xfrm>
            <a:off x="3419640" y="3789360"/>
            <a:ext cx="2808000" cy="266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26bOOOPIC27a"/>
          <p:cNvPicPr/>
          <p:nvPr/>
        </p:nvPicPr>
        <p:blipFill>
          <a:blip r:embed="rId3"/>
          <a:stretch/>
        </p:blipFill>
        <p:spPr>
          <a:xfrm>
            <a:off x="6443640" y="2060640"/>
            <a:ext cx="2374920" cy="1888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68360" y="4653000"/>
            <a:ext cx="24480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ran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372360" y="4365720"/>
            <a:ext cx="2447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clou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419640" y="2637000"/>
            <a:ext cx="2447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sun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3780000" y="476280"/>
            <a:ext cx="5113080" cy="15112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bout the we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Shangha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20078810104145_1"/>
          <p:cNvPicPr/>
          <p:nvPr/>
        </p:nvPicPr>
        <p:blipFill>
          <a:blip r:embed="rId1"/>
          <a:stretch/>
        </p:blipFill>
        <p:spPr>
          <a:xfrm>
            <a:off x="395280" y="1413000"/>
            <a:ext cx="2665440" cy="250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Img367781326"/>
          <p:cNvPicPr/>
          <p:nvPr/>
        </p:nvPicPr>
        <p:blipFill>
          <a:blip r:embed="rId2"/>
          <a:stretch/>
        </p:blipFill>
        <p:spPr>
          <a:xfrm>
            <a:off x="3348000" y="3429000"/>
            <a:ext cx="2808360" cy="2583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564000" y="2349360"/>
            <a:ext cx="24480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sun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84360" y="549360"/>
            <a:ext cx="2447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snow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300720" y="3500280"/>
            <a:ext cx="2592360" cy="1297080"/>
          </a:xfrm>
          <a:prstGeom prst="ellipse">
            <a:avLst/>
          </a:prstGeom>
          <a:solidFill>
            <a:srgbClr val="66ffff"/>
          </a:solidFill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9640" y="4149720"/>
            <a:ext cx="2016360" cy="642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300720" y="5373720"/>
            <a:ext cx="2016360" cy="642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h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1258920" y="260280"/>
            <a:ext cx="810108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ch the words with the pictures [a-e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280" y="260280"/>
            <a:ext cx="863640" cy="936720"/>
          </a:xfrm>
          <a:prstGeom prst="flowChartOffpageConnector">
            <a:avLst/>
          </a:prstGeom>
          <a:solidFill>
            <a:srgbClr val="ffff00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7"/>
          <p:cNvPicPr/>
          <p:nvPr/>
        </p:nvPicPr>
        <p:blipFill>
          <a:blip r:embed="rId1"/>
          <a:srcRect l="0" t="11209" r="0" b="0"/>
          <a:stretch/>
        </p:blipFill>
        <p:spPr>
          <a:xfrm>
            <a:off x="3166920" y="1052640"/>
            <a:ext cx="5869080" cy="5761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108000" y="1917720"/>
            <a:ext cx="313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ining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y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udy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ny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nowing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124000" y="1916280"/>
            <a:ext cx="574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1908000" y="2637000"/>
            <a:ext cx="43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979640" y="3357720"/>
            <a:ext cx="3808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835280" y="4076640"/>
            <a:ext cx="431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2340000" y="4797360"/>
            <a:ext cx="431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1979640" y="981000"/>
            <a:ext cx="644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isten and write these city names in the boxes abo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611280" y="1197000"/>
            <a:ext cx="936360" cy="1079640"/>
          </a:xfrm>
          <a:prstGeom prst="flowChartOffpageConnector">
            <a:avLst/>
          </a:prstGeom>
          <a:solidFill>
            <a:srgbClr val="ffff00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042920" y="3141720"/>
            <a:ext cx="6912000" cy="1520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otum"/>
              </a:rPr>
              <a:t>Beijing   Moscow   Toronto    Boston   Shang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人教版7下Unit7_A_1b.mp3" descr="人教版7下Unit7_A_1b"/>
          <p:cNvPicPr/>
          <p:nvPr/>
        </p:nvPicPr>
        <p:blipFill>
          <a:blip r:embed="rId1"/>
          <a:stretch/>
        </p:blipFill>
        <p:spPr>
          <a:xfrm>
            <a:off x="4284720" y="5086440"/>
            <a:ext cx="12333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3109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37"/>
          <p:cNvPicPr/>
          <p:nvPr/>
        </p:nvPicPr>
        <p:blipFill>
          <a:blip r:embed="rId1"/>
          <a:srcRect l="0" t="11209" r="0" b="0"/>
          <a:stretch/>
        </p:blipFill>
        <p:spPr>
          <a:xfrm>
            <a:off x="1258920" y="260280"/>
            <a:ext cx="6769080" cy="6265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076720" y="5157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angha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580000" y="4365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scow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763640" y="436572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s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547640" y="404640"/>
            <a:ext cx="17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ro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7"/>
          <p:cNvPicPr/>
          <p:nvPr/>
        </p:nvPicPr>
        <p:blipFill>
          <a:blip r:embed="rId1"/>
          <a:srcRect l="48356" t="11209" r="0" b="57723"/>
          <a:stretch/>
        </p:blipFill>
        <p:spPr>
          <a:xfrm>
            <a:off x="252360" y="2565360"/>
            <a:ext cx="4483080" cy="309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"/>
          <p:cNvSpPr/>
          <p:nvPr/>
        </p:nvSpPr>
        <p:spPr>
          <a:xfrm>
            <a:off x="4788000" y="2997360"/>
            <a:ext cx="417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! How’s the weather in Beij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t’s s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395280" y="260280"/>
            <a:ext cx="8497800" cy="201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c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magine you are in one of the pla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1a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al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out the weather with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friend on the phone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7"/>
          <p:cNvPicPr/>
          <p:nvPr/>
        </p:nvPicPr>
        <p:blipFill>
          <a:blip r:embed="rId1"/>
          <a:srcRect l="0" t="11209" r="51653" b="52170"/>
          <a:stretch/>
        </p:blipFill>
        <p:spPr>
          <a:xfrm>
            <a:off x="395280" y="765000"/>
            <a:ext cx="3816360" cy="2592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37"/>
          <p:cNvPicPr/>
          <p:nvPr/>
        </p:nvPicPr>
        <p:blipFill>
          <a:blip r:embed="rId2"/>
          <a:srcRect l="0" t="49378" r="53854" b="21776"/>
          <a:stretch/>
        </p:blipFill>
        <p:spPr>
          <a:xfrm>
            <a:off x="4716360" y="3429000"/>
            <a:ext cx="3924360" cy="2522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4572000" y="836640"/>
            <a:ext cx="4572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’s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oro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50920" y="4005360"/>
            <a:ext cx="4572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’s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st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wi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8029440" y="260280"/>
            <a:ext cx="719280" cy="576360"/>
          </a:xfrm>
          <a:prstGeom prst="flowChartOffpageConnector">
            <a:avLst/>
          </a:prstGeom>
          <a:solidFill>
            <a:srgbClr val="ffff00"/>
          </a:solidFill>
          <a:ln w="7632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37"/>
          <p:cNvPicPr/>
          <p:nvPr/>
        </p:nvPicPr>
        <p:blipFill>
          <a:blip r:embed="rId1"/>
          <a:srcRect l="39562" t="59520" r="40658" b="1886"/>
          <a:stretch/>
        </p:blipFill>
        <p:spPr>
          <a:xfrm>
            <a:off x="755640" y="3284640"/>
            <a:ext cx="2664000" cy="32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37"/>
          <p:cNvPicPr/>
          <p:nvPr/>
        </p:nvPicPr>
        <p:blipFill>
          <a:blip r:embed="rId2"/>
          <a:srcRect l="58799" t="43384" r="0" b="16665"/>
          <a:stretch/>
        </p:blipFill>
        <p:spPr>
          <a:xfrm>
            <a:off x="5076720" y="3284640"/>
            <a:ext cx="309744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4572000" y="836640"/>
            <a:ext cx="4572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’s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Mosc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sn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50920" y="981000"/>
            <a:ext cx="4427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’s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hangha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clo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8029440" y="260280"/>
            <a:ext cx="719280" cy="576360"/>
          </a:xfrm>
          <a:prstGeom prst="flowChartOffpageConnector">
            <a:avLst/>
          </a:prstGeom>
          <a:solidFill>
            <a:srgbClr val="ffff00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02:17:19Z</dcterms:created>
  <dc:creator/>
  <dc:description/>
  <cp:keywords/>
  <dc:language>en-US</dc:language>
  <cp:lastModifiedBy>微软用户</cp:lastModifiedBy>
  <dcterms:modified xsi:type="dcterms:W3CDTF">2015-08-10T08:56:05Z</dcterms:modified>
  <cp:revision>10</cp:revision>
  <dc:subject/>
  <dc:title>人教版七年级英语  下册  Unit 4</dc:title>
</cp:coreProperties>
</file>