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9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23.wmf" ContentType="image/x-wmf"/>
  <Override PartName="/ppt/media/image7.wmf" ContentType="image/x-wmf"/>
  <Override PartName="/ppt/media/image6.wmf" ContentType="image/x-wmf"/>
  <Override PartName="/ppt/media/image5.wmf" ContentType="image/x-wmf"/>
  <Override PartName="/ppt/media/image4.jpeg" ContentType="image/jpeg"/>
  <Override PartName="/ppt/media/image24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4.jpeg" ContentType="image/jpeg"/>
  <Override PartName="/ppt/media/image16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0269-EF91-49A3-9CE4-CCFBD1AA8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BAEC-DF16-41F4-984E-5E21A857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EF1E-DD1B-4A47-956F-1B155A5E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6385-B303-4A66-9C1F-09D00A0E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2967-438D-43D8-84C6-E2D4BB22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85F8-2F91-4DDC-934C-87B50C5C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A917-6B61-46F7-9B68-74B3D9F7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8CE5-D959-4E28-AA0A-A52FC3A9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F1CA-CCEC-4F48-A44E-99D9B1FD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E3CB-A5AC-4E1D-B185-91391FEE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6D88-967D-4D38-BF01-4E8B861D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240E-3FC7-4AA9-8808-B5B05C8C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102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FC70-1C7C-4486-A1FE-90118F156D3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未知"/>
          <p:cNvSpPr/>
          <p:nvPr/>
        </p:nvSpPr>
        <p:spPr>
          <a:xfrm>
            <a:off x="6896160" y="1047600"/>
            <a:ext cx="2155680" cy="5256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c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0c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c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0c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9.wmf"/><Relationship Id="rId5" Type="http://schemas.openxmlformats.org/officeDocument/2006/relationships/image" Target="../media/image12.wmf"/><Relationship Id="rId6" Type="http://schemas.openxmlformats.org/officeDocument/2006/relationships/image" Target="../media/image13.jpeg"/><Relationship Id="rId7" Type="http://schemas.openxmlformats.org/officeDocument/2006/relationships/image" Target="../media/image9.wmf"/><Relationship Id="rId8" Type="http://schemas.openxmlformats.org/officeDocument/2006/relationships/image" Target="../media/image12.wmf"/><Relationship Id="rId9" Type="http://schemas.openxmlformats.org/officeDocument/2006/relationships/image" Target="../media/image14.jpeg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1619280" y="2060640"/>
            <a:ext cx="6696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20202"/>
                </a:solidFill>
                <a:latin typeface="Marlett"/>
                <a:ea typeface="Marlett"/>
              </a:rPr>
              <a:t>第三单元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20202"/>
                </a:solidFill>
                <a:latin typeface="Marlett"/>
                <a:ea typeface="Marlett"/>
              </a:rPr>
              <a:t>第五章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20202"/>
                </a:solidFill>
                <a:latin typeface="Marlett"/>
                <a:ea typeface="Marlett"/>
              </a:rPr>
              <a:t></a:t>
            </a:r>
            <a:r>
              <a:rPr b="1" lang="zh-CN" sz="3600" spc="-1" strike="noStrike">
                <a:solidFill>
                  <a:srgbClr val="020202"/>
                </a:solidFill>
                <a:latin typeface="Marlett"/>
                <a:ea typeface="Marlett"/>
              </a:rPr>
              <a:t>第一节光合作用吸收二氧化碳释放氧气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文本框 16385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光合作用吸收二氧化碳释放氧气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319" name="图片 16386" descr=""/>
          <p:cNvPicPr/>
          <p:nvPr/>
        </p:nvPicPr>
        <p:blipFill>
          <a:blip r:embed="rId1"/>
          <a:srcRect l="0" t="10641" r="0" b="0"/>
          <a:stretch/>
        </p:blipFill>
        <p:spPr>
          <a:xfrm>
            <a:off x="-34920" y="3502080"/>
            <a:ext cx="9142560" cy="3371760"/>
          </a:xfrm>
          <a:prstGeom prst="rect">
            <a:avLst/>
          </a:prstGeom>
          <a:ln w="0">
            <a:noFill/>
          </a:ln>
        </p:spPr>
      </p:pic>
      <p:sp>
        <p:nvSpPr>
          <p:cNvPr id="320" name="文本框 16387"/>
          <p:cNvSpPr/>
          <p:nvPr/>
        </p:nvSpPr>
        <p:spPr>
          <a:xfrm>
            <a:off x="0" y="388800"/>
            <a:ext cx="74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三、光合作用原理在农业生产上的应用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1" name="矩形 16388"/>
          <p:cNvSpPr/>
          <p:nvPr/>
        </p:nvSpPr>
        <p:spPr>
          <a:xfrm>
            <a:off x="2916360" y="896760"/>
            <a:ext cx="61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d4d4d"/>
                </a:solidFill>
                <a:latin typeface="Times New Roman"/>
                <a:ea typeface="宋体"/>
              </a:rPr>
              <a:t>① </a:t>
            </a:r>
            <a:r>
              <a:rPr b="1" lang="zh-CN" sz="2000" spc="-1" strike="noStrike">
                <a:solidFill>
                  <a:srgbClr val="4d4d4d"/>
                </a:solidFill>
                <a:latin typeface="Times New Roman"/>
                <a:ea typeface="宋体"/>
              </a:rPr>
              <a:t>种植过稀，会因作物没有充分利用单位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d4d4d"/>
                </a:solidFill>
                <a:latin typeface="Times New Roman"/>
                <a:ea typeface="宋体"/>
              </a:rPr>
              <a:t>                       </a:t>
            </a:r>
            <a:r>
              <a:rPr b="1" lang="zh-CN" sz="2000" spc="-1" strike="noStrike">
                <a:solidFill>
                  <a:srgbClr val="4d4d4d"/>
                </a:solidFill>
                <a:latin typeface="Times New Roman"/>
                <a:ea typeface="宋体"/>
              </a:rPr>
              <a:t>面积上的光照而造成浪费；</a:t>
            </a:r>
            <a:r>
              <a:rPr b="0" lang="zh-CN" sz="2000" spc="-1" strike="noStrike">
                <a:solidFill>
                  <a:srgbClr val="4d4d4d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2" name="矩形 16389"/>
          <p:cNvSpPr/>
          <p:nvPr/>
        </p:nvSpPr>
        <p:spPr>
          <a:xfrm>
            <a:off x="2916360" y="1617480"/>
            <a:ext cx="61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d4d4d"/>
                </a:solidFill>
                <a:latin typeface="Times New Roman"/>
                <a:ea typeface="宋体"/>
              </a:rPr>
              <a:t>② </a:t>
            </a:r>
            <a:r>
              <a:rPr b="1" lang="zh-CN" sz="2000" spc="-1" strike="noStrike">
                <a:solidFill>
                  <a:srgbClr val="4d4d4d"/>
                </a:solidFill>
                <a:latin typeface="Times New Roman"/>
                <a:ea typeface="宋体"/>
              </a:rPr>
              <a:t>种植过密，植株叶片互相庶挡，会影响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d4d4d"/>
                </a:solidFill>
                <a:latin typeface="Times New Roman"/>
                <a:ea typeface="宋体"/>
              </a:rPr>
              <a:t>                       </a:t>
            </a:r>
            <a:r>
              <a:rPr b="1" lang="zh-CN" sz="2000" spc="-1" strike="noStrike">
                <a:solidFill>
                  <a:srgbClr val="4d4d4d"/>
                </a:solidFill>
                <a:latin typeface="Times New Roman"/>
                <a:ea typeface="宋体"/>
              </a:rPr>
              <a:t>植物的光合作用。</a:t>
            </a:r>
            <a:r>
              <a:rPr b="0" lang="zh-CN" sz="2000" spc="-1" strike="noStrike">
                <a:solidFill>
                  <a:srgbClr val="4d4d4d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3" name="矩形 16390"/>
          <p:cNvSpPr/>
          <p:nvPr/>
        </p:nvSpPr>
        <p:spPr>
          <a:xfrm>
            <a:off x="2916360" y="2305800"/>
            <a:ext cx="64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d4d4d"/>
                </a:solidFill>
                <a:latin typeface="Times New Roman"/>
                <a:ea typeface="宋体"/>
              </a:rPr>
              <a:t>③ </a:t>
            </a:r>
            <a:r>
              <a:rPr b="1" lang="zh-CN" sz="2000" spc="-1" strike="noStrike">
                <a:solidFill>
                  <a:srgbClr val="4d4d4d"/>
                </a:solidFill>
                <a:latin typeface="Times New Roman"/>
                <a:ea typeface="宋体"/>
              </a:rPr>
              <a:t>合理密植，让作物的叶片充分地接受光照。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4" name="矩形 16391"/>
          <p:cNvSpPr/>
          <p:nvPr/>
        </p:nvSpPr>
        <p:spPr>
          <a:xfrm>
            <a:off x="999720" y="4076640"/>
            <a:ext cx="81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8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5" name="矩形 16392"/>
          <p:cNvSpPr/>
          <p:nvPr/>
        </p:nvSpPr>
        <p:spPr>
          <a:xfrm>
            <a:off x="7337160" y="4076640"/>
            <a:ext cx="81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8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6" name="矩形 16393"/>
          <p:cNvSpPr/>
          <p:nvPr/>
        </p:nvSpPr>
        <p:spPr>
          <a:xfrm>
            <a:off x="4107600" y="4076640"/>
            <a:ext cx="79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宋体"/>
              </a:rPr>
              <a:t>√</a:t>
            </a:r>
            <a:endParaRPr b="0" lang="en-US" sz="8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7" name="文本框 16394"/>
          <p:cNvSpPr/>
          <p:nvPr/>
        </p:nvSpPr>
        <p:spPr>
          <a:xfrm>
            <a:off x="0" y="1469880"/>
            <a:ext cx="34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、充分利用光照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8" name="文本框 16395"/>
          <p:cNvSpPr/>
          <p:nvPr/>
        </p:nvSpPr>
        <p:spPr>
          <a:xfrm>
            <a:off x="0" y="270828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、增加二氧化碳的浓度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9" name="左大括号 16396"/>
          <p:cNvSpPr/>
          <p:nvPr/>
        </p:nvSpPr>
        <p:spPr>
          <a:xfrm>
            <a:off x="2843280" y="1052640"/>
            <a:ext cx="73080" cy="1368360"/>
          </a:xfrm>
          <a:custGeom>
            <a:avLst/>
            <a:gdLst>
              <a:gd name="textAreaLeft" fmla="*/ 46800 w 73080"/>
              <a:gd name="textAreaRight" fmla="*/ 73440 w 730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0" name="文本框 16397"/>
          <p:cNvSpPr/>
          <p:nvPr/>
        </p:nvSpPr>
        <p:spPr>
          <a:xfrm>
            <a:off x="36360" y="342900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、适当延长光照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对象 17409" descr=""/>
          <p:cNvPicPr/>
          <p:nvPr/>
        </p:nvPicPr>
        <p:blipFill>
          <a:blip r:embed="rId1"/>
          <a:stretch/>
        </p:blipFill>
        <p:spPr>
          <a:xfrm>
            <a:off x="546120" y="2033640"/>
            <a:ext cx="1857240" cy="3995640"/>
          </a:xfrm>
          <a:prstGeom prst="rect">
            <a:avLst/>
          </a:prstGeom>
          <a:ln w="0">
            <a:noFill/>
          </a:ln>
        </p:spPr>
      </p:pic>
      <p:grpSp>
        <p:nvGrpSpPr>
          <p:cNvPr id="332" name="组合 17410"/>
          <p:cNvGrpSpPr/>
          <p:nvPr/>
        </p:nvGrpSpPr>
        <p:grpSpPr>
          <a:xfrm>
            <a:off x="3209760" y="1941480"/>
            <a:ext cx="3243600" cy="1968480"/>
            <a:chOff x="3209760" y="1941480"/>
            <a:chExt cx="3243600" cy="1968480"/>
          </a:xfrm>
        </p:grpSpPr>
        <p:sp>
          <p:nvSpPr>
            <p:cNvPr id="333" name="云形标注 17411"/>
            <p:cNvSpPr/>
            <p:nvPr/>
          </p:nvSpPr>
          <p:spPr>
            <a:xfrm>
              <a:off x="3209760" y="1941480"/>
              <a:ext cx="3243600" cy="1968480"/>
            </a:xfrm>
            <a:prstGeom prst="cloudCallout">
              <a:avLst>
                <a:gd name="adj1" fmla="val -77685"/>
                <a:gd name="adj2" fmla="val 9486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34" name="矩形 17412"/>
            <p:cNvSpPr/>
            <p:nvPr/>
          </p:nvSpPr>
          <p:spPr>
            <a:xfrm>
              <a:off x="3745800" y="2253600"/>
              <a:ext cx="24487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隶书"/>
                  <a:ea typeface="宋体"/>
                </a:rPr>
                <a:t>这节课你学到了什么？</a:t>
              </a:r>
              <a:endParaRPr b="0" lang="en-US" sz="2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pic>
        <p:nvPicPr>
          <p:cNvPr id="335" name="图片 17413" descr="MCj03448820000[1]"/>
          <p:cNvPicPr/>
          <p:nvPr/>
        </p:nvPicPr>
        <p:blipFill>
          <a:blip r:embed="rId2"/>
          <a:stretch/>
        </p:blipFill>
        <p:spPr>
          <a:xfrm>
            <a:off x="6496200" y="3849840"/>
            <a:ext cx="2170080" cy="2076120"/>
          </a:xfrm>
          <a:prstGeom prst="rect">
            <a:avLst/>
          </a:prstGeom>
          <a:ln w="0">
            <a:noFill/>
          </a:ln>
        </p:spPr>
      </p:pic>
      <p:sp>
        <p:nvSpPr>
          <p:cNvPr id="336" name="矩形 17414"/>
          <p:cNvSpPr/>
          <p:nvPr/>
        </p:nvSpPr>
        <p:spPr>
          <a:xfrm>
            <a:off x="1163520" y="109872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收获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文本框 18433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光合作用吸收二氧化碳释放氧气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8" name="文本框 18434"/>
          <p:cNvSpPr/>
          <p:nvPr/>
        </p:nvSpPr>
        <p:spPr>
          <a:xfrm>
            <a:off x="1116000" y="2050920"/>
            <a:ext cx="58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9" name="矩形 18435"/>
          <p:cNvSpPr/>
          <p:nvPr/>
        </p:nvSpPr>
        <p:spPr>
          <a:xfrm>
            <a:off x="0" y="385200"/>
            <a:ext cx="914400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学生练习：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、要保证城市居民每天能得到新鲜空气</a:t>
            </a: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可以采取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有效的措施是：（        ）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、多盖高楼，居住在高层     </a:t>
            </a: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、扩大居住面积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、不扔垃圾                           </a:t>
            </a: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、多植草坪多种树</a:t>
            </a:r>
            <a:r>
              <a:rPr b="0" lang="zh-CN" sz="4000" spc="-1" strike="noStrike">
                <a:solidFill>
                  <a:srgbClr val="4d4d4d"/>
                </a:solidFill>
                <a:latin typeface="Times New Roman"/>
                <a:ea typeface="宋体"/>
              </a:rPr>
              <a:t> </a:t>
            </a:r>
            <a:endParaRPr b="0" lang="en-US" sz="4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0" name="文本框 18436"/>
          <p:cNvSpPr/>
          <p:nvPr/>
        </p:nvSpPr>
        <p:spPr>
          <a:xfrm>
            <a:off x="3708360" y="13255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1" name="矩形 18437"/>
          <p:cNvSpPr/>
          <p:nvPr/>
        </p:nvSpPr>
        <p:spPr>
          <a:xfrm>
            <a:off x="0" y="2616840"/>
            <a:ext cx="91440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、炎热夏季的中午，阳光过强导致气孔关闭，造成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光合作用速率降低</a:t>
            </a: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其原因是：（         ）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、植物吸收不到氧气   </a:t>
            </a: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、植物吸收不到二氧化碳        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、植物吸收不到水       </a:t>
            </a: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、淀粉无法及时被运走</a:t>
            </a:r>
            <a:r>
              <a:rPr b="0" lang="zh-CN" sz="4000" spc="-1" strike="noStrike">
                <a:solidFill>
                  <a:srgbClr val="4d4d4d"/>
                </a:solidFill>
                <a:latin typeface="Times New Roman"/>
                <a:ea typeface="宋体"/>
              </a:rPr>
              <a:t> </a:t>
            </a:r>
            <a:endParaRPr b="0" lang="en-US" sz="4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2" name="矩形 18438"/>
          <p:cNvSpPr/>
          <p:nvPr/>
        </p:nvSpPr>
        <p:spPr>
          <a:xfrm>
            <a:off x="0" y="4493160"/>
            <a:ext cx="91440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、如果绿色植物大量减少</a:t>
            </a: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大气中急剧增加并引起温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室效应的气体是：（        ）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、氧气                        </a:t>
            </a: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、氮气   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、二氧化碳                 </a:t>
            </a: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、甲烷气体</a:t>
            </a:r>
            <a:r>
              <a:rPr b="0" lang="zh-CN" sz="4000" spc="-1" strike="noStrike">
                <a:solidFill>
                  <a:srgbClr val="4d4d4d"/>
                </a:solidFill>
                <a:latin typeface="Times New Roman"/>
                <a:ea typeface="宋体"/>
              </a:rPr>
              <a:t> </a:t>
            </a:r>
            <a:endParaRPr b="0" lang="en-US" sz="4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3" name="文本框 18439"/>
          <p:cNvSpPr/>
          <p:nvPr/>
        </p:nvSpPr>
        <p:spPr>
          <a:xfrm>
            <a:off x="5940360" y="3141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4" name="文本框 18440"/>
          <p:cNvSpPr/>
          <p:nvPr/>
        </p:nvSpPr>
        <p:spPr>
          <a:xfrm>
            <a:off x="4068720" y="501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文本框 19457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光合作用吸收二氧化碳释放氧气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6" name="矩形 19458"/>
          <p:cNvSpPr/>
          <p:nvPr/>
        </p:nvSpPr>
        <p:spPr>
          <a:xfrm>
            <a:off x="34920" y="404640"/>
            <a:ext cx="91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、严重干旱可能会使作物颗粒无收，从光合作用的角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度来看，这表明光合作用的重要原料有：（        ）    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、光        </a:t>
            </a: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、氧气        </a:t>
            </a: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、水        </a:t>
            </a: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、适宜的温度</a:t>
            </a:r>
            <a:r>
              <a:rPr b="0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7" name="文本框 19459"/>
          <p:cNvSpPr/>
          <p:nvPr/>
        </p:nvSpPr>
        <p:spPr>
          <a:xfrm>
            <a:off x="7596360" y="8222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8" name="矩形 19460"/>
          <p:cNvSpPr/>
          <p:nvPr/>
        </p:nvSpPr>
        <p:spPr>
          <a:xfrm>
            <a:off x="0" y="1682280"/>
            <a:ext cx="914400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、下面的说法正确的是：（        ） 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、呼吸作用只有在白天才能进行        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、光合作用产生了氧气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、光合作用只在叶片进行               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、呼吸作用只在叶片进行</a:t>
            </a:r>
            <a:r>
              <a:rPr b="0" lang="zh-CN" sz="4000" spc="-1" strike="noStrike">
                <a:solidFill>
                  <a:srgbClr val="4d4d4d"/>
                </a:solidFill>
                <a:latin typeface="Times New Roman"/>
                <a:ea typeface="宋体"/>
              </a:rPr>
              <a:t> </a:t>
            </a:r>
            <a:endParaRPr b="0" lang="en-US" sz="4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9" name="文本框 19461"/>
          <p:cNvSpPr/>
          <p:nvPr/>
        </p:nvSpPr>
        <p:spPr>
          <a:xfrm>
            <a:off x="4716360" y="17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0" name="矩形 19462"/>
          <p:cNvSpPr/>
          <p:nvPr/>
        </p:nvSpPr>
        <p:spPr>
          <a:xfrm>
            <a:off x="0" y="4008600"/>
            <a:ext cx="853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、光合作用的实质是：（        ）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、合成有机物，储存能量        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、分解有机物，释放能量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、合成有机物，释放能量        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宋体"/>
              </a:rPr>
              <a:t>、分解有机物，储存能量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1" name="文本框 19463"/>
          <p:cNvSpPr/>
          <p:nvPr/>
        </p:nvSpPr>
        <p:spPr>
          <a:xfrm>
            <a:off x="4356000" y="4005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Verdana"/>
              </a:rPr>
              <a:t>一、光合作用的探究历程</a:t>
            </a:r>
            <a:endParaRPr b="1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41080" y="1123560"/>
            <a:ext cx="511164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0202"/>
                </a:solidFill>
                <a:latin typeface="Verdana"/>
              </a:rPr>
              <a:t>比利时 海尔蒙特的柳树实验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98" name="组合 8195"/>
          <p:cNvGrpSpPr/>
          <p:nvPr/>
        </p:nvGrpSpPr>
        <p:grpSpPr>
          <a:xfrm>
            <a:off x="971640" y="1628640"/>
            <a:ext cx="3096720" cy="2333160"/>
            <a:chOff x="971640" y="1628640"/>
            <a:chExt cx="3096720" cy="2333160"/>
          </a:xfrm>
        </p:grpSpPr>
        <p:pic>
          <p:nvPicPr>
            <p:cNvPr id="199" name="Object 3" descr=""/>
            <p:cNvPicPr/>
            <p:nvPr/>
          </p:nvPicPr>
          <p:blipFill>
            <a:blip r:embed="rId1"/>
            <a:stretch/>
          </p:blipFill>
          <p:spPr>
            <a:xfrm>
              <a:off x="971640" y="1628640"/>
              <a:ext cx="2558520" cy="1777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0" name="组合 8197"/>
            <p:cNvGrpSpPr/>
            <p:nvPr/>
          </p:nvGrpSpPr>
          <p:grpSpPr>
            <a:xfrm>
              <a:off x="1187280" y="3502080"/>
              <a:ext cx="2881080" cy="459720"/>
              <a:chOff x="1187280" y="3502080"/>
              <a:chExt cx="2881080" cy="459720"/>
            </a:xfrm>
          </p:grpSpPr>
          <p:sp>
            <p:nvSpPr>
              <p:cNvPr id="201" name="Text Box 4"/>
              <p:cNvSpPr/>
              <p:nvPr/>
            </p:nvSpPr>
            <p:spPr>
              <a:xfrm>
                <a:off x="1187280" y="3502080"/>
                <a:ext cx="170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4d4d4d"/>
                    </a:solidFill>
                    <a:latin typeface="Times New Roman"/>
                  </a:rPr>
                  <a:t>2.3 Kg</a:t>
                </a:r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02" name="Text Box 5"/>
              <p:cNvSpPr/>
              <p:nvPr/>
            </p:nvSpPr>
            <p:spPr>
              <a:xfrm>
                <a:off x="2730960" y="3502080"/>
                <a:ext cx="133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4d4d4d"/>
                    </a:solidFill>
                    <a:latin typeface="Times New Roman"/>
                  </a:rPr>
                  <a:t>90.0 Kg</a:t>
                </a:r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3" name="组合 8200"/>
          <p:cNvGrpSpPr/>
          <p:nvPr/>
        </p:nvGrpSpPr>
        <p:grpSpPr>
          <a:xfrm>
            <a:off x="5364000" y="1484280"/>
            <a:ext cx="2952720" cy="2160720"/>
            <a:chOff x="5364000" y="1484280"/>
            <a:chExt cx="2952720" cy="2160720"/>
          </a:xfrm>
        </p:grpSpPr>
        <p:pic>
          <p:nvPicPr>
            <p:cNvPr id="204" name="Object 7" descr=""/>
            <p:cNvPicPr/>
            <p:nvPr/>
          </p:nvPicPr>
          <p:blipFill>
            <a:blip r:embed="rId2"/>
            <a:stretch/>
          </p:blipFill>
          <p:spPr>
            <a:xfrm>
              <a:off x="5766840" y="1484280"/>
              <a:ext cx="254988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AutoShape 8"/>
            <p:cNvSpPr/>
            <p:nvPr/>
          </p:nvSpPr>
          <p:spPr>
            <a:xfrm>
              <a:off x="5364000" y="2431440"/>
              <a:ext cx="392040" cy="255240"/>
            </a:xfrm>
            <a:prstGeom prst="rightArrow">
              <a:avLst>
                <a:gd name="adj1" fmla="val 50000"/>
                <a:gd name="adj2" fmla="val 38399"/>
              </a:avLst>
            </a:prstGeom>
            <a:noFill/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06" name="组合 8203"/>
          <p:cNvGrpSpPr/>
          <p:nvPr/>
        </p:nvGrpSpPr>
        <p:grpSpPr>
          <a:xfrm>
            <a:off x="6156360" y="3573360"/>
            <a:ext cx="2449440" cy="3095280"/>
            <a:chOff x="6156360" y="3573360"/>
            <a:chExt cx="2449440" cy="3095280"/>
          </a:xfrm>
        </p:grpSpPr>
        <p:pic>
          <p:nvPicPr>
            <p:cNvPr id="207" name="Object 10" descr=""/>
            <p:cNvPicPr/>
            <p:nvPr/>
          </p:nvPicPr>
          <p:blipFill>
            <a:blip r:embed="rId3"/>
            <a:stretch/>
          </p:blipFill>
          <p:spPr>
            <a:xfrm>
              <a:off x="6156360" y="3968640"/>
              <a:ext cx="2449440" cy="27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AutoShape 11"/>
            <p:cNvSpPr/>
            <p:nvPr/>
          </p:nvSpPr>
          <p:spPr>
            <a:xfrm rot="5400000">
              <a:off x="7273800" y="3678120"/>
              <a:ext cx="254160" cy="2696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09" name="Text Box 12"/>
            <p:cNvSpPr/>
            <p:nvPr/>
          </p:nvSpPr>
          <p:spPr>
            <a:xfrm>
              <a:off x="6515280" y="3573360"/>
              <a:ext cx="90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d4d4d"/>
                  </a:solidFill>
                  <a:latin typeface="Times New Roman"/>
                  <a:ea typeface="隶书"/>
                </a:rPr>
                <a:t>五年</a:t>
              </a:r>
              <a:endParaRPr b="0" lang="en-US" sz="2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10" name="组合 8207"/>
          <p:cNvGrpSpPr/>
          <p:nvPr/>
        </p:nvGrpSpPr>
        <p:grpSpPr>
          <a:xfrm>
            <a:off x="1835280" y="4292640"/>
            <a:ext cx="3469320" cy="1867680"/>
            <a:chOff x="1835280" y="4292640"/>
            <a:chExt cx="3469320" cy="1867680"/>
          </a:xfrm>
        </p:grpSpPr>
        <p:pic>
          <p:nvPicPr>
            <p:cNvPr id="211" name="Object 14" descr=""/>
            <p:cNvPicPr/>
            <p:nvPr/>
          </p:nvPicPr>
          <p:blipFill>
            <a:blip r:embed="rId4"/>
            <a:stretch/>
          </p:blipFill>
          <p:spPr>
            <a:xfrm flipH="1" rot="10800000">
              <a:off x="1835280" y="4292640"/>
              <a:ext cx="302868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15"/>
            <p:cNvSpPr/>
            <p:nvPr/>
          </p:nvSpPr>
          <p:spPr>
            <a:xfrm>
              <a:off x="1911240" y="5700600"/>
              <a:ext cx="167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d4d4d"/>
                  </a:solidFill>
                  <a:latin typeface="Times New Roman"/>
                </a:rPr>
                <a:t>76.1 Kg</a:t>
              </a: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13" name="Text Box 16"/>
            <p:cNvSpPr/>
            <p:nvPr/>
          </p:nvSpPr>
          <p:spPr>
            <a:xfrm>
              <a:off x="3740040" y="5700600"/>
              <a:ext cx="144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d4d4d"/>
                  </a:solidFill>
                  <a:latin typeface="Times New Roman"/>
                </a:rPr>
                <a:t>89.9 Kg</a:t>
              </a:r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14" name="AutoShape 17"/>
            <p:cNvSpPr/>
            <p:nvPr/>
          </p:nvSpPr>
          <p:spPr>
            <a:xfrm rot="10800000">
              <a:off x="4847760" y="4785840"/>
              <a:ext cx="456840" cy="304920"/>
            </a:xfrm>
            <a:prstGeom prst="rightArrow">
              <a:avLst>
                <a:gd name="adj1" fmla="val 50000"/>
                <a:gd name="adj2" fmla="val 37456"/>
              </a:avLst>
            </a:prstGeom>
            <a:noFill/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15" name="WordArt 22"/>
          <p:cNvSpPr txBox="1"/>
          <p:nvPr/>
        </p:nvSpPr>
        <p:spPr>
          <a:xfrm rot="25800">
            <a:off x="324000" y="3501720"/>
            <a:ext cx="11430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59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隶书"/>
              </a:rPr>
              <a:t>？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  <p:sp>
        <p:nvSpPr>
          <p:cNvPr id="216" name="文本框 8213"/>
          <p:cNvSpPr/>
          <p:nvPr/>
        </p:nvSpPr>
        <p:spPr>
          <a:xfrm>
            <a:off x="6428880" y="11239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0a0a"/>
                </a:solidFill>
                <a:latin typeface="Times New Roman"/>
                <a:ea typeface="黑体"/>
              </a:rPr>
              <a:t>忽略了气体的因素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Verdana"/>
              </a:rPr>
              <a:t>一、光合作用的探究历程</a:t>
            </a:r>
            <a:endParaRPr b="1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218" name="矩形 9218"/>
          <p:cNvSpPr/>
          <p:nvPr/>
        </p:nvSpPr>
        <p:spPr>
          <a:xfrm>
            <a:off x="539640" y="1052640"/>
            <a:ext cx="82296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0202"/>
                </a:solidFill>
                <a:latin typeface="Verdana"/>
                <a:ea typeface="微软雅黑"/>
              </a:rPr>
              <a:t>1773</a:t>
            </a:r>
            <a:r>
              <a:rPr b="1" lang="zh-CN" sz="2800" spc="-1" strike="noStrike">
                <a:solidFill>
                  <a:srgbClr val="020202"/>
                </a:solidFill>
                <a:latin typeface="Verdana"/>
                <a:ea typeface="微软雅黑"/>
              </a:rPr>
              <a:t>年 普利斯特利  钟罩实验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95280" y="21333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20" name="组合 9220"/>
          <p:cNvGrpSpPr/>
          <p:nvPr/>
        </p:nvGrpSpPr>
        <p:grpSpPr>
          <a:xfrm>
            <a:off x="0" y="1701720"/>
            <a:ext cx="4571280" cy="2758320"/>
            <a:chOff x="0" y="1701720"/>
            <a:chExt cx="4571280" cy="2758320"/>
          </a:xfrm>
        </p:grpSpPr>
        <p:grpSp>
          <p:nvGrpSpPr>
            <p:cNvPr id="221" name="组合 9221"/>
            <p:cNvGrpSpPr/>
            <p:nvPr/>
          </p:nvGrpSpPr>
          <p:grpSpPr>
            <a:xfrm>
              <a:off x="2500200" y="2219040"/>
              <a:ext cx="2071080" cy="2241000"/>
              <a:chOff x="2500200" y="2219040"/>
              <a:chExt cx="2071080" cy="2241000"/>
            </a:xfrm>
          </p:grpSpPr>
          <p:pic>
            <p:nvPicPr>
              <p:cNvPr id="222" name="Object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0200" y="2219040"/>
                <a:ext cx="2071080" cy="224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Picture 15" descr="lazhuzhiwu"/>
              <p:cNvPicPr/>
              <p:nvPr/>
            </p:nvPicPr>
            <p:blipFill>
              <a:blip r:embed="rId2"/>
              <a:stretch/>
            </p:blipFill>
            <p:spPr>
              <a:xfrm>
                <a:off x="3017520" y="2908440"/>
                <a:ext cx="1126440" cy="1465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4" name="组合 9224"/>
            <p:cNvGrpSpPr/>
            <p:nvPr/>
          </p:nvGrpSpPr>
          <p:grpSpPr>
            <a:xfrm>
              <a:off x="0" y="2219040"/>
              <a:ext cx="2070720" cy="2241000"/>
              <a:chOff x="0" y="2219040"/>
              <a:chExt cx="2070720" cy="2241000"/>
            </a:xfrm>
          </p:grpSpPr>
          <p:pic>
            <p:nvPicPr>
              <p:cNvPr id="225" name="Picture 17" descr="meizhu"/>
              <p:cNvPicPr/>
              <p:nvPr/>
            </p:nvPicPr>
            <p:blipFill>
              <a:blip r:embed="rId3"/>
              <a:stretch/>
            </p:blipFill>
            <p:spPr>
              <a:xfrm flipH="1">
                <a:off x="947880" y="3404160"/>
                <a:ext cx="339480" cy="103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" name="Object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219040"/>
                <a:ext cx="2070720" cy="224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27" name="Object 19" descr=""/>
            <p:cNvPicPr/>
            <p:nvPr/>
          </p:nvPicPr>
          <p:blipFill>
            <a:blip r:embed="rId5"/>
            <a:stretch/>
          </p:blipFill>
          <p:spPr>
            <a:xfrm>
              <a:off x="1896840" y="1701720"/>
              <a:ext cx="775800" cy="77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8" name="组合 9228"/>
          <p:cNvGrpSpPr/>
          <p:nvPr/>
        </p:nvGrpSpPr>
        <p:grpSpPr>
          <a:xfrm>
            <a:off x="4500720" y="1628640"/>
            <a:ext cx="4412520" cy="2769480"/>
            <a:chOff x="4500720" y="1628640"/>
            <a:chExt cx="4412520" cy="2769480"/>
          </a:xfrm>
        </p:grpSpPr>
        <p:grpSp>
          <p:nvGrpSpPr>
            <p:cNvPr id="229" name="组合 9229"/>
            <p:cNvGrpSpPr/>
            <p:nvPr/>
          </p:nvGrpSpPr>
          <p:grpSpPr>
            <a:xfrm>
              <a:off x="6835320" y="2147760"/>
              <a:ext cx="2077920" cy="2250360"/>
              <a:chOff x="6835320" y="2147760"/>
              <a:chExt cx="2077920" cy="2250360"/>
            </a:xfrm>
          </p:grpSpPr>
          <p:pic>
            <p:nvPicPr>
              <p:cNvPr id="230" name="Picture 6" descr="laoshuzhiwu"/>
              <p:cNvPicPr/>
              <p:nvPr/>
            </p:nvPicPr>
            <p:blipFill>
              <a:blip r:embed="rId6"/>
              <a:stretch/>
            </p:blipFill>
            <p:spPr>
              <a:xfrm>
                <a:off x="7354440" y="2840040"/>
                <a:ext cx="1220040" cy="147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Object 7" descr=""/>
              <p:cNvPicPr/>
              <p:nvPr/>
            </p:nvPicPr>
            <p:blipFill>
              <a:blip r:embed="rId7"/>
              <a:stretch/>
            </p:blipFill>
            <p:spPr>
              <a:xfrm>
                <a:off x="6835320" y="2147760"/>
                <a:ext cx="2077920" cy="2250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32" name="Object 8" descr=""/>
            <p:cNvPicPr/>
            <p:nvPr/>
          </p:nvPicPr>
          <p:blipFill>
            <a:blip r:embed="rId8"/>
            <a:stretch/>
          </p:blipFill>
          <p:spPr>
            <a:xfrm>
              <a:off x="6317640" y="1628640"/>
              <a:ext cx="778680" cy="77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3" name="组合 9233"/>
            <p:cNvGrpSpPr/>
            <p:nvPr/>
          </p:nvGrpSpPr>
          <p:grpSpPr>
            <a:xfrm>
              <a:off x="4500720" y="2147760"/>
              <a:ext cx="2077920" cy="2250360"/>
              <a:chOff x="4500720" y="2147760"/>
              <a:chExt cx="2077920" cy="2250360"/>
            </a:xfrm>
          </p:grpSpPr>
          <p:pic>
            <p:nvPicPr>
              <p:cNvPr id="234" name="Picture 10" descr="sishu"/>
              <p:cNvPicPr/>
              <p:nvPr/>
            </p:nvPicPr>
            <p:blipFill>
              <a:blip r:embed="rId9"/>
              <a:stretch/>
            </p:blipFill>
            <p:spPr>
              <a:xfrm>
                <a:off x="5021280" y="3386520"/>
                <a:ext cx="1297800" cy="92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Object 11" descr=""/>
              <p:cNvPicPr/>
              <p:nvPr/>
            </p:nvPicPr>
            <p:blipFill>
              <a:blip r:embed="rId10"/>
              <a:stretch/>
            </p:blipFill>
            <p:spPr>
              <a:xfrm>
                <a:off x="4500720" y="2147760"/>
                <a:ext cx="2077920" cy="2250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6" name="Rectangle 20"/>
          <p:cNvSpPr/>
          <p:nvPr/>
        </p:nvSpPr>
        <p:spPr>
          <a:xfrm>
            <a:off x="3726000" y="5084640"/>
            <a:ext cx="250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4d4d"/>
                </a:solidFill>
                <a:latin typeface="Times New Roman"/>
              </a:rPr>
              <a:t>植物能“净化”空气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Verdana"/>
              </a:rPr>
              <a:t>一、光合作用的探究历程</a:t>
            </a:r>
            <a:endParaRPr b="1" lang="en-US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238" name="矩形 10242"/>
          <p:cNvSpPr/>
          <p:nvPr/>
        </p:nvSpPr>
        <p:spPr>
          <a:xfrm>
            <a:off x="468360" y="1341360"/>
            <a:ext cx="82296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0202"/>
                </a:solidFill>
                <a:latin typeface="Verdana"/>
                <a:ea typeface="微软雅黑"/>
              </a:rPr>
              <a:t>1779</a:t>
            </a:r>
            <a:r>
              <a:rPr b="1" lang="zh-CN" sz="2800" spc="-1" strike="noStrike">
                <a:solidFill>
                  <a:srgbClr val="020202"/>
                </a:solidFill>
                <a:latin typeface="Verdana"/>
                <a:ea typeface="微软雅黑"/>
              </a:rPr>
              <a:t>年 英格豪斯  重复钟罩实验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39" name="文本框 10243"/>
          <p:cNvSpPr/>
          <p:nvPr/>
        </p:nvSpPr>
        <p:spPr>
          <a:xfrm>
            <a:off x="1751760" y="198900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0a0a"/>
                </a:solidFill>
                <a:latin typeface="Times New Roman"/>
                <a:ea typeface="楷体_GB2312"/>
              </a:rPr>
              <a:t>有时能成功，有时失败，为什么？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0" name="文本框 10244"/>
          <p:cNvSpPr/>
          <p:nvPr/>
        </p:nvSpPr>
        <p:spPr>
          <a:xfrm>
            <a:off x="1965240" y="2781360"/>
            <a:ext cx="295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0a0a"/>
                </a:solidFill>
                <a:latin typeface="隶书"/>
                <a:ea typeface="楷体_GB2312"/>
              </a:rPr>
              <a:t>证实了只有在</a:t>
            </a:r>
            <a:r>
              <a:rPr b="1" lang="zh-CN" sz="2800" spc="-1" strike="noStrike">
                <a:solidFill>
                  <a:srgbClr val="1611e3"/>
                </a:solidFill>
                <a:latin typeface="隶书"/>
                <a:ea typeface="楷体_GB2312"/>
              </a:rPr>
              <a:t>阳光</a:t>
            </a:r>
            <a:r>
              <a:rPr b="1" lang="zh-CN" sz="2800" spc="-1" strike="noStrike">
                <a:solidFill>
                  <a:srgbClr val="ea0a0a"/>
                </a:solidFill>
                <a:latin typeface="隶书"/>
                <a:ea typeface="楷体_GB2312"/>
              </a:rPr>
              <a:t>的照射下，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0a0a"/>
                </a:solidFill>
                <a:latin typeface="隶书"/>
                <a:ea typeface="楷体_GB2312"/>
              </a:rPr>
              <a:t>普里斯特利的实验才能获得成功。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组合 11265"/>
          <p:cNvGrpSpPr/>
          <p:nvPr/>
        </p:nvGrpSpPr>
        <p:grpSpPr>
          <a:xfrm>
            <a:off x="324000" y="1557360"/>
            <a:ext cx="3260160" cy="4609800"/>
            <a:chOff x="324000" y="1557360"/>
            <a:chExt cx="3260160" cy="4609800"/>
          </a:xfrm>
        </p:grpSpPr>
        <p:sp>
          <p:nvSpPr>
            <p:cNvPr id="242" name="Freeform 3"/>
            <p:cNvSpPr/>
            <p:nvPr/>
          </p:nvSpPr>
          <p:spPr>
            <a:xfrm>
              <a:off x="1374480" y="4148280"/>
              <a:ext cx="2193480" cy="1987560"/>
            </a:xfrm>
            <a:custGeom>
              <a:avLst/>
              <a:gdLst/>
              <a:ahLst/>
              <a:rect l="l" t="t" r="r" b="b"/>
              <a:pathLst>
                <a:path w="8292" h="6260">
                  <a:moveTo>
                    <a:pt x="7545" y="6260"/>
                  </a:moveTo>
                  <a:lnTo>
                    <a:pt x="7562" y="6254"/>
                  </a:lnTo>
                  <a:lnTo>
                    <a:pt x="7570" y="6250"/>
                  </a:lnTo>
                  <a:lnTo>
                    <a:pt x="7579" y="6248"/>
                  </a:lnTo>
                  <a:lnTo>
                    <a:pt x="7613" y="6235"/>
                  </a:lnTo>
                  <a:lnTo>
                    <a:pt x="7645" y="6220"/>
                  </a:lnTo>
                  <a:lnTo>
                    <a:pt x="7662" y="6212"/>
                  </a:lnTo>
                  <a:lnTo>
                    <a:pt x="7679" y="6205"/>
                  </a:lnTo>
                  <a:lnTo>
                    <a:pt x="7709" y="6187"/>
                  </a:lnTo>
                  <a:lnTo>
                    <a:pt x="7741" y="6169"/>
                  </a:lnTo>
                  <a:lnTo>
                    <a:pt x="7771" y="6148"/>
                  </a:lnTo>
                  <a:lnTo>
                    <a:pt x="7801" y="6127"/>
                  </a:lnTo>
                  <a:lnTo>
                    <a:pt x="7830" y="6103"/>
                  </a:lnTo>
                  <a:lnTo>
                    <a:pt x="7858" y="6079"/>
                  </a:lnTo>
                  <a:lnTo>
                    <a:pt x="7871" y="6065"/>
                  </a:lnTo>
                  <a:lnTo>
                    <a:pt x="7885" y="6053"/>
                  </a:lnTo>
                  <a:lnTo>
                    <a:pt x="7898" y="6039"/>
                  </a:lnTo>
                  <a:lnTo>
                    <a:pt x="7913" y="6026"/>
                  </a:lnTo>
                  <a:lnTo>
                    <a:pt x="7938" y="5996"/>
                  </a:lnTo>
                  <a:lnTo>
                    <a:pt x="7963" y="5967"/>
                  </a:lnTo>
                  <a:lnTo>
                    <a:pt x="7988" y="5936"/>
                  </a:lnTo>
                  <a:lnTo>
                    <a:pt x="8012" y="5903"/>
                  </a:lnTo>
                  <a:lnTo>
                    <a:pt x="8034" y="5868"/>
                  </a:lnTo>
                  <a:lnTo>
                    <a:pt x="8056" y="5832"/>
                  </a:lnTo>
                  <a:lnTo>
                    <a:pt x="8066" y="5813"/>
                  </a:lnTo>
                  <a:lnTo>
                    <a:pt x="8078" y="5794"/>
                  </a:lnTo>
                  <a:lnTo>
                    <a:pt x="8088" y="5775"/>
                  </a:lnTo>
                  <a:lnTo>
                    <a:pt x="8099" y="5757"/>
                  </a:lnTo>
                  <a:lnTo>
                    <a:pt x="8108" y="5736"/>
                  </a:lnTo>
                  <a:lnTo>
                    <a:pt x="8118" y="5716"/>
                  </a:lnTo>
                  <a:lnTo>
                    <a:pt x="8137" y="5675"/>
                  </a:lnTo>
                  <a:lnTo>
                    <a:pt x="8155" y="5633"/>
                  </a:lnTo>
                  <a:lnTo>
                    <a:pt x="8175" y="5589"/>
                  </a:lnTo>
                  <a:lnTo>
                    <a:pt x="8191" y="5542"/>
                  </a:lnTo>
                  <a:lnTo>
                    <a:pt x="8199" y="5518"/>
                  </a:lnTo>
                  <a:lnTo>
                    <a:pt x="8208" y="5495"/>
                  </a:lnTo>
                  <a:lnTo>
                    <a:pt x="8223" y="5447"/>
                  </a:lnTo>
                  <a:lnTo>
                    <a:pt x="8239" y="5397"/>
                  </a:lnTo>
                  <a:lnTo>
                    <a:pt x="8246" y="5371"/>
                  </a:lnTo>
                  <a:lnTo>
                    <a:pt x="8253" y="5346"/>
                  </a:lnTo>
                  <a:lnTo>
                    <a:pt x="8267" y="5293"/>
                  </a:lnTo>
                  <a:lnTo>
                    <a:pt x="8279" y="5239"/>
                  </a:lnTo>
                  <a:lnTo>
                    <a:pt x="8292" y="5184"/>
                  </a:lnTo>
                  <a:lnTo>
                    <a:pt x="8292" y="0"/>
                  </a:lnTo>
                  <a:lnTo>
                    <a:pt x="12" y="0"/>
                  </a:lnTo>
                  <a:lnTo>
                    <a:pt x="12" y="5354"/>
                  </a:lnTo>
                  <a:lnTo>
                    <a:pt x="5" y="5403"/>
                  </a:lnTo>
                  <a:lnTo>
                    <a:pt x="2" y="5451"/>
                  </a:lnTo>
                  <a:lnTo>
                    <a:pt x="0" y="5474"/>
                  </a:lnTo>
                  <a:lnTo>
                    <a:pt x="0" y="5498"/>
                  </a:lnTo>
                  <a:lnTo>
                    <a:pt x="1" y="5544"/>
                  </a:lnTo>
                  <a:lnTo>
                    <a:pt x="4" y="5588"/>
                  </a:lnTo>
                  <a:lnTo>
                    <a:pt x="9" y="5630"/>
                  </a:lnTo>
                  <a:lnTo>
                    <a:pt x="16" y="5672"/>
                  </a:lnTo>
                  <a:lnTo>
                    <a:pt x="26" y="5713"/>
                  </a:lnTo>
                  <a:lnTo>
                    <a:pt x="37" y="5751"/>
                  </a:lnTo>
                  <a:lnTo>
                    <a:pt x="52" y="5788"/>
                  </a:lnTo>
                  <a:lnTo>
                    <a:pt x="59" y="5805"/>
                  </a:lnTo>
                  <a:lnTo>
                    <a:pt x="68" y="5823"/>
                  </a:lnTo>
                  <a:lnTo>
                    <a:pt x="87" y="5859"/>
                  </a:lnTo>
                  <a:lnTo>
                    <a:pt x="107" y="5891"/>
                  </a:lnTo>
                  <a:lnTo>
                    <a:pt x="130" y="5923"/>
                  </a:lnTo>
                  <a:lnTo>
                    <a:pt x="156" y="5954"/>
                  </a:lnTo>
                  <a:lnTo>
                    <a:pt x="183" y="5984"/>
                  </a:lnTo>
                  <a:lnTo>
                    <a:pt x="212" y="6010"/>
                  </a:lnTo>
                  <a:lnTo>
                    <a:pt x="244" y="6037"/>
                  </a:lnTo>
                  <a:lnTo>
                    <a:pt x="277" y="6062"/>
                  </a:lnTo>
                  <a:lnTo>
                    <a:pt x="294" y="6073"/>
                  </a:lnTo>
                  <a:lnTo>
                    <a:pt x="314" y="6086"/>
                  </a:lnTo>
                  <a:lnTo>
                    <a:pt x="351" y="6108"/>
                  </a:lnTo>
                  <a:lnTo>
                    <a:pt x="391" y="6128"/>
                  </a:lnTo>
                  <a:lnTo>
                    <a:pt x="412" y="6138"/>
                  </a:lnTo>
                  <a:lnTo>
                    <a:pt x="434" y="6148"/>
                  </a:lnTo>
                  <a:lnTo>
                    <a:pt x="480" y="6166"/>
                  </a:lnTo>
                  <a:lnTo>
                    <a:pt x="526" y="6182"/>
                  </a:lnTo>
                  <a:lnTo>
                    <a:pt x="576" y="6197"/>
                  </a:lnTo>
                  <a:lnTo>
                    <a:pt x="627" y="6211"/>
                  </a:lnTo>
                  <a:lnTo>
                    <a:pt x="681" y="6224"/>
                  </a:lnTo>
                  <a:lnTo>
                    <a:pt x="737" y="6234"/>
                  </a:lnTo>
                  <a:lnTo>
                    <a:pt x="794" y="6244"/>
                  </a:lnTo>
                  <a:lnTo>
                    <a:pt x="854" y="6252"/>
                  </a:lnTo>
                  <a:lnTo>
                    <a:pt x="918" y="6260"/>
                  </a:lnTo>
                  <a:lnTo>
                    <a:pt x="7545" y="6260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grpSp>
          <p:nvGrpSpPr>
            <p:cNvPr id="243" name="组合 11267"/>
            <p:cNvGrpSpPr/>
            <p:nvPr/>
          </p:nvGrpSpPr>
          <p:grpSpPr>
            <a:xfrm>
              <a:off x="324000" y="1557360"/>
              <a:ext cx="3260160" cy="4609800"/>
              <a:chOff x="324000" y="1557360"/>
              <a:chExt cx="3260160" cy="4609800"/>
            </a:xfrm>
          </p:grpSpPr>
          <p:pic>
            <p:nvPicPr>
              <p:cNvPr id="244" name="Object 5" descr=""/>
              <p:cNvPicPr/>
              <p:nvPr/>
            </p:nvPicPr>
            <p:blipFill>
              <a:blip r:embed="rId1"/>
              <a:stretch/>
            </p:blipFill>
            <p:spPr>
              <a:xfrm>
                <a:off x="324000" y="1557360"/>
                <a:ext cx="685440" cy="685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5" name="组合 11269"/>
              <p:cNvGrpSpPr/>
              <p:nvPr/>
            </p:nvGrpSpPr>
            <p:grpSpPr>
              <a:xfrm>
                <a:off x="1390320" y="3186000"/>
                <a:ext cx="2193840" cy="2981160"/>
                <a:chOff x="1390320" y="3186000"/>
                <a:chExt cx="2193840" cy="2981160"/>
              </a:xfrm>
            </p:grpSpPr>
            <p:sp>
              <p:nvSpPr>
                <p:cNvPr id="246" name="Freeform 7"/>
                <p:cNvSpPr/>
                <p:nvPr/>
              </p:nvSpPr>
              <p:spPr>
                <a:xfrm>
                  <a:off x="1390320" y="3186000"/>
                  <a:ext cx="2193840" cy="2981160"/>
                </a:xfrm>
                <a:custGeom>
                  <a:avLst/>
                  <a:gdLst/>
                  <a:ahLst/>
                  <a:rect l="l" t="t" r="r" b="b"/>
                  <a:pathLst>
                    <a:path w="8292" h="9392">
                      <a:moveTo>
                        <a:pt x="8292" y="0"/>
                      </a:moveTo>
                      <a:lnTo>
                        <a:pt x="8292" y="3132"/>
                      </a:lnTo>
                      <a:lnTo>
                        <a:pt x="8292" y="8316"/>
                      </a:lnTo>
                      <a:lnTo>
                        <a:pt x="8279" y="8371"/>
                      </a:lnTo>
                      <a:lnTo>
                        <a:pt x="8267" y="8425"/>
                      </a:lnTo>
                      <a:lnTo>
                        <a:pt x="8253" y="8478"/>
                      </a:lnTo>
                      <a:lnTo>
                        <a:pt x="8246" y="8503"/>
                      </a:lnTo>
                      <a:lnTo>
                        <a:pt x="8239" y="8529"/>
                      </a:lnTo>
                      <a:lnTo>
                        <a:pt x="8223" y="8579"/>
                      </a:lnTo>
                      <a:lnTo>
                        <a:pt x="8208" y="8627"/>
                      </a:lnTo>
                      <a:lnTo>
                        <a:pt x="8199" y="8650"/>
                      </a:lnTo>
                      <a:lnTo>
                        <a:pt x="8191" y="8674"/>
                      </a:lnTo>
                      <a:lnTo>
                        <a:pt x="8175" y="8721"/>
                      </a:lnTo>
                      <a:lnTo>
                        <a:pt x="8155" y="8765"/>
                      </a:lnTo>
                      <a:lnTo>
                        <a:pt x="8137" y="8807"/>
                      </a:lnTo>
                      <a:lnTo>
                        <a:pt x="8118" y="8848"/>
                      </a:lnTo>
                      <a:lnTo>
                        <a:pt x="8108" y="8868"/>
                      </a:lnTo>
                      <a:lnTo>
                        <a:pt x="8099" y="8889"/>
                      </a:lnTo>
                      <a:lnTo>
                        <a:pt x="8088" y="8907"/>
                      </a:lnTo>
                      <a:lnTo>
                        <a:pt x="8078" y="8926"/>
                      </a:lnTo>
                      <a:lnTo>
                        <a:pt x="8066" y="8945"/>
                      </a:lnTo>
                      <a:lnTo>
                        <a:pt x="8056" y="8964"/>
                      </a:lnTo>
                      <a:lnTo>
                        <a:pt x="8034" y="9000"/>
                      </a:lnTo>
                      <a:lnTo>
                        <a:pt x="8012" y="9035"/>
                      </a:lnTo>
                      <a:lnTo>
                        <a:pt x="7988" y="9068"/>
                      </a:lnTo>
                      <a:lnTo>
                        <a:pt x="7963" y="9099"/>
                      </a:lnTo>
                      <a:lnTo>
                        <a:pt x="7938" y="9128"/>
                      </a:lnTo>
                      <a:lnTo>
                        <a:pt x="7913" y="9158"/>
                      </a:lnTo>
                      <a:lnTo>
                        <a:pt x="7898" y="9171"/>
                      </a:lnTo>
                      <a:lnTo>
                        <a:pt x="7885" y="9185"/>
                      </a:lnTo>
                      <a:lnTo>
                        <a:pt x="7871" y="9197"/>
                      </a:lnTo>
                      <a:lnTo>
                        <a:pt x="7858" y="9211"/>
                      </a:lnTo>
                      <a:lnTo>
                        <a:pt x="7830" y="9235"/>
                      </a:lnTo>
                      <a:lnTo>
                        <a:pt x="7801" y="9259"/>
                      </a:lnTo>
                      <a:lnTo>
                        <a:pt x="7771" y="9280"/>
                      </a:lnTo>
                      <a:lnTo>
                        <a:pt x="7741" y="9301"/>
                      </a:lnTo>
                      <a:lnTo>
                        <a:pt x="7709" y="9319"/>
                      </a:lnTo>
                      <a:lnTo>
                        <a:pt x="7679" y="9337"/>
                      </a:lnTo>
                      <a:lnTo>
                        <a:pt x="7662" y="9344"/>
                      </a:lnTo>
                      <a:lnTo>
                        <a:pt x="7645" y="9352"/>
                      </a:lnTo>
                      <a:lnTo>
                        <a:pt x="7613" y="9367"/>
                      </a:lnTo>
                      <a:lnTo>
                        <a:pt x="7579" y="9380"/>
                      </a:lnTo>
                      <a:lnTo>
                        <a:pt x="7570" y="9382"/>
                      </a:lnTo>
                      <a:lnTo>
                        <a:pt x="7562" y="9386"/>
                      </a:lnTo>
                      <a:lnTo>
                        <a:pt x="7545" y="9392"/>
                      </a:lnTo>
                      <a:lnTo>
                        <a:pt x="918" y="9392"/>
                      </a:lnTo>
                      <a:lnTo>
                        <a:pt x="854" y="9384"/>
                      </a:lnTo>
                      <a:lnTo>
                        <a:pt x="794" y="9376"/>
                      </a:lnTo>
                      <a:lnTo>
                        <a:pt x="737" y="9366"/>
                      </a:lnTo>
                      <a:lnTo>
                        <a:pt x="681" y="9356"/>
                      </a:lnTo>
                      <a:lnTo>
                        <a:pt x="627" y="9343"/>
                      </a:lnTo>
                      <a:lnTo>
                        <a:pt x="576" y="9329"/>
                      </a:lnTo>
                      <a:lnTo>
                        <a:pt x="526" y="9314"/>
                      </a:lnTo>
                      <a:lnTo>
                        <a:pt x="480" y="9298"/>
                      </a:lnTo>
                      <a:lnTo>
                        <a:pt x="434" y="9280"/>
                      </a:lnTo>
                      <a:lnTo>
                        <a:pt x="412" y="9270"/>
                      </a:lnTo>
                      <a:lnTo>
                        <a:pt x="391" y="9260"/>
                      </a:lnTo>
                      <a:lnTo>
                        <a:pt x="351" y="9240"/>
                      </a:lnTo>
                      <a:lnTo>
                        <a:pt x="314" y="9218"/>
                      </a:lnTo>
                      <a:lnTo>
                        <a:pt x="294" y="9205"/>
                      </a:lnTo>
                      <a:lnTo>
                        <a:pt x="277" y="9194"/>
                      </a:lnTo>
                      <a:lnTo>
                        <a:pt x="244" y="9169"/>
                      </a:lnTo>
                      <a:lnTo>
                        <a:pt x="212" y="9142"/>
                      </a:lnTo>
                      <a:lnTo>
                        <a:pt x="183" y="9116"/>
                      </a:lnTo>
                      <a:lnTo>
                        <a:pt x="156" y="9086"/>
                      </a:lnTo>
                      <a:lnTo>
                        <a:pt x="130" y="9055"/>
                      </a:lnTo>
                      <a:lnTo>
                        <a:pt x="107" y="9023"/>
                      </a:lnTo>
                      <a:lnTo>
                        <a:pt x="87" y="8991"/>
                      </a:lnTo>
                      <a:lnTo>
                        <a:pt x="68" y="8955"/>
                      </a:lnTo>
                      <a:lnTo>
                        <a:pt x="59" y="8937"/>
                      </a:lnTo>
                      <a:lnTo>
                        <a:pt x="52" y="8920"/>
                      </a:lnTo>
                      <a:lnTo>
                        <a:pt x="37" y="8883"/>
                      </a:lnTo>
                      <a:lnTo>
                        <a:pt x="26" y="8845"/>
                      </a:lnTo>
                      <a:lnTo>
                        <a:pt x="16" y="8804"/>
                      </a:lnTo>
                      <a:lnTo>
                        <a:pt x="9" y="8762"/>
                      </a:lnTo>
                      <a:lnTo>
                        <a:pt x="4" y="8720"/>
                      </a:lnTo>
                      <a:lnTo>
                        <a:pt x="1" y="8676"/>
                      </a:lnTo>
                      <a:lnTo>
                        <a:pt x="0" y="8630"/>
                      </a:lnTo>
                      <a:lnTo>
                        <a:pt x="0" y="8606"/>
                      </a:lnTo>
                      <a:lnTo>
                        <a:pt x="2" y="8583"/>
                      </a:lnTo>
                      <a:lnTo>
                        <a:pt x="5" y="8535"/>
                      </a:lnTo>
                      <a:lnTo>
                        <a:pt x="12" y="8486"/>
                      </a:lnTo>
                      <a:lnTo>
                        <a:pt x="12" y="3132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5400">
                  <a:solidFill>
                    <a:srgbClr val="99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pic>
              <p:nvPicPr>
                <p:cNvPr id="247" name="Object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771200" y="5214960"/>
                  <a:ext cx="1524240" cy="838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248" name="Object 9" descr=""/>
          <p:cNvPicPr/>
          <p:nvPr/>
        </p:nvPicPr>
        <p:blipFill>
          <a:blip r:embed="rId3"/>
          <a:stretch/>
        </p:blipFill>
        <p:spPr>
          <a:xfrm>
            <a:off x="2050920" y="1773360"/>
            <a:ext cx="524160" cy="30477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0"/>
          <p:cNvSpPr/>
          <p:nvPr/>
        </p:nvSpPr>
        <p:spPr>
          <a:xfrm>
            <a:off x="2146320" y="2135160"/>
            <a:ext cx="34272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250" name="Object 11" descr=""/>
          <p:cNvPicPr/>
          <p:nvPr/>
        </p:nvPicPr>
        <p:blipFill>
          <a:blip r:embed="rId4"/>
          <a:stretch/>
        </p:blipFill>
        <p:spPr>
          <a:xfrm>
            <a:off x="1476360" y="4437000"/>
            <a:ext cx="1905120" cy="1447920"/>
          </a:xfrm>
          <a:prstGeom prst="rect">
            <a:avLst/>
          </a:prstGeom>
          <a:ln w="0">
            <a:noFill/>
          </a:ln>
        </p:spPr>
      </p:pic>
      <p:grpSp>
        <p:nvGrpSpPr>
          <p:cNvPr id="251" name="组合 11275"/>
          <p:cNvGrpSpPr/>
          <p:nvPr/>
        </p:nvGrpSpPr>
        <p:grpSpPr>
          <a:xfrm>
            <a:off x="1907640" y="4292280"/>
            <a:ext cx="988920" cy="1371600"/>
            <a:chOff x="1907640" y="4292280"/>
            <a:chExt cx="988920" cy="1371600"/>
          </a:xfrm>
        </p:grpSpPr>
        <p:sp>
          <p:nvSpPr>
            <p:cNvPr id="252" name="Oval 13"/>
            <p:cNvSpPr/>
            <p:nvPr/>
          </p:nvSpPr>
          <p:spPr>
            <a:xfrm flipH="1" flipV="1">
              <a:off x="2212200" y="4979880"/>
              <a:ext cx="74520" cy="74880"/>
            </a:xfrm>
            <a:prstGeom prst="ellipse">
              <a:avLst/>
            </a:prstGeom>
            <a:noFill/>
            <a:ln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53" name="Oval 14"/>
            <p:cNvSpPr/>
            <p:nvPr/>
          </p:nvSpPr>
          <p:spPr>
            <a:xfrm flipH="1" flipV="1">
              <a:off x="2135880" y="5284080"/>
              <a:ext cx="74520" cy="74520"/>
            </a:xfrm>
            <a:prstGeom prst="ellipse">
              <a:avLst/>
            </a:prstGeom>
            <a:noFill/>
            <a:ln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54" name="Oval 15"/>
            <p:cNvSpPr/>
            <p:nvPr/>
          </p:nvSpPr>
          <p:spPr>
            <a:xfrm flipH="1" flipV="1">
              <a:off x="2212200" y="5360400"/>
              <a:ext cx="74520" cy="74520"/>
            </a:xfrm>
            <a:prstGeom prst="ellipse">
              <a:avLst/>
            </a:prstGeom>
            <a:noFill/>
            <a:ln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55" name="Oval 16"/>
            <p:cNvSpPr/>
            <p:nvPr/>
          </p:nvSpPr>
          <p:spPr>
            <a:xfrm flipH="1" flipV="1">
              <a:off x="2669400" y="5437080"/>
              <a:ext cx="74520" cy="74880"/>
            </a:xfrm>
            <a:prstGeom prst="ellipse">
              <a:avLst/>
            </a:prstGeom>
            <a:noFill/>
            <a:ln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56" name="Oval 17"/>
            <p:cNvSpPr/>
            <p:nvPr/>
          </p:nvSpPr>
          <p:spPr>
            <a:xfrm flipH="1" flipV="1">
              <a:off x="2440800" y="5589000"/>
              <a:ext cx="74520" cy="74520"/>
            </a:xfrm>
            <a:prstGeom prst="ellipse">
              <a:avLst/>
            </a:prstGeom>
            <a:noFill/>
            <a:ln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57" name="Oval 18"/>
            <p:cNvSpPr/>
            <p:nvPr/>
          </p:nvSpPr>
          <p:spPr>
            <a:xfrm flipH="1" flipV="1">
              <a:off x="2364480" y="5055480"/>
              <a:ext cx="74520" cy="74520"/>
            </a:xfrm>
            <a:prstGeom prst="ellipse">
              <a:avLst/>
            </a:prstGeom>
            <a:noFill/>
            <a:ln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58" name="Oval 19"/>
            <p:cNvSpPr/>
            <p:nvPr/>
          </p:nvSpPr>
          <p:spPr>
            <a:xfrm flipH="1" flipV="1">
              <a:off x="2517480" y="5284080"/>
              <a:ext cx="74880" cy="74520"/>
            </a:xfrm>
            <a:prstGeom prst="ellipse">
              <a:avLst/>
            </a:prstGeom>
            <a:noFill/>
            <a:ln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59" name="Oval 20"/>
            <p:cNvSpPr/>
            <p:nvPr/>
          </p:nvSpPr>
          <p:spPr>
            <a:xfrm flipH="1" flipV="1">
              <a:off x="1907280" y="5437080"/>
              <a:ext cx="74520" cy="74880"/>
            </a:xfrm>
            <a:prstGeom prst="ellipse">
              <a:avLst/>
            </a:prstGeom>
            <a:noFill/>
            <a:ln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60" name="Oval 21"/>
            <p:cNvSpPr/>
            <p:nvPr/>
          </p:nvSpPr>
          <p:spPr>
            <a:xfrm flipH="1" flipV="1">
              <a:off x="2288880" y="5512680"/>
              <a:ext cx="74880" cy="74520"/>
            </a:xfrm>
            <a:prstGeom prst="ellipse">
              <a:avLst/>
            </a:prstGeom>
            <a:noFill/>
            <a:ln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61" name="Oval 22"/>
            <p:cNvSpPr/>
            <p:nvPr/>
          </p:nvSpPr>
          <p:spPr>
            <a:xfrm flipH="1" flipV="1">
              <a:off x="2288880" y="5589000"/>
              <a:ext cx="74880" cy="74520"/>
            </a:xfrm>
            <a:prstGeom prst="ellipse">
              <a:avLst/>
            </a:prstGeom>
            <a:noFill/>
            <a:ln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62" name="Oval 23"/>
            <p:cNvSpPr/>
            <p:nvPr/>
          </p:nvSpPr>
          <p:spPr>
            <a:xfrm flipH="1" flipV="1">
              <a:off x="2821680" y="5512680"/>
              <a:ext cx="74520" cy="74520"/>
            </a:xfrm>
            <a:prstGeom prst="ellipse">
              <a:avLst/>
            </a:prstGeom>
            <a:noFill/>
            <a:ln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63" name="Oval 24"/>
            <p:cNvSpPr/>
            <p:nvPr/>
          </p:nvSpPr>
          <p:spPr>
            <a:xfrm flipH="1" flipV="1">
              <a:off x="2288880" y="4751280"/>
              <a:ext cx="74880" cy="74880"/>
            </a:xfrm>
            <a:prstGeom prst="ellipse">
              <a:avLst/>
            </a:prstGeom>
            <a:noFill/>
            <a:ln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64" name="Oval 25"/>
            <p:cNvSpPr/>
            <p:nvPr/>
          </p:nvSpPr>
          <p:spPr>
            <a:xfrm flipH="1" flipV="1">
              <a:off x="2288880" y="4291920"/>
              <a:ext cx="74880" cy="74520"/>
            </a:xfrm>
            <a:prstGeom prst="ellipse">
              <a:avLst/>
            </a:prstGeom>
            <a:noFill/>
            <a:ln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65" name="Oval 26"/>
            <p:cNvSpPr/>
            <p:nvPr/>
          </p:nvSpPr>
          <p:spPr>
            <a:xfrm flipH="1" flipV="1">
              <a:off x="2288880" y="4749120"/>
              <a:ext cx="74880" cy="74520"/>
            </a:xfrm>
            <a:prstGeom prst="ellipse">
              <a:avLst/>
            </a:prstGeom>
            <a:noFill/>
            <a:ln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66" name="Oval 27"/>
            <p:cNvSpPr/>
            <p:nvPr/>
          </p:nvSpPr>
          <p:spPr>
            <a:xfrm flipH="1" flipV="1">
              <a:off x="2288880" y="4520520"/>
              <a:ext cx="74880" cy="74520"/>
            </a:xfrm>
            <a:prstGeom prst="ellipse">
              <a:avLst/>
            </a:prstGeom>
            <a:noFill/>
            <a:ln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67" name="Oval 28"/>
            <p:cNvSpPr/>
            <p:nvPr/>
          </p:nvSpPr>
          <p:spPr>
            <a:xfrm flipH="1" flipV="1">
              <a:off x="2288880" y="4902120"/>
              <a:ext cx="74880" cy="74880"/>
            </a:xfrm>
            <a:prstGeom prst="ellipse">
              <a:avLst/>
            </a:prstGeom>
            <a:noFill/>
            <a:ln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68" name="Oval 29"/>
            <p:cNvSpPr/>
            <p:nvPr/>
          </p:nvSpPr>
          <p:spPr>
            <a:xfrm flipH="1" flipV="1">
              <a:off x="2364480" y="4520520"/>
              <a:ext cx="74520" cy="74520"/>
            </a:xfrm>
            <a:prstGeom prst="ellipse">
              <a:avLst/>
            </a:prstGeom>
            <a:noFill/>
            <a:ln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69" name="Oval 30"/>
            <p:cNvSpPr/>
            <p:nvPr/>
          </p:nvSpPr>
          <p:spPr>
            <a:xfrm flipH="1" flipV="1">
              <a:off x="2288880" y="4291920"/>
              <a:ext cx="74880" cy="74520"/>
            </a:xfrm>
            <a:prstGeom prst="ellipse">
              <a:avLst/>
            </a:prstGeom>
            <a:noFill/>
            <a:ln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pic>
        <p:nvPicPr>
          <p:cNvPr id="270" name="Object 31" descr=""/>
          <p:cNvPicPr/>
          <p:nvPr/>
        </p:nvPicPr>
        <p:blipFill>
          <a:blip r:embed="rId5"/>
          <a:stretch/>
        </p:blipFill>
        <p:spPr>
          <a:xfrm>
            <a:off x="2050920" y="1700280"/>
            <a:ext cx="533520" cy="433440"/>
          </a:xfrm>
          <a:prstGeom prst="rect">
            <a:avLst/>
          </a:prstGeom>
          <a:ln w="0">
            <a:noFill/>
          </a:ln>
        </p:spPr>
      </p:pic>
      <p:pic>
        <p:nvPicPr>
          <p:cNvPr id="271" name="Object 32" descr=""/>
          <p:cNvPicPr/>
          <p:nvPr/>
        </p:nvPicPr>
        <p:blipFill>
          <a:blip r:embed="rId6"/>
          <a:stretch/>
        </p:blipFill>
        <p:spPr>
          <a:xfrm>
            <a:off x="2195640" y="333360"/>
            <a:ext cx="201600" cy="2614680"/>
          </a:xfrm>
          <a:prstGeom prst="rect">
            <a:avLst/>
          </a:prstGeom>
          <a:ln w="0">
            <a:noFill/>
          </a:ln>
        </p:spPr>
      </p:pic>
      <p:pic>
        <p:nvPicPr>
          <p:cNvPr id="272" name="Object 33" descr=""/>
          <p:cNvPicPr/>
          <p:nvPr/>
        </p:nvPicPr>
        <p:blipFill>
          <a:blip r:embed="rId7"/>
          <a:stretch/>
        </p:blipFill>
        <p:spPr>
          <a:xfrm>
            <a:off x="2124000" y="549360"/>
            <a:ext cx="277920" cy="2819160"/>
          </a:xfrm>
          <a:prstGeom prst="rect">
            <a:avLst/>
          </a:prstGeom>
          <a:ln w="0">
            <a:noFill/>
          </a:ln>
        </p:spPr>
      </p:pic>
      <p:grpSp>
        <p:nvGrpSpPr>
          <p:cNvPr id="273" name="组合 11297"/>
          <p:cNvGrpSpPr/>
          <p:nvPr/>
        </p:nvGrpSpPr>
        <p:grpSpPr>
          <a:xfrm>
            <a:off x="2268360" y="2205000"/>
            <a:ext cx="2971800" cy="1066320"/>
            <a:chOff x="2268360" y="2205000"/>
            <a:chExt cx="2971800" cy="1066320"/>
          </a:xfrm>
        </p:grpSpPr>
        <p:sp>
          <p:nvSpPr>
            <p:cNvPr id="274" name="Line 35"/>
            <p:cNvSpPr/>
            <p:nvPr/>
          </p:nvSpPr>
          <p:spPr>
            <a:xfrm flipV="1">
              <a:off x="2268360" y="2661840"/>
              <a:ext cx="1523880" cy="609480"/>
            </a:xfrm>
            <a:prstGeom prst="line">
              <a:avLst/>
            </a:prstGeom>
            <a:ln w="381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75" name="Text Box 36"/>
            <p:cNvSpPr/>
            <p:nvPr/>
          </p:nvSpPr>
          <p:spPr>
            <a:xfrm>
              <a:off x="3792240" y="2205000"/>
              <a:ext cx="1447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3300"/>
                  </a:solidFill>
                  <a:latin typeface="Times New Roman"/>
                  <a:ea typeface="楷体_GB2312"/>
                </a:rPr>
                <a:t>氧气</a:t>
              </a:r>
              <a:endParaRPr b="0" lang="en-US" sz="4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76" name="Text Box 37"/>
          <p:cNvSpPr/>
          <p:nvPr/>
        </p:nvSpPr>
        <p:spPr>
          <a:xfrm>
            <a:off x="4861080" y="1052640"/>
            <a:ext cx="441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20202"/>
                </a:solidFill>
                <a:latin typeface="Times New Roman"/>
                <a:ea typeface="黑体"/>
              </a:rPr>
              <a:t>氧气能使带火星的木条复燃</a:t>
            </a:r>
            <a:r>
              <a:rPr b="0" lang="zh-CN" sz="2400" spc="-1" strike="noStrike">
                <a:solidFill>
                  <a:srgbClr val="02020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77" name="Text Box 39"/>
          <p:cNvSpPr/>
          <p:nvPr/>
        </p:nvSpPr>
        <p:spPr>
          <a:xfrm>
            <a:off x="3851280" y="5084640"/>
            <a:ext cx="36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0a0a"/>
                </a:solidFill>
                <a:latin typeface="Times New Roman"/>
                <a:ea typeface="黑体"/>
              </a:rPr>
              <a:t>光合作用</a:t>
            </a:r>
            <a:r>
              <a:rPr b="1" lang="en-US" sz="3600" spc="-1" strike="noStrike">
                <a:solidFill>
                  <a:srgbClr val="6f38f8"/>
                </a:solidFill>
                <a:latin typeface="宋体"/>
                <a:ea typeface="黑体"/>
              </a:rPr>
              <a:t>——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78" name="Rectangle 40"/>
          <p:cNvSpPr/>
          <p:nvPr/>
        </p:nvSpPr>
        <p:spPr>
          <a:xfrm>
            <a:off x="7099200" y="508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4d4d"/>
                </a:solidFill>
                <a:latin typeface="Times New Roman"/>
              </a:rPr>
              <a:t>产生氧气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79" name="矩形 11303"/>
          <p:cNvSpPr/>
          <p:nvPr/>
        </p:nvSpPr>
        <p:spPr>
          <a:xfrm>
            <a:off x="457200" y="276120"/>
            <a:ext cx="822960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Verdana"/>
                <a:ea typeface="微软雅黑"/>
              </a:rPr>
              <a:t>二、光合作用的能产生氧气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3"/>
          <p:cNvSpPr/>
          <p:nvPr/>
        </p:nvSpPr>
        <p:spPr>
          <a:xfrm>
            <a:off x="1066680" y="1981080"/>
            <a:ext cx="71629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4d4d"/>
                </a:solidFill>
                <a:latin typeface="Times New Roman"/>
                <a:ea typeface="楷体_GB2312"/>
              </a:rPr>
              <a:t>普里斯特利：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4d4d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4d4d4d"/>
                </a:solidFill>
                <a:latin typeface="Times New Roman"/>
                <a:ea typeface="楷体_GB2312"/>
              </a:rPr>
              <a:t>绿色植物能够更新由于蜡烛燃烧或动物呼吸而变得污浊的空气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1523880" y="472428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光合作用</a:t>
            </a:r>
            <a:r>
              <a:rPr b="1" lang="en-US" sz="4000" spc="-1" strike="noStrike">
                <a:solidFill>
                  <a:srgbClr val="6f38f8"/>
                </a:solidFill>
                <a:latin typeface="Times New Roman"/>
              </a:rPr>
              <a:t>——</a:t>
            </a:r>
            <a:endParaRPr b="0" lang="en-US" sz="4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722480" y="4797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0a8b0"/>
                </a:solidFill>
                <a:latin typeface="Times New Roman"/>
              </a:rPr>
              <a:t>产生氧气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83" name="矩形 12292"/>
          <p:cNvSpPr/>
          <p:nvPr/>
        </p:nvSpPr>
        <p:spPr>
          <a:xfrm>
            <a:off x="457200" y="276120"/>
            <a:ext cx="822960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Verdana"/>
                <a:ea typeface="微软雅黑"/>
              </a:rPr>
              <a:t>二、光合作用的能产生氧气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20202"/>
                </a:solidFill>
                <a:latin typeface="Verdana"/>
              </a:rPr>
              <a:t>小组讨论：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6" name="矩形 13315"/>
          <p:cNvSpPr/>
          <p:nvPr/>
        </p:nvSpPr>
        <p:spPr>
          <a:xfrm>
            <a:off x="252360" y="333360"/>
            <a:ext cx="82296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Verdana"/>
                <a:ea typeface="微软雅黑"/>
              </a:rPr>
              <a:t>三、探究：二氧化碳是光合作用必需的原料吗？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971640" y="3286080"/>
            <a:ext cx="76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宋体"/>
              </a:rPr>
              <a:t>提示：</a:t>
            </a:r>
            <a:r>
              <a:rPr b="1" lang="zh-CN" sz="2800" spc="-1" strike="noStrike">
                <a:solidFill>
                  <a:srgbClr val="4d4d4d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4d4d4d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4d4d4d"/>
                </a:solidFill>
                <a:latin typeface="宋体"/>
              </a:rPr>
              <a:t>NaOH</a:t>
            </a:r>
            <a:r>
              <a:rPr b="1" lang="zh-CN" sz="2800" spc="-1" strike="noStrike">
                <a:solidFill>
                  <a:srgbClr val="4d4d4d"/>
                </a:solidFill>
                <a:latin typeface="宋体"/>
              </a:rPr>
              <a:t>溶液能够吸收二氧化碳。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4d4d4d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4d4d4d"/>
                </a:solidFill>
                <a:latin typeface="宋体"/>
              </a:rPr>
              <a:t>、可以借鉴普利斯特利的钟罩实验，或者其他方法。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88" name="文本框 13317"/>
          <p:cNvSpPr/>
          <p:nvPr/>
        </p:nvSpPr>
        <p:spPr>
          <a:xfrm>
            <a:off x="5848200" y="1486080"/>
            <a:ext cx="35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0202"/>
                </a:solidFill>
                <a:latin typeface="Times New Roman"/>
              </a:rPr>
              <a:t>设计实验探究光合作用是否需要二氧化碳。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971640" y="2062080"/>
            <a:ext cx="76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宋体"/>
              </a:rPr>
              <a:t>要求：小组成员分工合作，设计出实验方案，并在学案中书写、绘画出来。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文本框 14337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光合作用吸收二氧化碳释放氧气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291" name="图片 14338" descr=""/>
          <p:cNvPicPr/>
          <p:nvPr/>
        </p:nvPicPr>
        <p:blipFill>
          <a:blip r:embed="rId1"/>
          <a:stretch/>
        </p:blipFill>
        <p:spPr>
          <a:xfrm>
            <a:off x="900000" y="1655640"/>
            <a:ext cx="7056720" cy="4797720"/>
          </a:xfrm>
          <a:prstGeom prst="rect">
            <a:avLst/>
          </a:prstGeom>
          <a:ln w="0">
            <a:noFill/>
          </a:ln>
        </p:spPr>
      </p:pic>
      <p:sp>
        <p:nvSpPr>
          <p:cNvPr id="292" name="文本框 14339"/>
          <p:cNvSpPr/>
          <p:nvPr/>
        </p:nvSpPr>
        <p:spPr>
          <a:xfrm>
            <a:off x="0" y="404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光合作用的表达式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93" name="组合 14340"/>
          <p:cNvGrpSpPr/>
          <p:nvPr/>
        </p:nvGrpSpPr>
        <p:grpSpPr>
          <a:xfrm>
            <a:off x="971640" y="765000"/>
            <a:ext cx="7489800" cy="902160"/>
            <a:chOff x="971640" y="765000"/>
            <a:chExt cx="7489800" cy="902160"/>
          </a:xfrm>
        </p:grpSpPr>
        <p:sp>
          <p:nvSpPr>
            <p:cNvPr id="294" name="文本框 14341"/>
            <p:cNvSpPr/>
            <p:nvPr/>
          </p:nvSpPr>
          <p:spPr>
            <a:xfrm>
              <a:off x="971640" y="907920"/>
              <a:ext cx="748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d4d4d"/>
                  </a:solidFill>
                  <a:latin typeface="Times New Roman"/>
                  <a:ea typeface="宋体"/>
                </a:rPr>
                <a:t>二氧化碳   </a:t>
              </a:r>
              <a:r>
                <a:rPr b="1" lang="en-US" sz="2800" spc="-1" strike="noStrike">
                  <a:solidFill>
                    <a:srgbClr val="4d4d4d"/>
                  </a:solidFill>
                  <a:latin typeface="Times New Roman"/>
                </a:rPr>
                <a:t>+   </a:t>
              </a:r>
              <a:r>
                <a:rPr b="1" lang="zh-CN" sz="2800" spc="-1" strike="noStrike">
                  <a:solidFill>
                    <a:srgbClr val="4d4d4d"/>
                  </a:solidFill>
                  <a:latin typeface="Times New Roman"/>
                  <a:ea typeface="宋体"/>
                </a:rPr>
                <a:t>水                有机物    </a:t>
              </a:r>
              <a:r>
                <a:rPr b="1" lang="en-US" sz="2800" spc="-1" strike="noStrike">
                  <a:solidFill>
                    <a:srgbClr val="4d4d4d"/>
                  </a:solidFill>
                  <a:latin typeface="Times New Roman"/>
                </a:rPr>
                <a:t>+   </a:t>
              </a:r>
              <a:r>
                <a:rPr b="1" lang="zh-CN" sz="2800" spc="-1" strike="noStrike">
                  <a:solidFill>
                    <a:srgbClr val="4d4d4d"/>
                  </a:solidFill>
                  <a:latin typeface="Times New Roman"/>
                  <a:ea typeface="宋体"/>
                </a:rPr>
                <a:t>氧气</a:t>
              </a:r>
              <a:endParaRPr b="0" lang="en-US" sz="2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grpSp>
          <p:nvGrpSpPr>
            <p:cNvPr id="295" name="组合 14342"/>
            <p:cNvGrpSpPr/>
            <p:nvPr/>
          </p:nvGrpSpPr>
          <p:grpSpPr>
            <a:xfrm>
              <a:off x="3851280" y="765000"/>
              <a:ext cx="1511280" cy="890280"/>
              <a:chOff x="3851280" y="765000"/>
              <a:chExt cx="1511280" cy="890280"/>
            </a:xfrm>
          </p:grpSpPr>
          <p:grpSp>
            <p:nvGrpSpPr>
              <p:cNvPr id="296" name="组合 14343"/>
              <p:cNvGrpSpPr/>
              <p:nvPr/>
            </p:nvGrpSpPr>
            <p:grpSpPr>
              <a:xfrm>
                <a:off x="3851280" y="1195560"/>
                <a:ext cx="1511280" cy="459720"/>
                <a:chOff x="3851280" y="1195560"/>
                <a:chExt cx="1511280" cy="459720"/>
              </a:xfrm>
            </p:grpSpPr>
            <p:sp>
              <p:nvSpPr>
                <p:cNvPr id="297" name="直接连接符 14344"/>
                <p:cNvSpPr/>
                <p:nvPr/>
              </p:nvSpPr>
              <p:spPr>
                <a:xfrm>
                  <a:off x="3851280" y="1196640"/>
                  <a:ext cx="11523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矩形 14345"/>
                <p:cNvSpPr/>
                <p:nvPr/>
              </p:nvSpPr>
              <p:spPr>
                <a:xfrm>
                  <a:off x="3851280" y="1195560"/>
                  <a:ext cx="1511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4d4d4d"/>
                      </a:solidFill>
                      <a:latin typeface="Times New Roman"/>
                      <a:ea typeface="宋体"/>
                    </a:rPr>
                    <a:t>叶绿体</a:t>
                  </a:r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9" name="矩形 14346"/>
              <p:cNvSpPr/>
              <p:nvPr/>
            </p:nvSpPr>
            <p:spPr>
              <a:xfrm>
                <a:off x="4120920" y="7650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4d4d4d"/>
                    </a:solidFill>
                    <a:latin typeface="Times New Roman"/>
                    <a:ea typeface="宋体"/>
                  </a:rPr>
                  <a:t>光能</a:t>
                </a:r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sp>
          <p:nvSpPr>
            <p:cNvPr id="300" name="矩形 14347"/>
            <p:cNvSpPr/>
            <p:nvPr/>
          </p:nvSpPr>
          <p:spPr>
            <a:xfrm>
              <a:off x="5150880" y="12682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d4d4d"/>
                  </a:solidFill>
                  <a:latin typeface="Times New Roman"/>
                  <a:ea typeface="宋体"/>
                </a:rPr>
                <a:t>（储存着能量）</a:t>
              </a:r>
              <a:endParaRPr b="0" lang="en-US" sz="20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301" name="椭圆 14348"/>
          <p:cNvSpPr/>
          <p:nvPr/>
        </p:nvSpPr>
        <p:spPr>
          <a:xfrm>
            <a:off x="826920" y="836640"/>
            <a:ext cx="2735280" cy="72072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02" name="文本框 14349"/>
          <p:cNvSpPr/>
          <p:nvPr/>
        </p:nvSpPr>
        <p:spPr>
          <a:xfrm>
            <a:off x="0" y="15573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原料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03" name="直接连接符 14350"/>
          <p:cNvSpPr/>
          <p:nvPr/>
        </p:nvSpPr>
        <p:spPr>
          <a:xfrm flipV="1">
            <a:off x="684360" y="1412640"/>
            <a:ext cx="358560" cy="21564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04" name="椭圆 14351"/>
          <p:cNvSpPr/>
          <p:nvPr/>
        </p:nvSpPr>
        <p:spPr>
          <a:xfrm>
            <a:off x="3924360" y="692280"/>
            <a:ext cx="718920" cy="50472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05" name="直接连接符 14352"/>
          <p:cNvSpPr/>
          <p:nvPr/>
        </p:nvSpPr>
        <p:spPr>
          <a:xfrm flipV="1">
            <a:off x="4643280" y="764640"/>
            <a:ext cx="433440" cy="14292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06" name="文本框 14353"/>
          <p:cNvSpPr/>
          <p:nvPr/>
        </p:nvSpPr>
        <p:spPr>
          <a:xfrm>
            <a:off x="5076720" y="4046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条件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07" name="椭圆 14354"/>
          <p:cNvSpPr/>
          <p:nvPr/>
        </p:nvSpPr>
        <p:spPr>
          <a:xfrm>
            <a:off x="3780000" y="1197000"/>
            <a:ext cx="1079280" cy="50472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08" name="直接连接符 14355"/>
          <p:cNvSpPr/>
          <p:nvPr/>
        </p:nvSpPr>
        <p:spPr>
          <a:xfrm flipH="1" flipV="1">
            <a:off x="4282560" y="1700280"/>
            <a:ext cx="1800" cy="28872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09" name="文本框 14356"/>
          <p:cNvSpPr/>
          <p:nvPr/>
        </p:nvSpPr>
        <p:spPr>
          <a:xfrm>
            <a:off x="3852720" y="19162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场所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0" name="椭圆 14357"/>
          <p:cNvSpPr/>
          <p:nvPr/>
        </p:nvSpPr>
        <p:spPr>
          <a:xfrm>
            <a:off x="5148360" y="836640"/>
            <a:ext cx="2735280" cy="72072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1" name="直接连接符 14358"/>
          <p:cNvSpPr/>
          <p:nvPr/>
        </p:nvSpPr>
        <p:spPr>
          <a:xfrm flipH="1" flipV="1">
            <a:off x="7594560" y="1412640"/>
            <a:ext cx="433440" cy="21564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2" name="文本框 14359"/>
          <p:cNvSpPr/>
          <p:nvPr/>
        </p:nvSpPr>
        <p:spPr>
          <a:xfrm>
            <a:off x="7885080" y="15573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产物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f38f8"/>
                </a:solidFill>
                <a:latin typeface="Times New Roman"/>
                <a:ea typeface="楷体_GB2312"/>
              </a:rPr>
              <a:t>光合作用的实质：</a:t>
            </a:r>
            <a:endParaRPr b="1" lang="en-US" sz="48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79320" y="1628640"/>
            <a:ext cx="2571480" cy="30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Verdana"/>
              </a:rPr>
              <a:t>原料：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Verdana"/>
              </a:rPr>
              <a:t>产物：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Verdana"/>
              </a:rPr>
              <a:t>条件：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2916360" y="162864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Arial Narrow"/>
                <a:ea typeface="楷体_GB2312"/>
              </a:rPr>
              <a:t>二氧化碳、水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2987640" y="263844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Arial Narrow"/>
                <a:ea typeface="楷体_GB2312"/>
              </a:rPr>
              <a:t>有机物、氧气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3060720" y="3502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Arial Narrow"/>
                <a:ea typeface="楷体_GB2312"/>
              </a:rPr>
              <a:t>光、叶绿体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13:04:10Z</dcterms:created>
  <dc:creator>user</dc:creator>
  <dc:description/>
  <dc:language>en-US</dc:language>
  <cp:lastModifiedBy>Administrator</cp:lastModifiedBy>
  <dcterms:modified xsi:type="dcterms:W3CDTF">2017-08-13T10:26:59Z</dcterms:modified>
  <cp:revision>1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