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A01-A253-439D-819B-8CCDE6FC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0E1-7F24-4065-8398-120EFE5D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43C-8896-473B-8AD0-5B05CC07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862-AEC9-4E93-904D-91B483A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7D5A-24D4-4373-97E4-F3B6FDBA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A844-8F04-4BC4-A8E2-63608CEE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F87-7CBF-431F-9AF2-EB08477A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CA79-2C5E-4DEC-9310-C45AE74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63C5-ABF3-4CF6-BD12-9D193BB0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CBEA-77D2-45AC-BA67-C4BB4D2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13BB-B1A1-48CB-9C82-21DC760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039-A98A-4F16-80C9-D8CB5193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441F-D78E-447F-BB42-477AA95E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3FE-8592-456F-A376-2017574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7086-6303-4D0F-B86D-8A2CECFA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5969-517B-43C6-9F69-1B78A209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C4CE-A7B0-4A22-ABC0-493E01D7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72D-7FF2-4F0C-9799-1E8258C2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307-32AD-4E8C-952A-C203EC73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5DD-C7A1-41F8-82D3-F2BF7BE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34E-A29D-4A64-A224-8323E7A0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1E3-553E-4A47-AB3E-F1810A4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871-50E7-4CF1-B4D7-E8FC63D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A38-0B63-4649-ADCC-312AA6D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274-133B-469B-AF6E-C5864B04D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72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49120"/>
                  <a:gd name="textAreaBottom" fmla="*/ 2049480 h 204912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0960"/>
                  <a:gd name="textAreaBottom" fmla="*/ 391320 h 39096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48360"/>
                  <a:gd name="textAreaBottom" fmla="*/ 648720 h 64836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6C1A-B10F-4C16-B3C7-CB5392DFF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6372"/>
          <p:cNvPicPr/>
          <p:nvPr/>
        </p:nvPicPr>
        <p:blipFill>
          <a:blip r:embed="rId1"/>
          <a:srcRect l="0" t="41139" r="0" b="16455"/>
          <a:stretch/>
        </p:blipFill>
        <p:spPr>
          <a:xfrm>
            <a:off x="4643280" y="0"/>
            <a:ext cx="4321440" cy="3168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2009042607425105938719578-1_o"/>
          <p:cNvPicPr/>
          <p:nvPr/>
        </p:nvPicPr>
        <p:blipFill>
          <a:blip r:embed="rId2"/>
          <a:srcRect l="0" t="32470" r="0" b="0"/>
          <a:stretch/>
        </p:blipFill>
        <p:spPr>
          <a:xfrm>
            <a:off x="179280" y="3357720"/>
            <a:ext cx="4176720" cy="350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780568815X1105747-fm"/>
          <p:cNvPicPr/>
          <p:nvPr/>
        </p:nvPicPr>
        <p:blipFill>
          <a:blip r:embed="rId3"/>
          <a:srcRect l="9843" t="34036" r="9843" b="4599"/>
          <a:stretch/>
        </p:blipFill>
        <p:spPr>
          <a:xfrm>
            <a:off x="4716360" y="3357720"/>
            <a:ext cx="4248360" cy="350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20597357_252297"/>
          <p:cNvPicPr/>
          <p:nvPr/>
        </p:nvPicPr>
        <p:blipFill>
          <a:blip r:embed="rId4"/>
          <a:srcRect l="7382" t="9571" r="7382" b="9571"/>
          <a:stretch/>
        </p:blipFill>
        <p:spPr>
          <a:xfrm>
            <a:off x="179280" y="0"/>
            <a:ext cx="4248360" cy="3213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780220141124084"/>
          <p:cNvPicPr/>
          <p:nvPr/>
        </p:nvPicPr>
        <p:blipFill>
          <a:blip r:embed="rId5"/>
          <a:stretch/>
        </p:blipFill>
        <p:spPr>
          <a:xfrm>
            <a:off x="2050920" y="0"/>
            <a:ext cx="475308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556000" y="1916280"/>
            <a:ext cx="4537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洞中历险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250920" y="1197000"/>
            <a:ext cx="8569080" cy="166608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当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海盗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去：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  <a:ea typeface="黑体"/>
              </a:rPr>
              <a:t>描写了汤姆在厌倦了学校枯燥的生活，体验了人情的冷暖和情感的孤独之后，所产生的一系列心理活动，表现了青少年在成长期所特有的反抗心态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荒岛上的“海盗”生活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  <a:ea typeface="黑体"/>
              </a:rPr>
              <a:t>描写了汤姆、乔、和哈克三个小“海盗”在杰克逊岛清晨的生活。通过景物、心理、言行的描写，充分表现了三个少年在摆脱了成人社会的禁锢之后，在享受大自然当中自由自在、无拘无束的酣畅心境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洞中历险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66"/>
                </a:solidFill>
                <a:latin typeface="Arial"/>
                <a:ea typeface="黑体"/>
              </a:rPr>
              <a:t>采用情景交融的写法，描写了汤姆在历险过程中所表现出来的沉着勇敢的精神，以及他们在死亡与恐怖的威胁中，表现出的那种毫无杂质的人性特征与高尚纯洁的友情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826920" y="189000"/>
            <a:ext cx="7561440" cy="764280"/>
          </a:xfrm>
          <a:prstGeom prst="rect">
            <a:avLst/>
          </a:prstGeom>
          <a:solidFill>
            <a:srgbClr val="ffcc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经典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79280" y="189000"/>
            <a:ext cx="8209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堂训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24000" y="1484280"/>
            <a:ext cx="82072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成《全解全练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16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页阅读练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4920" y="2336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掌握作品中的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熟记作品的艺术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4920" y="981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目标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指导及检测一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153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析主要人物汤姆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0" y="765000"/>
            <a:ext cx="9144000" cy="512712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（一）汤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黑体"/>
              </a:rPr>
              <a:t>•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索亚：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（“五次历险”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半夜和朋友哈克去墓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死猫治疣子的方法。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         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躲在钟楼上偷听镇上的人们给他们举行葬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克服恐惧在法院现场揭露凶手印第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岩洞里历尽波折后牵着绑在石头上的风筝线探路，终于脱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56000" y="73080"/>
            <a:ext cx="4105080" cy="581400"/>
          </a:xfrm>
          <a:prstGeom prst="rect">
            <a:avLst/>
          </a:prstGeom>
          <a:solidFill>
            <a:srgbClr val="ffccff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332000" y="1844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爱冒险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，胆子大，顽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746800" y="306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天真可爱，顽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403280" y="4508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畏强暴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坚持正义，勇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善良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4250160" y="602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聪明机灵，面对困难从容镇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79280" y="549360"/>
            <a:ext cx="8820360" cy="391320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巧施妙计让伙伴们不仅替他刷墙，还给他送宝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爱读书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常逃学，在学校里搞恶作剧，捉弄爱责罚学生的醉鬼老师，拿无聊的牧师寻开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夜探墓地，荒岛上扮海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替贝基受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2556000" y="0"/>
            <a:ext cx="4105080" cy="581400"/>
          </a:xfrm>
          <a:prstGeom prst="rect">
            <a:avLst/>
          </a:prstGeom>
          <a:solidFill>
            <a:srgbClr val="ffccff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247560" y="1989000"/>
            <a:ext cx="35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杰出的领导才能，足智多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，顽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2412360" y="3859200"/>
            <a:ext cx="3304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调皮捣蛋，叛逆，反对教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611280" y="5003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厌倦刻板单调的学校生活，反感枯燥乏味的教义，向往无拘无束的冒险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5210640" y="609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乐于助人，注重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50920" y="836640"/>
            <a:ext cx="8713800" cy="484560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黑体"/>
              </a:rPr>
              <a:t>印第安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  <a:ea typeface="黑体"/>
              </a:rPr>
              <a:t>·</a:t>
            </a: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黑体"/>
              </a:rPr>
              <a:t>乔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贪婪，凶残，阴险狡诈。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黑体"/>
              </a:rPr>
              <a:t>波莉姨妈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严格，墨守成规，不善于接受新事物。但是她善良，很疼爱孩子。                                            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黑体"/>
              </a:rPr>
              <a:t>哈克贝利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游手好闲、无法无天，不受约束，秉性善良，正义勇敢，按照自己的喜好行事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2556000" y="0"/>
            <a:ext cx="4392360" cy="520560"/>
          </a:xfrm>
          <a:prstGeom prst="rect">
            <a:avLst/>
          </a:prstGeom>
          <a:solidFill>
            <a:srgbClr val="ffcc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其它人物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489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品艺术特色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指导及检测二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79280" y="2565360"/>
            <a:ext cx="8713800" cy="113004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充满童趣的叙事风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夸张、幽默、优美的语言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读起来轻松愉快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6191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交流自己的阅读启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179280" y="26028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指导及检测三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2997360"/>
            <a:ext cx="8497800" cy="64260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要有理想、有快乐，美梦会成真。总有一天，我们可以创造一片人生的天空，创造出属于自己的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270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解文学名著的作者及相关文学常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掌握作品的主题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79280" y="26028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一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习目标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42920" y="1168560"/>
            <a:ext cx="9001080" cy="563616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对汤姆，你最欣赏什么？联系自己的实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讲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例：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我最欣赏的是他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贝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在洞中历险时坚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勇敢友爱的精神。当他面临着黑暗、孤独、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饿的痛苦和死亡、恐怖的威胁的困境时，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绝望、等待命运的安排，而是积极与困难抗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对脱离困境充满了信心，并不断安慰、鼓励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关心蓓姬，一个孩子做到这一点，实在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钦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24000" y="404640"/>
            <a:ext cx="7127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堂训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468360" y="476280"/>
            <a:ext cx="8137440" cy="1982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如何看待汤姆这一人物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示例：我们要学习汤姆身上那种纯朴、善良，坚持正义，勇敢的品行。当我们陷入困境时，要像他那样从容镇定，善于思考，找到解决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但是我们也要看到：轻易冒险还是有很大的危险性，我们不能贸然行事。如果要探险，必须有充足的知识储备和精心的准备，要有必要的自救措施。否则便怕有悲剧发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79280" y="189000"/>
            <a:ext cx="8713800" cy="633024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结合自己的童年经历，说说你读这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名著的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认为童年生活是天真烂漫的，童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可爱，童心纯洁。我的童年是在农村度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，美好的大自然，和伙伴们无忧无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游戏，留下了美好的回忆，我渴望象汤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童年那样，有一群好朋友，有种种冒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经历，在正义与邪恶的斗争中，总是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于坚持正义，总能体验童真的淳朴可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324000" y="692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完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全解全练》相关内容阅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学指导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0436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解全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7-16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掌握有关文学常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能复述作品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掌握作品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65"/>
          <p:cNvPicPr/>
          <p:nvPr/>
        </p:nvPicPr>
        <p:blipFill>
          <a:blip r:embed="rId1"/>
          <a:srcRect l="0" t="2887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611280" y="189000"/>
            <a:ext cx="8353440" cy="13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自学检测一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一、作者简介及创作背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页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16680" y="1604880"/>
            <a:ext cx="8012520" cy="5031720"/>
          </a:xfrm>
          <a:prstGeom prst="rect">
            <a:avLst/>
          </a:prstGeom>
          <a:solidFill>
            <a:srgbClr val="cc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马克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吐温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1835---1910)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是克莱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斯的笔名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美国著名的小说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他一生著述颇丰。擅长使用幽默和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刺，针砭时弊，一针见血，毫不留情，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创作将现实主义和浪漫主义的抒情和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统一。他的作品对后来的美国文学产生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深远的影响，人们普遍认为马克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吐温是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国文学史上的一大里程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50920" y="1557360"/>
            <a:ext cx="8642160" cy="703440"/>
          </a:xfrm>
          <a:prstGeom prst="rect">
            <a:avLst/>
          </a:prstGeom>
          <a:solidFill>
            <a:srgbClr val="ffffcc"/>
          </a:solidFill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品通过详写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汤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索亚为首的一群天真烂漫的孩子为了摆脱枯燥无味的功课、虚伪的教义和呆板的生活环境而做出的种种冒险经历的故事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讽刺和批判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美国虚伪庸俗的社会习俗、崇尚迷信的宗教信仰和刻板陈腐的学校教育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歌颂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小孩子们童天真淳朴、正直勇敢的美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28720" y="189000"/>
            <a:ext cx="727236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二、作品主题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6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页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>
            <a:off x="1835280" y="3213000"/>
            <a:ext cx="1073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3012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波莉姨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10492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监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83708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气恼无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3492360" y="357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222360" y="45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贝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814480" y="11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哈克贝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3419640" y="1773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08196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好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979640" y="522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撒切尔法官的女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56360" y="126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流浪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4211640" y="1341360"/>
            <a:ext cx="307800" cy="2087640"/>
          </a:xfrm>
          <a:custGeom>
            <a:avLst/>
            <a:gdLst>
              <a:gd name="textAreaLeft" fmla="*/ 0 w 307800"/>
              <a:gd name="textAreaRight" fmla="*/ 111240 w 3078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5003640" y="2421000"/>
            <a:ext cx="308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5375160" y="1125360"/>
            <a:ext cx="306360" cy="2086200"/>
          </a:xfrm>
          <a:custGeom>
            <a:avLst/>
            <a:gdLst>
              <a:gd name="textAreaLeft" fmla="*/ 195840 w 306360"/>
              <a:gd name="textAreaRight" fmla="*/ 306360 w 306360"/>
              <a:gd name="textAreaTop" fmla="*/ 54360 h 2086200"/>
              <a:gd name="textAreaBottom" fmla="*/ 2031840 h 20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504680" y="19274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墓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819040" y="98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鲁滨逊医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5435640" y="19162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恶棍 印第安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5891040" y="27082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莫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波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0"/>
          <p:cNvSpPr/>
          <p:nvPr/>
        </p:nvSpPr>
        <p:spPr>
          <a:xfrm flipV="1">
            <a:off x="6473880" y="1484280"/>
            <a:ext cx="0" cy="432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615744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杀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6443640" y="2349360"/>
            <a:ext cx="0" cy="5032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15744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嫁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7164360" y="2997360"/>
            <a:ext cx="308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59708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被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5456520" y="3213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疚、看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991960" y="358308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女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8"/>
          <p:cNvSpPr/>
          <p:nvPr/>
        </p:nvSpPr>
        <p:spPr>
          <a:xfrm flipV="1">
            <a:off x="3708360" y="3573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9"/>
          <p:cNvSpPr/>
          <p:nvPr/>
        </p:nvSpPr>
        <p:spPr>
          <a:xfrm>
            <a:off x="3855600" y="358308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4935960" y="3678120"/>
            <a:ext cx="66780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海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5439240" y="3419280"/>
            <a:ext cx="6678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杰克逊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156360" y="386064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汤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466320" y="49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贝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7095960" y="4076640"/>
            <a:ext cx="1609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5"/>
          <p:cNvSpPr/>
          <p:nvPr/>
        </p:nvSpPr>
        <p:spPr>
          <a:xfrm flipV="1">
            <a:off x="8705880" y="213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6"/>
          <p:cNvSpPr/>
          <p:nvPr/>
        </p:nvSpPr>
        <p:spPr>
          <a:xfrm flipH="1">
            <a:off x="8027640" y="213372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8413200" y="20678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指认凶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8"/>
          <p:cNvSpPr/>
          <p:nvPr/>
        </p:nvSpPr>
        <p:spPr>
          <a:xfrm>
            <a:off x="6012000" y="3860640"/>
            <a:ext cx="118800" cy="1656000"/>
          </a:xfrm>
          <a:custGeom>
            <a:avLst/>
            <a:gdLst>
              <a:gd name="textAreaLeft" fmla="*/ 75960 w 118800"/>
              <a:gd name="textAreaRight" fmla="*/ 119160 w 1188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7020000" y="162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7021440" y="162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88616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逃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V="1">
            <a:off x="8101080" y="83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380360" y="9079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企图杀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320600" y="404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寡妇道格拉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7"/>
          <p:cNvSpPr/>
          <p:nvPr/>
        </p:nvSpPr>
        <p:spPr>
          <a:xfrm>
            <a:off x="798300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困在山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8"/>
          <p:cNvSpPr/>
          <p:nvPr/>
        </p:nvSpPr>
        <p:spPr>
          <a:xfrm>
            <a:off x="8317080" y="4869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7626240" y="616572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印第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0"/>
          <p:cNvSpPr/>
          <p:nvPr/>
        </p:nvSpPr>
        <p:spPr>
          <a:xfrm flipH="1">
            <a:off x="6732720" y="6453360"/>
            <a:ext cx="690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3852360" y="6165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困死山洞，罪有应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2"/>
          <p:cNvSpPr/>
          <p:nvPr/>
        </p:nvSpPr>
        <p:spPr>
          <a:xfrm>
            <a:off x="457200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4572000" y="429264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2916360" y="2852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汤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4572000" y="3284640"/>
            <a:ext cx="199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6"/>
          <p:cNvSpPr/>
          <p:nvPr/>
        </p:nvSpPr>
        <p:spPr>
          <a:xfrm flipV="1">
            <a:off x="651672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7"/>
          <p:cNvSpPr/>
          <p:nvPr/>
        </p:nvSpPr>
        <p:spPr>
          <a:xfrm flipV="1">
            <a:off x="3419640" y="76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8"/>
          <p:cNvSpPr/>
          <p:nvPr/>
        </p:nvSpPr>
        <p:spPr>
          <a:xfrm>
            <a:off x="3419640" y="765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9"/>
          <p:cNvSpPr/>
          <p:nvPr/>
        </p:nvSpPr>
        <p:spPr>
          <a:xfrm>
            <a:off x="3988080" y="189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及时报信避免悲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60"/>
          <p:cNvSpPr/>
          <p:nvPr/>
        </p:nvSpPr>
        <p:spPr>
          <a:xfrm>
            <a:off x="6877080" y="429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1"/>
          <p:cNvSpPr/>
          <p:nvPr/>
        </p:nvSpPr>
        <p:spPr>
          <a:xfrm>
            <a:off x="633348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找到宝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2"/>
          <p:cNvSpPr/>
          <p:nvPr/>
        </p:nvSpPr>
        <p:spPr>
          <a:xfrm flipV="1">
            <a:off x="6659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63"/>
          <p:cNvSpPr/>
          <p:nvPr/>
        </p:nvSpPr>
        <p:spPr>
          <a:xfrm>
            <a:off x="665964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4"/>
          <p:cNvSpPr/>
          <p:nvPr/>
        </p:nvSpPr>
        <p:spPr>
          <a:xfrm>
            <a:off x="786564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5"/>
          <p:cNvSpPr/>
          <p:nvPr/>
        </p:nvSpPr>
        <p:spPr>
          <a:xfrm>
            <a:off x="7104960" y="328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葬礼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6"/>
          <p:cNvSpPr/>
          <p:nvPr/>
        </p:nvSpPr>
        <p:spPr>
          <a:xfrm>
            <a:off x="8319960" y="50421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7"/>
          <p:cNvSpPr/>
          <p:nvPr/>
        </p:nvSpPr>
        <p:spPr>
          <a:xfrm>
            <a:off x="680400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8"/>
          <p:cNvSpPr/>
          <p:nvPr/>
        </p:nvSpPr>
        <p:spPr>
          <a:xfrm>
            <a:off x="6414480" y="573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被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9"/>
          <p:cNvSpPr/>
          <p:nvPr/>
        </p:nvSpPr>
        <p:spPr>
          <a:xfrm>
            <a:off x="36360" y="117360"/>
            <a:ext cx="309564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三、复述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414972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1989000"/>
            <a:ext cx="8135640" cy="91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黑体"/>
              </a:rPr>
              <a:t>配图讲故事，精彩你来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627200" y="0"/>
            <a:ext cx="588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479840" y="28875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墓地试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88320" y="26370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墓地试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258920" y="2349360"/>
            <a:ext cx="48258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当“海盗”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鬼屋寻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215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71280" y="0"/>
            <a:ext cx="92152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鬼屋寻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41:48Z</dcterms:created>
  <dc:creator>999宝藏网</dc:creator>
  <dc:description/>
  <cp:keywords/>
  <dc:language>en-US</dc:language>
  <cp:lastModifiedBy>微软用户</cp:lastModifiedBy>
  <dcterms:modified xsi:type="dcterms:W3CDTF">2001-12-31T23:32:03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