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gif" ContentType="image/gif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1AD-B192-4AE4-9AA2-6A2E8D3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FA3-7378-45B3-BEE8-10F1938C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5D1-81AC-4C55-9831-C64FB77F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5BC-9698-454B-A36A-60CBBF3F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979-43B5-47F7-85E6-301B17C0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B71-6ADA-4C4F-AED7-BBBCFC6F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A60-337F-4631-945C-6D75CF4E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7BC-7D13-4C9D-9F58-7293D391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6B5-D35C-4E3F-9B69-637445A0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A42-749B-464F-8D0D-C391DDE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D0A-7383-4958-ABFF-CD709707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967-C4FF-41AA-BED7-F9933C0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66A0-05B9-4BFA-91F5-B74B934F07D4}" type="datetime">
              <a:rPr b="0" i="1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766-1B68-40EA-ACD9-F6652BF69061}" type="slidenum">
              <a:rPr b="0" i="1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gi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gi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357280" y="214200"/>
            <a:ext cx="44643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Homework</a:t>
            </a:r>
            <a:endParaRPr b="0" i="1" lang="en-US" sz="40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85840" y="1357200"/>
            <a:ext cx="86439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观察与思考：根据我们学过的语法知识判断，：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playing soccer.”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you doing the day after tomorrow?”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这两句的时态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其结构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_______.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然而在此它的形式虽然是现在进行时，但表达的意义却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的动作或状态，表示主观上打算在最近或将来要做的事情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知识巩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用所给动词的适当形式填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’d love ______(go)with you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 .  You _________ (not have) to worry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  Are they ________ (practice) English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 . Thank you for ______________ (write ) to me 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 . They aren’t ___________________(go) to movies this even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etease_wayhome_12a1024"/>
          <p:cNvPicPr/>
          <p:nvPr/>
        </p:nvPicPr>
        <p:blipFill>
          <a:blip r:embed="rId1"/>
          <a:stretch/>
        </p:blipFill>
        <p:spPr>
          <a:xfrm>
            <a:off x="-838080" y="-76212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 rot="19956000">
            <a:off x="533520" y="1827000"/>
            <a:ext cx="662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600ff"/>
                </a:solidFill>
                <a:latin typeface="Comic Sans MS"/>
              </a:rPr>
              <a:t>Thanks for coming to my English class!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Westlife - You Raise Me Up.mp3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9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2"/>
          <p:cNvSpPr/>
          <p:nvPr/>
        </p:nvSpPr>
        <p:spPr>
          <a:xfrm>
            <a:off x="838080" y="5791320"/>
            <a:ext cx="28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2590920" y="1371600"/>
            <a:ext cx="3352680" cy="68580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ame Tim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85800" y="2286000"/>
            <a:ext cx="7543800" cy="2000520"/>
          </a:xfrm>
          <a:prstGeom prst="rect">
            <a:avLst/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Let’s guess who he \ she i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His \ Her favorite day is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…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, because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…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His \ Her favorite subject is…, because…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4" descr="图片2"/>
          <p:cNvPicPr/>
          <p:nvPr/>
        </p:nvPicPr>
        <p:blipFill>
          <a:blip r:embed="rId1"/>
          <a:srcRect l="0" t="0" r="1063" b="4541"/>
          <a:stretch/>
        </p:blipFill>
        <p:spPr>
          <a:xfrm>
            <a:off x="990720" y="4876920"/>
            <a:ext cx="7086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5" descr="t01ae60123f36dd49b6"/>
          <p:cNvPicPr/>
          <p:nvPr/>
        </p:nvPicPr>
        <p:blipFill>
          <a:blip r:embed="rId1"/>
          <a:stretch/>
        </p:blipFill>
        <p:spPr>
          <a:xfrm>
            <a:off x="7543800" y="30481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t014a528c4f59000d56"/>
          <p:cNvPicPr/>
          <p:nvPr/>
        </p:nvPicPr>
        <p:blipFill>
          <a:blip r:embed="rId2"/>
          <a:stretch/>
        </p:blipFill>
        <p:spPr>
          <a:xfrm>
            <a:off x="7566120" y="838080"/>
            <a:ext cx="157788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t01543b5788408c674d"/>
          <p:cNvPicPr/>
          <p:nvPr/>
        </p:nvPicPr>
        <p:blipFill>
          <a:blip r:embed="rId3"/>
          <a:stretch/>
        </p:blipFill>
        <p:spPr>
          <a:xfrm>
            <a:off x="2209680" y="5257800"/>
            <a:ext cx="124776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"/>
          <p:cNvSpPr/>
          <p:nvPr/>
        </p:nvSpPr>
        <p:spPr>
          <a:xfrm>
            <a:off x="3570120" y="6400800"/>
            <a:ext cx="28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447920" y="22096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-What’s your favorite subject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- 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...           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 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-Why do you like 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...          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-Because it’s 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...       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 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-When is the class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-It’s on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...       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 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1066680" y="11430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 Black"/>
              </a:rPr>
              <a:t>Acting  Tim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1318313139518241112"/>
          <p:cNvPicPr/>
          <p:nvPr/>
        </p:nvPicPr>
        <p:blipFill>
          <a:blip r:embed="rId4"/>
          <a:stretch/>
        </p:blipFill>
        <p:spPr>
          <a:xfrm>
            <a:off x="0" y="3048120"/>
            <a:ext cx="1407960" cy="190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t015be97e48ca9ea42c"/>
          <p:cNvPicPr/>
          <p:nvPr/>
        </p:nvPicPr>
        <p:blipFill>
          <a:blip r:embed="rId5"/>
          <a:stretch/>
        </p:blipFill>
        <p:spPr>
          <a:xfrm>
            <a:off x="5345280" y="5181480"/>
            <a:ext cx="1207800" cy="16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t0189c555af35b2c383"/>
          <p:cNvPicPr/>
          <p:nvPr/>
        </p:nvPicPr>
        <p:blipFill>
          <a:blip r:embed="rId6"/>
          <a:stretch/>
        </p:blipFill>
        <p:spPr>
          <a:xfrm>
            <a:off x="6923160" y="4419720"/>
            <a:ext cx="191592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t01ab6425ae2a2d7b55"/>
          <p:cNvPicPr/>
          <p:nvPr/>
        </p:nvPicPr>
        <p:blipFill>
          <a:blip r:embed="rId7"/>
          <a:stretch/>
        </p:blipFill>
        <p:spPr>
          <a:xfrm>
            <a:off x="0" y="838080"/>
            <a:ext cx="1287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t011dfaa2f8a341e46d"/>
          <p:cNvPicPr/>
          <p:nvPr/>
        </p:nvPicPr>
        <p:blipFill>
          <a:blip r:embed="rId8"/>
          <a:srcRect l="15009" t="0" r="16001" b="0"/>
          <a:stretch/>
        </p:blipFill>
        <p:spPr>
          <a:xfrm>
            <a:off x="3914640" y="5257800"/>
            <a:ext cx="110520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t012699e721a250405d"/>
          <p:cNvPicPr/>
          <p:nvPr/>
        </p:nvPicPr>
        <p:blipFill>
          <a:blip r:embed="rId9"/>
          <a:stretch/>
        </p:blipFill>
        <p:spPr>
          <a:xfrm>
            <a:off x="0" y="52578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3643200" y="1429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r  harves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4200" y="928800"/>
          <a:ext cx="8786880" cy="5857920"/>
        </p:xfrm>
        <a:graphic>
          <a:graphicData uri="http://schemas.openxmlformats.org/drawingml/2006/table">
            <a:tbl>
              <a:tblPr/>
              <a:tblGrid>
                <a:gridCol w="2643120"/>
                <a:gridCol w="2000160"/>
                <a:gridCol w="1643400"/>
                <a:gridCol w="1643040"/>
                <a:gridCol w="8571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  listening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listening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   listening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 total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e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na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e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k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e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2" descr="H:\榆中公开课\20081117181224186_2.jpg"/>
          <p:cNvPicPr/>
          <p:nvPr/>
        </p:nvPicPr>
        <p:blipFill>
          <a:blip r:embed="rId2"/>
          <a:stretch/>
        </p:blipFill>
        <p:spPr>
          <a:xfrm>
            <a:off x="1857240" y="1714680"/>
            <a:ext cx="928800" cy="714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H:\榆中公开课\2014082723442286.png"/>
          <p:cNvPicPr/>
          <p:nvPr/>
        </p:nvPicPr>
        <p:blipFill>
          <a:blip r:embed="rId3"/>
          <a:stretch/>
        </p:blipFill>
        <p:spPr>
          <a:xfrm>
            <a:off x="1857240" y="2428920"/>
            <a:ext cx="92880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:\榆中公开课\2008710155533806_2.jpg"/>
          <p:cNvPicPr/>
          <p:nvPr/>
        </p:nvPicPr>
        <p:blipFill>
          <a:blip r:embed="rId4"/>
          <a:stretch/>
        </p:blipFill>
        <p:spPr>
          <a:xfrm>
            <a:off x="1785960" y="3214800"/>
            <a:ext cx="928800" cy="69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:\榆中公开课\6761944_170000008319_2.jpg"/>
          <p:cNvPicPr/>
          <p:nvPr/>
        </p:nvPicPr>
        <p:blipFill>
          <a:blip r:embed="rId5"/>
          <a:stretch/>
        </p:blipFill>
        <p:spPr>
          <a:xfrm>
            <a:off x="1785960" y="3929040"/>
            <a:ext cx="923760" cy="71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:\榆中公开课\2847313_112346173139_2.jpg"/>
          <p:cNvPicPr/>
          <p:nvPr/>
        </p:nvPicPr>
        <p:blipFill>
          <a:blip r:embed="rId6"/>
          <a:stretch/>
        </p:blipFill>
        <p:spPr>
          <a:xfrm>
            <a:off x="1785960" y="4643280"/>
            <a:ext cx="1000080" cy="752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:\榆中公开课\1440899_132804082030_2.jpg"/>
          <p:cNvPicPr/>
          <p:nvPr/>
        </p:nvPicPr>
        <p:blipFill>
          <a:blip r:embed="rId7"/>
          <a:stretch/>
        </p:blipFill>
        <p:spPr>
          <a:xfrm>
            <a:off x="1785960" y="542916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:\榆中公开课\t016638ec07305a12cb.jpg"/>
          <p:cNvPicPr/>
          <p:nvPr/>
        </p:nvPicPr>
        <p:blipFill>
          <a:blip r:embed="rId8"/>
          <a:stretch/>
        </p:blipFill>
        <p:spPr>
          <a:xfrm>
            <a:off x="1857240" y="6072120"/>
            <a:ext cx="94932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7" descr="H:\榆中公开课\20140325100634-1560835673.jpg"/>
          <p:cNvPicPr/>
          <p:nvPr/>
        </p:nvPicPr>
        <p:blipFill>
          <a:blip r:embed="rId9"/>
          <a:stretch/>
        </p:blipFill>
        <p:spPr>
          <a:xfrm>
            <a:off x="3929040" y="928800"/>
            <a:ext cx="928800" cy="83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8" descr="H:\榆中公开课\80-krkdiskk%20%28272%29.jpg"/>
          <p:cNvPicPr/>
          <p:nvPr/>
        </p:nvPicPr>
        <p:blipFill>
          <a:blip r:embed="rId10"/>
          <a:stretch/>
        </p:blipFill>
        <p:spPr>
          <a:xfrm>
            <a:off x="5929200" y="928800"/>
            <a:ext cx="571680" cy="857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9" descr="H:\榆中公开课\35eddbfafe47a83538bc67ff81085dbe.png"/>
          <p:cNvPicPr/>
          <p:nvPr/>
        </p:nvPicPr>
        <p:blipFill>
          <a:blip r:embed="rId11"/>
          <a:stretch/>
        </p:blipFill>
        <p:spPr>
          <a:xfrm>
            <a:off x="7572240" y="857160"/>
            <a:ext cx="595440" cy="85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1" descr="H:\榆中公开课\142433pj2mtysun0aunnrz.gif"/>
          <p:cNvPicPr/>
          <p:nvPr/>
        </p:nvPicPr>
        <p:blipFill>
          <a:blip r:embed="rId12"/>
          <a:stretch/>
        </p:blipFill>
        <p:spPr>
          <a:xfrm>
            <a:off x="6715080" y="0"/>
            <a:ext cx="19288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铃声 - 掌声.mp3" descr=""/>
          <p:cNvPicPr/>
          <p:nvPr/>
        </p:nvPicPr>
        <p:blipFill>
          <a:blip r:embed="rId13"/>
          <a:stretch/>
        </p:blipFill>
        <p:spPr>
          <a:xfrm>
            <a:off x="8685360" y="214200"/>
            <a:ext cx="458640" cy="4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"/>
                            </p:stCondLst>
                            <p:childTnLst>
                              <p:par>
                                <p:cTn id="1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"/>
                            </p:stCondLst>
                            <p:childTnLst>
                              <p:par>
                                <p:cTn id="1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"/>
                            </p:stCondLst>
                            <p:childTnLst>
                              <p:par>
                                <p:cTn id="1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"/>
                            </p:stCondLst>
                            <p:childTnLst>
                              <p:par>
                                <p:cTn id="2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771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t019c7c00898c1ea318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076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890640" y="2205000"/>
            <a:ext cx="75931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295280" y="1447920"/>
            <a:ext cx="41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omic Sans MS"/>
              </a:rPr>
              <a:t>Homewor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3048120"/>
            <a:ext cx="7543800" cy="678600"/>
          </a:xfrm>
          <a:prstGeom prst="rect">
            <a:avLst/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Write a short passage about your favorite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85800" y="3809880"/>
            <a:ext cx="7543800" cy="1847880"/>
          </a:xfrm>
          <a:prstGeom prst="rect">
            <a:avLst/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You can talk about your favorite subject, color, food, weather, book, movie, song, pop star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…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, and tell us why you like it 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"/>
          <p:cNvSpPr/>
          <p:nvPr/>
        </p:nvSpPr>
        <p:spPr>
          <a:xfrm>
            <a:off x="0" y="1676520"/>
            <a:ext cx="9144000" cy="2133360"/>
          </a:xfrm>
          <a:prstGeom prst="rect">
            <a:avLst/>
          </a:prstGeom>
          <a:solidFill>
            <a:srgbClr val="ffff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nit 9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y favorite subject is science.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ection B (1a-1d)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太阳笑脸"/>
          <p:cNvPicPr/>
          <p:nvPr/>
        </p:nvPicPr>
        <p:blipFill>
          <a:blip r:embed="rId1"/>
          <a:stretch/>
        </p:blipFill>
        <p:spPr>
          <a:xfrm>
            <a:off x="7086600" y="457200"/>
            <a:ext cx="1295280" cy="1187280"/>
          </a:xfrm>
          <a:prstGeom prst="rect">
            <a:avLst/>
          </a:prstGeom>
          <a:ln w="0">
            <a:noFill/>
          </a:ln>
        </p:spPr>
      </p:pic>
      <p:pic>
        <p:nvPicPr>
          <p:cNvPr id="48" name="Westlife - You Raise Me Up.mp3" descr=""/>
          <p:cNvPicPr/>
          <p:nvPr/>
        </p:nvPicPr>
        <p:blipFill>
          <a:blip r:embed="rId2"/>
          <a:stretch/>
        </p:blipFill>
        <p:spPr>
          <a:xfrm>
            <a:off x="82296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290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643200" y="1429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r  harves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928800"/>
          <a:ext cx="8786880" cy="5857920"/>
        </p:xfrm>
        <a:graphic>
          <a:graphicData uri="http://schemas.openxmlformats.org/drawingml/2006/table">
            <a:tbl>
              <a:tblPr/>
              <a:tblGrid>
                <a:gridCol w="2643120"/>
                <a:gridCol w="2000160"/>
                <a:gridCol w="1643400"/>
                <a:gridCol w="1643040"/>
                <a:gridCol w="8571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  listening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listening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   listening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 total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e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na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e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k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(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e)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52" name="Picture 2" descr="H:\榆中公开课\20081117181224186_2.jpg"/>
          <p:cNvPicPr/>
          <p:nvPr/>
        </p:nvPicPr>
        <p:blipFill>
          <a:blip r:embed="rId2"/>
          <a:stretch/>
        </p:blipFill>
        <p:spPr>
          <a:xfrm>
            <a:off x="1857240" y="1714680"/>
            <a:ext cx="92880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:\榆中公开课\2014082723442286.png"/>
          <p:cNvPicPr/>
          <p:nvPr/>
        </p:nvPicPr>
        <p:blipFill>
          <a:blip r:embed="rId3"/>
          <a:stretch/>
        </p:blipFill>
        <p:spPr>
          <a:xfrm>
            <a:off x="1857240" y="2428920"/>
            <a:ext cx="92880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榆中公开课\2008710155533806_2.jpg"/>
          <p:cNvPicPr/>
          <p:nvPr/>
        </p:nvPicPr>
        <p:blipFill>
          <a:blip r:embed="rId4"/>
          <a:stretch/>
        </p:blipFill>
        <p:spPr>
          <a:xfrm>
            <a:off x="1785960" y="3214800"/>
            <a:ext cx="928800" cy="699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:\榆中公开课\6761944_170000008319_2.jpg"/>
          <p:cNvPicPr/>
          <p:nvPr/>
        </p:nvPicPr>
        <p:blipFill>
          <a:blip r:embed="rId5"/>
          <a:stretch/>
        </p:blipFill>
        <p:spPr>
          <a:xfrm>
            <a:off x="1785960" y="3929040"/>
            <a:ext cx="92376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:\榆中公开课\2847313_112346173139_2.jpg"/>
          <p:cNvPicPr/>
          <p:nvPr/>
        </p:nvPicPr>
        <p:blipFill>
          <a:blip r:embed="rId6"/>
          <a:stretch/>
        </p:blipFill>
        <p:spPr>
          <a:xfrm>
            <a:off x="1785960" y="4643280"/>
            <a:ext cx="1000080" cy="75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:\榆中公开课\1440899_132804082030_2.jpg"/>
          <p:cNvPicPr/>
          <p:nvPr/>
        </p:nvPicPr>
        <p:blipFill>
          <a:blip r:embed="rId7"/>
          <a:stretch/>
        </p:blipFill>
        <p:spPr>
          <a:xfrm>
            <a:off x="1785960" y="542916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:\榆中公开课\t016638ec07305a12cb.jpg"/>
          <p:cNvPicPr/>
          <p:nvPr/>
        </p:nvPicPr>
        <p:blipFill>
          <a:blip r:embed="rId8"/>
          <a:stretch/>
        </p:blipFill>
        <p:spPr>
          <a:xfrm>
            <a:off x="1857240" y="6072120"/>
            <a:ext cx="949320" cy="6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7" descr="H:\榆中公开课\20140325100634-1560835673.jpg"/>
          <p:cNvPicPr/>
          <p:nvPr/>
        </p:nvPicPr>
        <p:blipFill>
          <a:blip r:embed="rId9"/>
          <a:stretch/>
        </p:blipFill>
        <p:spPr>
          <a:xfrm>
            <a:off x="3929040" y="928800"/>
            <a:ext cx="928800" cy="83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8" descr="H:\榆中公开课\80-krkdiskk%20%28272%29.jpg"/>
          <p:cNvPicPr/>
          <p:nvPr/>
        </p:nvPicPr>
        <p:blipFill>
          <a:blip r:embed="rId10"/>
          <a:stretch/>
        </p:blipFill>
        <p:spPr>
          <a:xfrm>
            <a:off x="5929200" y="928800"/>
            <a:ext cx="57168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9" descr="H:\榆中公开课\35eddbfafe47a83538bc67ff81085dbe.png"/>
          <p:cNvPicPr/>
          <p:nvPr/>
        </p:nvPicPr>
        <p:blipFill>
          <a:blip r:embed="rId11"/>
          <a:stretch/>
        </p:blipFill>
        <p:spPr>
          <a:xfrm>
            <a:off x="7572240" y="857160"/>
            <a:ext cx="595440" cy="85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1" descr="H:\榆中公开课\142433pj2mtysun0aunnrz.gif"/>
          <p:cNvPicPr/>
          <p:nvPr/>
        </p:nvPicPr>
        <p:blipFill>
          <a:blip r:embed="rId12"/>
          <a:stretch/>
        </p:blipFill>
        <p:spPr>
          <a:xfrm>
            <a:off x="6715080" y="0"/>
            <a:ext cx="192888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铃声 - 掌声.mp3" descr=""/>
          <p:cNvPicPr/>
          <p:nvPr/>
        </p:nvPicPr>
        <p:blipFill>
          <a:blip r:embed="rId13"/>
          <a:stretch/>
        </p:blipFill>
        <p:spPr>
          <a:xfrm>
            <a:off x="8685360" y="214200"/>
            <a:ext cx="458640" cy="4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771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u=3027825084,3960674737&amp;fm=23&amp;gp=0"/>
          <p:cNvPicPr/>
          <p:nvPr/>
        </p:nvPicPr>
        <p:blipFill>
          <a:blip r:embed="rId1"/>
          <a:stretch/>
        </p:blipFill>
        <p:spPr>
          <a:xfrm>
            <a:off x="228600" y="99072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609480" y="2666880"/>
            <a:ext cx="8001000" cy="2743200"/>
          </a:xfrm>
          <a:prstGeom prst="rect">
            <a:avLst/>
          </a:prstGeom>
          <a:solidFill>
            <a:srgbClr val="006666">
              <a:alpha val="85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Laaaaa…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izabeth's birthday is on the third Thursday of this month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057400" y="1447920"/>
            <a:ext cx="590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3300"/>
                </a:solidFill>
                <a:latin typeface="Arial Black"/>
                <a:ea typeface="华文琥珀"/>
              </a:rPr>
              <a:t>M M</a:t>
            </a:r>
            <a:r>
              <a:rPr b="0" i="1" lang="en-US" sz="6600" spc="-1" strike="noStrike">
                <a:solidFill>
                  <a:srgbClr val="ff3300"/>
                </a:solidFill>
                <a:latin typeface="Arial Black"/>
                <a:ea typeface="华文琥珀"/>
              </a:rPr>
              <a:t> Time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57200" y="9144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 Black"/>
                <a:ea typeface="华文琥珀"/>
              </a:rPr>
              <a:t>Game Time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占位符 2"/>
          <p:cNvSpPr/>
          <p:nvPr/>
        </p:nvSpPr>
        <p:spPr>
          <a:xfrm>
            <a:off x="1217520" y="3962520"/>
            <a:ext cx="377352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chool subjec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占位符 2"/>
          <p:cNvSpPr/>
          <p:nvPr/>
        </p:nvSpPr>
        <p:spPr>
          <a:xfrm>
            <a:off x="990720" y="4876920"/>
            <a:ext cx="419076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description word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占位符 2"/>
          <p:cNvSpPr/>
          <p:nvPr/>
        </p:nvSpPr>
        <p:spPr>
          <a:xfrm>
            <a:off x="1066680" y="3048120"/>
            <a:ext cx="38862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days of the wee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u=3441255354,723578227&amp;fm=23&amp;gp=0"/>
          <p:cNvPicPr/>
          <p:nvPr/>
        </p:nvPicPr>
        <p:blipFill>
          <a:blip r:embed="rId1"/>
          <a:stretch/>
        </p:blipFill>
        <p:spPr>
          <a:xfrm>
            <a:off x="6629400" y="2057400"/>
            <a:ext cx="241920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标题 1"/>
          <p:cNvSpPr/>
          <p:nvPr/>
        </p:nvSpPr>
        <p:spPr>
          <a:xfrm>
            <a:off x="609480" y="20574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Let’s challenge yourself!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t013fb99a5167fbe71c"/>
          <p:cNvPicPr/>
          <p:nvPr/>
        </p:nvPicPr>
        <p:blipFill>
          <a:blip r:embed="rId1"/>
          <a:stretch/>
        </p:blipFill>
        <p:spPr>
          <a:xfrm rot="20275200">
            <a:off x="3127320" y="3374640"/>
            <a:ext cx="311004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990720" y="1828800"/>
            <a:ext cx="7199280" cy="1219320"/>
          </a:xfrm>
          <a:prstGeom prst="rect">
            <a:avLst/>
          </a:prstGeom>
          <a:solidFill>
            <a:srgbClr val="cc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 Black"/>
              </a:rPr>
              <a:t>Listening  Time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1049" t="1293" r="1649" b="1751"/>
          <a:stretch/>
        </p:blipFill>
        <p:spPr>
          <a:xfrm>
            <a:off x="76320" y="838080"/>
            <a:ext cx="899136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861840" y="0"/>
            <a:ext cx="828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isten and circle the classes David talks about on this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schedul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0" y="0"/>
            <a:ext cx="1007640" cy="669960"/>
            <a:chOff x="0" y="0"/>
            <a:chExt cx="1007640" cy="669960"/>
          </a:xfrm>
        </p:grpSpPr>
        <p:pic>
          <p:nvPicPr>
            <p:cNvPr id="81" name="Picture 6" descr="0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7333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7"/>
            <p:cNvSpPr/>
            <p:nvPr/>
          </p:nvSpPr>
          <p:spPr>
            <a:xfrm>
              <a:off x="24480" y="54000"/>
              <a:ext cx="9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Arial Black"/>
                </a:rPr>
                <a:t>1c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Oval 9"/>
          <p:cNvSpPr/>
          <p:nvPr/>
        </p:nvSpPr>
        <p:spPr>
          <a:xfrm>
            <a:off x="3182760" y="52560"/>
            <a:ext cx="1008360" cy="404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4572000" y="1557360"/>
            <a:ext cx="647640" cy="287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4572000" y="1916280"/>
            <a:ext cx="647640" cy="287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1547640" y="2205000"/>
            <a:ext cx="1008360" cy="287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7451640" y="1557360"/>
            <a:ext cx="1008000" cy="287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1547640" y="4538520"/>
            <a:ext cx="1008360" cy="287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1547640" y="4869000"/>
            <a:ext cx="1008360" cy="287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4572000" y="4159080"/>
            <a:ext cx="1008000" cy="287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4500720" y="2205000"/>
            <a:ext cx="1008000" cy="287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4572000" y="2565360"/>
            <a:ext cx="1008000" cy="287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Section B 1c.mp3" descr=""/>
          <p:cNvPicPr/>
          <p:nvPr/>
        </p:nvPicPr>
        <p:blipFill>
          <a:blip r:embed="rId3"/>
          <a:stretch/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640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1676520"/>
            <a:ext cx="960120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avid has a busy schedule. On _______, he has 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h, ________and ______. He doesn’t like math because he thinks  it’s________. His favorite 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ubject is ______. He thinks it’s_________  .It’s 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n Monday,___________ ,Thursday and______.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943600" y="1685880"/>
            <a:ext cx="1828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uesda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19040" y="2438280"/>
            <a:ext cx="180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istor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57600" y="2371680"/>
            <a:ext cx="177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cienc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114800" y="3057480"/>
            <a:ext cx="2057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fficul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687680" y="3743280"/>
            <a:ext cx="17413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hines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867280" y="3743280"/>
            <a:ext cx="2667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nterest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68360" y="4429080"/>
            <a:ext cx="2532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ednesda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467480" y="4429080"/>
            <a:ext cx="1619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ida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0880" y="1143000"/>
            <a:ext cx="5639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sten and fill in the blanks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ection B 1b.mp3" descr=""/>
          <p:cNvPicPr/>
          <p:nvPr/>
        </p:nvPicPr>
        <p:blipFill>
          <a:blip r:embed="rId1"/>
          <a:stretch/>
        </p:blipFill>
        <p:spPr>
          <a:xfrm>
            <a:off x="769608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6183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1049" t="1293" r="7730" b="1751"/>
          <a:stretch/>
        </p:blipFill>
        <p:spPr>
          <a:xfrm>
            <a:off x="0" y="2216160"/>
            <a:ext cx="4800600" cy="4565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4876920" y="2286000"/>
            <a:ext cx="4190760" cy="3080160"/>
          </a:xfrm>
          <a:prstGeom prst="rect">
            <a:avLst/>
          </a:prstGeom>
          <a:solidFill>
            <a:srgbClr val="ffcc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-What’s David’s favorite subject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-... 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-Why does he like ...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-Because it’s …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-When is the class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-It’s on …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33520" y="114300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 Narrow"/>
                <a:ea typeface="Gungsuh"/>
              </a:rPr>
              <a:t>Talk about David’s favorite subject with your partner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"/>
          <p:cNvSpPr/>
          <p:nvPr/>
        </p:nvSpPr>
        <p:spPr>
          <a:xfrm>
            <a:off x="0" y="10666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3:40:00Z</dcterms:created>
  <dc:creator>odette liu</dc:creator>
  <dc:description/>
  <dc:language>en-US</dc:language>
  <cp:lastModifiedBy>XKW</cp:lastModifiedBy>
  <dcterms:modified xsi:type="dcterms:W3CDTF">2018-03-19T08:46:03Z</dcterms:modified>
  <cp:revision>1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  <property fmtid="{D5CDD505-2E9C-101B-9397-08002B2CF9AE}" pid="3" name="Version">
    <vt:r8>1</vt:r8>
  </property>
</Properties>
</file>