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wmf" ContentType="image/x-wmf"/>
  <Override PartName="/ppt/media/image20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42.jpeg" ContentType="image/jpeg"/>
  <Override PartName="/ppt/media/image16.jpeg" ContentType="image/jpeg"/>
  <Override PartName="/ppt/media/image15.jpeg" ContentType="image/jpeg"/>
  <Override PartName="/ppt/media/image28.gif" ContentType="image/gif"/>
  <Override PartName="/ppt/media/image14.jpeg" ContentType="image/jpeg"/>
  <Override PartName="/ppt/media/image41.jpeg" ContentType="image/jpeg"/>
  <Override PartName="/ppt/media/image1.jpeg" ContentType="image/jpeg"/>
  <Override PartName="/ppt/media/image10.png" ContentType="image/png"/>
  <Override PartName="/ppt/media/image23.jpeg" ContentType="image/jpeg"/>
  <Override PartName="/ppt/media/image49.png" ContentType="image/pn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4.jpeg" ContentType="image/jpeg"/>
  <Override PartName="/ppt/media/image29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34.png" ContentType="image/png"/>
  <Override PartName="/ppt/media/image7.jpeg" ContentType="image/jpeg"/>
  <Override PartName="/ppt/media/image38.jpeg" ContentType="image/jpeg"/>
  <Override PartName="/ppt/media/image37.png" ContentType="image/png"/>
  <Override PartName="/ppt/media/image48.jpeg" ContentType="image/jpeg"/>
  <Override PartName="/ppt/media/image39.png" ContentType="image/png"/>
  <Override PartName="/ppt/media/image45.png" ContentType="image/png"/>
  <Override PartName="/ppt/media/image46.jpeg" ContentType="image/jpeg"/>
  <Override PartName="/ppt/media/image50.jpeg" ContentType="image/jpeg"/>
  <Override PartName="/ppt/media/image43.png" ContentType="image/png"/>
  <Override PartName="/ppt/media/image47.jpeg" ContentType="image/jpeg"/>
  <Override PartName="/ppt/media/image12.wmf" ContentType="image/x-wmf"/>
  <Override PartName="/ppt/media/image27.png" ContentType="image/png"/>
  <Override PartName="/ppt/media/image52.jpeg" ContentType="image/jpeg"/>
  <Override PartName="/ppt/media/image54.jpeg" ContentType="image/jpeg"/>
  <Override PartName="/ppt/media/image55.jpeg" ContentType="image/jpeg"/>
  <Override PartName="/ppt/media/image31.png" ContentType="image/png"/>
  <Override PartName="/ppt/media/image30.png" ContentType="image/png"/>
  <Override PartName="/ppt/media/image8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51.gif" ContentType="image/gif"/>
  <Override PartName="/ppt/media/image44.png" ContentType="image/png"/>
  <Override PartName="/ppt/media/image13.jpeg" ContentType="image/jpeg"/>
  <Override PartName="/ppt/media/image53.png" ContentType="image/png"/>
  <Override PartName="/ppt/media/image18.gif" ContentType="image/gif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50880" y="6237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53768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宋体"/>
              </a:rPr>
              <a:t>Page </a:t>
            </a:r>
            <a:fld id="{28177282-B72F-48AA-84EC-238297E96E9B}" type="slidenum">
              <a:rPr b="1" lang="fr-FR" sz="18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image" Target="../media/image29.png"/><Relationship Id="rId4" Type="http://schemas.openxmlformats.org/officeDocument/2006/relationships/image" Target="../media/image28.gif"/><Relationship Id="rId5" Type="http://schemas.openxmlformats.org/officeDocument/2006/relationships/image" Target="../media/image30.png"/><Relationship Id="rId6" Type="http://schemas.openxmlformats.org/officeDocument/2006/relationships/image" Target="../media/image28.gif"/><Relationship Id="rId7" Type="http://schemas.openxmlformats.org/officeDocument/2006/relationships/image" Target="../media/image31.png"/><Relationship Id="rId8" Type="http://schemas.openxmlformats.org/officeDocument/2006/relationships/image" Target="../media/image28.gif"/><Relationship Id="rId9" Type="http://schemas.openxmlformats.org/officeDocument/2006/relationships/image" Target="../media/image32.png"/><Relationship Id="rId10" Type="http://schemas.openxmlformats.org/officeDocument/2006/relationships/image" Target="../media/image28.gif"/><Relationship Id="rId11" Type="http://schemas.openxmlformats.org/officeDocument/2006/relationships/image" Target="../media/image33.png"/><Relationship Id="rId12" Type="http://schemas.openxmlformats.org/officeDocument/2006/relationships/image" Target="../media/image28.gif"/><Relationship Id="rId13" Type="http://schemas.openxmlformats.org/officeDocument/2006/relationships/image" Target="../media/image34.png"/><Relationship Id="rId14" Type="http://schemas.openxmlformats.org/officeDocument/2006/relationships/image" Target="../media/image28.gif"/><Relationship Id="rId15" Type="http://schemas.openxmlformats.org/officeDocument/2006/relationships/image" Target="../media/image35.png"/><Relationship Id="rId16" Type="http://schemas.openxmlformats.org/officeDocument/2006/relationships/image" Target="../media/image28.gif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hyperlink" Target="http://user.ooopic.com/pic_581811/" TargetMode="External"/><Relationship Id="rId5" Type="http://schemas.openxmlformats.org/officeDocument/2006/relationships/image" Target="../media/image17.jpeg"/><Relationship Id="rId6" Type="http://schemas.openxmlformats.org/officeDocument/2006/relationships/image" Target="../media/image18.gif"/><Relationship Id="rId7" Type="http://schemas.openxmlformats.org/officeDocument/2006/relationships/hyperlink" Target="http://image.baidu.com/i?ct=503316480&amp;z=&amp;tn=baiduimagedetail&amp;word=%D7%CF&#619;%CD%E2%CC%D7&amp;in=26490&amp;cl=2&amp;lm=-1&amp;pn=49&amp;rn=1&amp;di=34359678900&amp;ln=1426&amp;fr=&amp;fm=result&amp;fmq=1321954829437_R&amp;ic=0&amp;s=0&amp;se=1&amp;sme=0&amp;tab=&amp;width=&amp;height=&amp;face=0&amp;is=&amp;istype=2" TargetMode="External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png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image" Target="../media/image29.png"/><Relationship Id="rId4" Type="http://schemas.openxmlformats.org/officeDocument/2006/relationships/image" Target="../media/image28.gif"/><Relationship Id="rId5" Type="http://schemas.openxmlformats.org/officeDocument/2006/relationships/image" Target="../media/image30.png"/><Relationship Id="rId6" Type="http://schemas.openxmlformats.org/officeDocument/2006/relationships/image" Target="../media/image28.gif"/><Relationship Id="rId7" Type="http://schemas.openxmlformats.org/officeDocument/2006/relationships/image" Target="../media/image31.png"/><Relationship Id="rId8" Type="http://schemas.openxmlformats.org/officeDocument/2006/relationships/image" Target="../media/image28.gif"/><Relationship Id="rId9" Type="http://schemas.openxmlformats.org/officeDocument/2006/relationships/image" Target="../media/image32.png"/><Relationship Id="rId10" Type="http://schemas.openxmlformats.org/officeDocument/2006/relationships/image" Target="../media/image28.gif"/><Relationship Id="rId11" Type="http://schemas.openxmlformats.org/officeDocument/2006/relationships/image" Target="../media/image33.png"/><Relationship Id="rId12" Type="http://schemas.openxmlformats.org/officeDocument/2006/relationships/image" Target="../media/image28.gif"/><Relationship Id="rId13" Type="http://schemas.openxmlformats.org/officeDocument/2006/relationships/image" Target="../media/image34.png"/><Relationship Id="rId14" Type="http://schemas.openxmlformats.org/officeDocument/2006/relationships/image" Target="../media/image28.gif"/><Relationship Id="rId15" Type="http://schemas.openxmlformats.org/officeDocument/2006/relationships/image" Target="../media/image35.png"/><Relationship Id="rId16" Type="http://schemas.openxmlformats.org/officeDocument/2006/relationships/image" Target="../media/image28.gif"/><Relationship Id="rId1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hyperlink" Target="http://user.ooopic.com/pic_581811/" TargetMode="External"/><Relationship Id="rId5" Type="http://schemas.openxmlformats.org/officeDocument/2006/relationships/image" Target="../media/image17.jpeg"/><Relationship Id="rId6" Type="http://schemas.openxmlformats.org/officeDocument/2006/relationships/image" Target="../media/image18.gif"/><Relationship Id="rId7" Type="http://schemas.openxmlformats.org/officeDocument/2006/relationships/hyperlink" Target="http://image.baidu.com/i?ct=503316480&amp;z=&amp;tn=baiduimagedetail&amp;word=%D7%CF&#619;%CD%E2%CC%D7&amp;in=26490&amp;cl=2&amp;lm=-1&amp;pn=49&amp;rn=1&amp;di=34359678900&amp;ln=1426&amp;fr=&amp;fm=result&amp;fmq=1321954829437_R&amp;ic=0&amp;s=0&amp;se=1&amp;sme=0&amp;tab=&amp;width=&amp;height=&amp;face=0&amp;is=&amp;istype=2" TargetMode="External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png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image" Target="../media/image18.gif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hyperlink" Target="http://image.baidu.com/i?ct=503316480&amp;z=&amp;tn=baiduimagedetail&amp;word=%D7%CF&#619;%CD%E2%CC%D7&amp;in=26490&amp;cl=2&amp;lm=-1&amp;pn=49&amp;rn=1&amp;di=34359678900&amp;ln=1426&amp;fr=&amp;fm=result&amp;fmq=1321954829437_R&amp;ic=0&amp;s=0&amp;se=1&amp;sme=0&amp;tab=&amp;width=&amp;height=&amp;face=0&amp;is=&amp;istype=2" TargetMode="External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3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1600" y="6237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564000" y="68400"/>
            <a:ext cx="540072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标题 4"/>
          <p:cNvSpPr/>
          <p:nvPr/>
        </p:nvSpPr>
        <p:spPr>
          <a:xfrm>
            <a:off x="2124000" y="404640"/>
            <a:ext cx="684072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Starter Unit 3     What color is it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6877080" y="141300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  <a:ea typeface="宋体"/>
              </a:rPr>
              <a:t>1a–1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6360" y="117360"/>
            <a:ext cx="8232840" cy="7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cc"/>
                </a:solidFill>
                <a:latin typeface="Arial"/>
                <a:ea typeface="宋体"/>
              </a:rPr>
              <a:t>Do you know what these expressions mean?</a:t>
            </a:r>
            <a:br>
              <a:rPr sz="2000"/>
            </a:b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（知道它们的意思吗</a:t>
            </a:r>
            <a:r>
              <a:rPr b="1" lang="fr-FR" sz="2400" spc="-1" strike="noStrike">
                <a:solidFill>
                  <a:srgbClr val="0000cc"/>
                </a:solidFill>
                <a:latin typeface="Arial"/>
                <a:ea typeface="宋体"/>
              </a:rPr>
              <a:t>?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959280" cy="392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 black sh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een e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 green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 white 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hite coff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364000" y="3578400"/>
            <a:ext cx="244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害群之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508720" y="199404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眼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4140360" y="3218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5364000" y="2714760"/>
            <a:ext cx="23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新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3780000" y="379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5292720" y="12747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不眠之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2987640" y="2062080"/>
            <a:ext cx="2376360" cy="2094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3"/>
          <p:cNvSpPr/>
          <p:nvPr/>
        </p:nvSpPr>
        <p:spPr>
          <a:xfrm flipV="1">
            <a:off x="2844720" y="2420640"/>
            <a:ext cx="2535480" cy="236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4"/>
          <p:cNvSpPr/>
          <p:nvPr/>
        </p:nvSpPr>
        <p:spPr>
          <a:xfrm flipV="1">
            <a:off x="2987640" y="3286080"/>
            <a:ext cx="2232000" cy="130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5"/>
          <p:cNvSpPr/>
          <p:nvPr/>
        </p:nvSpPr>
        <p:spPr>
          <a:xfrm flipV="1">
            <a:off x="2771640" y="1844640"/>
            <a:ext cx="2305080" cy="2338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5433840" y="4365720"/>
            <a:ext cx="371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加牛奶的咖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7"/>
          <p:cNvSpPr/>
          <p:nvPr/>
        </p:nvSpPr>
        <p:spPr>
          <a:xfrm flipV="1">
            <a:off x="2844720" y="4797360"/>
            <a:ext cx="2516400" cy="76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12720" y="1412640"/>
            <a:ext cx="410040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  <a:ea typeface="宋体"/>
              </a:rPr>
              <a:t>Mr. 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  <a:ea typeface="宋体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  <a:ea typeface="宋体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  <a:ea typeface="宋体"/>
              </a:rPr>
              <a:t>Mrs. Gr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  <a:ea typeface="宋体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  <a:ea typeface="宋体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  <a:ea typeface="宋体"/>
              </a:rPr>
              <a:t>Miss 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  <a:ea typeface="宋体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  <a:ea typeface="宋体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  <a:ea typeface="宋体"/>
              </a:rPr>
              <a:t>Ms. Br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076720" y="1916280"/>
            <a:ext cx="21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宋体"/>
              </a:rPr>
              <a:t>怀特先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364000" y="2781360"/>
            <a:ext cx="20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宋体"/>
              </a:rPr>
              <a:t>格林夫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5292720" y="3789360"/>
            <a:ext cx="25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宋体"/>
              </a:rPr>
              <a:t>布莱克小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410080" y="472428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宋体"/>
              </a:rPr>
              <a:t>布朗女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971640" y="83664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宋体"/>
              </a:rPr>
              <a:t>Do you know them? 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宋体"/>
              </a:rPr>
              <a:t>你认识他们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250920" y="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mework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课后作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042920" y="1413000"/>
            <a:ext cx="734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Or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朗读第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S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页上的单词和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Writt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）抄写第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S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页上的单词三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）抄写第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S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页图片上的句子一遍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5"/>
          <p:cNvSpPr/>
          <p:nvPr/>
        </p:nvSpPr>
        <p:spPr>
          <a:xfrm>
            <a:off x="4075560" y="314172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a–2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标题 4"/>
          <p:cNvSpPr/>
          <p:nvPr/>
        </p:nvSpPr>
        <p:spPr>
          <a:xfrm>
            <a:off x="828720" y="404640"/>
            <a:ext cx="763272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Starter Unit 3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What color is it?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1"/>
          <p:cNvSpPr/>
          <p:nvPr/>
        </p:nvSpPr>
        <p:spPr>
          <a:xfrm>
            <a:off x="457200" y="642636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D3A5-753C-4581-9E04-8AE515516EC6}" type="slidenum">
              <a:rPr b="0" lang="en-GB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250920" y="189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a  Listen and repeat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听录音并跟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826920" y="1413000"/>
            <a:ext cx="72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MS UI Gothic"/>
              </a:rPr>
              <a:t>S</a:t>
            </a:r>
            <a:endParaRPr b="1" i="1" lang="en-US" sz="4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MS UI Gothic"/>
              <a:ea typeface="MS UI Gothic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971640" y="2781360"/>
            <a:ext cx="9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e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WordArt 6"/>
          <p:cNvSpPr txBox="1"/>
          <p:nvPr/>
        </p:nvSpPr>
        <p:spPr>
          <a:xfrm>
            <a:off x="2843280" y="1557360"/>
            <a:ext cx="72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T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988720" y="2852640"/>
            <a:ext cx="103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/ t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  <a:ea typeface="宋体"/>
              </a:rPr>
              <a:t>i: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8"/>
          <p:cNvSpPr txBox="1"/>
          <p:nvPr/>
        </p:nvSpPr>
        <p:spPr>
          <a:xfrm>
            <a:off x="4859280" y="1557360"/>
            <a:ext cx="86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</a:t>
            </a:r>
            <a:endParaRPr b="1" i="1" lang="en-US" sz="96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5078160" y="2781360"/>
            <a:ext cx="92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/j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  <a:ea typeface="宋体"/>
              </a:rPr>
              <a:t>u: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10"/>
          <p:cNvSpPr txBox="1"/>
          <p:nvPr/>
        </p:nvSpPr>
        <p:spPr>
          <a:xfrm>
            <a:off x="6732720" y="1484280"/>
            <a:ext cx="79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V</a:t>
            </a:r>
            <a:endParaRPr b="1" i="1" lang="en-US" sz="4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7021440" y="2781360"/>
            <a:ext cx="8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/v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  <a:ea typeface="宋体"/>
              </a:rPr>
              <a:t>i: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12"/>
          <p:cNvSpPr txBox="1"/>
          <p:nvPr/>
        </p:nvSpPr>
        <p:spPr>
          <a:xfrm>
            <a:off x="826920" y="3860640"/>
            <a:ext cx="72072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W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533520" y="52578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/’d</a:t>
            </a:r>
            <a:r>
              <a:rPr b="1" lang="en-US" sz="3200" spc="-1" strike="noStrike">
                <a:solidFill>
                  <a:srgbClr val="ff0000"/>
                </a:solidFill>
                <a:latin typeface="Kingsoft Phonetic Plain"/>
                <a:ea typeface="Kingsoft Phonetic Plain"/>
              </a:rPr>
              <a:t>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bl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  <a:ea typeface="宋体"/>
              </a:rPr>
              <a:t>u: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WordArt 14"/>
          <p:cNvSpPr txBox="1"/>
          <p:nvPr/>
        </p:nvSpPr>
        <p:spPr>
          <a:xfrm>
            <a:off x="2556000" y="3860640"/>
            <a:ext cx="792000" cy="12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X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2771640" y="5229360"/>
            <a:ext cx="126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/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  <a:ea typeface="宋体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ks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16"/>
          <p:cNvSpPr txBox="1"/>
          <p:nvPr/>
        </p:nvSpPr>
        <p:spPr>
          <a:xfrm>
            <a:off x="4643280" y="3860640"/>
            <a:ext cx="719280" cy="12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4573440" y="5267160"/>
            <a:ext cx="10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/w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  <a:ea typeface="宋体"/>
              </a:rPr>
              <a:t>ai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18"/>
          <p:cNvSpPr txBox="1"/>
          <p:nvPr/>
        </p:nvSpPr>
        <p:spPr>
          <a:xfrm>
            <a:off x="6372360" y="3860640"/>
            <a:ext cx="86364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Z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6660720" y="5195880"/>
            <a:ext cx="110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/z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  <a:ea typeface="宋体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d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WordArt 20"/>
          <p:cNvSpPr txBox="1"/>
          <p:nvPr/>
        </p:nvSpPr>
        <p:spPr>
          <a:xfrm>
            <a:off x="1676520" y="1905120"/>
            <a:ext cx="431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MS UI Gothic"/>
              </a:rPr>
              <a:t>s</a:t>
            </a:r>
            <a:endParaRPr b="1" i="1" lang="en-US" sz="4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MS UI Gothic"/>
              <a:ea typeface="MS UI Gothic"/>
            </a:endParaRPr>
          </a:p>
        </p:txBody>
      </p:sp>
      <p:sp>
        <p:nvSpPr>
          <p:cNvPr id="206" name="WordArt 21"/>
          <p:cNvSpPr txBox="1"/>
          <p:nvPr/>
        </p:nvSpPr>
        <p:spPr>
          <a:xfrm>
            <a:off x="3780000" y="1905120"/>
            <a:ext cx="48708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t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7" name="WordArt 22"/>
          <p:cNvSpPr txBox="1"/>
          <p:nvPr/>
        </p:nvSpPr>
        <p:spPr>
          <a:xfrm>
            <a:off x="5796000" y="1981080"/>
            <a:ext cx="45252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</a:t>
            </a:r>
            <a:endParaRPr b="1" i="1" lang="en-US" sz="96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8" name="WordArt 23"/>
          <p:cNvSpPr txBox="1"/>
          <p:nvPr/>
        </p:nvSpPr>
        <p:spPr>
          <a:xfrm>
            <a:off x="7596360" y="1905120"/>
            <a:ext cx="5569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v</a:t>
            </a:r>
            <a:endParaRPr b="1" i="1" lang="en-US" sz="4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9" name="WordArt 24"/>
          <p:cNvSpPr txBox="1"/>
          <p:nvPr/>
        </p:nvSpPr>
        <p:spPr>
          <a:xfrm>
            <a:off x="1476360" y="4343400"/>
            <a:ext cx="50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w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0" name="WordArt 25"/>
          <p:cNvSpPr txBox="1"/>
          <p:nvPr/>
        </p:nvSpPr>
        <p:spPr>
          <a:xfrm>
            <a:off x="3276720" y="4419720"/>
            <a:ext cx="68580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x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1" name="WordArt 26"/>
          <p:cNvSpPr txBox="1"/>
          <p:nvPr/>
        </p:nvSpPr>
        <p:spPr>
          <a:xfrm>
            <a:off x="5292720" y="4419720"/>
            <a:ext cx="5745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WordArt 27"/>
          <p:cNvSpPr txBox="1"/>
          <p:nvPr/>
        </p:nvSpPr>
        <p:spPr>
          <a:xfrm>
            <a:off x="7380360" y="4267080"/>
            <a:ext cx="54432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z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13" name="S0303 2a" descr=""/>
          <p:cNvPicPr/>
          <p:nvPr/>
        </p:nvPicPr>
        <p:blipFill>
          <a:blip r:embed="rId1"/>
          <a:stretch/>
        </p:blipFill>
        <p:spPr>
          <a:xfrm>
            <a:off x="5940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7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688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1" dur="32698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250920" y="1890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b  Listen and number the letters you hear [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]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826920" y="1773360"/>
            <a:ext cx="72072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2771640" y="1773360"/>
            <a:ext cx="72072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4643280" y="1773360"/>
            <a:ext cx="72072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6659640" y="1773360"/>
            <a:ext cx="72072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826920" y="3357720"/>
            <a:ext cx="72072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771640" y="3357720"/>
            <a:ext cx="72072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4716360" y="3357720"/>
            <a:ext cx="72072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6659640" y="3357720"/>
            <a:ext cx="72072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1763640" y="1773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3635280" y="1773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5508720" y="1773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7451640" y="1773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1760400" y="3357720"/>
            <a:ext cx="6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3635280" y="335772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5580000" y="3357720"/>
            <a:ext cx="4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7524720" y="3357720"/>
            <a:ext cx="4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2916360" y="1844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2916360" y="3357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1"/>
          <p:cNvSpPr/>
          <p:nvPr/>
        </p:nvSpPr>
        <p:spPr>
          <a:xfrm>
            <a:off x="4859280" y="3357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2"/>
          <p:cNvSpPr/>
          <p:nvPr/>
        </p:nvSpPr>
        <p:spPr>
          <a:xfrm>
            <a:off x="1042920" y="3357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4788000" y="1773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4"/>
          <p:cNvSpPr/>
          <p:nvPr/>
        </p:nvSpPr>
        <p:spPr>
          <a:xfrm>
            <a:off x="6804000" y="3357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6732720" y="1773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6"/>
          <p:cNvSpPr/>
          <p:nvPr/>
        </p:nvSpPr>
        <p:spPr>
          <a:xfrm>
            <a:off x="971640" y="1773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S0304 2b" descr=""/>
          <p:cNvPicPr/>
          <p:nvPr/>
        </p:nvPicPr>
        <p:blipFill>
          <a:blip r:embed="rId1"/>
          <a:stretch/>
        </p:blipFill>
        <p:spPr>
          <a:xfrm>
            <a:off x="759780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780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3" dur="34554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250920" y="1890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c  Look and cop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39640" y="1773360"/>
            <a:ext cx="7488360" cy="249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字母的书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（注意笔顺笔画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19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148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button1"/>
          <p:cNvPicPr/>
          <p:nvPr/>
        </p:nvPicPr>
        <p:blipFill>
          <a:blip r:embed="rId2"/>
          <a:stretch/>
        </p:blipFill>
        <p:spPr>
          <a:xfrm>
            <a:off x="3708360" y="155736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20"/>
          <p:cNvPicPr/>
          <p:nvPr/>
        </p:nvPicPr>
        <p:blipFill>
          <a:blip r:embed="rId3"/>
          <a:stretch/>
        </p:blipFill>
        <p:spPr>
          <a:xfrm>
            <a:off x="0" y="1197000"/>
            <a:ext cx="9144000" cy="4129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button1"/>
          <p:cNvPicPr/>
          <p:nvPr/>
        </p:nvPicPr>
        <p:blipFill>
          <a:blip r:embed="rId4"/>
          <a:stretch/>
        </p:blipFill>
        <p:spPr>
          <a:xfrm>
            <a:off x="1692360" y="134136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21"/>
          <p:cNvPicPr/>
          <p:nvPr/>
        </p:nvPicPr>
        <p:blipFill>
          <a:blip r:embed="rId5"/>
          <a:stretch/>
        </p:blipFill>
        <p:spPr>
          <a:xfrm>
            <a:off x="0" y="1197000"/>
            <a:ext cx="9144000" cy="41259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button1"/>
          <p:cNvPicPr/>
          <p:nvPr/>
        </p:nvPicPr>
        <p:blipFill>
          <a:blip r:embed="rId6"/>
          <a:stretch/>
        </p:blipFill>
        <p:spPr>
          <a:xfrm>
            <a:off x="2556000" y="112536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22"/>
          <p:cNvPicPr/>
          <p:nvPr/>
        </p:nvPicPr>
        <p:blipFill>
          <a:blip r:embed="rId7"/>
          <a:stretch/>
        </p:blipFill>
        <p:spPr>
          <a:xfrm>
            <a:off x="0" y="1197000"/>
            <a:ext cx="9144000" cy="4129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button1"/>
          <p:cNvPicPr/>
          <p:nvPr/>
        </p:nvPicPr>
        <p:blipFill>
          <a:blip r:embed="rId8"/>
          <a:stretch/>
        </p:blipFill>
        <p:spPr>
          <a:xfrm>
            <a:off x="2124000" y="98100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" descr="23"/>
          <p:cNvPicPr/>
          <p:nvPr/>
        </p:nvPicPr>
        <p:blipFill>
          <a:blip r:embed="rId9"/>
          <a:stretch/>
        </p:blipFill>
        <p:spPr>
          <a:xfrm>
            <a:off x="0" y="1197000"/>
            <a:ext cx="9144000" cy="4148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1" descr="button1"/>
          <p:cNvPicPr/>
          <p:nvPr/>
        </p:nvPicPr>
        <p:blipFill>
          <a:blip r:embed="rId10"/>
          <a:stretch/>
        </p:blipFill>
        <p:spPr>
          <a:xfrm>
            <a:off x="1476360" y="90792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24"/>
          <p:cNvPicPr/>
          <p:nvPr/>
        </p:nvPicPr>
        <p:blipFill>
          <a:blip r:embed="rId11"/>
          <a:stretch/>
        </p:blipFill>
        <p:spPr>
          <a:xfrm>
            <a:off x="0" y="1197000"/>
            <a:ext cx="9144000" cy="4228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3" descr="button1"/>
          <p:cNvPicPr/>
          <p:nvPr/>
        </p:nvPicPr>
        <p:blipFill>
          <a:blip r:embed="rId12"/>
          <a:stretch/>
        </p:blipFill>
        <p:spPr>
          <a:xfrm>
            <a:off x="2050920" y="90792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4" descr="25"/>
          <p:cNvPicPr/>
          <p:nvPr/>
        </p:nvPicPr>
        <p:blipFill>
          <a:blip r:embed="rId13"/>
          <a:stretch/>
        </p:blipFill>
        <p:spPr>
          <a:xfrm>
            <a:off x="0" y="1197000"/>
            <a:ext cx="9144000" cy="4228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5" descr="button1"/>
          <p:cNvPicPr/>
          <p:nvPr/>
        </p:nvPicPr>
        <p:blipFill>
          <a:blip r:embed="rId14"/>
          <a:stretch/>
        </p:blipFill>
        <p:spPr>
          <a:xfrm>
            <a:off x="1908000" y="90792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6" descr="26"/>
          <p:cNvPicPr/>
          <p:nvPr/>
        </p:nvPicPr>
        <p:blipFill>
          <a:blip r:embed="rId15"/>
          <a:stretch/>
        </p:blipFill>
        <p:spPr>
          <a:xfrm>
            <a:off x="0" y="1197000"/>
            <a:ext cx="9144000" cy="4228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7" descr="button1"/>
          <p:cNvPicPr/>
          <p:nvPr/>
        </p:nvPicPr>
        <p:blipFill>
          <a:blip r:embed="rId16"/>
          <a:stretch/>
        </p:blipFill>
        <p:spPr>
          <a:xfrm>
            <a:off x="1979640" y="1341360"/>
            <a:ext cx="37152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98 -0.02982 C -0.05972 -0.03977 -0.08299 -0.04231 -0.10677 -0.04462 C -0.11632 -0.04254 -0.11406 -0.0437 -0.12118 -0.04046 C -0.12431 -0.03907 -0.12743 -0.03745 -0.13056 -0.03607 C -0.13212 -0.03537 -0.13542 -0.03399 -0.13542 -0.03399 C -0.13976 -0.03005 -0.14254 -0.02566 -0.14653 -0.02127 C -0.15052 -0.01688 -0.15434 -0.0141 -0.15764 -0.00855 C -0.16111 -0.00254 -0.16163 0.00301 -0.16563 0.00833 C -0.1684 0.01919 -0.16927 0.02844 -0.17031 0.04 C -0.16979 0.04555 -0.16979 0.05133 -0.16875 0.05688 C -0.16823 0.05919 -0.16649 0.06081 -0.16563 0.06312 C -0.16129 0.07445 -0.15434 0.09041 -0.14497 0.09503 C -0.1408 0.11191 -0.14722 0.09179 -0.13854 0.10336 C -0.12986 0.11492 -0.14497 0.10636 -0.13229 0.11191 C -0.12952 0.12208 -0.12101 0.1281 -0.11476 0.13503 C -0.10677 0.14382 -0.09827 0.15307 -0.09254 0.16463 C -0.09202 0.16671 -0.09254 0.17018 -0.09097 0.1711 C -0.08941 0.17203 -0.08733 0.1674 -0.08611 0.16902 C -0.08368 0.17203 -0.08403 0.17734 -0.08299 0.18151 C -0.08247 0.18359 -0.08143 0.18798 -0.08143 0.18798 C -0.08195 0.20278 -0.07674 0.25411 -0.09254 0.26821 C -0.09653 0.28509 -0.09045 0.2659 -0.09896 0.27677 C -0.10018 0.27838 -0.09965 0.28116 -0.10052 0.28301 C -0.10122 0.28486 -0.10261 0.28601 -0.10365 0.2874 C -0.10417 0.28948 -0.10399 0.29203 -0.10521 0.29364 C -0.10712 0.29619 -0.12049 0.30151 -0.12274 0.3022 C -0.1257 0.30197 -0.16233 0.30266 -0.17674 0.29781 C -0.18663 0.29457 -0.19792 0.28509 -0.20834 0.28509 E">
                                      <p:cBhvr>
                                        <p:cTn id="813" dur="1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66 0.14775 C 0.25503 0.14636 0.25364 0.14451 0.25191 0.14359 C 0.24878 0.14174 0.24236 0.13942 0.24236 0.13942 C 0.23281 0.13041 0.22587 0.13341 0.21389 0.13503 C 0.20833 0.13734 0.2059 0.14151 0.20104 0.14567 C 0.2 0.14775 0.19861 0.1496 0.19791 0.15191 C 0.19653 0.15607 0.19479 0.16463 0.19479 0.16463 C 0.19583 0.17758 0.19496 0.19515 0.20278 0.20486 C 0.20503 0.21364 0.20972 0.21873 0.21389 0.2259 C 0.2191 0.23492 0.22066 0.23977 0.22656 0.24717 C 0.2283 0.25388 0.23107 0.25734 0.23281 0.26405 C 0.23177 0.27653 0.2316 0.29156 0.2217 0.29573 C 0.21128 0.30497 0.20972 0.30197 0.19479 0.29989 C 0.18732 0.29734 0.17882 0.29156 0.17101 0.29156 E">
                                      <p:cBhvr>
                                        <p:cTn id="817" dur="1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691 -0.00625 L 0.2316 -0.00625 E">
                                      <p:cBhvr>
                                        <p:cTn id="833" dur="1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17 -0.00625 L 0.08195 0.32948 E">
                                      <p:cBhvr>
                                        <p:cTn id="837" dur="1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084 0.09688 C 0.46788 0.10289 0.4665 0.10867 0.46285 0.11375 C 0.45469 0.14659 0.44844 0.17942 0.44219 0.21295 C 0.43976 0.22566 0.44063 0.23861 0.4375 0.2511 C 0.4382 0.2756 0.43108 0.31306 0.4533 0.323 C 0.46997 0.34404 0.48264 0.323 0.49462 0.31237 C 0.49844 0.30474 0.49688 0.30844 0.49931 0.30173 E">
                                      <p:cBhvr>
                                        <p:cTn id="841" dur="1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486 0.15121 L 0.51511 0.15121 E">
                                      <p:cBhvr>
                                        <p:cTn id="845" dur="1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2 0.03954 C -0.00955 0.06336 -0.01476 0.09041 -0.02518 0.11122 C -0.02882 0.12625 -0.03438 0.14266 -0.04115 0.15561 C -0.04601 0.17526 -0.05105 0.19445 -0.05382 0.2148 C -0.05643 0.23445 -0.05868 0.25503 -0.06337 0.27399 C -0.06268 0.28856 -0.0625 0.31237 -0.05695 0.32694 C -0.05365 0.33573 -0.04809 0.34012 -0.04271 0.3459 C -0.03004 0.35977 -0.03455 0.36047 -0.01893 0.36509 C -0.01302 0.3644 -0.00712 0.36416 -0.00139 0.36278 C 0.00191 0.36208 0.00816 0.35862 0.00816 0.35862 C 0.01128 0.35584 0.01458 0.35307 0.0177 0.35029 C 0.01927 0.3489 0.01944 0.34567 0.02083 0.34382 C 0.02326 0.34058 0.02586 0.33757 0.02882 0.33549 C 0.03177 0.33341 0.03819 0.3311 0.03819 0.3311 C 0.04062 0.3281 0.04375 0.32601 0.04618 0.32278 C 0.05486 0.31099 0.04427 0.32093 0.0526 0.31214 C 0.05711 0.30752 0.05711 0.30937 0.06041 0.30359 C 0.06545 0.2948 0.06753 0.28971 0.07326 0.28255 C 0.075 0.27561 0.07795 0.27191 0.08107 0.26567 C 0.08489 0.24994 0.07986 0.26867 0.08593 0.25295 C 0.08923 0.2444 0.09132 0.23561 0.09548 0.22752 C 0.1052 0.18844 0.1118 0.14914 0.11927 0.10914 C 0.12152 0.09711 0.12361 0.08532 0.12552 0.0733 C 0.12656 0.06682 0.12882 0.06359 0.12882 0.05642 C 0.12882 0.05411 0.1276 0.06058 0.12708 0.06266 C 0.12604 0.06682 0.125 0.07122 0.12395 0.07538 C 0.121 0.08717 0.12066 0.09942 0.1177 0.11122 C 0.11389 0.14428 0.11163 0.17757 0.10816 0.21064 C 0.10642 0.22775 0.10416 0.25087 0.09705 0.26567 C 0.09496 0.28971 0.09253 0.31006 0.08906 0.33318 C 0.08854 0.34174 0.08819 0.35006 0.0875 0.35862 C 0.08715 0.36347 0.08593 0.37341 0.08593 0.37341 E">
                                      <p:cBhvr>
                                        <p:cTn id="861" dur="1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527 0.22336 C 0.37343 0.21966 0.38073 0.21434 0.38906 0.21064 C 0.39218 0.20925 0.39861 0.20648 0.39861 0.20648 C 0.40017 0.2044 0.40139 0.20139 0.4033 0.2 C 0.40625 0.19792 0.41284 0.19584 0.41284 0.19584 C 0.41111 0.22035 0.40972 0.24601 0.40486 0.26983 C 0.40538 0.29318 0.40555 0.3163 0.40659 0.33966 C 0.40711 0.35052 0.41458 0.35168 0.42083 0.35445 C 0.42239 0.35515 0.42552 0.35653 0.42552 0.35653 C 0.42621 0.35653 0.44062 0.35584 0.44461 0.35237 C 0.44843 0.34914 0.45173 0.34312 0.45573 0.33966 C 0.4625 0.32578 0.47205 0.31492 0.47951 0.30151 C 0.48298 0.29549 0.48732 0.28971 0.48906 0.28255 C 0.4927 0.26752 0.49027 0.27353 0.49548 0.26359 C 0.50104 0.24047 0.49236 0.27468 0.50017 0.25087 C 0.50416 0.23908 0.50451 0.22451 0.51128 0.2148 C 0.51232 0.20786 0.51614 0.18705 0.51441 0.19376 C 0.50798 0.21966 0.50798 0.24879 0.50173 0.27399 C 0.49913 0.29827 0.4927 0.33388 0.50659 0.35237 C 0.50868 0.36093 0.51145 0.36208 0.5177 0.36509 C 0.52448 0.3644 0.53142 0.36416 0.53819 0.36278 C 0.54149 0.36208 0.54774 0.35862 0.54774 0.35862 C 0.55434 0.35029 0.55625 0.33896 0.56215 0.3311 C 0.56389 0.32416 0.56823 0.31908 0.56996 0.31214 C 0.57048 0.31006 0.57066 0.30775 0.57152 0.3059 C 0.57343 0.30151 0.57795 0.29318 0.57795 0.29318 E">
                                      <p:cBhvr>
                                        <p:cTn id="865" dur="1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0.04578 C 0.0066 0.07908 0.00747 0.11492 0.01094 0.14937 C 0.01216 0.16231 0.01303 0.17457 0.01563 0.18729 C 0.01719 0.19515 0.02049 0.21064 0.02049 0.21064 C 0.02171 0.22335 0.02362 0.23399 0.02518 0.24648 C 0.02535 0.24971 0.02726 0.29041 0.0283 0.29734 C 0.03039 0.31214 0.03559 0.32671 0.03785 0.34174 C 0.03976 0.35492 0.03993 0.37179 0.04896 0.37966 C 0.05747 0.37226 0.05591 0.36601 0.06164 0.35653 C 0.06737 0.34705 0.07414 0.33919 0.07917 0.32902 C 0.08021 0.32486 0.08039 0.32 0.0823 0.3163 C 0.08438 0.31214 0.08872 0.30359 0.08872 0.30359 C 0.09115 0.29411 0.09167 0.28717 0.09653 0.28023 C 0.10139 0.26266 0.10782 0.24624 0.11407 0.2296 C 0.11702 0.22151 0.11893 0.21295 0.12362 0.20624 C 0.12743 0.19075 0.13264 0.17549 0.13941 0.16185 C 0.15382 0.13249 0.13559 0.15931 0.14584 0.14497 C 0.14948 0.12994 0.15365 0.12185 0.16007 0.10914 C 0.16059 0.10705 0.16077 0.10451 0.16164 0.10266 C 0.1625 0.10104 0.16424 0.10035 0.16493 0.0985 C 0.16962 0.08601 0.16875 0.08 0.17761 0.0689 C 0.18195 0.05156 0.17587 0.07283 0.1823 0.05827 C 0.18733 0.04671 0.18125 0.05549 0.18542 0.04994 E">
                                      <p:cBhvr>
                                        <p:cTn id="881" dur="1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605 0.26127 C 0.37761 0.25919 0.37969 0.25757 0.38073 0.25503 C 0.3823 0.2511 0.38143 0.24532 0.38386 0.24231 C 0.39028 0.23422 0.39775 0.22266 0.40608 0.21896 C 0.4099 0.22405 0.41094 0.22983 0.41407 0.23584 C 0.41771 0.25064 0.41476 0.24532 0.42049 0.25295 C 0.42396 0.27122 0.42813 0.28948 0.4316 0.30775 C 0.43282 0.31422 0.43542 0.32023 0.43629 0.32694 C 0.43907 0.34867 0.44167 0.37064 0.44428 0.39237 C 0.44948 0.38197 0.45035 0.37133 0.46007 0.36694 C 0.46407 0.35908 0.46841 0.3533 0.47431 0.34798 C 0.47483 0.3459 0.47518 0.34359 0.47605 0.34174 C 0.47691 0.34012 0.47848 0.33919 0.47917 0.33734 C 0.48559 0.32 0.47796 0.32833 0.48716 0.32046 C 0.48768 0.31838 0.48785 0.31607 0.48872 0.31422 C 0.48941 0.31237 0.49115 0.31168 0.49184 0.30983 C 0.49896 0.29087 0.49098 0.30266 0.49827 0.29295 C 0.50157 0.27954 0.50174 0.26636 0.50452 0.25295 C 0.50539 0.24856 0.50764 0.24023 0.50764 0.24023 C 0.50712 0.23468 0.50851 0.22266 0.50296 0.21896 C 0.5 0.21688 0.49341 0.2148 0.49341 0.2148 E">
                                      <p:cBhvr>
                                        <p:cTn id="885" dur="1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5641 C 0.0099 0.12023 0.00695 0.11838 0.00868 0.22543 C 0.00955 0.27953 0.0059 0.26335 0.01181 0.2867 C 0.01302 0.32416 0.01198 0.36161 0.01511 0.39884 C 0.01528 0.40092 0.01719 0.39583 0.01823 0.39445 C 0.02136 0.38219 0.02413 0.37456 0.03247 0.36716 C 0.03455 0.35838 0.03924 0.35237 0.04201 0.34381 C 0.04514 0.33433 0.04757 0.32185 0.05 0.31214 C 0.05174 0.3052 0.05799 0.29318 0.05799 0.29318 C 0.06163 0.27861 0.05886 0.2837 0.06424 0.27607 C 0.06788 0.26173 0.06511 0.26659 0.07066 0.25919 C 0.07465 0.243 0.07778 0.22289 0.0849 0.20855 C 0.08924 0.19075 0.09358 0.1667 0.10399 0.15352 C 0.10451 0.15144 0.10486 0.14936 0.10556 0.14728 C 0.10642 0.14497 0.10799 0.14312 0.10868 0.14081 C 0.11285 0.12809 0.11389 0.11445 0.11979 0.10289 C 0.12361 0.08763 0.12101 0.09387 0.12622 0.0837 C 0.13021 0.06242 0.12483 0.08878 0.1309 0.06682 C 0.1316 0.06404 0.13108 0.06081 0.13247 0.05849 C 0.13351 0.05664 0.13576 0.05711 0.13733 0.05641 C 0.14601 0.09109 0.13941 0.12832 0.13733 0.16416 C 0.13785 0.18034 0.13854 0.19653 0.13889 0.21271 C 0.13958 0.24647 0.13958 0.28046 0.14045 0.31422 C 0.14115 0.34057 0.14601 0.36832 0.14844 0.39445 C 0.15556 0.38034 0.15208 0.38543 0.15799 0.37757 C 0.16129 0.36439 0.1632 0.3452 0.17066 0.33526 L 0.17847 0.3163 C 0.18056 0.30913 0.18281 0.30242 0.1849 0.29526 C 0.18976 0.27907 0.18507 0.28624 0.19132 0.27838 C 0.19358 0.2689 0.19497 0.25919 0.19913 0.25086 C 0.20261 0.23607 0.20486 0.21734 0.21354 0.20647 C 0.2158 0.19699 0.21927 0.18797 0.22465 0.18104 C 0.2283 0.16601 0.22587 0.17202 0.2309 0.16208 C 0.23438 0.14728 0.23681 0.13248 0.24045 0.11768 C 0.24097 0.11583 0.24271 0.11491 0.24358 0.11329 C 0.25434 0.0941 0.24601 0.10635 0.25313 0.09641 C 0.25573 0.08578 0.25851 0.07537 0.26111 0.06474 C 0.26163 0.06266 0.26215 0.06057 0.26267 0.05849 C 0.2632 0.05641 0.26424 0.05202 0.26424 0.05202 E">
                                      <p:cBhvr>
                                        <p:cTn id="901" dur="1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688 0.25086 C 0.45538 0.24716 0.45886 0.23583 0.46736 0.23167 C 0.47379 0.22358 0.47604 0.22774 0.48021 0.23607 C 0.48264 0.25572 0.48386 0.2756 0.48646 0.29526 C 0.4875 0.30358 0.48958 0.32046 0.48958 0.32046 C 0.49028 0.33479 0.48941 0.38959 0.49601 0.39884 C 0.50625 0.39422 0.49531 0.40046 0.50712 0.38404 C 0.51076 0.37896 0.51389 0.37526 0.51823 0.37133 C 0.51927 0.36924 0.52049 0.36716 0.52136 0.36485 C 0.52205 0.36277 0.52205 0.36046 0.52292 0.35861 C 0.52448 0.35514 0.52761 0.35329 0.52934 0.35005 C 0.5316 0.34612 0.53576 0.33757 0.53576 0.33757 C 0.54132 0.31445 0.53264 0.34867 0.54045 0.32485 C 0.54774 0.30266 0.53958 0.32 0.54688 0.30566 C 0.55174 0.28624 0.55434 0.26381 0.56267 0.24647 C 0.57014 0.25687 0.56736 0.26959 0.56424 0.28254 C 0.56163 0.31398 0.56076 0.34381 0.56267 0.37549 C 0.56354 0.39052 0.56771 0.40023 0.57847 0.40508 C 0.58976 0.403 0.58941 0.4037 0.59601 0.39445 C 0.6 0.37849 0.5941 0.39792 0.60243 0.38404 C 0.61146 0.36901 0.59497 0.38566 0.60868 0.37341 C 0.61267 0.36531 0.61684 0.35884 0.61979 0.35005 C 0.62917 0.32185 0.62969 0.29109 0.63403 0.26127 C 0.63351 0.25503 0.63316 0.24855 0.63247 0.24231 C 0.63073 0.22751 0.6184 0.22705 0.61181 0.21919 E">
                                      <p:cBhvr>
                                        <p:cTn id="905" dur="1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28 0.03607 L 0.12934 0.403 E">
                                      <p:cBhvr>
                                        <p:cTn id="921" dur="1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295 0.03607 L -0.04393 0.403 E">
                                      <p:cBhvr>
                                        <p:cTn id="925" dur="1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538 0.24231 C 0.35694 0.24161 0.35868 0.24138 0.36007 0.24023 C 0.36146 0.2393 0.36198 0.23699 0.36337 0.23607 C 0.36632 0.23398 0.36979 0.23306 0.37291 0.23167 C 0.37448 0.23098 0.3776 0.22959 0.3776 0.22959 C 0.38889 0.23491 0.38437 0.23144 0.39184 0.23815 C 0.39236 0.24023 0.39271 0.24254 0.3934 0.24439 C 0.39427 0.2467 0.39583 0.24855 0.3967 0.25086 C 0.40121 0.26427 0.40312 0.2763 0.40937 0.28878 C 0.41111 0.29618 0.41319 0.30034 0.41736 0.30566 C 0.42135 0.32208 0.41545 0.30242 0.42361 0.3163 C 0.42465 0.31815 0.42413 0.32092 0.42517 0.32277 C 0.42743 0.3267 0.43316 0.33318 0.43316 0.33318 C 0.43698 0.34913 0.43142 0.33063 0.43958 0.34381 C 0.44062 0.34543 0.44028 0.3482 0.44114 0.35005 C 0.44427 0.35745 0.45 0.36254 0.45382 0.36924 C 0.45885 0.3778 0.46337 0.38566 0.46962 0.39237 C 0.47448 0.39745 0.47448 0.40231 0.48073 0.40508 C 0.48611 0.40439 0.49166 0.40531 0.4967 0.403 C 0.49844 0.40231 0.49861 0.39884 0.49982 0.39676 C 0.50208 0.39283 0.50521 0.38959 0.50781 0.38612 E">
                                      <p:cBhvr>
                                        <p:cTn id="929" dur="1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139 0.22566 C 0.49445 0.21572 0.49358 0.21711 0.48247 0.21919 C 0.47518 0.22844 0.47031 0.2393 0.46181 0.2467 C 0.46129 0.24878 0.46111 0.2511 0.46024 0.25295 C 0.45938 0.2548 0.45764 0.25549 0.45695 0.25734 C 0.45538 0.26127 0.4566 0.26751 0.45382 0.27006 C 0.4474 0.2756 0.44427 0.28347 0.43802 0.28902 C 0.43594 0.29318 0.43281 0.29688 0.4316 0.30173 C 0.43108 0.30381 0.4309 0.30612 0.43004 0.30797 C 0.42431 0.32185 0.41597 0.3348 0.40781 0.34612 C 0.4059 0.35352 0.4033 0.35491 0.39983 0.36092 C 0.39358 0.37156 0.38906 0.38196 0.37917 0.38612 C 0.37118 0.38543 0.3632 0.38566 0.35538 0.38404 C 0.35347 0.38358 0.35243 0.38104 0.3507 0.37988 C 0.34913 0.37896 0.34584 0.3778 0.34584 0.3778 E">
                                      <p:cBhvr>
                                        <p:cTn id="933" dur="1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0.03607 L 0.06632 0.22474 E">
                                      <p:cBhvr>
                                        <p:cTn id="949" dur="1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257 0.04994 C 0.17153 0.05202 0.17084 0.05456 0.16945 0.05641 C 0.16806 0.05826 0.1658 0.05849 0.16459 0.06057 C 0.16354 0.06219 0.16389 0.06497 0.16302 0.06682 C 0.1599 0.07398 0.15452 0.08 0.15035 0.08601 C 0.14757 0.09734 0.14098 0.10566 0.13611 0.1156 C 0.13507 0.11768 0.13368 0.11953 0.13299 0.12185 C 0.13247 0.12393 0.13212 0.12624 0.13125 0.12809 C 0.12848 0.1341 0.12483 0.13919 0.12188 0.1452 C 0.11823 0.1526 0.11164 0.15745 0.10747 0.16416 C 0.10104 0.17479 0.10816 0.1667 0.09966 0.17479 C 0.09445 0.18474 0.0882 0.19329 0.08056 0.2 C 0.07761 0.21248 0.08143 0.20115 0.07414 0.21063 C 0.07066 0.21503 0.06823 0.22081 0.06459 0.22543 C 0.06563 0.22682 0.06789 0.22751 0.06789 0.22959 C 0.06789 0.23167 0.06528 0.23214 0.06459 0.23398 C 0.06302 0.23792 0.0625 0.24231 0.06146 0.24647 C 0.06094 0.24855 0.0599 0.25294 0.0599 0.25294 C 0.05764 0.27398 0.06025 0.29618 0.05521 0.3163 C 0.05209 0.34335 0.04566 0.37133 0.04566 0.39884 E">
                                      <p:cBhvr>
                                        <p:cTn id="953" dur="1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768 0.3015 C 0.34827 0.29803 0.35157 0.29063 0.35834 0.28046 C 0.36077 0.27676 0.36632 0.26982 0.36632 0.26982 C 0.36997 0.25479 0.36754 0.26081 0.37257 0.25086 C 0.37466 0.27861 0.3724 0.30497 0.37414 0.33318 C 0.3757 0.35722 0.38386 0.37387 0.39323 0.39237 C 0.39723 0.38451 0.40157 0.37872 0.40747 0.37341 C 0.41094 0.3593 0.40608 0.37479 0.41389 0.36277 C 0.42657 0.34335 0.41424 0.35514 0.425 0.34589 C 0.43091 0.3341 0.43959 0.32578 0.44566 0.31422 C 0.44618 0.31214 0.44636 0.30982 0.44723 0.30797 C 0.44792 0.30612 0.44966 0.30543 0.45035 0.30358 C 0.45712 0.28485 0.44966 0.29572 0.45677 0.2867 C 0.46042 0.2719 0.46424 0.25711 0.46789 0.24231 C 0.46598 0.29734 0.46875 0.27052 0.46459 0.29734 C 0.46407 0.30081 0.46372 0.30451 0.46302 0.30797 C 0.46216 0.31214 0.4599 0.32046 0.4599 0.32046 C 0.45504 0.35953 0.45556 0.39977 0.45035 0.43884 C 0.44914 0.44716 0.44688 0.45572 0.44566 0.46427 C 0.44514 0.47768 0.44497 0.49109 0.4441 0.50451 C 0.44375 0.5089 0.4415 0.51283 0.4408 0.51722 C 0.43664 0.5415 0.43229 0.56531 0.42657 0.58913 C 0.42431 0.59884 0.41702 0.60115 0.41077 0.60393 C 0.40764 0.60531 0.40122 0.60809 0.40122 0.60809 C 0.38907 0.6067 0.38525 0.60763 0.3757 0.60393 C 0.37049 0.60185 0.36667 0.59768 0.36146 0.59537 C 0.35348 0.58844 0.34705 0.57919 0.33924 0.57202 C 0.3382 0.56994 0.33768 0.5674 0.33611 0.56578 C 0.33473 0.56439 0.33125 0.5637 0.33125 0.5637 E">
                                      <p:cBhvr>
                                        <p:cTn id="957" dur="1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54 -0.00046 C 0.06128 -0.00255 0.08732 -0.00532 0.11406 -0.00671 C 0.14635 -0.00555 0.19305 -0.02428 0.16961 0.00809 C 0.16684 0.01826 0.16111 0.02797 0.1552 0.03537 C 0.15451 0.03861 0.15017 0.05225 0.14895 0.05456 C 0.1467 0.05849 0.14097 0.06497 0.14097 0.06497 C 0.13784 0.07815 0.12951 0.08809 0.12343 0.09896 C 0.11944 0.10612 0.11701 0.11607 0.11232 0.12208 C 0.10885 0.13641 0.09965 0.15214 0.0901 0.16023 C 0.08281 0.1748 0.07378 0.18774 0.06475 0.20046 C 0.0618 0.21248 0.05468 0.22011 0.04895 0.23006 C 0.04357 0.2393 0.03836 0.24832 0.03298 0.25734 C 0.02951 0.26312 0.02899 0.26913 0.02517 0.27445 C 0.02274 0.283 0.01944 0.29202 0.01562 0.29965 C 0.01354 0.30844 0.01076 0.31676 0.00763 0.32508 C 0.00677 0.3274 0.00572 0.32948 0.00451 0.33133 C 0.00347 0.33295 -0.00035 0.33526 0.00121 0.33572 C 0.00486 0.33688 0.00868 0.33433 0.01232 0.33364 C 0.05642 0.34081 0.10295 0.33988 0.14739 0.33988 E">
                                      <p:cBhvr>
                                        <p:cTn id="973" dur="1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607 0.17503 C 0.42882 0.17572 0.45156 0.17595 0.4743 0.17711 C 0.47708 0.17734 0.48038 0.17665 0.48229 0.17919 C 0.48263 0.17965 0.47829 0.18335 0.47586 0.18774 C 0.47361 0.19191 0.47239 0.19699 0.46961 0.20046 C 0.46857 0.20185 0.46736 0.203 0.46632 0.20462 C 0.45885 0.21665 0.45138 0.22844 0.44409 0.24046 C 0.43941 0.24809 0.43854 0.25665 0.43298 0.26381 C 0.42986 0.27653 0.421 0.28601 0.41406 0.29549 C 0.40677 0.30543 0.40243 0.31699 0.3934 0.32508 C 0.39166 0.33225 0.38854 0.33572 0.38541 0.34196 C 0.43576 0.3452 0.40763 0.34404 0.46961 0.34404 E">
                                      <p:cBhvr>
                                        <p:cTn id="977" dur="1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0" y="0"/>
            <a:ext cx="50594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宋体"/>
              </a:rPr>
              <a:t>Abbreviations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宋体"/>
              </a:rPr>
              <a:t>缩写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541800" y="414972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541800" y="342900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C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764720" y="4149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公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765080" y="3429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公元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4791960" y="2708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A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4791240" y="335772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6517080" y="2565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中国民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6733800" y="3284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中国篮球协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4788000" y="1125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5796000" y="1052640"/>
            <a:ext cx="31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基础知识；字母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541800" y="206064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539640" y="278136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4790520" y="184464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BC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1764720" y="198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光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1764720" y="270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硬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6589440" y="1773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英国广播公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9"/>
          <p:cNvSpPr/>
          <p:nvPr/>
        </p:nvSpPr>
        <p:spPr>
          <a:xfrm>
            <a:off x="1219320" y="4876920"/>
            <a:ext cx="280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2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停车场；停车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0"/>
          <p:cNvSpPr/>
          <p:nvPr/>
        </p:nvSpPr>
        <p:spPr>
          <a:xfrm>
            <a:off x="686880" y="4800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5038560" y="407664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美国）全国篮球协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2"/>
          <p:cNvSpPr/>
          <p:nvPr/>
        </p:nvSpPr>
        <p:spPr>
          <a:xfrm>
            <a:off x="4214880" y="407664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3"/>
          <p:cNvSpPr/>
          <p:nvPr/>
        </p:nvSpPr>
        <p:spPr>
          <a:xfrm>
            <a:off x="1332000" y="1413000"/>
            <a:ext cx="23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2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千克；公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4"/>
          <p:cNvSpPr/>
          <p:nvPr/>
        </p:nvSpPr>
        <p:spPr>
          <a:xfrm>
            <a:off x="541440" y="12682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k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5"/>
          <p:cNvSpPr/>
          <p:nvPr/>
        </p:nvSpPr>
        <p:spPr>
          <a:xfrm>
            <a:off x="4343400" y="472428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6"/>
          <p:cNvSpPr/>
          <p:nvPr/>
        </p:nvSpPr>
        <p:spPr>
          <a:xfrm>
            <a:off x="5562720" y="46483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中华人民共和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3"/>
          <p:cNvSpPr/>
          <p:nvPr/>
        </p:nvSpPr>
        <p:spPr>
          <a:xfrm>
            <a:off x="611280" y="5562720"/>
            <a:ext cx="8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K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4"/>
          <p:cNvSpPr/>
          <p:nvPr/>
        </p:nvSpPr>
        <p:spPr>
          <a:xfrm>
            <a:off x="1371600" y="5562720"/>
            <a:ext cx="1752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2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单独挑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5"/>
          <p:cNvSpPr/>
          <p:nvPr/>
        </p:nvSpPr>
        <p:spPr>
          <a:xfrm>
            <a:off x="4497120" y="52578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6"/>
          <p:cNvSpPr/>
          <p:nvPr/>
        </p:nvSpPr>
        <p:spPr>
          <a:xfrm>
            <a:off x="4497120" y="58672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k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7"/>
          <p:cNvSpPr/>
          <p:nvPr/>
        </p:nvSpPr>
        <p:spPr>
          <a:xfrm>
            <a:off x="5784120" y="5257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8"/>
          <p:cNvSpPr/>
          <p:nvPr/>
        </p:nvSpPr>
        <p:spPr>
          <a:xfrm>
            <a:off x="5638680" y="58672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千米，公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6500"/>
                            </p:stCondLst>
                            <p:childTnLst>
                              <p:par>
                                <p:cTn id="10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7500"/>
                            </p:stCondLst>
                            <p:childTnLst>
                              <p:par>
                                <p:cTn id="10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未标题-4 副本 拷贝"/>
          <p:cNvPicPr/>
          <p:nvPr/>
        </p:nvPicPr>
        <p:blipFill>
          <a:blip r:embed="rId1"/>
          <a:stretch/>
        </p:blipFill>
        <p:spPr>
          <a:xfrm>
            <a:off x="250920" y="907920"/>
            <a:ext cx="8569080" cy="56833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5580000" y="47628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7020720" y="1197000"/>
            <a:ext cx="128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r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254520" y="1290600"/>
            <a:ext cx="195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d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5582160" y="5229360"/>
            <a:ext cx="13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m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 rot="11340000">
            <a:off x="1547640" y="1577160"/>
            <a:ext cx="1438560" cy="717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8"/>
          <p:cNvSpPr/>
          <p:nvPr/>
        </p:nvSpPr>
        <p:spPr>
          <a:xfrm flipH="1" rot="10800000">
            <a:off x="5650560" y="1197000"/>
            <a:ext cx="1368360" cy="792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9"/>
          <p:cNvSpPr/>
          <p:nvPr/>
        </p:nvSpPr>
        <p:spPr>
          <a:xfrm>
            <a:off x="4284720" y="3789360"/>
            <a:ext cx="1295280" cy="1584360"/>
          </a:xfrm>
          <a:prstGeom prst="line">
            <a:avLst/>
          </a:prstGeom>
          <a:ln w="85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228600" y="0"/>
            <a:ext cx="82296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宋体"/>
              </a:rPr>
              <a:t>3. Do you know what these letters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7308720" y="2781360"/>
            <a:ext cx="1835280" cy="1760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Jacket-Library-front-small"/>
          <p:cNvPicPr/>
          <p:nvPr/>
        </p:nvPicPr>
        <p:blipFill>
          <a:blip r:embed="rId2"/>
          <a:stretch/>
        </p:blipFill>
        <p:spPr>
          <a:xfrm>
            <a:off x="6630840" y="1052640"/>
            <a:ext cx="1081080" cy="1368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橘子"/>
          <p:cNvPicPr/>
          <p:nvPr/>
        </p:nvPicPr>
        <p:blipFill>
          <a:blip r:embed="rId3"/>
          <a:stretch/>
        </p:blipFill>
        <p:spPr>
          <a:xfrm>
            <a:off x="3635280" y="5516640"/>
            <a:ext cx="1062000" cy="1082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12"/>
          <p:cNvPicPr/>
          <p:nvPr/>
        </p:nvPicPr>
        <p:blipFill>
          <a:blip r:embed="rId4"/>
          <a:stretch/>
        </p:blipFill>
        <p:spPr>
          <a:xfrm>
            <a:off x="250920" y="981000"/>
            <a:ext cx="1657080" cy="1195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716309e441e08722e03071b2b0db3be4"/>
          <p:cNvPicPr/>
          <p:nvPr/>
        </p:nvPicPr>
        <p:blipFill>
          <a:blip r:embed="rId5"/>
          <a:srcRect l="0" t="0" r="0" b="11309"/>
          <a:stretch/>
        </p:blipFill>
        <p:spPr>
          <a:xfrm>
            <a:off x="7524720" y="4724280"/>
            <a:ext cx="1085760" cy="1289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被子"/>
          <p:cNvPicPr/>
          <p:nvPr/>
        </p:nvPicPr>
        <p:blipFill>
          <a:blip r:embed="rId6"/>
          <a:srcRect l="0" t="0" r="0" b="5579"/>
          <a:stretch/>
        </p:blipFill>
        <p:spPr>
          <a:xfrm>
            <a:off x="1908000" y="981000"/>
            <a:ext cx="1656000" cy="127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380_52569"/>
          <p:cNvPicPr/>
          <p:nvPr/>
        </p:nvPicPr>
        <p:blipFill>
          <a:blip r:embed="rId7"/>
          <a:stretch/>
        </p:blipFill>
        <p:spPr>
          <a:xfrm>
            <a:off x="468360" y="3213000"/>
            <a:ext cx="1224000" cy="1121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map01"/>
          <p:cNvPicPr/>
          <p:nvPr/>
        </p:nvPicPr>
        <p:blipFill>
          <a:blip r:embed="rId8"/>
          <a:srcRect l="0" t="0" r="0" b="12503"/>
          <a:stretch/>
        </p:blipFill>
        <p:spPr>
          <a:xfrm>
            <a:off x="4140360" y="836640"/>
            <a:ext cx="1571400" cy="1800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1"/>
          <p:cNvSpPr/>
          <p:nvPr/>
        </p:nvSpPr>
        <p:spPr>
          <a:xfrm>
            <a:off x="179280" y="18900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ractice the convers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050920" y="2852640"/>
            <a:ext cx="5256360" cy="2466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d57"/>
                </a:solidFill>
                <a:latin typeface="Arial"/>
                <a:ea typeface="宋体"/>
              </a:rPr>
              <a:t>A: What’s this/that in Engl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  <a:ea typeface="宋体"/>
              </a:rPr>
              <a:t>B: </a:t>
            </a:r>
            <a:r>
              <a:rPr b="0" lang="en-US" sz="2800" spc="-1" strike="noStrike">
                <a:solidFill>
                  <a:srgbClr val="030d57"/>
                </a:solidFill>
                <a:latin typeface="Arial"/>
                <a:ea typeface="宋体"/>
              </a:rPr>
              <a:t>It’s a/an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d57"/>
                </a:solidFill>
                <a:latin typeface="Arial"/>
                <a:ea typeface="宋体"/>
              </a:rPr>
              <a:t>A: Spell it, plea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d57"/>
                </a:solidFill>
                <a:latin typeface="Arial"/>
                <a:ea typeface="宋体"/>
              </a:rPr>
              <a:t>B: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39640" y="2133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  <a:ea typeface="宋体"/>
              </a:rPr>
              <a:t>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2340000" y="21337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  <a:ea typeface="宋体"/>
              </a:rPr>
              <a:t>qui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4500720" y="213372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  <a:ea typeface="宋体"/>
              </a:rPr>
              <a:t>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6659640" y="2276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  <a:ea typeface="宋体"/>
              </a:rPr>
              <a:t>j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611280" y="458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  <a:ea typeface="宋体"/>
              </a:rPr>
              <a:t>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484360" y="5877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  <a:ea typeface="宋体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4716360" y="59500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  <a:ea typeface="宋体"/>
              </a:rPr>
              <a:t>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516720" y="55166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  <a:ea typeface="宋体"/>
              </a:rPr>
              <a:t>r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钥匙5"/>
          <p:cNvPicPr/>
          <p:nvPr/>
        </p:nvPicPr>
        <p:blipFill>
          <a:blip r:embed="rId9"/>
          <a:stretch/>
        </p:blipFill>
        <p:spPr>
          <a:xfrm>
            <a:off x="1447920" y="5257800"/>
            <a:ext cx="961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3564000" y="3573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UFO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692360" y="44370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nidentified Flying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未标题-5 副本 拷贝"/>
          <p:cNvPicPr/>
          <p:nvPr/>
        </p:nvPicPr>
        <p:blipFill>
          <a:blip r:embed="rId1"/>
          <a:srcRect l="0" t="0" r="0" b="20614"/>
          <a:stretch/>
        </p:blipFill>
        <p:spPr>
          <a:xfrm>
            <a:off x="1835280" y="620640"/>
            <a:ext cx="477360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1582560" y="4797360"/>
            <a:ext cx="586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2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China Central Television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" descr="2008117111721973_2"/>
          <p:cNvPicPr/>
          <p:nvPr/>
        </p:nvPicPr>
        <p:blipFill>
          <a:blip r:embed="rId1"/>
          <a:srcRect l="0" t="25461" r="0" b="27498"/>
          <a:stretch/>
        </p:blipFill>
        <p:spPr>
          <a:xfrm>
            <a:off x="2124000" y="1268280"/>
            <a:ext cx="4176720" cy="194472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4"/>
          <p:cNvSpPr/>
          <p:nvPr/>
        </p:nvSpPr>
        <p:spPr>
          <a:xfrm>
            <a:off x="3059280" y="386064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CCTV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3708360" y="4149720"/>
            <a:ext cx="136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2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UN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2987640" y="494172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nited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4" descr="un"/>
          <p:cNvPicPr/>
          <p:nvPr/>
        </p:nvPicPr>
        <p:blipFill>
          <a:blip r:embed="rId1"/>
          <a:stretch/>
        </p:blipFill>
        <p:spPr>
          <a:xfrm>
            <a:off x="2700360" y="907920"/>
            <a:ext cx="3381480" cy="294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533520" y="838080"/>
            <a:ext cx="734508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宋体"/>
              </a:rPr>
              <a:t>Groupwork: write down 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宋体"/>
              </a:rPr>
              <a:t>letters you kn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宋体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宋体"/>
              </a:rPr>
              <a:t>小组讨论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宋体"/>
              </a:rPr>
              <a:t>,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宋体"/>
              </a:rPr>
              <a:t>写出你知道的其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宋体"/>
              </a:rPr>
              <a:t>英文字母缩写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620720" y="393372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X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4014720" y="40640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加大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333440" y="5216400"/>
            <a:ext cx="178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MT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4116240" y="5373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音乐电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971640" y="404640"/>
            <a:ext cx="289548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邮政速递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智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中国共产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人民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非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明飞行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人计算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信息技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5181480" y="228600"/>
            <a:ext cx="155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C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257800" y="914400"/>
            <a:ext cx="11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P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334120" y="1600200"/>
            <a:ext cx="11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410080" y="2362320"/>
            <a:ext cx="18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RM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435640" y="4076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I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435640" y="4941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5364000" y="5734080"/>
            <a:ext cx="22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S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5364000" y="3141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F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1"/>
          <p:cNvSpPr/>
          <p:nvPr/>
        </p:nvSpPr>
        <p:spPr>
          <a:xfrm>
            <a:off x="3419640" y="765000"/>
            <a:ext cx="2089080" cy="4608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2"/>
          <p:cNvSpPr/>
          <p:nvPr/>
        </p:nvSpPr>
        <p:spPr>
          <a:xfrm>
            <a:off x="1763640" y="1341360"/>
            <a:ext cx="3745080" cy="3095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411280" y="549000"/>
            <a:ext cx="2881440" cy="1655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4"/>
          <p:cNvSpPr/>
          <p:nvPr/>
        </p:nvSpPr>
        <p:spPr>
          <a:xfrm flipV="1">
            <a:off x="2195640" y="2636640"/>
            <a:ext cx="3384360" cy="3315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5"/>
          <p:cNvSpPr/>
          <p:nvPr/>
        </p:nvSpPr>
        <p:spPr>
          <a:xfrm>
            <a:off x="1835280" y="3716280"/>
            <a:ext cx="3673440" cy="2376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6"/>
          <p:cNvSpPr/>
          <p:nvPr/>
        </p:nvSpPr>
        <p:spPr>
          <a:xfrm flipV="1">
            <a:off x="2124000" y="3504960"/>
            <a:ext cx="3283200" cy="10033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7"/>
          <p:cNvSpPr/>
          <p:nvPr/>
        </p:nvSpPr>
        <p:spPr>
          <a:xfrm flipV="1">
            <a:off x="2627280" y="1196640"/>
            <a:ext cx="2881440" cy="3987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8"/>
          <p:cNvSpPr/>
          <p:nvPr/>
        </p:nvSpPr>
        <p:spPr>
          <a:xfrm flipV="1">
            <a:off x="2627280" y="1982880"/>
            <a:ext cx="2781360" cy="3751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4"/>
          <p:cNvSpPr/>
          <p:nvPr/>
        </p:nvSpPr>
        <p:spPr>
          <a:xfrm>
            <a:off x="533520" y="1447920"/>
            <a:ext cx="8305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  <a:ea typeface="宋体"/>
              </a:rPr>
              <a:t>）听读背诵字母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–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  <a:ea typeface="宋体"/>
              </a:rPr>
              <a:t>R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  <a:ea typeface="宋体"/>
              </a:rPr>
              <a:t>）抄写字母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  <a:ea typeface="宋体"/>
              </a:rPr>
              <a:t>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–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  <a:ea typeface="宋体"/>
              </a:rPr>
              <a:t>Zz 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  <a:ea typeface="宋体"/>
              </a:rPr>
              <a:t>以及字母缩写三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  <a:ea typeface="宋体"/>
              </a:rPr>
              <a:t>）默写字母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  <a:ea typeface="宋体"/>
              </a:rPr>
              <a:t>A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–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  <a:ea typeface="宋体"/>
              </a:rPr>
              <a:t>Z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228600" y="152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omework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课后作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5"/>
          <p:cNvSpPr/>
          <p:nvPr/>
        </p:nvSpPr>
        <p:spPr>
          <a:xfrm>
            <a:off x="4002480" y="213372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a–2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标题 4"/>
          <p:cNvSpPr/>
          <p:nvPr/>
        </p:nvSpPr>
        <p:spPr>
          <a:xfrm>
            <a:off x="1447920" y="1219320"/>
            <a:ext cx="68101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Starter Unit 3     What color is it?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6172200" y="5791320"/>
            <a:ext cx="2743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"/>
          <p:cNvSpPr/>
          <p:nvPr/>
        </p:nvSpPr>
        <p:spPr>
          <a:xfrm>
            <a:off x="844920" y="189000"/>
            <a:ext cx="33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3"/>
          <p:cNvSpPr/>
          <p:nvPr/>
        </p:nvSpPr>
        <p:spPr>
          <a:xfrm>
            <a:off x="826920" y="1557360"/>
            <a:ext cx="69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能够辨认英语字母缩写的商标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能够正确读、写英语字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–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7746704cd5cc24f2d0c86a3f"/>
          <p:cNvPicPr/>
          <p:nvPr/>
        </p:nvPicPr>
        <p:blipFill>
          <a:blip r:embed="rId1"/>
          <a:srcRect l="0" t="0" r="0" b="29940"/>
          <a:stretch/>
        </p:blipFill>
        <p:spPr>
          <a:xfrm>
            <a:off x="299880" y="981000"/>
            <a:ext cx="1006560" cy="1511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tzzzzywc633060"/>
          <p:cNvPicPr/>
          <p:nvPr/>
        </p:nvPicPr>
        <p:blipFill>
          <a:blip r:embed="rId2"/>
          <a:stretch/>
        </p:blipFill>
        <p:spPr>
          <a:xfrm>
            <a:off x="6732720" y="4869000"/>
            <a:ext cx="915840" cy="9349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070214081849923"/>
          <p:cNvPicPr/>
          <p:nvPr/>
        </p:nvPicPr>
        <p:blipFill>
          <a:blip r:embed="rId3"/>
          <a:stretch/>
        </p:blipFill>
        <p:spPr>
          <a:xfrm>
            <a:off x="3564000" y="4292640"/>
            <a:ext cx="1512720" cy="13510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钢笔">
            <a:hlinkClick r:id="rId4"/>
          </p:cNvPr>
          <p:cNvPicPr/>
          <p:nvPr/>
        </p:nvPicPr>
        <p:blipFill>
          <a:blip r:embed="rId5"/>
          <a:srcRect l="19253" t="8702" r="17083" b="17462"/>
          <a:stretch/>
        </p:blipFill>
        <p:spPr>
          <a:xfrm>
            <a:off x="5435640" y="4508640"/>
            <a:ext cx="1103400" cy="13665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6"/>
          <p:cNvSpPr/>
          <p:nvPr/>
        </p:nvSpPr>
        <p:spPr>
          <a:xfrm>
            <a:off x="1979640" y="112536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A: What c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or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  <a:ea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is it?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2195640" y="2492280"/>
            <a:ext cx="303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B: It’s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…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395280" y="2565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468360" y="2997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4140360" y="177336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] 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324000" y="49417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l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2" descr="SP_057"/>
          <p:cNvPicPr/>
          <p:nvPr/>
        </p:nvPicPr>
        <p:blipFill>
          <a:blip r:embed="rId6"/>
          <a:stretch/>
        </p:blipFill>
        <p:spPr>
          <a:xfrm>
            <a:off x="1979640" y="4005360"/>
            <a:ext cx="1160280" cy="180000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13"/>
          <p:cNvSpPr/>
          <p:nvPr/>
        </p:nvSpPr>
        <p:spPr>
          <a:xfrm>
            <a:off x="1835280" y="5805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l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4"/>
          <p:cNvSpPr/>
          <p:nvPr/>
        </p:nvSpPr>
        <p:spPr>
          <a:xfrm>
            <a:off x="3564000" y="5805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r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e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5"/>
          <p:cNvSpPr/>
          <p:nvPr/>
        </p:nvSpPr>
        <p:spPr>
          <a:xfrm>
            <a:off x="5292720" y="5805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l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6"/>
          <p:cNvSpPr/>
          <p:nvPr/>
        </p:nvSpPr>
        <p:spPr>
          <a:xfrm>
            <a:off x="6443640" y="5805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g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7"/>
          <p:cNvSpPr/>
          <p:nvPr/>
        </p:nvSpPr>
        <p:spPr>
          <a:xfrm>
            <a:off x="7740720" y="4724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h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8"/>
          <p:cNvSpPr/>
          <p:nvPr/>
        </p:nvSpPr>
        <p:spPr>
          <a:xfrm>
            <a:off x="7524720" y="227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u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l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9" descr="u=1148168934,392251846&amp;fm=0&amp;gp=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740720" y="1052640"/>
            <a:ext cx="1071360" cy="129528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20"/>
          <p:cNvSpPr/>
          <p:nvPr/>
        </p:nvSpPr>
        <p:spPr>
          <a:xfrm>
            <a:off x="5724360" y="3573360"/>
            <a:ext cx="15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r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1"/>
          <p:cNvSpPr/>
          <p:nvPr/>
        </p:nvSpPr>
        <p:spPr>
          <a:xfrm>
            <a:off x="468360" y="5445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] 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ə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2" descr="MCj03871560000[1]"/>
          <p:cNvPicPr/>
          <p:nvPr/>
        </p:nvPicPr>
        <p:blipFill>
          <a:blip r:embed="rId9"/>
          <a:stretch/>
        </p:blipFill>
        <p:spPr>
          <a:xfrm>
            <a:off x="7354800" y="2924280"/>
            <a:ext cx="1789200" cy="17888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3" descr="MCj04348720000[1]"/>
          <p:cNvPicPr/>
          <p:nvPr/>
        </p:nvPicPr>
        <p:blipFill>
          <a:blip r:embed="rId10"/>
          <a:stretch/>
        </p:blipFill>
        <p:spPr>
          <a:xfrm>
            <a:off x="395280" y="3645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4" descr="MCj04078560000[1]"/>
          <p:cNvPicPr/>
          <p:nvPr/>
        </p:nvPicPr>
        <p:blipFill>
          <a:blip r:embed="rId11"/>
          <a:stretch/>
        </p:blipFill>
        <p:spPr>
          <a:xfrm>
            <a:off x="5796000" y="2060640"/>
            <a:ext cx="1387440" cy="167616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25"/>
          <p:cNvSpPr/>
          <p:nvPr/>
        </p:nvSpPr>
        <p:spPr>
          <a:xfrm>
            <a:off x="2124000" y="6165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6"/>
          <p:cNvSpPr/>
          <p:nvPr/>
        </p:nvSpPr>
        <p:spPr>
          <a:xfrm>
            <a:off x="3995640" y="6165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7"/>
          <p:cNvSpPr/>
          <p:nvPr/>
        </p:nvSpPr>
        <p:spPr>
          <a:xfrm>
            <a:off x="5580000" y="6165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u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8"/>
          <p:cNvSpPr/>
          <p:nvPr/>
        </p:nvSpPr>
        <p:spPr>
          <a:xfrm>
            <a:off x="6156360" y="39337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9"/>
          <p:cNvSpPr/>
          <p:nvPr/>
        </p:nvSpPr>
        <p:spPr>
          <a:xfrm>
            <a:off x="7740720" y="2637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ə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0"/>
          <p:cNvSpPr/>
          <p:nvPr/>
        </p:nvSpPr>
        <p:spPr>
          <a:xfrm>
            <a:off x="8101080" y="5229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1"/>
          <p:cNvSpPr/>
          <p:nvPr/>
        </p:nvSpPr>
        <p:spPr>
          <a:xfrm rot="10800000">
            <a:off x="6300720" y="616428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2"/>
          <p:cNvSpPr/>
          <p:nvPr/>
        </p:nvSpPr>
        <p:spPr>
          <a:xfrm>
            <a:off x="6804000" y="6165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2556000" y="2997360"/>
            <a:ext cx="4103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: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What color</a:t>
            </a:r>
            <a:r>
              <a:rPr b="1" lang="en-US" sz="3600" spc="-1" strike="noStrike">
                <a:solidFill>
                  <a:srgbClr val="00cc00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is it?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2556000" y="3500280"/>
            <a:ext cx="303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: It’s  …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4"/>
          <p:cNvSpPr/>
          <p:nvPr/>
        </p:nvSpPr>
        <p:spPr>
          <a:xfrm>
            <a:off x="468360" y="4365720"/>
            <a:ext cx="18716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0080"/>
                </a:solidFill>
                <a:latin typeface="Arial"/>
                <a:ea typeface="宋体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5"/>
          <p:cNvSpPr/>
          <p:nvPr/>
        </p:nvSpPr>
        <p:spPr>
          <a:xfrm>
            <a:off x="2411280" y="5157720"/>
            <a:ext cx="1871640" cy="122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宋体"/>
              </a:rPr>
              <a:t>V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6"/>
          <p:cNvSpPr/>
          <p:nvPr/>
        </p:nvSpPr>
        <p:spPr>
          <a:xfrm>
            <a:off x="4572000" y="5084640"/>
            <a:ext cx="18716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bbe0e3"/>
                </a:solidFill>
                <a:latin typeface="Arial"/>
                <a:ea typeface="宋体"/>
              </a:rPr>
              <a:t>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7"/>
          <p:cNvSpPr/>
          <p:nvPr/>
        </p:nvSpPr>
        <p:spPr>
          <a:xfrm>
            <a:off x="6588000" y="4292640"/>
            <a:ext cx="18716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8000"/>
                </a:solidFill>
                <a:latin typeface="Arial"/>
                <a:ea typeface="宋体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8"/>
          <p:cNvSpPr/>
          <p:nvPr/>
        </p:nvSpPr>
        <p:spPr>
          <a:xfrm>
            <a:off x="7093080" y="2708280"/>
            <a:ext cx="18716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9"/>
          <p:cNvSpPr/>
          <p:nvPr/>
        </p:nvSpPr>
        <p:spPr>
          <a:xfrm>
            <a:off x="6948360" y="1197000"/>
            <a:ext cx="18716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0000"/>
                </a:solidFill>
                <a:latin typeface="Arial"/>
                <a:ea typeface="宋体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0"/>
          <p:cNvSpPr/>
          <p:nvPr/>
        </p:nvSpPr>
        <p:spPr>
          <a:xfrm>
            <a:off x="179280" y="1197000"/>
            <a:ext cx="18716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1"/>
          <p:cNvSpPr/>
          <p:nvPr/>
        </p:nvSpPr>
        <p:spPr>
          <a:xfrm>
            <a:off x="250920" y="2781360"/>
            <a:ext cx="1871640" cy="122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  <a:ea typeface="宋体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2"/>
          <p:cNvSpPr/>
          <p:nvPr/>
        </p:nvSpPr>
        <p:spPr>
          <a:xfrm>
            <a:off x="2556000" y="1844640"/>
            <a:ext cx="4103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: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Wha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’s this?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3"/>
          <p:cNvSpPr/>
          <p:nvPr/>
        </p:nvSpPr>
        <p:spPr>
          <a:xfrm>
            <a:off x="2556000" y="2421000"/>
            <a:ext cx="303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: It’s  …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2" dur="indefinite" restart="never" nodeType="tmRoot">
          <p:childTnLst>
            <p:seq>
              <p:cTn id="1373" dur="indefinite" nodeType="mainSeq">
                <p:childTnLst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1"/>
          <p:cNvSpPr/>
          <p:nvPr/>
        </p:nvSpPr>
        <p:spPr>
          <a:xfrm>
            <a:off x="457200" y="642636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4FF5-4D4E-454D-A718-E787E8634247}" type="slidenum">
              <a:rPr b="0" lang="en-GB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250920" y="189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a  Listen and repeat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听录音并跟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WordArt 4"/>
          <p:cNvSpPr txBox="1"/>
          <p:nvPr/>
        </p:nvSpPr>
        <p:spPr>
          <a:xfrm>
            <a:off x="826920" y="1413000"/>
            <a:ext cx="72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MS UI Gothic"/>
              </a:rPr>
              <a:t>S</a:t>
            </a:r>
            <a:endParaRPr b="1" i="1" lang="en-US" sz="4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MS UI Gothic"/>
              <a:ea typeface="MS UI Gothic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971640" y="2781360"/>
            <a:ext cx="9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e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WordArt 6"/>
          <p:cNvSpPr txBox="1"/>
          <p:nvPr/>
        </p:nvSpPr>
        <p:spPr>
          <a:xfrm>
            <a:off x="2843280" y="1557360"/>
            <a:ext cx="72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T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2988720" y="2852640"/>
            <a:ext cx="103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/ t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  <a:ea typeface="宋体"/>
              </a:rPr>
              <a:t>i: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WordArt 8"/>
          <p:cNvSpPr txBox="1"/>
          <p:nvPr/>
        </p:nvSpPr>
        <p:spPr>
          <a:xfrm>
            <a:off x="4859280" y="1557360"/>
            <a:ext cx="86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</a:t>
            </a:r>
            <a:endParaRPr b="1" i="1" lang="en-US" sz="96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078160" y="2781360"/>
            <a:ext cx="92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/j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  <a:ea typeface="宋体"/>
              </a:rPr>
              <a:t>u: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WordArt 10"/>
          <p:cNvSpPr txBox="1"/>
          <p:nvPr/>
        </p:nvSpPr>
        <p:spPr>
          <a:xfrm>
            <a:off x="6732720" y="1484280"/>
            <a:ext cx="79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V</a:t>
            </a:r>
            <a:endParaRPr b="1" i="1" lang="en-US" sz="4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7021440" y="2781360"/>
            <a:ext cx="8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/v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  <a:ea typeface="宋体"/>
              </a:rPr>
              <a:t>i: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WordArt 12"/>
          <p:cNvSpPr txBox="1"/>
          <p:nvPr/>
        </p:nvSpPr>
        <p:spPr>
          <a:xfrm>
            <a:off x="826920" y="3860640"/>
            <a:ext cx="72072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W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533520" y="52578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/’d</a:t>
            </a:r>
            <a:r>
              <a:rPr b="1" lang="en-US" sz="3200" spc="-1" strike="noStrike">
                <a:solidFill>
                  <a:srgbClr val="ff0000"/>
                </a:solidFill>
                <a:latin typeface="Kingsoft Phonetic Plain"/>
                <a:ea typeface="Kingsoft Phonetic Plain"/>
              </a:rPr>
              <a:t>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bl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  <a:ea typeface="宋体"/>
              </a:rPr>
              <a:t>u: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WordArt 14"/>
          <p:cNvSpPr txBox="1"/>
          <p:nvPr/>
        </p:nvSpPr>
        <p:spPr>
          <a:xfrm>
            <a:off x="2556000" y="3860640"/>
            <a:ext cx="792000" cy="12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X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2" name="Text Box 15"/>
          <p:cNvSpPr/>
          <p:nvPr/>
        </p:nvSpPr>
        <p:spPr>
          <a:xfrm>
            <a:off x="2771640" y="5229360"/>
            <a:ext cx="126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/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  <a:ea typeface="宋体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ks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WordArt 16"/>
          <p:cNvSpPr txBox="1"/>
          <p:nvPr/>
        </p:nvSpPr>
        <p:spPr>
          <a:xfrm>
            <a:off x="4643280" y="3860640"/>
            <a:ext cx="719280" cy="12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4573440" y="5267160"/>
            <a:ext cx="10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/w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  <a:ea typeface="宋体"/>
              </a:rPr>
              <a:t>ai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WordArt 18"/>
          <p:cNvSpPr txBox="1"/>
          <p:nvPr/>
        </p:nvSpPr>
        <p:spPr>
          <a:xfrm>
            <a:off x="6372360" y="3860640"/>
            <a:ext cx="86364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Z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6" name="Text Box 19"/>
          <p:cNvSpPr/>
          <p:nvPr/>
        </p:nvSpPr>
        <p:spPr>
          <a:xfrm>
            <a:off x="6660720" y="5195880"/>
            <a:ext cx="110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/z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  <a:ea typeface="宋体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d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WordArt 20"/>
          <p:cNvSpPr txBox="1"/>
          <p:nvPr/>
        </p:nvSpPr>
        <p:spPr>
          <a:xfrm>
            <a:off x="1676520" y="1905120"/>
            <a:ext cx="431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MS UI Gothic"/>
              </a:rPr>
              <a:t>s</a:t>
            </a:r>
            <a:endParaRPr b="1" i="1" lang="en-US" sz="4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MS UI Gothic"/>
              <a:ea typeface="MS UI Gothic"/>
            </a:endParaRPr>
          </a:p>
        </p:txBody>
      </p:sp>
      <p:sp>
        <p:nvSpPr>
          <p:cNvPr id="398" name="WordArt 21"/>
          <p:cNvSpPr txBox="1"/>
          <p:nvPr/>
        </p:nvSpPr>
        <p:spPr>
          <a:xfrm>
            <a:off x="3780000" y="1905120"/>
            <a:ext cx="48708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t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9" name="WordArt 22"/>
          <p:cNvSpPr txBox="1"/>
          <p:nvPr/>
        </p:nvSpPr>
        <p:spPr>
          <a:xfrm>
            <a:off x="5796000" y="1981080"/>
            <a:ext cx="45252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</a:t>
            </a:r>
            <a:endParaRPr b="1" i="1" lang="en-US" sz="96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00" name="WordArt 23"/>
          <p:cNvSpPr txBox="1"/>
          <p:nvPr/>
        </p:nvSpPr>
        <p:spPr>
          <a:xfrm>
            <a:off x="7596360" y="1905120"/>
            <a:ext cx="55692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v</a:t>
            </a:r>
            <a:endParaRPr b="1" i="1" lang="en-US" sz="4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01" name="WordArt 24"/>
          <p:cNvSpPr txBox="1"/>
          <p:nvPr/>
        </p:nvSpPr>
        <p:spPr>
          <a:xfrm>
            <a:off x="1476360" y="4343400"/>
            <a:ext cx="50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w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02" name="WordArt 25"/>
          <p:cNvSpPr txBox="1"/>
          <p:nvPr/>
        </p:nvSpPr>
        <p:spPr>
          <a:xfrm>
            <a:off x="3276720" y="4419720"/>
            <a:ext cx="68580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x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03" name="WordArt 26"/>
          <p:cNvSpPr txBox="1"/>
          <p:nvPr/>
        </p:nvSpPr>
        <p:spPr>
          <a:xfrm>
            <a:off x="5292720" y="4419720"/>
            <a:ext cx="5745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4" name="WordArt 27"/>
          <p:cNvSpPr txBox="1"/>
          <p:nvPr/>
        </p:nvSpPr>
        <p:spPr>
          <a:xfrm>
            <a:off x="7380360" y="4267080"/>
            <a:ext cx="54432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z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05" name="S0303 2a" descr=""/>
          <p:cNvPicPr/>
          <p:nvPr/>
        </p:nvPicPr>
        <p:blipFill>
          <a:blip r:embed="rId1"/>
          <a:stretch/>
        </p:blipFill>
        <p:spPr>
          <a:xfrm>
            <a:off x="594036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8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1489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2" dur="32698" fill="hold"/>
                                        <p:tgtEl>
                                          <p:spTgt spid="4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250920" y="1890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b  Listen and number the letters you hear [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]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826920" y="1773360"/>
            <a:ext cx="72072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2771640" y="1773360"/>
            <a:ext cx="72072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4643280" y="1773360"/>
            <a:ext cx="72072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6659640" y="1773360"/>
            <a:ext cx="72072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826920" y="3357720"/>
            <a:ext cx="72072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2771640" y="3357720"/>
            <a:ext cx="72072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9"/>
          <p:cNvSpPr/>
          <p:nvPr/>
        </p:nvSpPr>
        <p:spPr>
          <a:xfrm>
            <a:off x="4716360" y="3357720"/>
            <a:ext cx="72072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0"/>
          <p:cNvSpPr/>
          <p:nvPr/>
        </p:nvSpPr>
        <p:spPr>
          <a:xfrm>
            <a:off x="6659640" y="3357720"/>
            <a:ext cx="72072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1"/>
          <p:cNvSpPr/>
          <p:nvPr/>
        </p:nvSpPr>
        <p:spPr>
          <a:xfrm>
            <a:off x="1763640" y="1773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2"/>
          <p:cNvSpPr/>
          <p:nvPr/>
        </p:nvSpPr>
        <p:spPr>
          <a:xfrm>
            <a:off x="3635280" y="1773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3"/>
          <p:cNvSpPr/>
          <p:nvPr/>
        </p:nvSpPr>
        <p:spPr>
          <a:xfrm>
            <a:off x="5508720" y="1773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4"/>
          <p:cNvSpPr/>
          <p:nvPr/>
        </p:nvSpPr>
        <p:spPr>
          <a:xfrm>
            <a:off x="7451640" y="1773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1760400" y="3357720"/>
            <a:ext cx="6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3635280" y="335772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5580000" y="3357720"/>
            <a:ext cx="4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8"/>
          <p:cNvSpPr/>
          <p:nvPr/>
        </p:nvSpPr>
        <p:spPr>
          <a:xfrm>
            <a:off x="7524720" y="3357720"/>
            <a:ext cx="4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9"/>
          <p:cNvSpPr/>
          <p:nvPr/>
        </p:nvSpPr>
        <p:spPr>
          <a:xfrm>
            <a:off x="2916360" y="1844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0"/>
          <p:cNvSpPr/>
          <p:nvPr/>
        </p:nvSpPr>
        <p:spPr>
          <a:xfrm>
            <a:off x="2916360" y="3357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1"/>
          <p:cNvSpPr/>
          <p:nvPr/>
        </p:nvSpPr>
        <p:spPr>
          <a:xfrm>
            <a:off x="4859280" y="3357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2"/>
          <p:cNvSpPr/>
          <p:nvPr/>
        </p:nvSpPr>
        <p:spPr>
          <a:xfrm>
            <a:off x="1042920" y="3357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3"/>
          <p:cNvSpPr/>
          <p:nvPr/>
        </p:nvSpPr>
        <p:spPr>
          <a:xfrm>
            <a:off x="4788000" y="1773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4"/>
          <p:cNvSpPr/>
          <p:nvPr/>
        </p:nvSpPr>
        <p:spPr>
          <a:xfrm>
            <a:off x="6804000" y="3357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5"/>
          <p:cNvSpPr/>
          <p:nvPr/>
        </p:nvSpPr>
        <p:spPr>
          <a:xfrm>
            <a:off x="6732720" y="1773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6"/>
          <p:cNvSpPr/>
          <p:nvPr/>
        </p:nvSpPr>
        <p:spPr>
          <a:xfrm>
            <a:off x="971640" y="1773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S0304 2b" descr=""/>
          <p:cNvPicPr/>
          <p:nvPr/>
        </p:nvPicPr>
        <p:blipFill>
          <a:blip r:embed="rId1"/>
          <a:stretch/>
        </p:blipFill>
        <p:spPr>
          <a:xfrm>
            <a:off x="766908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3" dur="indefinite" restart="never" nodeType="tmRoot">
          <p:childTnLst>
            <p:seq>
              <p:cTn id="1494" dur="indefinite" nodeType="mainSeq">
                <p:childTnLst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0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1581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4" dur="34554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250920" y="1890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c  Look and cop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539640" y="1773360"/>
            <a:ext cx="7488360" cy="249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字母的书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（注意笔顺笔画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5" dur="indefinite" restart="never" nodeType="tmRoot">
          <p:childTnLst>
            <p:seq>
              <p:cTn id="1586" dur="indefinite" nodeType="mainSeq">
                <p:childTnLst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19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148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" descr="button1"/>
          <p:cNvPicPr/>
          <p:nvPr/>
        </p:nvPicPr>
        <p:blipFill>
          <a:blip r:embed="rId2"/>
          <a:stretch/>
        </p:blipFill>
        <p:spPr>
          <a:xfrm>
            <a:off x="3708360" y="155736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20"/>
          <p:cNvPicPr/>
          <p:nvPr/>
        </p:nvPicPr>
        <p:blipFill>
          <a:blip r:embed="rId3"/>
          <a:stretch/>
        </p:blipFill>
        <p:spPr>
          <a:xfrm>
            <a:off x="0" y="1197000"/>
            <a:ext cx="9144000" cy="41292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button1"/>
          <p:cNvPicPr/>
          <p:nvPr/>
        </p:nvPicPr>
        <p:blipFill>
          <a:blip r:embed="rId4"/>
          <a:stretch/>
        </p:blipFill>
        <p:spPr>
          <a:xfrm>
            <a:off x="1692360" y="134136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21"/>
          <p:cNvPicPr/>
          <p:nvPr/>
        </p:nvPicPr>
        <p:blipFill>
          <a:blip r:embed="rId5"/>
          <a:stretch/>
        </p:blipFill>
        <p:spPr>
          <a:xfrm>
            <a:off x="0" y="1197000"/>
            <a:ext cx="9144000" cy="41259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button1"/>
          <p:cNvPicPr/>
          <p:nvPr/>
        </p:nvPicPr>
        <p:blipFill>
          <a:blip r:embed="rId6"/>
          <a:stretch/>
        </p:blipFill>
        <p:spPr>
          <a:xfrm>
            <a:off x="2556000" y="112536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8" descr="22"/>
          <p:cNvPicPr/>
          <p:nvPr/>
        </p:nvPicPr>
        <p:blipFill>
          <a:blip r:embed="rId7"/>
          <a:stretch/>
        </p:blipFill>
        <p:spPr>
          <a:xfrm>
            <a:off x="0" y="1197000"/>
            <a:ext cx="9144000" cy="41292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9" descr="button1"/>
          <p:cNvPicPr/>
          <p:nvPr/>
        </p:nvPicPr>
        <p:blipFill>
          <a:blip r:embed="rId8"/>
          <a:stretch/>
        </p:blipFill>
        <p:spPr>
          <a:xfrm>
            <a:off x="2124000" y="98100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0" descr="23"/>
          <p:cNvPicPr/>
          <p:nvPr/>
        </p:nvPicPr>
        <p:blipFill>
          <a:blip r:embed="rId9"/>
          <a:stretch/>
        </p:blipFill>
        <p:spPr>
          <a:xfrm>
            <a:off x="0" y="1197000"/>
            <a:ext cx="9144000" cy="41482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1" descr="button1"/>
          <p:cNvPicPr/>
          <p:nvPr/>
        </p:nvPicPr>
        <p:blipFill>
          <a:blip r:embed="rId10"/>
          <a:stretch/>
        </p:blipFill>
        <p:spPr>
          <a:xfrm>
            <a:off x="1476360" y="90792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2" descr="24"/>
          <p:cNvPicPr/>
          <p:nvPr/>
        </p:nvPicPr>
        <p:blipFill>
          <a:blip r:embed="rId11"/>
          <a:stretch/>
        </p:blipFill>
        <p:spPr>
          <a:xfrm>
            <a:off x="0" y="1197000"/>
            <a:ext cx="9144000" cy="42289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3" descr="button1"/>
          <p:cNvPicPr/>
          <p:nvPr/>
        </p:nvPicPr>
        <p:blipFill>
          <a:blip r:embed="rId12"/>
          <a:stretch/>
        </p:blipFill>
        <p:spPr>
          <a:xfrm>
            <a:off x="2050920" y="90792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25"/>
          <p:cNvPicPr/>
          <p:nvPr/>
        </p:nvPicPr>
        <p:blipFill>
          <a:blip r:embed="rId13"/>
          <a:stretch/>
        </p:blipFill>
        <p:spPr>
          <a:xfrm>
            <a:off x="0" y="1197000"/>
            <a:ext cx="9144000" cy="42289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button1"/>
          <p:cNvPicPr/>
          <p:nvPr/>
        </p:nvPicPr>
        <p:blipFill>
          <a:blip r:embed="rId14"/>
          <a:stretch/>
        </p:blipFill>
        <p:spPr>
          <a:xfrm>
            <a:off x="1908000" y="90792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6" descr="26"/>
          <p:cNvPicPr/>
          <p:nvPr/>
        </p:nvPicPr>
        <p:blipFill>
          <a:blip r:embed="rId15"/>
          <a:stretch/>
        </p:blipFill>
        <p:spPr>
          <a:xfrm>
            <a:off x="0" y="1197000"/>
            <a:ext cx="9144000" cy="42289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7" descr="button1"/>
          <p:cNvPicPr/>
          <p:nvPr/>
        </p:nvPicPr>
        <p:blipFill>
          <a:blip r:embed="rId16"/>
          <a:stretch/>
        </p:blipFill>
        <p:spPr>
          <a:xfrm>
            <a:off x="1979640" y="1341360"/>
            <a:ext cx="37152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7" dur="indefinite" restart="never" nodeType="tmRoot">
          <p:childTnLst>
            <p:seq>
              <p:cTn id="1598" dur="indefinite" nodeType="mainSeq">
                <p:childTnLst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98 -0.02982 C -0.05972 -0.03977 -0.08299 -0.04231 -0.10677 -0.04462 C -0.11632 -0.04254 -0.11406 -0.0437 -0.12118 -0.04046 C -0.12431 -0.03907 -0.12743 -0.03745 -0.13056 -0.03607 C -0.13212 -0.03537 -0.13542 -0.03399 -0.13542 -0.03399 C -0.13976 -0.03005 -0.14254 -0.02566 -0.14653 -0.02127 C -0.15052 -0.01688 -0.15434 -0.0141 -0.15764 -0.00855 C -0.16111 -0.00254 -0.16163 0.00301 -0.16563 0.00833 C -0.1684 0.01919 -0.16927 0.02844 -0.17031 0.04 C -0.16979 0.04555 -0.16979 0.05133 -0.16875 0.05688 C -0.16823 0.05919 -0.16649 0.06081 -0.16563 0.06312 C -0.16129 0.07445 -0.15434 0.09041 -0.14497 0.09503 C -0.1408 0.11191 -0.14722 0.09179 -0.13854 0.10336 C -0.12986 0.11492 -0.14497 0.10636 -0.13229 0.11191 C -0.12952 0.12208 -0.12101 0.1281 -0.11476 0.13503 C -0.10677 0.14382 -0.09827 0.15307 -0.09254 0.16463 C -0.09202 0.16671 -0.09254 0.17018 -0.09097 0.1711 C -0.08941 0.17203 -0.08733 0.1674 -0.08611 0.16902 C -0.08368 0.17203 -0.08403 0.17734 -0.08299 0.18151 C -0.08247 0.18359 -0.08143 0.18798 -0.08143 0.18798 C -0.08195 0.20278 -0.07674 0.25411 -0.09254 0.26821 C -0.09653 0.28509 -0.09045 0.2659 -0.09896 0.27677 C -0.10018 0.27838 -0.09965 0.28116 -0.10052 0.28301 C -0.10122 0.28486 -0.10261 0.28601 -0.10365 0.2874 C -0.10417 0.28948 -0.10399 0.29203 -0.10521 0.29364 C -0.10712 0.29619 -0.12049 0.30151 -0.12274 0.3022 C -0.1257 0.30197 -0.16233 0.30266 -0.17674 0.29781 C -0.18663 0.29457 -0.19792 0.28509 -0.20834 0.28509 E">
                                      <p:cBhvr>
                                        <p:cTn id="1614" dur="1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66 0.14775 C 0.25503 0.14636 0.25364 0.14451 0.25191 0.14359 C 0.24878 0.14174 0.24236 0.13942 0.24236 0.13942 C 0.23281 0.13041 0.22587 0.13341 0.21389 0.13503 C 0.20833 0.13734 0.2059 0.14151 0.20104 0.14567 C 0.2 0.14775 0.19861 0.1496 0.19791 0.15191 C 0.19653 0.15607 0.19479 0.16463 0.19479 0.16463 C 0.19583 0.17758 0.19496 0.19515 0.20278 0.20486 C 0.20503 0.21364 0.20972 0.21873 0.21389 0.2259 C 0.2191 0.23492 0.22066 0.23977 0.22656 0.24717 C 0.2283 0.25388 0.23107 0.25734 0.23281 0.26405 C 0.23177 0.27653 0.2316 0.29156 0.2217 0.29573 C 0.21128 0.30497 0.20972 0.30197 0.19479 0.29989 C 0.18732 0.29734 0.17882 0.29156 0.17101 0.29156 E">
                                      <p:cBhvr>
                                        <p:cTn id="1618" dur="1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691 -0.00625 L 0.2316 -0.00625 E">
                                      <p:cBhvr>
                                        <p:cTn id="1634" dur="1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17 -0.00625 L 0.08195 0.32948 E">
                                      <p:cBhvr>
                                        <p:cTn id="1638" dur="1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084 0.09688 C 0.46788 0.10289 0.4665 0.10867 0.46285 0.11375 C 0.45469 0.14659 0.44844 0.17942 0.44219 0.21295 C 0.43976 0.22566 0.44063 0.23861 0.4375 0.2511 C 0.4382 0.2756 0.43108 0.31306 0.4533 0.323 C 0.46997 0.34404 0.48264 0.323 0.49462 0.31237 C 0.49844 0.30474 0.49688 0.30844 0.49931 0.30173 E">
                                      <p:cBhvr>
                                        <p:cTn id="1642" dur="1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486 0.15121 L 0.51511 0.15121 E">
                                      <p:cBhvr>
                                        <p:cTn id="1646" dur="1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2 0.03954 C -0.00955 0.06336 -0.01476 0.09041 -0.02518 0.11122 C -0.02882 0.12625 -0.03438 0.14266 -0.04115 0.15561 C -0.04601 0.17526 -0.05105 0.19445 -0.05382 0.2148 C -0.05643 0.23445 -0.05868 0.25503 -0.06337 0.27399 C -0.06268 0.28856 -0.0625 0.31237 -0.05695 0.32694 C -0.05365 0.33573 -0.04809 0.34012 -0.04271 0.3459 C -0.03004 0.35977 -0.03455 0.36047 -0.01893 0.36509 C -0.01302 0.3644 -0.00712 0.36416 -0.00139 0.36278 C 0.00191 0.36208 0.00816 0.35862 0.00816 0.35862 C 0.01128 0.35584 0.01458 0.35307 0.0177 0.35029 C 0.01927 0.3489 0.01944 0.34567 0.02083 0.34382 C 0.02326 0.34058 0.02586 0.33757 0.02882 0.33549 C 0.03177 0.33341 0.03819 0.3311 0.03819 0.3311 C 0.04062 0.3281 0.04375 0.32601 0.04618 0.32278 C 0.05486 0.31099 0.04427 0.32093 0.0526 0.31214 C 0.05711 0.30752 0.05711 0.30937 0.06041 0.30359 C 0.06545 0.2948 0.06753 0.28971 0.07326 0.28255 C 0.075 0.27561 0.07795 0.27191 0.08107 0.26567 C 0.08489 0.24994 0.07986 0.26867 0.08593 0.25295 C 0.08923 0.2444 0.09132 0.23561 0.09548 0.22752 C 0.1052 0.18844 0.1118 0.14914 0.11927 0.10914 C 0.12152 0.09711 0.12361 0.08532 0.12552 0.0733 C 0.12656 0.06682 0.12882 0.06359 0.12882 0.05642 C 0.12882 0.05411 0.1276 0.06058 0.12708 0.06266 C 0.12604 0.06682 0.125 0.07122 0.12395 0.07538 C 0.121 0.08717 0.12066 0.09942 0.1177 0.11122 C 0.11389 0.14428 0.11163 0.17757 0.10816 0.21064 C 0.10642 0.22775 0.10416 0.25087 0.09705 0.26567 C 0.09496 0.28971 0.09253 0.31006 0.08906 0.33318 C 0.08854 0.34174 0.08819 0.35006 0.0875 0.35862 C 0.08715 0.36347 0.08593 0.37341 0.08593 0.37341 E">
                                      <p:cBhvr>
                                        <p:cTn id="1662" dur="1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527 0.22336 C 0.37343 0.21966 0.38073 0.21434 0.38906 0.21064 C 0.39218 0.20925 0.39861 0.20648 0.39861 0.20648 C 0.40017 0.2044 0.40139 0.20139 0.4033 0.2 C 0.40625 0.19792 0.41284 0.19584 0.41284 0.19584 C 0.41111 0.22035 0.40972 0.24601 0.40486 0.26983 C 0.40538 0.29318 0.40555 0.3163 0.40659 0.33966 C 0.40711 0.35052 0.41458 0.35168 0.42083 0.35445 C 0.42239 0.35515 0.42552 0.35653 0.42552 0.35653 C 0.42621 0.35653 0.44062 0.35584 0.44461 0.35237 C 0.44843 0.34914 0.45173 0.34312 0.45573 0.33966 C 0.4625 0.32578 0.47205 0.31492 0.47951 0.30151 C 0.48298 0.29549 0.48732 0.28971 0.48906 0.28255 C 0.4927 0.26752 0.49027 0.27353 0.49548 0.26359 C 0.50104 0.24047 0.49236 0.27468 0.50017 0.25087 C 0.50416 0.23908 0.50451 0.22451 0.51128 0.2148 C 0.51232 0.20786 0.51614 0.18705 0.51441 0.19376 C 0.50798 0.21966 0.50798 0.24879 0.50173 0.27399 C 0.49913 0.29827 0.4927 0.33388 0.50659 0.35237 C 0.50868 0.36093 0.51145 0.36208 0.5177 0.36509 C 0.52448 0.3644 0.53142 0.36416 0.53819 0.36278 C 0.54149 0.36208 0.54774 0.35862 0.54774 0.35862 C 0.55434 0.35029 0.55625 0.33896 0.56215 0.3311 C 0.56389 0.32416 0.56823 0.31908 0.56996 0.31214 C 0.57048 0.31006 0.57066 0.30775 0.57152 0.3059 C 0.57343 0.30151 0.57795 0.29318 0.57795 0.29318 E">
                                      <p:cBhvr>
                                        <p:cTn id="1666" dur="1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0.04578 C 0.0066 0.07908 0.00747 0.11492 0.01094 0.14937 C 0.01216 0.16231 0.01303 0.17457 0.01563 0.18729 C 0.01719 0.19515 0.02049 0.21064 0.02049 0.21064 C 0.02171 0.22335 0.02362 0.23399 0.02518 0.24648 C 0.02535 0.24971 0.02726 0.29041 0.0283 0.29734 C 0.03039 0.31214 0.03559 0.32671 0.03785 0.34174 C 0.03976 0.35492 0.03993 0.37179 0.04896 0.37966 C 0.05747 0.37226 0.05591 0.36601 0.06164 0.35653 C 0.06737 0.34705 0.07414 0.33919 0.07917 0.32902 C 0.08021 0.32486 0.08039 0.32 0.0823 0.3163 C 0.08438 0.31214 0.08872 0.30359 0.08872 0.30359 C 0.09115 0.29411 0.09167 0.28717 0.09653 0.28023 C 0.10139 0.26266 0.10782 0.24624 0.11407 0.2296 C 0.11702 0.22151 0.11893 0.21295 0.12362 0.20624 C 0.12743 0.19075 0.13264 0.17549 0.13941 0.16185 C 0.15382 0.13249 0.13559 0.15931 0.14584 0.14497 C 0.14948 0.12994 0.15365 0.12185 0.16007 0.10914 C 0.16059 0.10705 0.16077 0.10451 0.16164 0.10266 C 0.1625 0.10104 0.16424 0.10035 0.16493 0.0985 C 0.16962 0.08601 0.16875 0.08 0.17761 0.0689 C 0.18195 0.05156 0.17587 0.07283 0.1823 0.05827 C 0.18733 0.04671 0.18125 0.05549 0.18542 0.04994 E">
                                      <p:cBhvr>
                                        <p:cTn id="1682" dur="1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605 0.26127 C 0.37761 0.25919 0.37969 0.25757 0.38073 0.25503 C 0.3823 0.2511 0.38143 0.24532 0.38386 0.24231 C 0.39028 0.23422 0.39775 0.22266 0.40608 0.21896 C 0.4099 0.22405 0.41094 0.22983 0.41407 0.23584 C 0.41771 0.25064 0.41476 0.24532 0.42049 0.25295 C 0.42396 0.27122 0.42813 0.28948 0.4316 0.30775 C 0.43282 0.31422 0.43542 0.32023 0.43629 0.32694 C 0.43907 0.34867 0.44167 0.37064 0.44428 0.39237 C 0.44948 0.38197 0.45035 0.37133 0.46007 0.36694 C 0.46407 0.35908 0.46841 0.3533 0.47431 0.34798 C 0.47483 0.3459 0.47518 0.34359 0.47605 0.34174 C 0.47691 0.34012 0.47848 0.33919 0.47917 0.33734 C 0.48559 0.32 0.47796 0.32833 0.48716 0.32046 C 0.48768 0.31838 0.48785 0.31607 0.48872 0.31422 C 0.48941 0.31237 0.49115 0.31168 0.49184 0.30983 C 0.49896 0.29087 0.49098 0.30266 0.49827 0.29295 C 0.50157 0.27954 0.50174 0.26636 0.50452 0.25295 C 0.50539 0.24856 0.50764 0.24023 0.50764 0.24023 C 0.50712 0.23468 0.50851 0.22266 0.50296 0.21896 C 0.5 0.21688 0.49341 0.2148 0.49341 0.2148 E">
                                      <p:cBhvr>
                                        <p:cTn id="1686" dur="1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5641 C 0.0099 0.12023 0.00695 0.11838 0.00868 0.22543 C 0.00955 0.27953 0.0059 0.26335 0.01181 0.2867 C 0.01302 0.32416 0.01198 0.36161 0.01511 0.39884 C 0.01528 0.40092 0.01719 0.39583 0.01823 0.39445 C 0.02136 0.38219 0.02413 0.37456 0.03247 0.36716 C 0.03455 0.35838 0.03924 0.35237 0.04201 0.34381 C 0.04514 0.33433 0.04757 0.32185 0.05 0.31214 C 0.05174 0.3052 0.05799 0.29318 0.05799 0.29318 C 0.06163 0.27861 0.05886 0.2837 0.06424 0.27607 C 0.06788 0.26173 0.06511 0.26659 0.07066 0.25919 C 0.07465 0.243 0.07778 0.22289 0.0849 0.20855 C 0.08924 0.19075 0.09358 0.1667 0.10399 0.15352 C 0.10451 0.15144 0.10486 0.14936 0.10556 0.14728 C 0.10642 0.14497 0.10799 0.14312 0.10868 0.14081 C 0.11285 0.12809 0.11389 0.11445 0.11979 0.10289 C 0.12361 0.08763 0.12101 0.09387 0.12622 0.0837 C 0.13021 0.06242 0.12483 0.08878 0.1309 0.06682 C 0.1316 0.06404 0.13108 0.06081 0.13247 0.05849 C 0.13351 0.05664 0.13576 0.05711 0.13733 0.05641 C 0.14601 0.09109 0.13941 0.12832 0.13733 0.16416 C 0.13785 0.18034 0.13854 0.19653 0.13889 0.21271 C 0.13958 0.24647 0.13958 0.28046 0.14045 0.31422 C 0.14115 0.34057 0.14601 0.36832 0.14844 0.39445 C 0.15556 0.38034 0.15208 0.38543 0.15799 0.37757 C 0.16129 0.36439 0.1632 0.3452 0.17066 0.33526 L 0.17847 0.3163 C 0.18056 0.30913 0.18281 0.30242 0.1849 0.29526 C 0.18976 0.27907 0.18507 0.28624 0.19132 0.27838 C 0.19358 0.2689 0.19497 0.25919 0.19913 0.25086 C 0.20261 0.23607 0.20486 0.21734 0.21354 0.20647 C 0.2158 0.19699 0.21927 0.18797 0.22465 0.18104 C 0.2283 0.16601 0.22587 0.17202 0.2309 0.16208 C 0.23438 0.14728 0.23681 0.13248 0.24045 0.11768 C 0.24097 0.11583 0.24271 0.11491 0.24358 0.11329 C 0.25434 0.0941 0.24601 0.10635 0.25313 0.09641 C 0.25573 0.08578 0.25851 0.07537 0.26111 0.06474 C 0.26163 0.06266 0.26215 0.06057 0.26267 0.05849 C 0.2632 0.05641 0.26424 0.05202 0.26424 0.05202 E">
                                      <p:cBhvr>
                                        <p:cTn id="1702" dur="1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688 0.25086 C 0.45538 0.24716 0.45886 0.23583 0.46736 0.23167 C 0.47379 0.22358 0.47604 0.22774 0.48021 0.23607 C 0.48264 0.25572 0.48386 0.2756 0.48646 0.29526 C 0.4875 0.30358 0.48958 0.32046 0.48958 0.32046 C 0.49028 0.33479 0.48941 0.38959 0.49601 0.39884 C 0.50625 0.39422 0.49531 0.40046 0.50712 0.38404 C 0.51076 0.37896 0.51389 0.37526 0.51823 0.37133 C 0.51927 0.36924 0.52049 0.36716 0.52136 0.36485 C 0.52205 0.36277 0.52205 0.36046 0.52292 0.35861 C 0.52448 0.35514 0.52761 0.35329 0.52934 0.35005 C 0.5316 0.34612 0.53576 0.33757 0.53576 0.33757 C 0.54132 0.31445 0.53264 0.34867 0.54045 0.32485 C 0.54774 0.30266 0.53958 0.32 0.54688 0.30566 C 0.55174 0.28624 0.55434 0.26381 0.56267 0.24647 C 0.57014 0.25687 0.56736 0.26959 0.56424 0.28254 C 0.56163 0.31398 0.56076 0.34381 0.56267 0.37549 C 0.56354 0.39052 0.56771 0.40023 0.57847 0.40508 C 0.58976 0.403 0.58941 0.4037 0.59601 0.39445 C 0.6 0.37849 0.5941 0.39792 0.60243 0.38404 C 0.61146 0.36901 0.59497 0.38566 0.60868 0.37341 C 0.61267 0.36531 0.61684 0.35884 0.61979 0.35005 C 0.62917 0.32185 0.62969 0.29109 0.63403 0.26127 C 0.63351 0.25503 0.63316 0.24855 0.63247 0.24231 C 0.63073 0.22751 0.6184 0.22705 0.61181 0.21919 E">
                                      <p:cBhvr>
                                        <p:cTn id="1706" dur="1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28 0.03607 L 0.12934 0.403 E">
                                      <p:cBhvr>
                                        <p:cTn id="1722" dur="1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295 0.03607 L -0.04393 0.403 E">
                                      <p:cBhvr>
                                        <p:cTn id="1726" dur="1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538 0.24231 C 0.35694 0.24161 0.35868 0.24138 0.36007 0.24023 C 0.36146 0.2393 0.36198 0.23699 0.36337 0.23607 C 0.36632 0.23398 0.36979 0.23306 0.37291 0.23167 C 0.37448 0.23098 0.3776 0.22959 0.3776 0.22959 C 0.38889 0.23491 0.38437 0.23144 0.39184 0.23815 C 0.39236 0.24023 0.39271 0.24254 0.3934 0.24439 C 0.39427 0.2467 0.39583 0.24855 0.3967 0.25086 C 0.40121 0.26427 0.40312 0.2763 0.40937 0.28878 C 0.41111 0.29618 0.41319 0.30034 0.41736 0.30566 C 0.42135 0.32208 0.41545 0.30242 0.42361 0.3163 C 0.42465 0.31815 0.42413 0.32092 0.42517 0.32277 C 0.42743 0.3267 0.43316 0.33318 0.43316 0.33318 C 0.43698 0.34913 0.43142 0.33063 0.43958 0.34381 C 0.44062 0.34543 0.44028 0.3482 0.44114 0.35005 C 0.44427 0.35745 0.45 0.36254 0.45382 0.36924 C 0.45885 0.3778 0.46337 0.38566 0.46962 0.39237 C 0.47448 0.39745 0.47448 0.40231 0.48073 0.40508 C 0.48611 0.40439 0.49166 0.40531 0.4967 0.403 C 0.49844 0.40231 0.49861 0.39884 0.49982 0.39676 C 0.50208 0.39283 0.50521 0.38959 0.50781 0.38612 E">
                                      <p:cBhvr>
                                        <p:cTn id="1730" dur="1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139 0.22566 C 0.49445 0.21572 0.49358 0.21711 0.48247 0.21919 C 0.47518 0.22844 0.47031 0.2393 0.46181 0.2467 C 0.46129 0.24878 0.46111 0.2511 0.46024 0.25295 C 0.45938 0.2548 0.45764 0.25549 0.45695 0.25734 C 0.45538 0.26127 0.4566 0.26751 0.45382 0.27006 C 0.4474 0.2756 0.44427 0.28347 0.43802 0.28902 C 0.43594 0.29318 0.43281 0.29688 0.4316 0.30173 C 0.43108 0.30381 0.4309 0.30612 0.43004 0.30797 C 0.42431 0.32185 0.41597 0.3348 0.40781 0.34612 C 0.4059 0.35352 0.4033 0.35491 0.39983 0.36092 C 0.39358 0.37156 0.38906 0.38196 0.37917 0.38612 C 0.37118 0.38543 0.3632 0.38566 0.35538 0.38404 C 0.35347 0.38358 0.35243 0.38104 0.3507 0.37988 C 0.34913 0.37896 0.34584 0.3778 0.34584 0.3778 E">
                                      <p:cBhvr>
                                        <p:cTn id="1734" dur="1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0.03607 L 0.06632 0.22474 E">
                                      <p:cBhvr>
                                        <p:cTn id="1750" dur="1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257 0.04994 C 0.17153 0.05202 0.17084 0.05456 0.16945 0.05641 C 0.16806 0.05826 0.1658 0.05849 0.16459 0.06057 C 0.16354 0.06219 0.16389 0.06497 0.16302 0.06682 C 0.1599 0.07398 0.15452 0.08 0.15035 0.08601 C 0.14757 0.09734 0.14098 0.10566 0.13611 0.1156 C 0.13507 0.11768 0.13368 0.11953 0.13299 0.12185 C 0.13247 0.12393 0.13212 0.12624 0.13125 0.12809 C 0.12848 0.1341 0.12483 0.13919 0.12188 0.1452 C 0.11823 0.1526 0.11164 0.15745 0.10747 0.16416 C 0.10104 0.17479 0.10816 0.1667 0.09966 0.17479 C 0.09445 0.18474 0.0882 0.19329 0.08056 0.2 C 0.07761 0.21248 0.08143 0.20115 0.07414 0.21063 C 0.07066 0.21503 0.06823 0.22081 0.06459 0.22543 C 0.06563 0.22682 0.06789 0.22751 0.06789 0.22959 C 0.06789 0.23167 0.06528 0.23214 0.06459 0.23398 C 0.06302 0.23792 0.0625 0.24231 0.06146 0.24647 C 0.06094 0.24855 0.0599 0.25294 0.0599 0.25294 C 0.05764 0.27398 0.06025 0.29618 0.05521 0.3163 C 0.05209 0.34335 0.04566 0.37133 0.04566 0.39884 E">
                                      <p:cBhvr>
                                        <p:cTn id="1754" dur="1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768 0.3015 C 0.34827 0.29803 0.35157 0.29063 0.35834 0.28046 C 0.36077 0.27676 0.36632 0.26982 0.36632 0.26982 C 0.36997 0.25479 0.36754 0.26081 0.37257 0.25086 C 0.37466 0.27861 0.3724 0.30497 0.37414 0.33318 C 0.3757 0.35722 0.38386 0.37387 0.39323 0.39237 C 0.39723 0.38451 0.40157 0.37872 0.40747 0.37341 C 0.41094 0.3593 0.40608 0.37479 0.41389 0.36277 C 0.42657 0.34335 0.41424 0.35514 0.425 0.34589 C 0.43091 0.3341 0.43959 0.32578 0.44566 0.31422 C 0.44618 0.31214 0.44636 0.30982 0.44723 0.30797 C 0.44792 0.30612 0.44966 0.30543 0.45035 0.30358 C 0.45712 0.28485 0.44966 0.29572 0.45677 0.2867 C 0.46042 0.2719 0.46424 0.25711 0.46789 0.24231 C 0.46598 0.29734 0.46875 0.27052 0.46459 0.29734 C 0.46407 0.30081 0.46372 0.30451 0.46302 0.30797 C 0.46216 0.31214 0.4599 0.32046 0.4599 0.32046 C 0.45504 0.35953 0.45556 0.39977 0.45035 0.43884 C 0.44914 0.44716 0.44688 0.45572 0.44566 0.46427 C 0.44514 0.47768 0.44497 0.49109 0.4441 0.50451 C 0.44375 0.5089 0.4415 0.51283 0.4408 0.51722 C 0.43664 0.5415 0.43229 0.56531 0.42657 0.58913 C 0.42431 0.59884 0.41702 0.60115 0.41077 0.60393 C 0.40764 0.60531 0.40122 0.60809 0.40122 0.60809 C 0.38907 0.6067 0.38525 0.60763 0.3757 0.60393 C 0.37049 0.60185 0.36667 0.59768 0.36146 0.59537 C 0.35348 0.58844 0.34705 0.57919 0.33924 0.57202 C 0.3382 0.56994 0.33768 0.5674 0.33611 0.56578 C 0.33473 0.56439 0.33125 0.5637 0.33125 0.5637 E">
                                      <p:cBhvr>
                                        <p:cTn id="1758" dur="1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54 -0.00046 C 0.06128 -0.00255 0.08732 -0.00532 0.11406 -0.00671 C 0.14635 -0.00555 0.19305 -0.02428 0.16961 0.00809 C 0.16684 0.01826 0.16111 0.02797 0.1552 0.03537 C 0.15451 0.03861 0.15017 0.05225 0.14895 0.05456 C 0.1467 0.05849 0.14097 0.06497 0.14097 0.06497 C 0.13784 0.07815 0.12951 0.08809 0.12343 0.09896 C 0.11944 0.10612 0.11701 0.11607 0.11232 0.12208 C 0.10885 0.13641 0.09965 0.15214 0.0901 0.16023 C 0.08281 0.1748 0.07378 0.18774 0.06475 0.20046 C 0.0618 0.21248 0.05468 0.22011 0.04895 0.23006 C 0.04357 0.2393 0.03836 0.24832 0.03298 0.25734 C 0.02951 0.26312 0.02899 0.26913 0.02517 0.27445 C 0.02274 0.283 0.01944 0.29202 0.01562 0.29965 C 0.01354 0.30844 0.01076 0.31676 0.00763 0.32508 C 0.00677 0.3274 0.00572 0.32948 0.00451 0.33133 C 0.00347 0.33295 -0.00035 0.33526 0.00121 0.33572 C 0.00486 0.33688 0.00868 0.33433 0.01232 0.33364 C 0.05642 0.34081 0.10295 0.33988 0.14739 0.33988 E">
                                      <p:cBhvr>
                                        <p:cTn id="1774" dur="1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607 0.17503 C 0.42882 0.17572 0.45156 0.17595 0.4743 0.17711 C 0.47708 0.17734 0.48038 0.17665 0.48229 0.17919 C 0.48263 0.17965 0.47829 0.18335 0.47586 0.18774 C 0.47361 0.19191 0.47239 0.19699 0.46961 0.20046 C 0.46857 0.20185 0.46736 0.203 0.46632 0.20462 C 0.45885 0.21665 0.45138 0.22844 0.44409 0.24046 C 0.43941 0.24809 0.43854 0.25665 0.43298 0.26381 C 0.42986 0.27653 0.421 0.28601 0.41406 0.29549 C 0.40677 0.30543 0.40243 0.31699 0.3934 0.32508 C 0.39166 0.33225 0.38854 0.33572 0.38541 0.34196 C 0.43576 0.3452 0.40763 0.34404 0.46961 0.34404 E">
                                      <p:cBhvr>
                                        <p:cTn id="1778" dur="1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0" y="0"/>
            <a:ext cx="50594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宋体"/>
              </a:rPr>
              <a:t>Abbreviations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宋体"/>
              </a:rPr>
              <a:t>缩写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541800" y="414972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541800" y="342900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C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1764720" y="4149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公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1765080" y="3429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公元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4791960" y="2708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A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8"/>
          <p:cNvSpPr/>
          <p:nvPr/>
        </p:nvSpPr>
        <p:spPr>
          <a:xfrm>
            <a:off x="4791240" y="335772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9"/>
          <p:cNvSpPr/>
          <p:nvPr/>
        </p:nvSpPr>
        <p:spPr>
          <a:xfrm>
            <a:off x="6517080" y="2565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中国民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0"/>
          <p:cNvSpPr/>
          <p:nvPr/>
        </p:nvSpPr>
        <p:spPr>
          <a:xfrm>
            <a:off x="6733800" y="3284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中国篮球协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1"/>
          <p:cNvSpPr/>
          <p:nvPr/>
        </p:nvSpPr>
        <p:spPr>
          <a:xfrm>
            <a:off x="4788000" y="1125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2"/>
          <p:cNvSpPr/>
          <p:nvPr/>
        </p:nvSpPr>
        <p:spPr>
          <a:xfrm>
            <a:off x="5796000" y="1052640"/>
            <a:ext cx="31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基础知识；字母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541800" y="206064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4"/>
          <p:cNvSpPr/>
          <p:nvPr/>
        </p:nvSpPr>
        <p:spPr>
          <a:xfrm>
            <a:off x="539640" y="278136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4790520" y="184464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BC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6"/>
          <p:cNvSpPr/>
          <p:nvPr/>
        </p:nvSpPr>
        <p:spPr>
          <a:xfrm>
            <a:off x="1764720" y="198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光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7"/>
          <p:cNvSpPr/>
          <p:nvPr/>
        </p:nvSpPr>
        <p:spPr>
          <a:xfrm>
            <a:off x="1764720" y="270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硬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8"/>
          <p:cNvSpPr/>
          <p:nvPr/>
        </p:nvSpPr>
        <p:spPr>
          <a:xfrm>
            <a:off x="6589440" y="1773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英国广播公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9"/>
          <p:cNvSpPr/>
          <p:nvPr/>
        </p:nvSpPr>
        <p:spPr>
          <a:xfrm>
            <a:off x="1219320" y="4876920"/>
            <a:ext cx="280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2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停车场；停车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0"/>
          <p:cNvSpPr/>
          <p:nvPr/>
        </p:nvSpPr>
        <p:spPr>
          <a:xfrm>
            <a:off x="686880" y="4800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1"/>
          <p:cNvSpPr/>
          <p:nvPr/>
        </p:nvSpPr>
        <p:spPr>
          <a:xfrm>
            <a:off x="5038560" y="407664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美国）全国篮球协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2"/>
          <p:cNvSpPr/>
          <p:nvPr/>
        </p:nvSpPr>
        <p:spPr>
          <a:xfrm>
            <a:off x="4214880" y="407664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3"/>
          <p:cNvSpPr/>
          <p:nvPr/>
        </p:nvSpPr>
        <p:spPr>
          <a:xfrm>
            <a:off x="1332000" y="1413000"/>
            <a:ext cx="2303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2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千克；公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4"/>
          <p:cNvSpPr/>
          <p:nvPr/>
        </p:nvSpPr>
        <p:spPr>
          <a:xfrm>
            <a:off x="541440" y="12682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k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5"/>
          <p:cNvSpPr/>
          <p:nvPr/>
        </p:nvSpPr>
        <p:spPr>
          <a:xfrm>
            <a:off x="4343400" y="472428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6"/>
          <p:cNvSpPr/>
          <p:nvPr/>
        </p:nvSpPr>
        <p:spPr>
          <a:xfrm>
            <a:off x="5562720" y="46483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中华人民共和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3"/>
          <p:cNvSpPr/>
          <p:nvPr/>
        </p:nvSpPr>
        <p:spPr>
          <a:xfrm>
            <a:off x="611280" y="5562720"/>
            <a:ext cx="8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K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4"/>
          <p:cNvSpPr/>
          <p:nvPr/>
        </p:nvSpPr>
        <p:spPr>
          <a:xfrm>
            <a:off x="1371600" y="5562720"/>
            <a:ext cx="1752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2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单独挑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5"/>
          <p:cNvSpPr/>
          <p:nvPr/>
        </p:nvSpPr>
        <p:spPr>
          <a:xfrm>
            <a:off x="4497120" y="52578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6"/>
          <p:cNvSpPr/>
          <p:nvPr/>
        </p:nvSpPr>
        <p:spPr>
          <a:xfrm>
            <a:off x="4497120" y="58672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k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7"/>
          <p:cNvSpPr/>
          <p:nvPr/>
        </p:nvSpPr>
        <p:spPr>
          <a:xfrm>
            <a:off x="5784120" y="5257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8"/>
          <p:cNvSpPr/>
          <p:nvPr/>
        </p:nvSpPr>
        <p:spPr>
          <a:xfrm>
            <a:off x="5638680" y="58672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千米，公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9" dur="indefinite" restart="never" nodeType="tmRoot">
          <p:childTnLst>
            <p:seq>
              <p:cTn id="1780" dur="indefinite" nodeType="mainSeq">
                <p:childTnLst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fill="hold">
                            <p:stCondLst>
                              <p:cond delay="500"/>
                            </p:stCondLst>
                            <p:childTnLst>
                              <p:par>
                                <p:cTn id="17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6500"/>
                            </p:stCondLst>
                            <p:childTnLst>
                              <p:par>
                                <p:cTn id="18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1" fill="hold">
                            <p:stCondLst>
                              <p:cond delay="7000"/>
                            </p:stCondLst>
                            <p:childTnLst>
                              <p:par>
                                <p:cTn id="18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7500"/>
                            </p:stCondLst>
                            <p:childTnLst>
                              <p:par>
                                <p:cTn id="18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2" descr="未标题-4 副本 拷贝"/>
          <p:cNvPicPr/>
          <p:nvPr/>
        </p:nvPicPr>
        <p:blipFill>
          <a:blip r:embed="rId1"/>
          <a:stretch/>
        </p:blipFill>
        <p:spPr>
          <a:xfrm>
            <a:off x="250920" y="907920"/>
            <a:ext cx="8569080" cy="568332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3"/>
          <p:cNvSpPr/>
          <p:nvPr/>
        </p:nvSpPr>
        <p:spPr>
          <a:xfrm>
            <a:off x="5580000" y="47628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7020720" y="1197000"/>
            <a:ext cx="128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r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254520" y="1290600"/>
            <a:ext cx="195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d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582160" y="5229360"/>
            <a:ext cx="13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m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7"/>
          <p:cNvSpPr/>
          <p:nvPr/>
        </p:nvSpPr>
        <p:spPr>
          <a:xfrm rot="11340000">
            <a:off x="1547640" y="1577160"/>
            <a:ext cx="1438560" cy="717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8"/>
          <p:cNvSpPr/>
          <p:nvPr/>
        </p:nvSpPr>
        <p:spPr>
          <a:xfrm flipH="1" rot="10800000">
            <a:off x="5650560" y="1197000"/>
            <a:ext cx="1368360" cy="792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284720" y="3789360"/>
            <a:ext cx="1295280" cy="1584360"/>
          </a:xfrm>
          <a:prstGeom prst="line">
            <a:avLst/>
          </a:prstGeom>
          <a:ln w="85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0"/>
          <p:cNvSpPr/>
          <p:nvPr/>
        </p:nvSpPr>
        <p:spPr>
          <a:xfrm>
            <a:off x="228600" y="0"/>
            <a:ext cx="82296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宋体"/>
              </a:rPr>
              <a:t>3. Do you know what these letters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6" dur="indefinite" restart="never" nodeType="tmRoot">
          <p:childTnLst>
            <p:seq>
              <p:cTn id="1937" dur="indefinite" nodeType="mainSeq">
                <p:childTnLst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3564000" y="3573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UFO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"/>
          <p:cNvSpPr/>
          <p:nvPr/>
        </p:nvSpPr>
        <p:spPr>
          <a:xfrm>
            <a:off x="1692360" y="44370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nidentified Flying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4" descr="未标题-5 副本 拷贝"/>
          <p:cNvPicPr/>
          <p:nvPr/>
        </p:nvPicPr>
        <p:blipFill>
          <a:blip r:embed="rId1"/>
          <a:srcRect l="0" t="0" r="0" b="20614"/>
          <a:stretch/>
        </p:blipFill>
        <p:spPr>
          <a:xfrm>
            <a:off x="1835280" y="620640"/>
            <a:ext cx="477360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2" dur="indefinite" restart="never" nodeType="tmRoot">
          <p:childTnLst>
            <p:seq>
              <p:cTn id="1963" dur="indefinite" nodeType="mainSeq">
                <p:childTnLst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1582560" y="4797360"/>
            <a:ext cx="586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2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China Central Television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3" descr="2008117111721973_2"/>
          <p:cNvPicPr/>
          <p:nvPr/>
        </p:nvPicPr>
        <p:blipFill>
          <a:blip r:embed="rId1"/>
          <a:srcRect l="0" t="25461" r="0" b="27498"/>
          <a:stretch/>
        </p:blipFill>
        <p:spPr>
          <a:xfrm>
            <a:off x="2124000" y="1268280"/>
            <a:ext cx="4176720" cy="194472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4"/>
          <p:cNvSpPr/>
          <p:nvPr/>
        </p:nvSpPr>
        <p:spPr>
          <a:xfrm>
            <a:off x="3059280" y="386064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CCTV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9" dur="indefinite" restart="never" nodeType="tmRoot">
          <p:childTnLst>
            <p:seq>
              <p:cTn id="1970" dur="indefinite" nodeType="mainSeq">
                <p:childTnLst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3708360" y="4149720"/>
            <a:ext cx="136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2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UN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3"/>
          <p:cNvSpPr/>
          <p:nvPr/>
        </p:nvSpPr>
        <p:spPr>
          <a:xfrm>
            <a:off x="2987640" y="494172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nited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4" descr="un"/>
          <p:cNvPicPr/>
          <p:nvPr/>
        </p:nvPicPr>
        <p:blipFill>
          <a:blip r:embed="rId1"/>
          <a:stretch/>
        </p:blipFill>
        <p:spPr>
          <a:xfrm>
            <a:off x="2700360" y="907920"/>
            <a:ext cx="3381480" cy="294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6" dur="indefinite" restart="never" nodeType="tmRoot">
          <p:childTnLst>
            <p:seq>
              <p:cTn id="1977" dur="indefinite" nodeType="mainSeq">
                <p:childTnLst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533520" y="838080"/>
            <a:ext cx="734508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宋体"/>
              </a:rPr>
              <a:t>Groupwork: write down 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宋体"/>
              </a:rPr>
              <a:t>letters you kn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宋体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宋体"/>
              </a:rPr>
              <a:t>小组讨论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宋体"/>
              </a:rPr>
              <a:t>,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宋体"/>
              </a:rPr>
              <a:t>写出你知道的其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宋体"/>
              </a:rPr>
              <a:t>英文字母缩写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1620720" y="393372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X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4014720" y="40640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加大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1333440" y="5216400"/>
            <a:ext cx="178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MT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4116240" y="5373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音乐电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48e423f78dcc2c0fbd310948"/>
          <p:cNvPicPr/>
          <p:nvPr/>
        </p:nvPicPr>
        <p:blipFill>
          <a:blip r:embed="rId1"/>
          <a:srcRect l="0" t="0" r="0" b="43248"/>
          <a:stretch/>
        </p:blipFill>
        <p:spPr>
          <a:xfrm>
            <a:off x="0" y="836640"/>
            <a:ext cx="5398920" cy="5832360"/>
          </a:xfrm>
          <a:prstGeom prst="rect">
            <a:avLst/>
          </a:prstGeom>
          <a:ln w="0">
            <a:noFill/>
          </a:ln>
        </p:spPr>
      </p:pic>
      <p:sp>
        <p:nvSpPr>
          <p:cNvPr id="67" name="Line 3"/>
          <p:cNvSpPr/>
          <p:nvPr/>
        </p:nvSpPr>
        <p:spPr>
          <a:xfrm flipH="1" flipV="1">
            <a:off x="3995640" y="3428640"/>
            <a:ext cx="3097440" cy="1079640"/>
          </a:xfrm>
          <a:prstGeom prst="line">
            <a:avLst/>
          </a:prstGeom>
          <a:ln w="6336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 flipH="1" flipV="1">
            <a:off x="4211640" y="2781000"/>
            <a:ext cx="2881440" cy="1152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H="1" flipV="1">
            <a:off x="4211280" y="2349360"/>
            <a:ext cx="2592360" cy="93528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 flipH="1" flipV="1">
            <a:off x="3924360" y="2133360"/>
            <a:ext cx="3024000" cy="14292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 flipH="1">
            <a:off x="4716000" y="126828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 flipH="1">
            <a:off x="1547640" y="765000"/>
            <a:ext cx="2592720" cy="122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0" y="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宋体"/>
              </a:rPr>
              <a:t>a rainbow(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宋体"/>
              </a:rPr>
              <a:t>彩虹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0"/>
          <p:cNvSpPr/>
          <p:nvPr/>
        </p:nvSpPr>
        <p:spPr>
          <a:xfrm>
            <a:off x="3708360" y="260280"/>
            <a:ext cx="1728720" cy="72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3635280" y="260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  <a:ea typeface="宋体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宋体"/>
              </a:rPr>
              <a:t>wh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6912000" y="4221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Comic Sans MS"/>
                <a:ea typeface="宋体"/>
              </a:rPr>
              <a:t> </a:t>
            </a:r>
            <a:r>
              <a:rPr b="1" lang="en-US" sz="4000" spc="-1" strike="noStrike">
                <a:solidFill>
                  <a:srgbClr val="cc0099"/>
                </a:solidFill>
                <a:latin typeface="Comic Sans MS"/>
                <a:ea typeface="宋体"/>
              </a:rPr>
              <a:t>pur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7093080" y="3573360"/>
            <a:ext cx="14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  <a:ea typeface="宋体"/>
              </a:rPr>
              <a:t>b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6588000" y="2924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Comic Sans MS"/>
                <a:ea typeface="宋体"/>
              </a:rPr>
              <a:t> </a:t>
            </a:r>
            <a:r>
              <a:rPr b="1" lang="en-US" sz="4000" spc="-1" strike="noStrike">
                <a:solidFill>
                  <a:srgbClr val="009900"/>
                </a:solidFill>
                <a:latin typeface="Comic Sans MS"/>
                <a:ea typeface="宋体"/>
              </a:rPr>
              <a:t>gr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6516720" y="836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宋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宋体"/>
              </a:rPr>
              <a:t>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6"/>
          <p:cNvSpPr/>
          <p:nvPr/>
        </p:nvSpPr>
        <p:spPr>
          <a:xfrm>
            <a:off x="6588000" y="2060640"/>
            <a:ext cx="2305080" cy="792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6877080" y="2060640"/>
            <a:ext cx="18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  <a:ea typeface="宋体"/>
              </a:rPr>
              <a:t>yel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8"/>
          <p:cNvSpPr/>
          <p:nvPr/>
        </p:nvSpPr>
        <p:spPr>
          <a:xfrm flipH="1">
            <a:off x="4284360" y="1700280"/>
            <a:ext cx="2158920" cy="7128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6516720" y="1341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Comic Sans MS"/>
                <a:ea typeface="宋体"/>
              </a:rPr>
              <a:t>or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971640" y="404640"/>
            <a:ext cx="289548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邮政速递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智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中国共产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人民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非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明飞行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人计算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信息技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5181480" y="228600"/>
            <a:ext cx="155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C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5257800" y="914400"/>
            <a:ext cx="11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P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5334120" y="1600200"/>
            <a:ext cx="11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5410080" y="2362320"/>
            <a:ext cx="18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RM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"/>
          <p:cNvSpPr/>
          <p:nvPr/>
        </p:nvSpPr>
        <p:spPr>
          <a:xfrm>
            <a:off x="5435640" y="4076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I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8"/>
          <p:cNvSpPr/>
          <p:nvPr/>
        </p:nvSpPr>
        <p:spPr>
          <a:xfrm>
            <a:off x="5435640" y="4941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9"/>
          <p:cNvSpPr/>
          <p:nvPr/>
        </p:nvSpPr>
        <p:spPr>
          <a:xfrm>
            <a:off x="5364000" y="5734080"/>
            <a:ext cx="22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S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0"/>
          <p:cNvSpPr/>
          <p:nvPr/>
        </p:nvSpPr>
        <p:spPr>
          <a:xfrm>
            <a:off x="5364000" y="3141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F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1"/>
          <p:cNvSpPr/>
          <p:nvPr/>
        </p:nvSpPr>
        <p:spPr>
          <a:xfrm>
            <a:off x="3419640" y="765000"/>
            <a:ext cx="2089080" cy="4608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2"/>
          <p:cNvSpPr/>
          <p:nvPr/>
        </p:nvSpPr>
        <p:spPr>
          <a:xfrm>
            <a:off x="1763640" y="1341360"/>
            <a:ext cx="3745080" cy="3095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3"/>
          <p:cNvSpPr/>
          <p:nvPr/>
        </p:nvSpPr>
        <p:spPr>
          <a:xfrm flipV="1">
            <a:off x="2411280" y="549000"/>
            <a:ext cx="2881440" cy="1655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14"/>
          <p:cNvSpPr/>
          <p:nvPr/>
        </p:nvSpPr>
        <p:spPr>
          <a:xfrm flipV="1">
            <a:off x="2195640" y="2636640"/>
            <a:ext cx="3384360" cy="3315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5"/>
          <p:cNvSpPr/>
          <p:nvPr/>
        </p:nvSpPr>
        <p:spPr>
          <a:xfrm>
            <a:off x="1835280" y="3716280"/>
            <a:ext cx="3673440" cy="2376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6"/>
          <p:cNvSpPr/>
          <p:nvPr/>
        </p:nvSpPr>
        <p:spPr>
          <a:xfrm flipV="1">
            <a:off x="2124000" y="3504960"/>
            <a:ext cx="3283200" cy="10033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7"/>
          <p:cNvSpPr/>
          <p:nvPr/>
        </p:nvSpPr>
        <p:spPr>
          <a:xfrm flipV="1">
            <a:off x="2627280" y="1196640"/>
            <a:ext cx="2881440" cy="3987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18"/>
          <p:cNvSpPr/>
          <p:nvPr/>
        </p:nvSpPr>
        <p:spPr>
          <a:xfrm flipV="1">
            <a:off x="2627280" y="1982880"/>
            <a:ext cx="2781360" cy="3751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5" dur="indefinite" restart="never" nodeType="tmRoot">
          <p:childTnLst>
            <p:seq>
              <p:cTn id="1996" dur="indefinite" nodeType="mainSeq">
                <p:childTnLst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4"/>
          <p:cNvSpPr/>
          <p:nvPr/>
        </p:nvSpPr>
        <p:spPr>
          <a:xfrm>
            <a:off x="533520" y="1447920"/>
            <a:ext cx="8305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  <a:ea typeface="宋体"/>
              </a:rPr>
              <a:t>）听读背诵字母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  <a:ea typeface="宋体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–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  <a:ea typeface="宋体"/>
              </a:rPr>
              <a:t>R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  <a:ea typeface="宋体"/>
              </a:rPr>
              <a:t>）抄写字母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  <a:ea typeface="宋体"/>
              </a:rPr>
              <a:t>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–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  <a:ea typeface="宋体"/>
              </a:rPr>
              <a:t>Zz 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  <a:ea typeface="宋体"/>
              </a:rPr>
              <a:t>以及字母缩写三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bbe0e3"/>
                </a:solidFill>
                <a:latin typeface="Arial"/>
                <a:ea typeface="宋体"/>
              </a:rPr>
              <a:t>）默写字母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  <a:ea typeface="宋体"/>
              </a:rPr>
              <a:t>A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–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  <a:ea typeface="宋体"/>
              </a:rPr>
              <a:t>Z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228600" y="152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omework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课后作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7" dur="indefinite" restart="never" nodeType="tmRoot">
          <p:childTnLst>
            <p:seq>
              <p:cTn id="2038" dur="indefinite" nodeType="mainSeq">
                <p:childTnLst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5"/>
          <p:cNvSpPr/>
          <p:nvPr/>
        </p:nvSpPr>
        <p:spPr>
          <a:xfrm>
            <a:off x="4075560" y="314172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a–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标题 4"/>
          <p:cNvSpPr/>
          <p:nvPr/>
        </p:nvSpPr>
        <p:spPr>
          <a:xfrm>
            <a:off x="1476360" y="1701720"/>
            <a:ext cx="65818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Starter Unit 3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What color is it?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6172200" y="5791320"/>
            <a:ext cx="2743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2"/>
          <p:cNvSpPr/>
          <p:nvPr/>
        </p:nvSpPr>
        <p:spPr>
          <a:xfrm>
            <a:off x="844920" y="189000"/>
            <a:ext cx="33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3"/>
          <p:cNvSpPr/>
          <p:nvPr/>
        </p:nvSpPr>
        <p:spPr>
          <a:xfrm>
            <a:off x="826920" y="1557360"/>
            <a:ext cx="69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be0e3"/>
                </a:solidFill>
                <a:latin typeface="Arial"/>
                <a:ea typeface="宋体"/>
              </a:rPr>
              <a:t>进一步提高描述颜色的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Arial"/>
                <a:ea typeface="宋体"/>
              </a:rPr>
              <a:t>2. </a:t>
            </a:r>
            <a:r>
              <a:rPr b="0" lang="zh-CN" sz="3600" spc="-1" strike="noStrike">
                <a:solidFill>
                  <a:srgbClr val="bbe0e3"/>
                </a:solidFill>
                <a:latin typeface="Arial"/>
                <a:ea typeface="宋体"/>
              </a:rPr>
              <a:t>能够辨认物品及物品的颜色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Oval 4"/>
          <p:cNvSpPr/>
          <p:nvPr/>
        </p:nvSpPr>
        <p:spPr>
          <a:xfrm>
            <a:off x="914400" y="14479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5"/>
          <p:cNvSpPr/>
          <p:nvPr/>
        </p:nvSpPr>
        <p:spPr>
          <a:xfrm>
            <a:off x="3733920" y="15238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6"/>
          <p:cNvSpPr/>
          <p:nvPr/>
        </p:nvSpPr>
        <p:spPr>
          <a:xfrm>
            <a:off x="6705720" y="1523880"/>
            <a:ext cx="914400" cy="914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7"/>
          <p:cNvSpPr/>
          <p:nvPr/>
        </p:nvSpPr>
        <p:spPr>
          <a:xfrm>
            <a:off x="914400" y="3124080"/>
            <a:ext cx="91440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8"/>
          <p:cNvSpPr/>
          <p:nvPr/>
        </p:nvSpPr>
        <p:spPr>
          <a:xfrm>
            <a:off x="3733920" y="320040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9"/>
          <p:cNvSpPr/>
          <p:nvPr/>
        </p:nvSpPr>
        <p:spPr>
          <a:xfrm>
            <a:off x="6705720" y="3200400"/>
            <a:ext cx="914400" cy="9144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10"/>
          <p:cNvSpPr/>
          <p:nvPr/>
        </p:nvSpPr>
        <p:spPr>
          <a:xfrm>
            <a:off x="990720" y="495288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11"/>
          <p:cNvSpPr/>
          <p:nvPr/>
        </p:nvSpPr>
        <p:spPr>
          <a:xfrm>
            <a:off x="3733920" y="495288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12"/>
          <p:cNvSpPr/>
          <p:nvPr/>
        </p:nvSpPr>
        <p:spPr>
          <a:xfrm>
            <a:off x="6781680" y="4952880"/>
            <a:ext cx="914400" cy="914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3"/>
          <p:cNvSpPr/>
          <p:nvPr/>
        </p:nvSpPr>
        <p:spPr>
          <a:xfrm>
            <a:off x="609480" y="1371600"/>
            <a:ext cx="1524240" cy="99072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4"/>
          <p:cNvSpPr/>
          <p:nvPr/>
        </p:nvSpPr>
        <p:spPr>
          <a:xfrm>
            <a:off x="3429000" y="1447920"/>
            <a:ext cx="1523880" cy="99036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5"/>
          <p:cNvSpPr/>
          <p:nvPr/>
        </p:nvSpPr>
        <p:spPr>
          <a:xfrm>
            <a:off x="6400800" y="1447920"/>
            <a:ext cx="1523880" cy="99036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6"/>
          <p:cNvSpPr/>
          <p:nvPr/>
        </p:nvSpPr>
        <p:spPr>
          <a:xfrm>
            <a:off x="609480" y="3048120"/>
            <a:ext cx="1524240" cy="99036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7"/>
          <p:cNvSpPr/>
          <p:nvPr/>
        </p:nvSpPr>
        <p:spPr>
          <a:xfrm>
            <a:off x="3429000" y="3124080"/>
            <a:ext cx="1523880" cy="99072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8"/>
          <p:cNvSpPr/>
          <p:nvPr/>
        </p:nvSpPr>
        <p:spPr>
          <a:xfrm>
            <a:off x="6400800" y="3124080"/>
            <a:ext cx="1523880" cy="99072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9"/>
          <p:cNvSpPr/>
          <p:nvPr/>
        </p:nvSpPr>
        <p:spPr>
          <a:xfrm>
            <a:off x="685800" y="4876920"/>
            <a:ext cx="1523880" cy="99036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0"/>
          <p:cNvSpPr/>
          <p:nvPr/>
        </p:nvSpPr>
        <p:spPr>
          <a:xfrm>
            <a:off x="3429000" y="4876920"/>
            <a:ext cx="1523880" cy="99036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21"/>
          <p:cNvSpPr/>
          <p:nvPr/>
        </p:nvSpPr>
        <p:spPr>
          <a:xfrm>
            <a:off x="6477120" y="4876920"/>
            <a:ext cx="1523880" cy="99036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2"/>
          <p:cNvSpPr/>
          <p:nvPr/>
        </p:nvSpPr>
        <p:spPr>
          <a:xfrm>
            <a:off x="91440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3"/>
          <p:cNvSpPr/>
          <p:nvPr/>
        </p:nvSpPr>
        <p:spPr>
          <a:xfrm>
            <a:off x="373392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4"/>
          <p:cNvSpPr/>
          <p:nvPr/>
        </p:nvSpPr>
        <p:spPr>
          <a:xfrm>
            <a:off x="6629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5"/>
          <p:cNvSpPr/>
          <p:nvPr/>
        </p:nvSpPr>
        <p:spPr>
          <a:xfrm>
            <a:off x="838080" y="4191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6"/>
          <p:cNvSpPr/>
          <p:nvPr/>
        </p:nvSpPr>
        <p:spPr>
          <a:xfrm>
            <a:off x="3733920" y="4267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7"/>
          <p:cNvSpPr/>
          <p:nvPr/>
        </p:nvSpPr>
        <p:spPr>
          <a:xfrm>
            <a:off x="6705720" y="4267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8"/>
          <p:cNvSpPr/>
          <p:nvPr/>
        </p:nvSpPr>
        <p:spPr>
          <a:xfrm>
            <a:off x="990720" y="6019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9"/>
          <p:cNvSpPr/>
          <p:nvPr/>
        </p:nvSpPr>
        <p:spPr>
          <a:xfrm>
            <a:off x="37339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0"/>
          <p:cNvSpPr/>
          <p:nvPr/>
        </p:nvSpPr>
        <p:spPr>
          <a:xfrm>
            <a:off x="6781680" y="6019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31"/>
          <p:cNvSpPr/>
          <p:nvPr/>
        </p:nvSpPr>
        <p:spPr>
          <a:xfrm>
            <a:off x="1066680" y="2438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32"/>
          <p:cNvSpPr/>
          <p:nvPr/>
        </p:nvSpPr>
        <p:spPr>
          <a:xfrm>
            <a:off x="3962520" y="2514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33"/>
          <p:cNvSpPr/>
          <p:nvPr/>
        </p:nvSpPr>
        <p:spPr>
          <a:xfrm>
            <a:off x="6858000" y="2514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34"/>
          <p:cNvSpPr/>
          <p:nvPr/>
        </p:nvSpPr>
        <p:spPr>
          <a:xfrm>
            <a:off x="10666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35"/>
          <p:cNvSpPr/>
          <p:nvPr/>
        </p:nvSpPr>
        <p:spPr>
          <a:xfrm>
            <a:off x="3886200" y="426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36"/>
          <p:cNvSpPr/>
          <p:nvPr/>
        </p:nvSpPr>
        <p:spPr>
          <a:xfrm>
            <a:off x="6934320" y="426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r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7"/>
          <p:cNvSpPr/>
          <p:nvPr/>
        </p:nvSpPr>
        <p:spPr>
          <a:xfrm>
            <a:off x="1219320" y="6019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8"/>
          <p:cNvSpPr/>
          <p:nvPr/>
        </p:nvSpPr>
        <p:spPr>
          <a:xfrm>
            <a:off x="3962520" y="6095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39"/>
          <p:cNvSpPr/>
          <p:nvPr/>
        </p:nvSpPr>
        <p:spPr>
          <a:xfrm>
            <a:off x="7010280" y="6019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0"/>
          <p:cNvSpPr/>
          <p:nvPr/>
        </p:nvSpPr>
        <p:spPr>
          <a:xfrm>
            <a:off x="22860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 guessing game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猜测游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7" dur="indefinite" restart="never" nodeType="tmRoot">
          <p:childTnLst>
            <p:seq>
              <p:cTn id="2048" dur="indefinite" nodeType="mainSeq">
                <p:childTnLst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6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7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2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28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9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4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5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0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1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6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7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2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3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8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9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4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4"/>
          <p:cNvSpPr/>
          <p:nvPr/>
        </p:nvSpPr>
        <p:spPr>
          <a:xfrm>
            <a:off x="22860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 spelling game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拼写游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685800" y="13716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b_ _ 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3276720" y="13716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_ l _ _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6019920" y="13716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_ h _ _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762120" y="31240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_ e 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9"/>
          <p:cNvSpPr/>
          <p:nvPr/>
        </p:nvSpPr>
        <p:spPr>
          <a:xfrm>
            <a:off x="3200400" y="30481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_ r _ w 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0"/>
          <p:cNvSpPr/>
          <p:nvPr/>
        </p:nvSpPr>
        <p:spPr>
          <a:xfrm>
            <a:off x="6095880" y="30481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_u _ p 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1"/>
          <p:cNvSpPr/>
          <p:nvPr/>
        </p:nvSpPr>
        <p:spPr>
          <a:xfrm>
            <a:off x="609480" y="4800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_ r _ _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2"/>
          <p:cNvSpPr/>
          <p:nvPr/>
        </p:nvSpPr>
        <p:spPr>
          <a:xfrm>
            <a:off x="3124080" y="47242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_ e _ _o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3"/>
          <p:cNvSpPr/>
          <p:nvPr/>
        </p:nvSpPr>
        <p:spPr>
          <a:xfrm>
            <a:off x="6172200" y="4724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_r_ _g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1" dur="indefinite" restart="never" nodeType="tmRoot">
          <p:childTnLst>
            <p:seq>
              <p:cTn id="2232" dur="indefinite" nodeType="mainSeq">
                <p:childTnLst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fill="hold">
                      <p:stCondLst>
                        <p:cond delay="indefinite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fill="hold">
                      <p:stCondLst>
                        <p:cond delay="indefinite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9" fill="hold">
                      <p:stCondLst>
                        <p:cond delay="indefinite"/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4"/>
          <p:cNvSpPr/>
          <p:nvPr/>
        </p:nvSpPr>
        <p:spPr>
          <a:xfrm>
            <a:off x="181080" y="33336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a Listen and color the things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听录音，为下列物品涂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5" descr="5"/>
          <p:cNvPicPr/>
          <p:nvPr/>
        </p:nvPicPr>
        <p:blipFill>
          <a:blip r:embed="rId1"/>
          <a:stretch/>
        </p:blipFill>
        <p:spPr>
          <a:xfrm>
            <a:off x="457200" y="2286000"/>
            <a:ext cx="1523880" cy="14875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6" descr="6"/>
          <p:cNvPicPr/>
          <p:nvPr/>
        </p:nvPicPr>
        <p:blipFill>
          <a:blip r:embed="rId2"/>
          <a:stretch/>
        </p:blipFill>
        <p:spPr>
          <a:xfrm>
            <a:off x="3352680" y="2438280"/>
            <a:ext cx="1990800" cy="12477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7" descr="7"/>
          <p:cNvPicPr/>
          <p:nvPr/>
        </p:nvPicPr>
        <p:blipFill>
          <a:blip r:embed="rId3"/>
          <a:stretch/>
        </p:blipFill>
        <p:spPr>
          <a:xfrm>
            <a:off x="6781680" y="2362320"/>
            <a:ext cx="1562400" cy="12380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3" descr=""/>
          <p:cNvPicPr/>
          <p:nvPr/>
        </p:nvPicPr>
        <p:blipFill>
          <a:blip r:embed="rId4"/>
          <a:stretch/>
        </p:blipFill>
        <p:spPr>
          <a:xfrm>
            <a:off x="6781680" y="2438280"/>
            <a:ext cx="1457280" cy="10764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4" descr=""/>
          <p:cNvPicPr/>
          <p:nvPr/>
        </p:nvPicPr>
        <p:blipFill>
          <a:blip r:embed="rId5"/>
          <a:stretch/>
        </p:blipFill>
        <p:spPr>
          <a:xfrm>
            <a:off x="3352680" y="2438280"/>
            <a:ext cx="2019600" cy="13431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5" descr=""/>
          <p:cNvPicPr/>
          <p:nvPr/>
        </p:nvPicPr>
        <p:blipFill>
          <a:blip r:embed="rId6"/>
          <a:stretch/>
        </p:blipFill>
        <p:spPr>
          <a:xfrm>
            <a:off x="685800" y="2438280"/>
            <a:ext cx="1352520" cy="1190880"/>
          </a:xfrm>
          <a:prstGeom prst="rect">
            <a:avLst/>
          </a:prstGeom>
          <a:ln w="0">
            <a:noFill/>
          </a:ln>
        </p:spPr>
      </p:pic>
      <p:pic>
        <p:nvPicPr>
          <p:cNvPr id="582" name="S0305 3a" descr=""/>
          <p:cNvPicPr/>
          <p:nvPr/>
        </p:nvPicPr>
        <p:blipFill>
          <a:blip r:embed="rId7"/>
          <a:stretch/>
        </p:blipFill>
        <p:spPr>
          <a:xfrm>
            <a:off x="8101080" y="838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3" dur="indefinite" restart="never" nodeType="tmRoot">
          <p:childTnLst>
            <p:seq>
              <p:cTn id="2274" dur="indefinite" nodeType="mainSeq">
                <p:childTnLst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0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2291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4" dur="35102" fill="hold"/>
                                        <p:tgtEl>
                                          <p:spTgt spid="5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4"/>
          <p:cNvSpPr/>
          <p:nvPr/>
        </p:nvSpPr>
        <p:spPr>
          <a:xfrm>
            <a:off x="152280" y="22860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b Listen again. Complete the sentences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再听录音，完成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8"/>
          <p:cNvSpPr/>
          <p:nvPr/>
        </p:nvSpPr>
        <p:spPr>
          <a:xfrm>
            <a:off x="3276720" y="16002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The key is _______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9"/>
          <p:cNvSpPr/>
          <p:nvPr/>
        </p:nvSpPr>
        <p:spPr>
          <a:xfrm>
            <a:off x="3276720" y="32004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The ruler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_______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0"/>
          <p:cNvSpPr/>
          <p:nvPr/>
        </p:nvSpPr>
        <p:spPr>
          <a:xfrm>
            <a:off x="3276720" y="48769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The cup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_____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3429000" y="24382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= It’s a yellow key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3"/>
          <p:cNvSpPr/>
          <p:nvPr/>
        </p:nvSpPr>
        <p:spPr>
          <a:xfrm>
            <a:off x="3429000" y="39625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= It’s a green ruler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4"/>
          <p:cNvSpPr/>
          <p:nvPr/>
        </p:nvSpPr>
        <p:spPr>
          <a:xfrm>
            <a:off x="3429000" y="55627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= It’s a red cup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7"/>
          <p:cNvSpPr/>
          <p:nvPr/>
        </p:nvSpPr>
        <p:spPr>
          <a:xfrm>
            <a:off x="5562720" y="15238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ye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8"/>
          <p:cNvSpPr/>
          <p:nvPr/>
        </p:nvSpPr>
        <p:spPr>
          <a:xfrm>
            <a:off x="5791320" y="31240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0"/>
          <p:cNvSpPr/>
          <p:nvPr/>
        </p:nvSpPr>
        <p:spPr>
          <a:xfrm>
            <a:off x="5638680" y="48006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21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1457280" cy="10760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22" descr=""/>
          <p:cNvPicPr/>
          <p:nvPr/>
        </p:nvPicPr>
        <p:blipFill>
          <a:blip r:embed="rId2"/>
          <a:stretch/>
        </p:blipFill>
        <p:spPr>
          <a:xfrm>
            <a:off x="685800" y="2971800"/>
            <a:ext cx="2019240" cy="1343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23" descr=""/>
          <p:cNvPicPr/>
          <p:nvPr/>
        </p:nvPicPr>
        <p:blipFill>
          <a:blip r:embed="rId3"/>
          <a:stretch/>
        </p:blipFill>
        <p:spPr>
          <a:xfrm>
            <a:off x="685800" y="4724280"/>
            <a:ext cx="1352520" cy="1190880"/>
          </a:xfrm>
          <a:prstGeom prst="rect">
            <a:avLst/>
          </a:prstGeom>
          <a:ln w="0">
            <a:noFill/>
          </a:ln>
        </p:spPr>
      </p:pic>
      <p:pic>
        <p:nvPicPr>
          <p:cNvPr id="596" name="S0306 3b" descr=""/>
          <p:cNvPicPr/>
          <p:nvPr/>
        </p:nvPicPr>
        <p:blipFill>
          <a:blip r:embed="rId4"/>
          <a:stretch/>
        </p:blipFill>
        <p:spPr>
          <a:xfrm>
            <a:off x="612720" y="90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5" dur="indefinite" restart="never" nodeType="tmRoot">
          <p:childTnLst>
            <p:seq>
              <p:cTn id="2296" dur="indefinite" nodeType="mainSeq">
                <p:childTnLst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fill="hold">
                      <p:stCondLst>
                        <p:cond delay="indefinite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3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2344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2345" fill="hold">
                            <p:stCondLst>
                              <p:cond delay="0"/>
                            </p:stCondLst>
                            <p:childTnLst>
                              <p:par>
                                <p:cTn id="23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7" dur="36774" fill="hold"/>
                                        <p:tgtEl>
                                          <p:spTgt spid="5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4"/>
          <p:cNvSpPr/>
          <p:nvPr/>
        </p:nvSpPr>
        <p:spPr>
          <a:xfrm>
            <a:off x="152280" y="2286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c Listen and complete the chart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听录音，完成表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7" descr="9"/>
          <p:cNvPicPr/>
          <p:nvPr/>
        </p:nvPicPr>
        <p:blipFill>
          <a:blip r:embed="rId1"/>
          <a:stretch/>
        </p:blipFill>
        <p:spPr>
          <a:xfrm>
            <a:off x="685800" y="1219320"/>
            <a:ext cx="7543800" cy="457200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29"/>
          <p:cNvSpPr/>
          <p:nvPr/>
        </p:nvSpPr>
        <p:spPr>
          <a:xfrm>
            <a:off x="2057400" y="2438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j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30"/>
          <p:cNvSpPr/>
          <p:nvPr/>
        </p:nvSpPr>
        <p:spPr>
          <a:xfrm>
            <a:off x="5562720" y="2438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1"/>
          <p:cNvSpPr/>
          <p:nvPr/>
        </p:nvSpPr>
        <p:spPr>
          <a:xfrm>
            <a:off x="2057400" y="3276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qui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32"/>
          <p:cNvSpPr/>
          <p:nvPr/>
        </p:nvSpPr>
        <p:spPr>
          <a:xfrm>
            <a:off x="5486400" y="3276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pur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33"/>
          <p:cNvSpPr/>
          <p:nvPr/>
        </p:nvSpPr>
        <p:spPr>
          <a:xfrm>
            <a:off x="2133720" y="41911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34"/>
          <p:cNvSpPr/>
          <p:nvPr/>
        </p:nvSpPr>
        <p:spPr>
          <a:xfrm>
            <a:off x="5562720" y="41911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S0307 3c" descr=""/>
          <p:cNvPicPr/>
          <p:nvPr/>
        </p:nvPicPr>
        <p:blipFill>
          <a:blip r:embed="rId2"/>
          <a:stretch/>
        </p:blipFill>
        <p:spPr>
          <a:xfrm>
            <a:off x="810108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8" dur="indefinite" restart="never" nodeType="tmRoot">
          <p:childTnLst>
            <p:seq>
              <p:cTn id="2349" dur="indefinite" nodeType="mainSeq">
                <p:childTnLst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4" fill="hold">
                      <p:stCondLst>
                        <p:cond delay="indefinite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8" fill="hold">
                      <p:stCondLst>
                        <p:cond delay="indefinite"/>
                      </p:stCondLst>
                      <p:childTnLst>
                        <p:par>
                          <p:cTn id="2379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2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2383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6" dur="69114" fill="hold"/>
                                        <p:tgtEl>
                                          <p:spTgt spid="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750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Pairwork: Talk about the colors of your own things.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620360" y="1196640"/>
            <a:ext cx="61930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: What’s this in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: It’s a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: Spell it, pl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: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: What color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: It’s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7" dur="indefinite" restart="never" nodeType="tmRoot">
          <p:childTnLst>
            <p:seq>
              <p:cTn id="2388" dur="indefinite" nodeType="mainSeq">
                <p:childTnLst>
                  <p:par>
                    <p:cTn id="2389" fill="hold">
                      <p:stCondLst>
                        <p:cond delay="indefinite"/>
                      </p:stCondLst>
                      <p:childTnLst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3" dur="5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fill="hold">
                      <p:stCondLst>
                        <p:cond delay="indefinite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8" dur="500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3" dur="500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8" dur="500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fill="hold">
                      <p:stCondLst>
                        <p:cond delay="indefinite"/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3" dur="500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8" dur="50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7746704cd5cc24f2d0c86a3f"/>
          <p:cNvPicPr/>
          <p:nvPr/>
        </p:nvPicPr>
        <p:blipFill>
          <a:blip r:embed="rId1"/>
          <a:srcRect l="0" t="0" r="0" b="29940"/>
          <a:stretch/>
        </p:blipFill>
        <p:spPr>
          <a:xfrm>
            <a:off x="299880" y="981000"/>
            <a:ext cx="1006560" cy="1511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tzzzzywc633060"/>
          <p:cNvPicPr/>
          <p:nvPr/>
        </p:nvPicPr>
        <p:blipFill>
          <a:blip r:embed="rId2"/>
          <a:stretch/>
        </p:blipFill>
        <p:spPr>
          <a:xfrm>
            <a:off x="6732720" y="4869000"/>
            <a:ext cx="915840" cy="934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070214081849923"/>
          <p:cNvPicPr/>
          <p:nvPr/>
        </p:nvPicPr>
        <p:blipFill>
          <a:blip r:embed="rId3"/>
          <a:stretch/>
        </p:blipFill>
        <p:spPr>
          <a:xfrm>
            <a:off x="3564000" y="4292640"/>
            <a:ext cx="1512720" cy="1351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钢笔">
            <a:hlinkClick r:id="rId4"/>
          </p:cNvPr>
          <p:cNvPicPr/>
          <p:nvPr/>
        </p:nvPicPr>
        <p:blipFill>
          <a:blip r:embed="rId5"/>
          <a:srcRect l="19253" t="8702" r="17083" b="17462"/>
          <a:stretch/>
        </p:blipFill>
        <p:spPr>
          <a:xfrm>
            <a:off x="5435640" y="4508640"/>
            <a:ext cx="1103400" cy="1366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979640" y="112536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A: What c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or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  <a:ea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is it?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050920" y="2492280"/>
            <a:ext cx="30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B: It’s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…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395280" y="2565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468360" y="2997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4140360" y="177336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] 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324000" y="49417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l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SP_057"/>
          <p:cNvPicPr/>
          <p:nvPr/>
        </p:nvPicPr>
        <p:blipFill>
          <a:blip r:embed="rId6"/>
          <a:stretch/>
        </p:blipFill>
        <p:spPr>
          <a:xfrm>
            <a:off x="1979640" y="4005360"/>
            <a:ext cx="1160280" cy="1800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3"/>
          <p:cNvSpPr/>
          <p:nvPr/>
        </p:nvSpPr>
        <p:spPr>
          <a:xfrm>
            <a:off x="1835280" y="5805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l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3564000" y="5805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r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e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5292720" y="5805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l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6443640" y="5805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g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7740720" y="4724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h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7524720" y="227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u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l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9" descr="u=1148168934,392251846&amp;fm=0&amp;gp=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740720" y="1052640"/>
            <a:ext cx="1071360" cy="1295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0"/>
          <p:cNvSpPr/>
          <p:nvPr/>
        </p:nvSpPr>
        <p:spPr>
          <a:xfrm>
            <a:off x="5724360" y="3573360"/>
            <a:ext cx="15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r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468360" y="5445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] 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ə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2" descr="MCj03871560000[1]"/>
          <p:cNvPicPr/>
          <p:nvPr/>
        </p:nvPicPr>
        <p:blipFill>
          <a:blip r:embed="rId9"/>
          <a:stretch/>
        </p:blipFill>
        <p:spPr>
          <a:xfrm>
            <a:off x="7354800" y="2924280"/>
            <a:ext cx="1789200" cy="1788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3" descr="MCj04348720000[1]"/>
          <p:cNvPicPr/>
          <p:nvPr/>
        </p:nvPicPr>
        <p:blipFill>
          <a:blip r:embed="rId10"/>
          <a:stretch/>
        </p:blipFill>
        <p:spPr>
          <a:xfrm>
            <a:off x="395280" y="3645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4" descr="MCj04078560000[1]"/>
          <p:cNvPicPr/>
          <p:nvPr/>
        </p:nvPicPr>
        <p:blipFill>
          <a:blip r:embed="rId11"/>
          <a:stretch/>
        </p:blipFill>
        <p:spPr>
          <a:xfrm>
            <a:off x="5796000" y="2060640"/>
            <a:ext cx="1387440" cy="1676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5"/>
          <p:cNvSpPr/>
          <p:nvPr/>
        </p:nvSpPr>
        <p:spPr>
          <a:xfrm>
            <a:off x="2124000" y="6165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3995640" y="6165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7"/>
          <p:cNvSpPr/>
          <p:nvPr/>
        </p:nvSpPr>
        <p:spPr>
          <a:xfrm>
            <a:off x="5580000" y="6165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u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8"/>
          <p:cNvSpPr/>
          <p:nvPr/>
        </p:nvSpPr>
        <p:spPr>
          <a:xfrm>
            <a:off x="6156360" y="39337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9"/>
          <p:cNvSpPr/>
          <p:nvPr/>
        </p:nvSpPr>
        <p:spPr>
          <a:xfrm>
            <a:off x="7740720" y="2637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ə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0"/>
          <p:cNvSpPr/>
          <p:nvPr/>
        </p:nvSpPr>
        <p:spPr>
          <a:xfrm>
            <a:off x="8101080" y="5229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1"/>
          <p:cNvSpPr/>
          <p:nvPr/>
        </p:nvSpPr>
        <p:spPr>
          <a:xfrm rot="10800000">
            <a:off x="6300720" y="616428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2"/>
          <p:cNvSpPr/>
          <p:nvPr/>
        </p:nvSpPr>
        <p:spPr>
          <a:xfrm>
            <a:off x="6804000" y="6165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4"/>
          <p:cNvSpPr/>
          <p:nvPr/>
        </p:nvSpPr>
        <p:spPr>
          <a:xfrm>
            <a:off x="228600" y="228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omework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课后作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5"/>
          <p:cNvSpPr/>
          <p:nvPr/>
        </p:nvSpPr>
        <p:spPr>
          <a:xfrm>
            <a:off x="990720" y="1523880"/>
            <a:ext cx="8001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3657"/>
                </a:solidFill>
                <a:latin typeface="Arial"/>
                <a:ea typeface="宋体"/>
              </a:rPr>
              <a:t>Oral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3657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13657"/>
                </a:solidFill>
                <a:latin typeface="Arial"/>
                <a:ea typeface="宋体"/>
              </a:rPr>
              <a:t>	</a:t>
            </a:r>
            <a:r>
              <a:rPr b="1" lang="en-US" sz="3200" spc="-1" strike="noStrike">
                <a:solidFill>
                  <a:srgbClr val="013657"/>
                </a:solidFill>
                <a:latin typeface="Arial"/>
                <a:ea typeface="宋体"/>
              </a:rPr>
              <a:t>  </a:t>
            </a:r>
            <a:r>
              <a:rPr b="1" lang="en-US" sz="3200" spc="-1" strike="noStrike">
                <a:solidFill>
                  <a:srgbClr val="013657"/>
                </a:solidFill>
                <a:latin typeface="Arial"/>
                <a:ea typeface="宋体"/>
              </a:rPr>
              <a:t>(1) </a:t>
            </a:r>
            <a:r>
              <a:rPr b="1" lang="zh-CN" sz="3200" spc="-1" strike="noStrike">
                <a:solidFill>
                  <a:srgbClr val="013657"/>
                </a:solidFill>
                <a:latin typeface="Arial"/>
                <a:ea typeface="宋体"/>
              </a:rPr>
              <a:t>并熟记本单元的词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3657"/>
                </a:solidFill>
                <a:latin typeface="Arial"/>
                <a:ea typeface="宋体"/>
              </a:rPr>
              <a:t>	</a:t>
            </a:r>
            <a:r>
              <a:rPr b="1" lang="en-US" sz="3200" spc="-1" strike="noStrike">
                <a:solidFill>
                  <a:srgbClr val="013657"/>
                </a:solidFill>
                <a:latin typeface="Arial"/>
                <a:ea typeface="宋体"/>
              </a:rPr>
              <a:t>  </a:t>
            </a:r>
            <a:r>
              <a:rPr b="1" lang="en-US" sz="3200" spc="-1" strike="noStrike">
                <a:solidFill>
                  <a:srgbClr val="013657"/>
                </a:solidFill>
                <a:latin typeface="Arial"/>
                <a:ea typeface="宋体"/>
              </a:rPr>
              <a:t>(2) </a:t>
            </a:r>
            <a:r>
              <a:rPr b="1" lang="zh-CN" sz="3200" spc="-1" strike="noStrike">
                <a:solidFill>
                  <a:srgbClr val="013657"/>
                </a:solidFill>
                <a:latin typeface="Arial"/>
                <a:ea typeface="宋体"/>
              </a:rPr>
              <a:t>朗读并背诵</a:t>
            </a:r>
            <a:r>
              <a:rPr b="1" lang="en-US" sz="3200" spc="-1" strike="noStrike">
                <a:solidFill>
                  <a:srgbClr val="013657"/>
                </a:solidFill>
                <a:latin typeface="Arial"/>
                <a:ea typeface="宋体"/>
              </a:rPr>
              <a:t>3b </a:t>
            </a:r>
            <a:r>
              <a:rPr b="1" lang="zh-CN" sz="3200" spc="-1" strike="noStrike">
                <a:solidFill>
                  <a:srgbClr val="013657"/>
                </a:solidFill>
                <a:latin typeface="Arial"/>
                <a:ea typeface="宋体"/>
              </a:rPr>
              <a:t>和</a:t>
            </a:r>
            <a:r>
              <a:rPr b="1" lang="en-US" sz="3200" spc="-1" strike="noStrike">
                <a:solidFill>
                  <a:srgbClr val="013657"/>
                </a:solidFill>
                <a:latin typeface="Arial"/>
                <a:ea typeface="宋体"/>
              </a:rPr>
              <a:t>3d</a:t>
            </a:r>
            <a:r>
              <a:rPr b="1" lang="zh-CN" sz="3200" spc="-1" strike="noStrike">
                <a:solidFill>
                  <a:srgbClr val="013657"/>
                </a:solidFill>
                <a:latin typeface="Arial"/>
                <a:ea typeface="宋体"/>
              </a:rPr>
              <a:t>上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3657"/>
                </a:solidFill>
                <a:latin typeface="Arial"/>
                <a:ea typeface="宋体"/>
              </a:rPr>
              <a:t>Writt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3657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013657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13657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13657"/>
                </a:solidFill>
                <a:latin typeface="Arial"/>
                <a:ea typeface="宋体"/>
              </a:rPr>
              <a:t>）抄写</a:t>
            </a:r>
            <a:r>
              <a:rPr b="1" lang="en-US" sz="3200" spc="-1" strike="noStrike">
                <a:solidFill>
                  <a:srgbClr val="013657"/>
                </a:solidFill>
                <a:latin typeface="Arial"/>
                <a:ea typeface="宋体"/>
              </a:rPr>
              <a:t>3b </a:t>
            </a:r>
            <a:r>
              <a:rPr b="1" lang="zh-CN" sz="3200" spc="-1" strike="noStrike">
                <a:solidFill>
                  <a:srgbClr val="013657"/>
                </a:solidFill>
                <a:latin typeface="Arial"/>
                <a:ea typeface="宋体"/>
              </a:rPr>
              <a:t>和</a:t>
            </a:r>
            <a:r>
              <a:rPr b="1" lang="en-US" sz="3200" spc="-1" strike="noStrike">
                <a:solidFill>
                  <a:srgbClr val="013657"/>
                </a:solidFill>
                <a:latin typeface="Arial"/>
                <a:ea typeface="宋体"/>
              </a:rPr>
              <a:t>3d</a:t>
            </a:r>
            <a:r>
              <a:rPr b="1" lang="zh-CN" sz="3200" spc="-1" strike="noStrike">
                <a:solidFill>
                  <a:srgbClr val="013657"/>
                </a:solidFill>
                <a:latin typeface="Arial"/>
                <a:ea typeface="宋体"/>
              </a:rPr>
              <a:t>上的句子一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3657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13657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13657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13657"/>
                </a:solidFill>
                <a:latin typeface="Arial"/>
                <a:ea typeface="宋体"/>
              </a:rPr>
              <a:t>）编一段新的对话，写在作业本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9" dur="indefinite" restart="never" nodeType="tmRoot">
          <p:childTnLst>
            <p:seq>
              <p:cTn id="2420" dur="indefinite" nodeType="mainSeq">
                <p:childTnLst>
                  <p:par>
                    <p:cTn id="2421" fill="hold">
                      <p:stCondLst>
                        <p:cond delay="indefinite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Box 5"/>
          <p:cNvSpPr/>
          <p:nvPr/>
        </p:nvSpPr>
        <p:spPr>
          <a:xfrm>
            <a:off x="4075560" y="270972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a–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标题 4"/>
          <p:cNvSpPr/>
          <p:nvPr/>
        </p:nvSpPr>
        <p:spPr>
          <a:xfrm>
            <a:off x="1763640" y="1486080"/>
            <a:ext cx="65818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Starter Unit 3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What color is it?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6172200" y="5791320"/>
            <a:ext cx="2743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2"/>
          <p:cNvSpPr/>
          <p:nvPr/>
        </p:nvSpPr>
        <p:spPr>
          <a:xfrm>
            <a:off x="844920" y="189000"/>
            <a:ext cx="33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3"/>
          <p:cNvSpPr/>
          <p:nvPr/>
        </p:nvSpPr>
        <p:spPr>
          <a:xfrm>
            <a:off x="826920" y="1557360"/>
            <a:ext cx="732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熟练掌握英语字母表，能够正确拼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字母大小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唱英语字母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 E I O 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五个元音字母常见的开、闭音节的发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4092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alk about the pictures.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438280" y="1752480"/>
            <a:ext cx="4772160" cy="31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: What’s this in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: It’s a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: Spell it, pl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: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: What color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: It’s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4" descr="黄钥匙2"/>
          <p:cNvPicPr/>
          <p:nvPr/>
        </p:nvPicPr>
        <p:blipFill>
          <a:blip r:embed="rId1"/>
          <a:srcRect l="64576" t="0" r="0" b="0"/>
          <a:stretch/>
        </p:blipFill>
        <p:spPr>
          <a:xfrm>
            <a:off x="304920" y="1295280"/>
            <a:ext cx="1295280" cy="16765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" descr="蓝尺子"/>
          <p:cNvPicPr/>
          <p:nvPr/>
        </p:nvPicPr>
        <p:blipFill>
          <a:blip r:embed="rId2"/>
          <a:srcRect l="0" t="61239" r="29297" b="1907"/>
          <a:stretch/>
        </p:blipFill>
        <p:spPr>
          <a:xfrm>
            <a:off x="152280" y="3048120"/>
            <a:ext cx="2286000" cy="7696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红钢笔"/>
          <p:cNvPicPr/>
          <p:nvPr/>
        </p:nvPicPr>
        <p:blipFill>
          <a:blip r:embed="rId3"/>
          <a:srcRect l="0" t="3534" r="49990" b="37174"/>
          <a:stretch/>
        </p:blipFill>
        <p:spPr>
          <a:xfrm>
            <a:off x="152280" y="4800600"/>
            <a:ext cx="1905120" cy="14590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7" descr="SP_057"/>
          <p:cNvPicPr/>
          <p:nvPr/>
        </p:nvPicPr>
        <p:blipFill>
          <a:blip r:embed="rId4"/>
          <a:stretch/>
        </p:blipFill>
        <p:spPr>
          <a:xfrm>
            <a:off x="2514600" y="4952880"/>
            <a:ext cx="1160640" cy="14954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8" descr="tzzzzywc633060"/>
          <p:cNvPicPr/>
          <p:nvPr/>
        </p:nvPicPr>
        <p:blipFill>
          <a:blip r:embed="rId5"/>
          <a:stretch/>
        </p:blipFill>
        <p:spPr>
          <a:xfrm>
            <a:off x="7086600" y="4191120"/>
            <a:ext cx="1193760" cy="12189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9" descr="070214081849923"/>
          <p:cNvPicPr/>
          <p:nvPr/>
        </p:nvPicPr>
        <p:blipFill>
          <a:blip r:embed="rId6"/>
          <a:stretch/>
        </p:blipFill>
        <p:spPr>
          <a:xfrm>
            <a:off x="4952880" y="5105520"/>
            <a:ext cx="1513080" cy="13507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0" descr="u=1148168934,392251846&amp;fm=0&amp;gp=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91520" y="1981080"/>
            <a:ext cx="1449360" cy="17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2" dur="indefinite" restart="never" nodeType="tmRoot">
          <p:childTnLst>
            <p:seq>
              <p:cTn id="2433" dur="indefinite" nodeType="mainSeq">
                <p:childTnLst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8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3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8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9" fill="hold">
                      <p:stCondLst>
                        <p:cond delay="indefinite"/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3" dur="5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8" dur="5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3" dur="500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4" fill="hold">
                      <p:stCondLst>
                        <p:cond delay="indefinite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fill="hold">
                      <p:stCondLst>
                        <p:cond delay="indefinite"/>
                      </p:stCondLst>
                      <p:childTnLst>
                        <p:par>
                          <p:cTn id="2484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fill="hold">
                      <p:stCondLst>
                        <p:cond delay="indefinite"/>
                      </p:stCondLst>
                      <p:childTnLst>
                        <p:par>
                          <p:cTn id="2488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WordArt 4"/>
          <p:cNvSpPr txBox="1"/>
          <p:nvPr/>
        </p:nvSpPr>
        <p:spPr>
          <a:xfrm>
            <a:off x="1676520" y="1143000"/>
            <a:ext cx="5486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8000"/>
                    </a:srgbClr>
                  </a:outerShdw>
                </a:effectLst>
                <a:latin typeface="宋体"/>
              </a:rPr>
              <a:t>Play a BINGO game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8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1523880" y="2286000"/>
          <a:ext cx="6095880" cy="40640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4" descr="10"/>
          <p:cNvPicPr/>
          <p:nvPr/>
        </p:nvPicPr>
        <p:blipFill>
          <a:blip r:embed="rId1"/>
          <a:stretch/>
        </p:blipFill>
        <p:spPr>
          <a:xfrm>
            <a:off x="152280" y="1828800"/>
            <a:ext cx="8839440" cy="289548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5"/>
          <p:cNvSpPr/>
          <p:nvPr/>
        </p:nvSpPr>
        <p:spPr>
          <a:xfrm>
            <a:off x="228600" y="22860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a Find the letters from A to Z. Write the small letter next to each big let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6"/>
          <p:cNvSpPr/>
          <p:nvPr/>
        </p:nvSpPr>
        <p:spPr>
          <a:xfrm>
            <a:off x="1219320" y="25909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4114800" y="3429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8"/>
          <p:cNvSpPr/>
          <p:nvPr/>
        </p:nvSpPr>
        <p:spPr>
          <a:xfrm>
            <a:off x="2819520" y="3429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9"/>
          <p:cNvSpPr/>
          <p:nvPr/>
        </p:nvSpPr>
        <p:spPr>
          <a:xfrm>
            <a:off x="2514600" y="2666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0"/>
          <p:cNvSpPr/>
          <p:nvPr/>
        </p:nvSpPr>
        <p:spPr>
          <a:xfrm>
            <a:off x="2209680" y="1905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1"/>
          <p:cNvSpPr/>
          <p:nvPr/>
        </p:nvSpPr>
        <p:spPr>
          <a:xfrm>
            <a:off x="3200400" y="2666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2"/>
          <p:cNvSpPr/>
          <p:nvPr/>
        </p:nvSpPr>
        <p:spPr>
          <a:xfrm>
            <a:off x="3809880" y="2666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3"/>
          <p:cNvSpPr/>
          <p:nvPr/>
        </p:nvSpPr>
        <p:spPr>
          <a:xfrm>
            <a:off x="4419720" y="2666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5257800" y="1905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5105520" y="25909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5715000" y="2666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6400800" y="2666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410080" y="3429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4800600" y="3429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6019920" y="1905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1"/>
          <p:cNvSpPr/>
          <p:nvPr/>
        </p:nvSpPr>
        <p:spPr>
          <a:xfrm>
            <a:off x="6553080" y="18288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2"/>
          <p:cNvSpPr/>
          <p:nvPr/>
        </p:nvSpPr>
        <p:spPr>
          <a:xfrm>
            <a:off x="990720" y="1905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3"/>
          <p:cNvSpPr/>
          <p:nvPr/>
        </p:nvSpPr>
        <p:spPr>
          <a:xfrm>
            <a:off x="2819520" y="1905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4"/>
          <p:cNvSpPr/>
          <p:nvPr/>
        </p:nvSpPr>
        <p:spPr>
          <a:xfrm>
            <a:off x="1828800" y="2666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5"/>
          <p:cNvSpPr/>
          <p:nvPr/>
        </p:nvSpPr>
        <p:spPr>
          <a:xfrm>
            <a:off x="3429000" y="1905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26"/>
          <p:cNvSpPr/>
          <p:nvPr/>
        </p:nvSpPr>
        <p:spPr>
          <a:xfrm>
            <a:off x="4724280" y="1905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7"/>
          <p:cNvSpPr/>
          <p:nvPr/>
        </p:nvSpPr>
        <p:spPr>
          <a:xfrm>
            <a:off x="3505320" y="3429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8"/>
          <p:cNvSpPr/>
          <p:nvPr/>
        </p:nvSpPr>
        <p:spPr>
          <a:xfrm>
            <a:off x="1600200" y="1905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9"/>
          <p:cNvSpPr/>
          <p:nvPr/>
        </p:nvSpPr>
        <p:spPr>
          <a:xfrm>
            <a:off x="2133720" y="34290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0"/>
          <p:cNvSpPr/>
          <p:nvPr/>
        </p:nvSpPr>
        <p:spPr>
          <a:xfrm>
            <a:off x="4114800" y="1905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31"/>
          <p:cNvSpPr/>
          <p:nvPr/>
        </p:nvSpPr>
        <p:spPr>
          <a:xfrm>
            <a:off x="1523880" y="3429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5" dur="indefinite" restart="never" nodeType="tmRoot">
          <p:childTnLst>
            <p:seq>
              <p:cTn id="2496" dur="indefinite" nodeType="mainSeq">
                <p:childTnLst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5" fill="hold">
                      <p:stCondLst>
                        <p:cond delay="indefinite"/>
                      </p:stCondLst>
                      <p:childTnLst>
                        <p:par>
                          <p:cTn id="2526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fill="hold">
                      <p:stCondLst>
                        <p:cond delay="indefinite"/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0" fill="hold">
                      <p:stCondLst>
                        <p:cond delay="indefinite"/>
                      </p:stCondLst>
                      <p:childTnLst>
                        <p:par>
                          <p:cTn id="2601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5" fill="hold">
                      <p:stCondLst>
                        <p:cond delay="indefinite"/>
                      </p:stCondLst>
                      <p:childTnLst>
                        <p:par>
                          <p:cTn id="2606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delay="indefinite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0" fill="hold">
                      <p:stCondLst>
                        <p:cond delay="indefinite"/>
                      </p:stCondLst>
                      <p:childTnLst>
                        <p:par>
                          <p:cTn id="2631" fill="hold">
                            <p:stCondLst>
                              <p:cond delay="0"/>
                            </p:stCondLst>
                            <p:childTnLst>
                              <p:par>
                                <p:cTn id="2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2" descr="21"/>
          <p:cNvPicPr/>
          <p:nvPr/>
        </p:nvPicPr>
        <p:blipFill>
          <a:blip r:embed="rId1"/>
          <a:stretch/>
        </p:blipFill>
        <p:spPr>
          <a:xfrm>
            <a:off x="609480" y="838080"/>
            <a:ext cx="7162920" cy="685800"/>
          </a:xfrm>
          <a:prstGeom prst="rect">
            <a:avLst/>
          </a:prstGeom>
          <a:ln w="0">
            <a:noFill/>
          </a:ln>
        </p:spPr>
      </p:pic>
      <p:sp>
        <p:nvSpPr>
          <p:cNvPr id="655" name="Rectangle 4"/>
          <p:cNvSpPr/>
          <p:nvPr/>
        </p:nvSpPr>
        <p:spPr>
          <a:xfrm>
            <a:off x="5423040" y="3257640"/>
            <a:ext cx="6769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6"/>
          <p:cNvSpPr/>
          <p:nvPr/>
        </p:nvSpPr>
        <p:spPr>
          <a:xfrm>
            <a:off x="5176800" y="2782800"/>
            <a:ext cx="6769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9" descr="11"/>
          <p:cNvPicPr/>
          <p:nvPr/>
        </p:nvPicPr>
        <p:blipFill>
          <a:blip r:embed="rId2"/>
          <a:stretch/>
        </p:blipFill>
        <p:spPr>
          <a:xfrm>
            <a:off x="304920" y="1828800"/>
            <a:ext cx="8381880" cy="3581280"/>
          </a:xfrm>
          <a:prstGeom prst="rect">
            <a:avLst/>
          </a:prstGeom>
          <a:ln w="0">
            <a:noFill/>
          </a:ln>
        </p:spPr>
      </p:pic>
      <p:sp>
        <p:nvSpPr>
          <p:cNvPr id="658" name="Text Box 10"/>
          <p:cNvSpPr/>
          <p:nvPr/>
        </p:nvSpPr>
        <p:spPr>
          <a:xfrm>
            <a:off x="228600" y="152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b Listen and sing the alphabet song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听字母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SU34b.mp3" descr=""/>
          <p:cNvPicPr/>
          <p:nvPr/>
        </p:nvPicPr>
        <p:blipFill>
          <a:blip r:embed="rId3"/>
          <a:stretch/>
        </p:blipFill>
        <p:spPr>
          <a:xfrm>
            <a:off x="457200" y="5562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60" name="S0308 4b" descr=""/>
          <p:cNvPicPr/>
          <p:nvPr/>
        </p:nvPicPr>
        <p:blipFill>
          <a:blip r:embed="rId4"/>
          <a:stretch/>
        </p:blipFill>
        <p:spPr>
          <a:xfrm>
            <a:off x="759636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5" dur="indefinite" restart="never" nodeType="tmRoot">
          <p:childTnLst>
            <p:seq>
              <p:cTn id="2636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2637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0" dur="47413" fill="hold"/>
                                        <p:tgtEl>
                                          <p:spTgt spid="6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1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2642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2643" fill="hold">
                            <p:stCondLst>
                              <p:cond delay="0"/>
                            </p:stCondLst>
                            <p:childTnLst>
                              <p:par>
                                <p:cTn id="26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5" dur="52944" fill="hold"/>
                                        <p:tgtEl>
                                          <p:spTgt spid="6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4" descr="12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662" name="Text Box 5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c  Listen and repeat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听录音并跟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6"/>
          <p:cNvSpPr/>
          <p:nvPr/>
        </p:nvSpPr>
        <p:spPr>
          <a:xfrm>
            <a:off x="458640" y="13716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/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ei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7"/>
          <p:cNvSpPr/>
          <p:nvPr/>
        </p:nvSpPr>
        <p:spPr>
          <a:xfrm>
            <a:off x="456840" y="23623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/i: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8"/>
          <p:cNvSpPr/>
          <p:nvPr/>
        </p:nvSpPr>
        <p:spPr>
          <a:xfrm>
            <a:off x="8306640" y="236232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/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9"/>
          <p:cNvSpPr/>
          <p:nvPr/>
        </p:nvSpPr>
        <p:spPr>
          <a:xfrm>
            <a:off x="381240" y="32767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/a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0"/>
          <p:cNvSpPr/>
          <p:nvPr/>
        </p:nvSpPr>
        <p:spPr>
          <a:xfrm>
            <a:off x="8216280" y="320040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/ </a:t>
            </a:r>
            <a:r>
              <a:rPr b="1" lang="en-US" sz="2400" spc="-1" strike="noStrike">
                <a:solidFill>
                  <a:srgbClr val="ff0000"/>
                </a:solidFill>
                <a:latin typeface="Kingsoft Phonetic Plain"/>
                <a:ea typeface="Kingsoft Phonetic Plain"/>
              </a:rPr>
              <a:t>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1"/>
          <p:cNvSpPr/>
          <p:nvPr/>
        </p:nvSpPr>
        <p:spPr>
          <a:xfrm>
            <a:off x="491400" y="411480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/</a:t>
            </a:r>
            <a:r>
              <a:rPr b="1" lang="en-US" sz="2400" spc="-1" strike="noStrike">
                <a:solidFill>
                  <a:srgbClr val="ff0000"/>
                </a:solidFill>
                <a:latin typeface="Kingsoft Phonetic Plain"/>
                <a:ea typeface="Kingsoft Phonetic Plain"/>
              </a:rPr>
              <a:t>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2"/>
          <p:cNvSpPr/>
          <p:nvPr/>
        </p:nvSpPr>
        <p:spPr>
          <a:xfrm>
            <a:off x="8256240" y="4191120"/>
            <a:ext cx="5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/</a:t>
            </a:r>
            <a:r>
              <a:rPr b="1" lang="en-US" sz="2400" spc="-1" strike="noStrike">
                <a:solidFill>
                  <a:srgbClr val="ff0000"/>
                </a:solidFill>
                <a:latin typeface="Kingsoft Phonetic Plain"/>
                <a:ea typeface="Kingsoft Phonetic Plain"/>
              </a:rPr>
              <a:t>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3"/>
          <p:cNvSpPr/>
          <p:nvPr/>
        </p:nvSpPr>
        <p:spPr>
          <a:xfrm>
            <a:off x="456840" y="502920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/ju: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4"/>
          <p:cNvSpPr/>
          <p:nvPr/>
        </p:nvSpPr>
        <p:spPr>
          <a:xfrm>
            <a:off x="4038480" y="533412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/u: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5"/>
          <p:cNvSpPr/>
          <p:nvPr/>
        </p:nvSpPr>
        <p:spPr>
          <a:xfrm>
            <a:off x="8444520" y="15238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/</a:t>
            </a:r>
            <a:r>
              <a:rPr b="1" lang="en-US" sz="2400" spc="-1" strike="noStrike">
                <a:solidFill>
                  <a:srgbClr val="ff0000"/>
                </a:solidFill>
                <a:latin typeface="Kingsoft Phonetic Plain"/>
                <a:ea typeface="Kingsoft Phonetic Plain"/>
              </a:rPr>
              <a:t>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6"/>
          <p:cNvSpPr/>
          <p:nvPr/>
        </p:nvSpPr>
        <p:spPr>
          <a:xfrm>
            <a:off x="3962160" y="487692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/ju: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7"/>
          <p:cNvSpPr/>
          <p:nvPr/>
        </p:nvSpPr>
        <p:spPr>
          <a:xfrm>
            <a:off x="4039920" y="14479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/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ei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8"/>
          <p:cNvSpPr/>
          <p:nvPr/>
        </p:nvSpPr>
        <p:spPr>
          <a:xfrm>
            <a:off x="4266720" y="236232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/i: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9"/>
          <p:cNvSpPr/>
          <p:nvPr/>
        </p:nvSpPr>
        <p:spPr>
          <a:xfrm>
            <a:off x="4115160" y="32767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/a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20"/>
          <p:cNvSpPr/>
          <p:nvPr/>
        </p:nvSpPr>
        <p:spPr>
          <a:xfrm>
            <a:off x="4073040" y="419112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/</a:t>
            </a:r>
            <a:r>
              <a:rPr b="1" lang="en-US" sz="2400" spc="-1" strike="noStrike">
                <a:solidFill>
                  <a:srgbClr val="ff0000"/>
                </a:solidFill>
                <a:latin typeface="Kingsoft Phonetic Plain"/>
                <a:ea typeface="Kingsoft Phonetic Plain"/>
              </a:rPr>
              <a:t>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21"/>
          <p:cNvSpPr/>
          <p:nvPr/>
        </p:nvSpPr>
        <p:spPr>
          <a:xfrm>
            <a:off x="8332560" y="51055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/</a:t>
            </a:r>
            <a:r>
              <a:rPr b="1" lang="en-US" sz="2400" spc="-1" strike="noStrike">
                <a:solidFill>
                  <a:srgbClr val="ff0000"/>
                </a:solidFill>
                <a:latin typeface="Kingsoft Phonetic Plain"/>
                <a:ea typeface="Kingsoft Phonetic Plain"/>
              </a:rPr>
              <a:t>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S0309 4c" descr=""/>
          <p:cNvPicPr/>
          <p:nvPr/>
        </p:nvPicPr>
        <p:blipFill>
          <a:blip r:embed="rId2"/>
          <a:stretch/>
        </p:blipFill>
        <p:spPr>
          <a:xfrm>
            <a:off x="550872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6" dur="indefinite" restart="never" nodeType="tmRoot">
          <p:childTnLst>
            <p:seq>
              <p:cTn id="2647" dur="indefinite" nodeType="mainSeq">
                <p:childTnLst>
                  <p:par>
                    <p:cTn id="2648" fill="hold">
                      <p:stCondLst>
                        <p:cond delay="indefinite"/>
                      </p:stCondLst>
                      <p:childTnLst>
                        <p:par>
                          <p:cTn id="2649" fill="hold">
                            <p:stCondLst>
                              <p:cond delay="0"/>
                            </p:stCondLst>
                            <p:childTnLst>
                              <p:par>
                                <p:cTn id="2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0" fill="hold">
                      <p:stCondLst>
                        <p:cond delay="indefinite"/>
                      </p:stCondLst>
                      <p:childTnLst>
                        <p:par>
                          <p:cTn id="2741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fill="hold">
                      <p:stCondLst>
                        <p:cond delay="indefinite"/>
                      </p:stCondLst>
                      <p:childTnLst>
                        <p:par>
                          <p:cTn id="2759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8" fill="hold">
                      <p:stCondLst>
                        <p:cond delay="indefinite"/>
                      </p:stCondLst>
                      <p:childTnLst>
                        <p:par>
                          <p:cTn id="2849" fill="hold">
                            <p:stCondLst>
                              <p:cond delay="0"/>
                            </p:stCondLst>
                            <p:childTnLst>
                              <p:par>
                                <p:cTn id="28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6" fill="hold">
                      <p:stCondLst>
                        <p:cond delay="indefinite"/>
                      </p:stCondLst>
                      <p:childTnLst>
                        <p:par>
                          <p:cTn id="2867" fill="hold">
                            <p:stCondLst>
                              <p:cond delay="0"/>
                            </p:stCondLst>
                            <p:childTnLst>
                              <p:par>
                                <p:cTn id="28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4" restart="whenNotActive" nodeType="interactiveSeq" fill="hold">
                <p:stCondLst>
                  <p:cond evt="onClick">
                    <p:tgtEl>
                      <p:spTgt spid="679"/>
                    </p:tgtEl>
                  </p:cond>
                </p:stCondLst>
                <p:childTnLst>
                  <p:par>
                    <p:cTn id="2885" fill="hold">
                      <p:stCondLst>
                        <p:cond evt="onClick">
                          <p:tgtEl>
                            <p:spTgt spid="679"/>
                          </p:tgtEl>
                        </p:cond>
                      </p:stCondLst>
                      <p:childTnLst>
                        <p:par>
                          <p:cTn id="2886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8" dur="130396" fill="hold"/>
                                        <p:tgtEl>
                                          <p:spTgt spid="6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4" descr="13"/>
          <p:cNvPicPr/>
          <p:nvPr/>
        </p:nvPicPr>
        <p:blipFill>
          <a:blip r:embed="rId1"/>
          <a:stretch/>
        </p:blipFill>
        <p:spPr>
          <a:xfrm>
            <a:off x="181080" y="1054080"/>
            <a:ext cx="8610480" cy="419112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5"/>
          <p:cNvSpPr/>
          <p:nvPr/>
        </p:nvSpPr>
        <p:spPr>
          <a:xfrm>
            <a:off x="152280" y="152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d  Listen and read the chant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听一听，唱一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SU34d.mp3" descr=""/>
          <p:cNvPicPr/>
          <p:nvPr/>
        </p:nvPicPr>
        <p:blipFill>
          <a:blip r:embed="rId2"/>
          <a:stretch/>
        </p:blipFill>
        <p:spPr>
          <a:xfrm>
            <a:off x="457200" y="56386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83" name="S0310 4d" descr=""/>
          <p:cNvPicPr/>
          <p:nvPr/>
        </p:nvPicPr>
        <p:blipFill>
          <a:blip r:embed="rId3"/>
          <a:stretch/>
        </p:blipFill>
        <p:spPr>
          <a:xfrm>
            <a:off x="702144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9" dur="indefinite" restart="never" nodeType="tmRoot">
          <p:childTnLst>
            <p:seq>
              <p:cTn id="2890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2891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4" dur="47987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5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2896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2897" fill="hold">
                            <p:stCondLst>
                              <p:cond delay="0"/>
                            </p:stCondLst>
                            <p:childTnLst>
                              <p:par>
                                <p:cTn id="28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9" dur="52761" fill="hold"/>
                                        <p:tgtEl>
                                          <p:spTgt spid="6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4"/>
          <p:cNvSpPr/>
          <p:nvPr/>
        </p:nvSpPr>
        <p:spPr>
          <a:xfrm>
            <a:off x="152280" y="1522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omework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课后作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685800" y="1676520"/>
            <a:ext cx="7162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按顺序背诵并默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个字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熟记本单元所学的单词和句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学习音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556000" y="2997360"/>
            <a:ext cx="4103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: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What color</a:t>
            </a:r>
            <a:r>
              <a:rPr b="1" lang="en-US" sz="3600" spc="-1" strike="noStrike">
                <a:solidFill>
                  <a:srgbClr val="00cc00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is it?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556000" y="3500280"/>
            <a:ext cx="303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: It’s  …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468360" y="4365720"/>
            <a:ext cx="18716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0080"/>
                </a:solidFill>
                <a:latin typeface="Arial"/>
                <a:ea typeface="宋体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2411280" y="5157720"/>
            <a:ext cx="1871640" cy="122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宋体"/>
              </a:rPr>
              <a:t>V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4572000" y="5084640"/>
            <a:ext cx="18716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bbe0e3"/>
                </a:solidFill>
                <a:latin typeface="Arial"/>
                <a:ea typeface="宋体"/>
              </a:rPr>
              <a:t>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6588000" y="4292640"/>
            <a:ext cx="18716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8000"/>
                </a:solidFill>
                <a:latin typeface="Arial"/>
                <a:ea typeface="宋体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8"/>
          <p:cNvSpPr/>
          <p:nvPr/>
        </p:nvSpPr>
        <p:spPr>
          <a:xfrm>
            <a:off x="7093080" y="2708280"/>
            <a:ext cx="18716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9"/>
          <p:cNvSpPr/>
          <p:nvPr/>
        </p:nvSpPr>
        <p:spPr>
          <a:xfrm>
            <a:off x="6948360" y="1197000"/>
            <a:ext cx="18716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0000"/>
                </a:solidFill>
                <a:latin typeface="Arial"/>
                <a:ea typeface="宋体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0"/>
          <p:cNvSpPr/>
          <p:nvPr/>
        </p:nvSpPr>
        <p:spPr>
          <a:xfrm>
            <a:off x="179280" y="1197000"/>
            <a:ext cx="18716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1"/>
          <p:cNvSpPr/>
          <p:nvPr/>
        </p:nvSpPr>
        <p:spPr>
          <a:xfrm>
            <a:off x="250920" y="2781360"/>
            <a:ext cx="1871640" cy="122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  <a:ea typeface="宋体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2556000" y="1844640"/>
            <a:ext cx="4103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: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Wha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’s this?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2556000" y="2421000"/>
            <a:ext cx="303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: It’s  …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WordArt 2"/>
          <p:cNvSpPr txBox="1"/>
          <p:nvPr/>
        </p:nvSpPr>
        <p:spPr>
          <a:xfrm>
            <a:off x="3352680" y="0"/>
            <a:ext cx="19432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+mn-ea"/>
              </a:rPr>
              <a:t>学习音标</a:t>
            </a:r>
            <a:endParaRPr b="1" lang="en-US" sz="18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+mn-ea"/>
              <a:ea typeface="+mn-ea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457200" y="1295280"/>
            <a:ext cx="3657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[i:] 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s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e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e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         [I]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 min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e bab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[</a:t>
            </a:r>
            <a:r>
              <a:rPr b="1" lang="en-US" sz="32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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:]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d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oo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f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our a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    [</a:t>
            </a:r>
            <a:r>
              <a:rPr b="1" lang="en-US" sz="32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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] n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                  [u:] r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er r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o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 d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[</a:t>
            </a:r>
            <a:r>
              <a:rPr b="1" lang="en-US" sz="32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] b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o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k               [</a:t>
            </a:r>
            <a:r>
              <a:rPr b="1" lang="en-US" sz="32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:] 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b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i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 n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u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e [</a:t>
            </a:r>
            <a:r>
              <a:rPr b="1" lang="en-US" sz="32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] work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b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nan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[e]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g 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e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 m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ny        [</a:t>
            </a:r>
            <a:r>
              <a:rPr b="1" lang="en-US" sz="32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]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4419720" y="1295280"/>
            <a:ext cx="37335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[</a:t>
            </a:r>
            <a:r>
              <a:rPr b="1" lang="en-US" sz="32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:] cl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s c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f          [</a:t>
            </a:r>
            <a:r>
              <a:rPr b="1" lang="en-US" sz="32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]  b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  s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n                  [e</a:t>
            </a:r>
            <a:r>
              <a:rPr b="1" lang="en-US" sz="32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] l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e gr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e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               [</a:t>
            </a:r>
            <a:r>
              <a:rPr b="1" lang="en-US" sz="32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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] n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kn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o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c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o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       [a</a:t>
            </a:r>
            <a:r>
              <a:rPr b="1" lang="en-US" sz="32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] 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b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l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ig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             [a</a:t>
            </a:r>
            <a:r>
              <a:rPr b="1" lang="en-US" sz="32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] 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o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o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               [</a:t>
            </a:r>
            <a:r>
              <a:rPr b="1" lang="en-US" sz="32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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] b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o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n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o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e                     [</a:t>
            </a:r>
            <a:r>
              <a:rPr b="1" lang="en-US" sz="32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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] 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e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[e</a:t>
            </a:r>
            <a:r>
              <a:rPr b="1" lang="en-US" sz="32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] t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t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e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 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[</a:t>
            </a:r>
            <a:r>
              <a:rPr b="1" lang="en-US" sz="32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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] s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u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WordArt 5"/>
          <p:cNvSpPr txBox="1"/>
          <p:nvPr/>
        </p:nvSpPr>
        <p:spPr>
          <a:xfrm>
            <a:off x="539640" y="620640"/>
            <a:ext cx="914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+mn-ea"/>
              </a:rPr>
              <a:t>元音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+mn-ea"/>
              <a:ea typeface="+mn-ea"/>
            </a:endParaRPr>
          </a:p>
        </p:txBody>
      </p:sp>
    </p:spTree>
  </p:cSld>
  <p:timing>
    <p:tnLst>
      <p:par>
        <p:cTn id="2900" dur="indefinite" restart="never" nodeType="tmRoot">
          <p:childTnLst>
            <p:seq>
              <p:cTn id="2901" dur="indefinite" nodeType="mainSeq">
                <p:childTnLst>
                  <p:par>
                    <p:cTn id="2902" fill="hold">
                      <p:stCondLst>
                        <p:cond delay="indefinite"/>
                      </p:stCondLst>
                      <p:childTnLst>
                        <p:par>
                          <p:cTn id="2903" fill="hold">
                            <p:stCondLst>
                              <p:cond delay="0"/>
                            </p:stCondLst>
                            <p:childTnLst>
                              <p:par>
                                <p:cTn id="2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7" fill="hold">
                      <p:stCondLst>
                        <p:cond delay="indefinite"/>
                      </p:stCondLst>
                      <p:childTnLst>
                        <p:par>
                          <p:cTn id="2908" fill="hold">
                            <p:stCondLst>
                              <p:cond delay="0"/>
                            </p:stCondLst>
                            <p:childTnLst>
                              <p:par>
                                <p:cTn id="2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WordArt 2"/>
          <p:cNvSpPr txBox="1"/>
          <p:nvPr/>
        </p:nvSpPr>
        <p:spPr>
          <a:xfrm>
            <a:off x="3657600" y="228600"/>
            <a:ext cx="914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黑体"/>
              </a:rPr>
              <a:t>辅音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91" name="Text Box 3"/>
          <p:cNvSpPr/>
          <p:nvPr/>
        </p:nvSpPr>
        <p:spPr>
          <a:xfrm>
            <a:off x="609480" y="914400"/>
            <a:ext cx="350676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[p]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p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[b]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[t]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ea                       [d]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d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ay                     [k]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ey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lo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ck C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ris   [g]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  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ate                   [t</a:t>
            </a:r>
            <a:r>
              <a:rPr b="1" lang="en-US" sz="30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]  te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ch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w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tch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[d</a:t>
            </a:r>
            <a:r>
              <a:rPr b="1" lang="en-US" sz="30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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]  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ge 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eography [f]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f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or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p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one                      [v]  fi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v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e                    [</a:t>
            </a:r>
            <a:r>
              <a:rPr b="1" lang="en-US" sz="30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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]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t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ank                [</a:t>
            </a:r>
            <a:r>
              <a:rPr b="1" lang="en-US" sz="30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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]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t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5181480" y="990720"/>
            <a:ext cx="309564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[s]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ix  ni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c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[z]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  z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oo  no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s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[</a:t>
            </a:r>
            <a:r>
              <a:rPr b="1" lang="en-US" sz="30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]  fi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sh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ure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[</a:t>
            </a:r>
            <a:r>
              <a:rPr b="1" lang="en-US" sz="30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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]  plea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ure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[h]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  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ome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[m]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m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m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[n]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ow t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[</a:t>
            </a:r>
            <a:r>
              <a:rPr b="1" lang="en-US" sz="30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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]  thi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k   si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ng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[w]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w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e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w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[l]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l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et  t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ll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[r]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r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ed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[j]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y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2" dur="indefinite" restart="never" nodeType="tmRoot">
          <p:childTnLst>
            <p:seq>
              <p:cTn id="2913" dur="indefinite" nodeType="mainSeq">
                <p:childTnLst>
                  <p:par>
                    <p:cTn id="2914" fill="hold">
                      <p:stCondLst>
                        <p:cond delay="indefinite"/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1"/>
          <p:cNvPicPr/>
          <p:nvPr/>
        </p:nvPicPr>
        <p:blipFill>
          <a:blip r:embed="rId1"/>
          <a:stretch/>
        </p:blipFill>
        <p:spPr>
          <a:xfrm>
            <a:off x="3335400" y="692280"/>
            <a:ext cx="5783040" cy="6165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a  Look at the picture. Write the letter for each col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4"/>
          <p:cNvSpPr/>
          <p:nvPr/>
        </p:nvSpPr>
        <p:spPr>
          <a:xfrm>
            <a:off x="826920" y="1341360"/>
            <a:ext cx="503280" cy="35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826920" y="1844640"/>
            <a:ext cx="503280" cy="358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826920" y="2349360"/>
            <a:ext cx="503280" cy="358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7"/>
          <p:cNvSpPr/>
          <p:nvPr/>
        </p:nvSpPr>
        <p:spPr>
          <a:xfrm>
            <a:off x="826920" y="2924280"/>
            <a:ext cx="50328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"/>
          <p:cNvSpPr/>
          <p:nvPr/>
        </p:nvSpPr>
        <p:spPr>
          <a:xfrm>
            <a:off x="826920" y="3500280"/>
            <a:ext cx="503280" cy="358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"/>
          <p:cNvSpPr/>
          <p:nvPr/>
        </p:nvSpPr>
        <p:spPr>
          <a:xfrm>
            <a:off x="826920" y="4076640"/>
            <a:ext cx="50328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0"/>
          <p:cNvSpPr/>
          <p:nvPr/>
        </p:nvSpPr>
        <p:spPr>
          <a:xfrm>
            <a:off x="826920" y="4581360"/>
            <a:ext cx="503280" cy="358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1"/>
          <p:cNvSpPr/>
          <p:nvPr/>
        </p:nvSpPr>
        <p:spPr>
          <a:xfrm>
            <a:off x="826920" y="5157720"/>
            <a:ext cx="503280" cy="358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1692360" y="1268280"/>
            <a:ext cx="12952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1908000" y="1197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1908000" y="17002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1908000" y="227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1908000" y="2852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1908000" y="33577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1908000" y="39337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1908000" y="443700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1908000" y="5013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0" y="189000"/>
            <a:ext cx="59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b  Listen and repeat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听录音并跟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pic_128277"/>
          <p:cNvPicPr/>
          <p:nvPr/>
        </p:nvPicPr>
        <p:blipFill>
          <a:blip r:embed="rId1"/>
          <a:srcRect l="22665" t="26045" r="34312" b="46197"/>
          <a:stretch/>
        </p:blipFill>
        <p:spPr>
          <a:xfrm>
            <a:off x="-249120" y="836640"/>
            <a:ext cx="5613120" cy="352908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4"/>
          <p:cNvSpPr/>
          <p:nvPr/>
        </p:nvSpPr>
        <p:spPr>
          <a:xfrm>
            <a:off x="-301680" y="1052640"/>
            <a:ext cx="2857680" cy="504720"/>
          </a:xfrm>
          <a:prstGeom prst="wedgeEllipseCallout">
            <a:avLst>
              <a:gd name="adj1" fmla="val 23166"/>
              <a:gd name="adj2" fmla="val 91824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What’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thi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3492360" y="907920"/>
            <a:ext cx="1800360" cy="505080"/>
          </a:xfrm>
          <a:prstGeom prst="wedgeEllipseCallout">
            <a:avLst>
              <a:gd name="adj1" fmla="val -23458"/>
              <a:gd name="adj2" fmla="val 88995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It’s V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-249120" y="3860640"/>
            <a:ext cx="3525840" cy="720720"/>
          </a:xfrm>
          <a:prstGeom prst="wedgeEllipseCallout">
            <a:avLst>
              <a:gd name="adj1" fmla="val 967"/>
              <a:gd name="adj2" fmla="val -88106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What color is it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2340000" y="3284640"/>
            <a:ext cx="1800360" cy="504720"/>
          </a:xfrm>
          <a:prstGeom prst="wedgeEllipseCallout">
            <a:avLst>
              <a:gd name="adj1" fmla="val 0"/>
              <a:gd name="adj2" fmla="val -108175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It’s re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4356000" y="2492280"/>
            <a:ext cx="4788000" cy="436572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9"/>
          <p:cNvSpPr/>
          <p:nvPr/>
        </p:nvSpPr>
        <p:spPr>
          <a:xfrm>
            <a:off x="3924360" y="3789360"/>
            <a:ext cx="2736720" cy="934920"/>
          </a:xfrm>
          <a:prstGeom prst="wedgeEllipseCallout">
            <a:avLst>
              <a:gd name="adj1" fmla="val 26046"/>
              <a:gd name="adj2" fmla="val 82935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What’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tha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/>
          <p:cNvSpPr/>
          <p:nvPr/>
        </p:nvSpPr>
        <p:spPr>
          <a:xfrm>
            <a:off x="7594560" y="4869000"/>
            <a:ext cx="1549440" cy="647640"/>
          </a:xfrm>
          <a:prstGeom prst="wedgeEllipseCallout">
            <a:avLst>
              <a:gd name="adj1" fmla="val 8092"/>
              <a:gd name="adj2" fmla="val -84314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It’s Z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1"/>
          <p:cNvSpPr/>
          <p:nvPr/>
        </p:nvSpPr>
        <p:spPr>
          <a:xfrm>
            <a:off x="4140360" y="5877000"/>
            <a:ext cx="2592360" cy="981000"/>
          </a:xfrm>
          <a:prstGeom prst="wedgeEllipseCallout">
            <a:avLst>
              <a:gd name="adj1" fmla="val 30402"/>
              <a:gd name="adj2" fmla="val -8333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What color is it?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2"/>
          <p:cNvSpPr/>
          <p:nvPr/>
        </p:nvSpPr>
        <p:spPr>
          <a:xfrm>
            <a:off x="6948360" y="6165720"/>
            <a:ext cx="2195640" cy="692280"/>
          </a:xfrm>
          <a:prstGeom prst="wedgeEllipseCallout">
            <a:avLst>
              <a:gd name="adj1" fmla="val 10449"/>
              <a:gd name="adj2" fmla="val -113074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It’s black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1476360" y="48704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this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指近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5869080" y="1125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that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指远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S0302 1b" descr=""/>
          <p:cNvPicPr/>
          <p:nvPr/>
        </p:nvPicPr>
        <p:blipFill>
          <a:blip r:embed="rId3"/>
          <a:stretch/>
        </p:blipFill>
        <p:spPr>
          <a:xfrm>
            <a:off x="5724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4" dur="3066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0" y="189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actice the conversations and make your own convers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260360" y="838080"/>
            <a:ext cx="6481800" cy="2466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nversation 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A: What’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th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: It’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: What color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: It’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r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260360" y="3573360"/>
            <a:ext cx="6481800" cy="2466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nversation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A: What’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: It’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: What color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: It’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blac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/>
  <dc:description/>
  <dc:language>en-US</dc:language>
  <cp:lastModifiedBy>tclsevers</cp:lastModifiedBy>
  <dcterms:modified xsi:type="dcterms:W3CDTF">2014-09-10T01:11:29Z</dcterms:modified>
  <cp:revision>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2</vt:lpwstr>
  </property>
</Properties>
</file>