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3.png" ContentType="image/png"/>
  <Override PartName="/ppt/media/image27.gif" ContentType="image/gif"/>
  <Override PartName="/ppt/media/image22.jpeg" ContentType="image/jpeg"/>
  <Override PartName="/ppt/media/driveby.wav" ContentType="audio/x-wav"/>
  <Override PartName="/ppt/media/image21.png" ContentType="image/png"/>
  <Override PartName="/ppt/media/image20.png" ContentType="image/png"/>
  <Override PartName="/ppt/media/image9.wmf" ContentType="image/x-wmf"/>
  <Override PartName="/ppt/media/image14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6.png" ContentType="image/png"/>
  <Override PartName="/ppt/media/image29.png" ContentType="image/png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800-DD09-4DB5-9D2B-063906B2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11C-4FF0-48E3-886C-2804E75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919-48ED-414F-9344-DE662D23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C42-E7F7-4EFC-B637-08F3C04C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F0E3-9919-4001-93DF-CF77F64C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684C-68E7-4FEF-A057-1C7E50F5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84B-26F3-4E95-A6BF-04FCA43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5E27-C002-440B-B768-4A10C01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BC6-A1EC-4BAF-A206-70382F4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3A98-DCC0-40C1-BDEE-32D3E3B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7E28-C4D8-4633-BD0B-953D063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8B6-361E-4BF3-AEBA-38D422E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D41-FD2B-427F-A92B-AB36627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BD7F-AB28-4CED-B316-A2D51F0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06A1-8D73-403D-8FC9-1DCE3A6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5F5-AC39-445A-99EA-86E3C69C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950B-0F77-4B78-BF39-BE3A2BE6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D903-1CAE-474C-B7E4-6EE16968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0A45-9852-4ADC-BE0D-C57DFFE5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489F-61C6-4393-B10E-83F270FA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1EA2-B79D-400C-A33B-59665607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64C8-5AC4-46CF-9823-A6D45537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423-F709-4894-BE71-2C64C0B7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AF03-2218-4A21-BA9A-C728EA3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1C87-58D6-4CAF-9AF6-5E7495F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A823-82B5-43E3-BBED-624ECB9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4ED0-3C6E-4E26-9EAD-66EEE631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C3B3-6451-408A-9CA3-9E0A596F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B75D-AED0-48F3-9B55-CCA1C738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3881-82F4-47AC-8DEA-13A039D2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D04B-87D2-4B59-9B5A-DBEC39AF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D3F5-F482-49B9-8062-0DFC5442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4321-2842-4E4E-A723-056A15B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2D9-6F7C-4F58-B6B1-284D039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8FD4-850E-450B-AF62-BC95490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98F7-340A-4143-B589-05533E52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93DE-D11F-473E-9C3D-1E044524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1443-6D6F-45C5-A550-FC14812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5E4B-6C67-44A5-AB70-C300CE5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AE78-62DD-4806-9CAC-4159708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1D4A-7FF8-47F5-A4A4-10991DF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E51D-BDEE-48B3-936B-28F45653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DF46-1825-41FC-AE89-9E41CD6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25D2-3693-40F4-9BC0-A7FFF5A9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543-9641-407F-8C1D-F83C6DF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E2F87-4C7E-45CE-A319-E963FFF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C880-6B79-4B57-9656-544A0A2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E943-265B-4B9D-BDAA-9930D5A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7E05-357A-4520-B60C-C7DCD8C4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5B54-DD15-4EBE-8F9B-E3134406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F553-2072-4CC5-B7A2-6008E5F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37B6-6EF6-4AA8-90CA-322F44C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238D6-3FD6-470D-9071-CFEA971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70E7-95B1-453E-9615-A64D9DE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9AE01-4C22-4CD7-BE76-DD0B978D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1D0-1122-4CD7-B309-ADA964B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584AB-2F57-4546-AE3D-D63D5BEE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8D2-49C2-40F0-93C4-BD04165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B96-DD0C-4A22-BCBF-38E0CD10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A1A-7566-4733-9182-6313D8A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9CDF-8500-4DF4-8AB3-43671DE82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C516-A334-414A-B978-2A961D75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B990-492D-47C1-83DD-EF0DD823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C39F-DB74-491A-8884-169AD236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圆角矩形 10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58280" y="6095880"/>
            <a:ext cx="95220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2E7-6AF9-45C4-A222-CDEEC4948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8.png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9457" descr="会动的小花4"/>
          <p:cNvPicPr/>
          <p:nvPr/>
        </p:nvPicPr>
        <p:blipFill>
          <a:blip r:embed="rId1"/>
          <a:stretch/>
        </p:blipFill>
        <p:spPr>
          <a:xfrm>
            <a:off x="0" y="463068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9458" descr="会动的小花4"/>
          <p:cNvPicPr/>
          <p:nvPr/>
        </p:nvPicPr>
        <p:blipFill>
          <a:blip r:embed="rId2"/>
          <a:stretch/>
        </p:blipFill>
        <p:spPr>
          <a:xfrm>
            <a:off x="711360" y="4846680"/>
            <a:ext cx="475920" cy="4316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9459" descr="会动的小花4"/>
          <p:cNvPicPr/>
          <p:nvPr/>
        </p:nvPicPr>
        <p:blipFill>
          <a:blip r:embed="rId3"/>
          <a:stretch/>
        </p:blipFill>
        <p:spPr>
          <a:xfrm>
            <a:off x="143208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9460" descr="会动的小花4"/>
          <p:cNvPicPr/>
          <p:nvPr/>
        </p:nvPicPr>
        <p:blipFill>
          <a:blip r:embed="rId4"/>
          <a:stretch/>
        </p:blipFill>
        <p:spPr>
          <a:xfrm>
            <a:off x="2151000" y="535140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461" descr="会动的小花4"/>
          <p:cNvPicPr/>
          <p:nvPr/>
        </p:nvPicPr>
        <p:blipFill>
          <a:blip r:embed="rId5"/>
          <a:stretch/>
        </p:blipFill>
        <p:spPr>
          <a:xfrm>
            <a:off x="301608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9462" descr="会动的小花4"/>
          <p:cNvPicPr/>
          <p:nvPr/>
        </p:nvPicPr>
        <p:blipFill>
          <a:blip r:embed="rId6"/>
          <a:stretch/>
        </p:blipFill>
        <p:spPr>
          <a:xfrm>
            <a:off x="579600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9463" descr="会动的小花4"/>
          <p:cNvPicPr/>
          <p:nvPr/>
        </p:nvPicPr>
        <p:blipFill>
          <a:blip r:embed="rId7"/>
          <a:stretch/>
        </p:blipFill>
        <p:spPr>
          <a:xfrm>
            <a:off x="6616800" y="527832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9464" descr="会动的小花4"/>
          <p:cNvPicPr/>
          <p:nvPr/>
        </p:nvPicPr>
        <p:blipFill>
          <a:blip r:embed="rId8"/>
          <a:stretch/>
        </p:blipFill>
        <p:spPr>
          <a:xfrm>
            <a:off x="723600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9465" descr="会动的小花4"/>
          <p:cNvPicPr/>
          <p:nvPr/>
        </p:nvPicPr>
        <p:blipFill>
          <a:blip r:embed="rId9"/>
          <a:stretch/>
        </p:blipFill>
        <p:spPr>
          <a:xfrm>
            <a:off x="7956720" y="499104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9466" descr="会动的小花4"/>
          <p:cNvPicPr/>
          <p:nvPr/>
        </p:nvPicPr>
        <p:blipFill>
          <a:blip r:embed="rId10"/>
          <a:stretch/>
        </p:blipFill>
        <p:spPr>
          <a:xfrm>
            <a:off x="8667720" y="477504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9468" descr="蝴蝶"/>
          <p:cNvPicPr/>
          <p:nvPr/>
        </p:nvPicPr>
        <p:blipFill>
          <a:blip r:embed="rId11"/>
          <a:stretch/>
        </p:blipFill>
        <p:spPr>
          <a:xfrm rot="16773600">
            <a:off x="610920" y="427824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9469" descr="蝴蝶"/>
          <p:cNvPicPr/>
          <p:nvPr/>
        </p:nvPicPr>
        <p:blipFill>
          <a:blip r:embed="rId12"/>
          <a:stretch/>
        </p:blipFill>
        <p:spPr>
          <a:xfrm rot="4665000">
            <a:off x="6667200" y="470988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9470" descr="蝴蝶"/>
          <p:cNvPicPr/>
          <p:nvPr/>
        </p:nvPicPr>
        <p:blipFill>
          <a:blip r:embed="rId13"/>
          <a:stretch/>
        </p:blipFill>
        <p:spPr>
          <a:xfrm>
            <a:off x="-973080" y="8110440"/>
            <a:ext cx="799920" cy="91440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9473"/>
          <p:cNvSpPr/>
          <p:nvPr/>
        </p:nvSpPr>
        <p:spPr>
          <a:xfrm>
            <a:off x="2460600" y="2852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仪陇县二道中学   何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矩形 1" descr=""/>
          <p:cNvPicPr/>
          <p:nvPr/>
        </p:nvPicPr>
        <p:blipFill>
          <a:blip r:embed="rId14"/>
          <a:stretch/>
        </p:blipFill>
        <p:spPr>
          <a:xfrm>
            <a:off x="2065320" y="414360"/>
            <a:ext cx="4925880" cy="8301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0483" descr="GEOMTRY"/>
          <p:cNvPicPr/>
          <p:nvPr/>
        </p:nvPicPr>
        <p:blipFill>
          <a:blip r:embed="rId15"/>
          <a:stretch/>
        </p:blipFill>
        <p:spPr>
          <a:xfrm>
            <a:off x="3435480" y="365904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195" descr="qz_1rejo[1]"/>
          <p:cNvPicPr/>
          <p:nvPr/>
        </p:nvPicPr>
        <p:blipFill>
          <a:blip r:embed="rId16"/>
          <a:stretch/>
        </p:blipFill>
        <p:spPr>
          <a:xfrm>
            <a:off x="0" y="472428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矩形 7" descr=""/>
          <p:cNvPicPr/>
          <p:nvPr/>
        </p:nvPicPr>
        <p:blipFill>
          <a:blip r:embed="rId17"/>
          <a:stretch/>
        </p:blipFill>
        <p:spPr>
          <a:xfrm>
            <a:off x="2031840" y="1244520"/>
            <a:ext cx="4746960" cy="1446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2"/>
          <p:cNvSpPr/>
          <p:nvPr/>
        </p:nvSpPr>
        <p:spPr>
          <a:xfrm>
            <a:off x="484200" y="744480"/>
            <a:ext cx="6810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判断下列分解因式是否正确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+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2ab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1)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84200" y="2422440"/>
            <a:ext cx="82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不正确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题错在对分解因式的概念不清，左边是多项式的形式，右边应是整式乘积的形式，但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中右边还是多项式的形式，因此，最终结果是未对所给多项式进行因式分解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484200" y="4548240"/>
            <a:ext cx="8278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不正确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错误原因是因式分解不彻底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能继续分解成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469800" y="17002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解因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-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469800" y="337644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(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957400" y="4392720"/>
            <a:ext cx="34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+y)(x-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646280" y="4975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-ab=ab(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973240" y="558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b(a+1)(a-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5068800" y="1685880"/>
            <a:ext cx="3675240" cy="1703520"/>
          </a:xfrm>
          <a:prstGeom prst="wedgeEllipseCallout">
            <a:avLst>
              <a:gd name="adj1" fmla="val -47708"/>
              <a:gd name="adj2" fmla="val 84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5391000" y="1866960"/>
            <a:ext cx="32004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分解因式，必须进行到每一个多项式都不能再分解为止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819880" y="3833640"/>
            <a:ext cx="26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"/>
                            </p:stCondLst>
                            <p:childTnLst>
                              <p:par>
                                <p:cTn id="3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5"/>
          <p:cNvGrpSpPr/>
          <p:nvPr/>
        </p:nvGrpSpPr>
        <p:grpSpPr>
          <a:xfrm>
            <a:off x="173160" y="330120"/>
            <a:ext cx="8305560" cy="5455440"/>
            <a:chOff x="173160" y="330120"/>
            <a:chExt cx="8305560" cy="5455440"/>
          </a:xfrm>
        </p:grpSpPr>
        <p:sp>
          <p:nvSpPr>
            <p:cNvPr id="327" name="文本框 16385"/>
            <p:cNvSpPr/>
            <p:nvPr/>
          </p:nvSpPr>
          <p:spPr>
            <a:xfrm>
              <a:off x="173160" y="330120"/>
              <a:ext cx="8305560" cy="53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把下列各式因式分解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x + z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 ( y + z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( a + b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- 25(a - c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a³ - 4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x + y + z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- (x – y – z 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)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-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组合 4"/>
            <p:cNvGrpSpPr/>
            <p:nvPr/>
          </p:nvGrpSpPr>
          <p:grpSpPr>
            <a:xfrm>
              <a:off x="1267920" y="4755600"/>
              <a:ext cx="468720" cy="1029960"/>
              <a:chOff x="1267920" y="4755600"/>
              <a:chExt cx="468720" cy="1029960"/>
            </a:xfrm>
          </p:grpSpPr>
          <p:sp>
            <p:nvSpPr>
              <p:cNvPr id="329" name="文本框 1"/>
              <p:cNvSpPr/>
              <p:nvPr/>
            </p:nvSpPr>
            <p:spPr>
              <a:xfrm>
                <a:off x="1267920" y="4957920"/>
                <a:ext cx="468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文本框 2"/>
              <p:cNvSpPr/>
              <p:nvPr/>
            </p:nvSpPr>
            <p:spPr>
              <a:xfrm>
                <a:off x="1305720" y="475560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文本框 3"/>
              <p:cNvSpPr/>
              <p:nvPr/>
            </p:nvSpPr>
            <p:spPr>
              <a:xfrm>
                <a:off x="1305720" y="5204160"/>
                <a:ext cx="39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" name="组合 16388"/>
          <p:cNvGrpSpPr/>
          <p:nvPr/>
        </p:nvGrpSpPr>
        <p:grpSpPr>
          <a:xfrm>
            <a:off x="1046160" y="1990800"/>
            <a:ext cx="5486040" cy="2133360"/>
            <a:chOff x="1046160" y="1990800"/>
            <a:chExt cx="5486040" cy="2133360"/>
          </a:xfrm>
        </p:grpSpPr>
        <p:sp>
          <p:nvSpPr>
            <p:cNvPr id="333" name="圆角矩形 16389"/>
            <p:cNvSpPr/>
            <p:nvPr/>
          </p:nvSpPr>
          <p:spPr>
            <a:xfrm>
              <a:off x="1046160" y="1990800"/>
              <a:ext cx="5486040" cy="2133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文本框 16390"/>
            <p:cNvSpPr/>
            <p:nvPr/>
          </p:nvSpPr>
          <p:spPr>
            <a:xfrm>
              <a:off x="1210680" y="2076480"/>
              <a:ext cx="52369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</a:rPr>
                <a:t>原式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[(x+z)+(y+z)][(x+z)-(y+z)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(x+y+2z)(x-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组合 16391"/>
          <p:cNvGrpSpPr/>
          <p:nvPr/>
        </p:nvGrpSpPr>
        <p:grpSpPr>
          <a:xfrm>
            <a:off x="669960" y="2776680"/>
            <a:ext cx="6400440" cy="3733200"/>
            <a:chOff x="669960" y="2776680"/>
            <a:chExt cx="6400440" cy="3733200"/>
          </a:xfrm>
        </p:grpSpPr>
        <p:sp>
          <p:nvSpPr>
            <p:cNvPr id="336" name="圆角矩形 16392"/>
            <p:cNvSpPr/>
            <p:nvPr/>
          </p:nvSpPr>
          <p:spPr>
            <a:xfrm>
              <a:off x="669960" y="2776680"/>
              <a:ext cx="6400440" cy="373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文本框 16393"/>
            <p:cNvSpPr/>
            <p:nvPr/>
          </p:nvSpPr>
          <p:spPr>
            <a:xfrm>
              <a:off x="763920" y="3191400"/>
              <a:ext cx="6306120" cy="2466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</a:rPr>
                <a:t>原式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[2(a+b)]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[5(a-c)]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[2(a+b)+ 5(a-c)][2(a+b)- 5(a-c)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(7a+2b-5c)(-3a+2b+5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组合 16394"/>
          <p:cNvGrpSpPr/>
          <p:nvPr/>
        </p:nvGrpSpPr>
        <p:grpSpPr>
          <a:xfrm>
            <a:off x="1014480" y="3654360"/>
            <a:ext cx="5714640" cy="2133360"/>
            <a:chOff x="1014480" y="3654360"/>
            <a:chExt cx="5714640" cy="2133360"/>
          </a:xfrm>
        </p:grpSpPr>
        <p:sp>
          <p:nvSpPr>
            <p:cNvPr id="339" name="折角形 16395"/>
            <p:cNvSpPr/>
            <p:nvPr/>
          </p:nvSpPr>
          <p:spPr>
            <a:xfrm>
              <a:off x="1014480" y="3654360"/>
              <a:ext cx="5714640" cy="2133360"/>
            </a:xfrm>
            <a:prstGeom prst="foldedCorner">
              <a:avLst>
                <a:gd name="adj" fmla="val 14296"/>
              </a:avLst>
            </a:prstGeom>
            <a:gradFill rotWithShape="0">
              <a:gsLst>
                <a:gs pos="0">
                  <a:srgbClr val="e5faf5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文本框 16396"/>
            <p:cNvSpPr/>
            <p:nvPr/>
          </p:nvSpPr>
          <p:spPr>
            <a:xfrm>
              <a:off x="1211040" y="3987360"/>
              <a:ext cx="5320440" cy="1323000"/>
            </a:xfrm>
            <a:prstGeom prst="rect">
              <a:avLst/>
            </a:prstGeom>
            <a:gradFill rotWithShape="0">
              <a:gsLst>
                <a:gs pos="0">
                  <a:srgbClr val="e5faf5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解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3.</a:t>
              </a: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原式</a:t>
              </a: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=4a(a</a:t>
              </a: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-1)=4a(a+1)(a-1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组合 16397"/>
          <p:cNvGrpSpPr/>
          <p:nvPr/>
        </p:nvGrpSpPr>
        <p:grpSpPr>
          <a:xfrm>
            <a:off x="3206880" y="279360"/>
            <a:ext cx="5714640" cy="3708000"/>
            <a:chOff x="3206880" y="279360"/>
            <a:chExt cx="5714640" cy="3708000"/>
          </a:xfrm>
        </p:grpSpPr>
        <p:sp>
          <p:nvSpPr>
            <p:cNvPr id="342" name="流程图: 库存数据 16398"/>
            <p:cNvSpPr/>
            <p:nvPr/>
          </p:nvSpPr>
          <p:spPr>
            <a:xfrm>
              <a:off x="3206880" y="279360"/>
              <a:ext cx="5714640" cy="3708000"/>
            </a:xfrm>
            <a:prstGeom prst="flowChartOnlineStorage">
              <a:avLst/>
            </a:prstGeom>
            <a:gradFill rotWithShape="0">
              <a:gsLst>
                <a:gs pos="0">
                  <a:srgbClr val="4ba9a9"/>
                </a:gs>
                <a:gs pos="50000">
                  <a:srgbClr val="ffffff"/>
                </a:gs>
                <a:gs pos="100000">
                  <a:srgbClr val="4ba9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文本框 16399"/>
            <p:cNvSpPr/>
            <p:nvPr/>
          </p:nvSpPr>
          <p:spPr>
            <a:xfrm>
              <a:off x="3736800" y="579960"/>
              <a:ext cx="423972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[(x+y+z)+(x-y-z)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[(x+y+z)- (x-y-z)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2 x (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y +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z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4 x ( y + z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组合 16"/>
          <p:cNvGrpSpPr/>
          <p:nvPr/>
        </p:nvGrpSpPr>
        <p:grpSpPr>
          <a:xfrm>
            <a:off x="1044720" y="2170080"/>
            <a:ext cx="7056360" cy="2665440"/>
            <a:chOff x="1044720" y="2170080"/>
            <a:chExt cx="7056360" cy="2665440"/>
          </a:xfrm>
        </p:grpSpPr>
        <p:sp>
          <p:nvSpPr>
            <p:cNvPr id="345" name="流程图: 可选过程 6"/>
            <p:cNvSpPr/>
            <p:nvPr/>
          </p:nvSpPr>
          <p:spPr>
            <a:xfrm>
              <a:off x="1044720" y="2170080"/>
              <a:ext cx="7056360" cy="2665440"/>
            </a:xfrm>
            <a:prstGeom prst="flowChartAlternateProcess">
              <a:avLst/>
            </a:prstGeom>
            <a:solidFill>
              <a:srgbClr val="00cc99"/>
            </a:solidFill>
            <a:ln w="1260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组合 15"/>
            <p:cNvGrpSpPr/>
            <p:nvPr/>
          </p:nvGrpSpPr>
          <p:grpSpPr>
            <a:xfrm>
              <a:off x="1552680" y="2792520"/>
              <a:ext cx="5643360" cy="1787400"/>
              <a:chOff x="1552680" y="2792520"/>
              <a:chExt cx="5643360" cy="1787400"/>
            </a:xfrm>
          </p:grpSpPr>
          <p:grpSp>
            <p:nvGrpSpPr>
              <p:cNvPr id="347" name="组合 10"/>
              <p:cNvGrpSpPr/>
              <p:nvPr/>
            </p:nvGrpSpPr>
            <p:grpSpPr>
              <a:xfrm>
                <a:off x="1552680" y="2792520"/>
                <a:ext cx="5643360" cy="1556640"/>
                <a:chOff x="1552680" y="2792520"/>
                <a:chExt cx="5643360" cy="1556640"/>
              </a:xfrm>
            </p:grpSpPr>
            <p:sp>
              <p:nvSpPr>
                <p:cNvPr id="348" name="文本框 7"/>
                <p:cNvSpPr/>
                <p:nvPr/>
              </p:nvSpPr>
              <p:spPr>
                <a:xfrm>
                  <a:off x="1552680" y="2975400"/>
                  <a:ext cx="564336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3333cc"/>
                      </a:solidFill>
                      <a:latin typeface="Times New Roman"/>
                    </a:rPr>
                    <a:t>解：原式</a:t>
                  </a: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= </a:t>
                  </a: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</a:rPr>
                    <a:t>─(a</a:t>
                  </a:r>
                  <a:r>
                    <a:rPr b="1" lang="en-US" sz="2800" spc="-1" strike="noStrike" baseline="30000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</a:rPr>
                    <a:t>-4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</a:rPr>
                    <a:t>               </a:t>
                  </a: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</a:rPr>
                    <a:t>=    (a+2)(a-2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文本框 8"/>
                <p:cNvSpPr/>
                <p:nvPr/>
              </p:nvSpPr>
              <p:spPr>
                <a:xfrm>
                  <a:off x="3310200" y="2792520"/>
                  <a:ext cx="732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文本框 9"/>
                <p:cNvSpPr/>
                <p:nvPr/>
              </p:nvSpPr>
              <p:spPr>
                <a:xfrm>
                  <a:off x="3310200" y="3177360"/>
                  <a:ext cx="698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组合 14"/>
              <p:cNvGrpSpPr/>
              <p:nvPr/>
            </p:nvGrpSpPr>
            <p:grpSpPr>
              <a:xfrm>
                <a:off x="3309120" y="3661200"/>
                <a:ext cx="1159560" cy="918720"/>
                <a:chOff x="3309120" y="3661200"/>
                <a:chExt cx="1159560" cy="918720"/>
              </a:xfrm>
            </p:grpSpPr>
            <p:sp>
              <p:nvSpPr>
                <p:cNvPr id="352" name="文本框 11"/>
                <p:cNvSpPr/>
                <p:nvPr/>
              </p:nvSpPr>
              <p:spPr>
                <a:xfrm flipH="1">
                  <a:off x="3308760" y="3898440"/>
                  <a:ext cx="1159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cc"/>
                      </a:solidFill>
                      <a:latin typeface="宋体"/>
                    </a:rPr>
                    <a:t>─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文本框 12"/>
                <p:cNvSpPr/>
                <p:nvPr/>
              </p:nvSpPr>
              <p:spPr>
                <a:xfrm>
                  <a:off x="3390840" y="3661200"/>
                  <a:ext cx="746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文本框 13"/>
                <p:cNvSpPr/>
                <p:nvPr/>
              </p:nvSpPr>
              <p:spPr>
                <a:xfrm>
                  <a:off x="3390840" y="4059360"/>
                  <a:ext cx="719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18433" descr="Tc2p10d1"/>
          <p:cNvPicPr/>
          <p:nvPr/>
        </p:nvPicPr>
        <p:blipFill>
          <a:blip r:embed="rId1"/>
          <a:srcRect l="0" t="36367" r="0" b="0"/>
          <a:stretch/>
        </p:blipFill>
        <p:spPr>
          <a:xfrm>
            <a:off x="1219320" y="4800600"/>
            <a:ext cx="4724280" cy="2057400"/>
          </a:xfrm>
          <a:prstGeom prst="rect">
            <a:avLst/>
          </a:prstGeom>
          <a:ln w="0">
            <a:noFill/>
          </a:ln>
        </p:spPr>
      </p:pic>
      <p:sp>
        <p:nvSpPr>
          <p:cNvPr id="356" name="云形标注 18434"/>
          <p:cNvSpPr/>
          <p:nvPr/>
        </p:nvSpPr>
        <p:spPr>
          <a:xfrm>
            <a:off x="0" y="533520"/>
            <a:ext cx="9142560" cy="2963520"/>
          </a:xfrm>
          <a:prstGeom prst="cloudCallout">
            <a:avLst>
              <a:gd name="adj1" fmla="val -13592"/>
              <a:gd name="adj2" fmla="val 91296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华文行楷"/>
              </a:rPr>
              <a:t>用平方差公式进行简便计算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²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2)    2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  2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4)     91×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云形标注 18435"/>
          <p:cNvSpPr/>
          <p:nvPr/>
        </p:nvSpPr>
        <p:spPr>
          <a:xfrm>
            <a:off x="2514600" y="2209680"/>
            <a:ext cx="5807160" cy="1272240"/>
          </a:xfrm>
          <a:prstGeom prst="cloudCallout">
            <a:avLst>
              <a:gd name="adj1" fmla="val -8643"/>
              <a:gd name="adj2" fmla="val 1805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解：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8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37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8+37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8-37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云形标注 18436"/>
          <p:cNvSpPr/>
          <p:nvPr/>
        </p:nvSpPr>
        <p:spPr>
          <a:xfrm>
            <a:off x="2286000" y="2590920"/>
            <a:ext cx="5807160" cy="1836360"/>
          </a:xfrm>
          <a:prstGeom prst="cloudCallout">
            <a:avLst>
              <a:gd name="adj1" fmla="val -37462"/>
              <a:gd name="adj2" fmla="val 15160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1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87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(213+87)(213-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300×126=37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云形标注 18437"/>
          <p:cNvSpPr/>
          <p:nvPr/>
        </p:nvSpPr>
        <p:spPr>
          <a:xfrm>
            <a:off x="3336840" y="2209680"/>
            <a:ext cx="5807160" cy="1836360"/>
          </a:xfrm>
          <a:prstGeom prst="cloudCallout">
            <a:avLst>
              <a:gd name="adj1" fmla="val -20342"/>
              <a:gd name="adj2" fmla="val 16706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：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）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29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17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29+171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）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29-171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=400×58=23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云形标注 18438"/>
          <p:cNvSpPr/>
          <p:nvPr/>
        </p:nvSpPr>
        <p:spPr>
          <a:xfrm>
            <a:off x="0" y="2057400"/>
            <a:ext cx="5807160" cy="1836360"/>
          </a:xfrm>
          <a:prstGeom prst="cloudCallout">
            <a:avLst>
              <a:gd name="adj1" fmla="val -14143"/>
              <a:gd name="adj2" fmla="val 170615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解：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1×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+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-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9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1=8100-1=80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文本框 71683"/>
          <p:cNvSpPr/>
          <p:nvPr/>
        </p:nvSpPr>
        <p:spPr>
          <a:xfrm>
            <a:off x="1219320" y="1066680"/>
            <a:ext cx="7010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+ y =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-y =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代数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2y+2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文本框 71684"/>
          <p:cNvSpPr/>
          <p:nvPr/>
        </p:nvSpPr>
        <p:spPr>
          <a:xfrm>
            <a:off x="1295280" y="2438280"/>
            <a:ext cx="6705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y+2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+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5×9=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图片 71685" descr="003388 (179)"/>
          <p:cNvPicPr/>
          <p:nvPr/>
        </p:nvPicPr>
        <p:blipFill>
          <a:blip r:embed="rId1"/>
          <a:stretch/>
        </p:blipFill>
        <p:spPr>
          <a:xfrm>
            <a:off x="6553080" y="5410080"/>
            <a:ext cx="1047960" cy="542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文本框 25606"/>
          <p:cNvSpPr/>
          <p:nvPr/>
        </p:nvSpPr>
        <p:spPr>
          <a:xfrm>
            <a:off x="878040" y="771480"/>
            <a:ext cx="7387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整数，证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n+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(2n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25607"/>
          <p:cNvSpPr/>
          <p:nvPr/>
        </p:nvSpPr>
        <p:spPr>
          <a:xfrm>
            <a:off x="1371600" y="2043000"/>
            <a:ext cx="712476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证明：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2n+1)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(2n-1)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n-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-2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4n×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8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整数，所以原式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图片 25608" descr="003388 (399)"/>
          <p:cNvPicPr/>
          <p:nvPr/>
        </p:nvPicPr>
        <p:blipFill>
          <a:blip r:embed="rId1"/>
          <a:stretch/>
        </p:blipFill>
        <p:spPr>
          <a:xfrm>
            <a:off x="2305080" y="5613480"/>
            <a:ext cx="4476600" cy="457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3880" y="21366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杭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分解因式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– 4m =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568440" y="2882880"/>
            <a:ext cx="66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4m =m(m+2)(m-2).</a:t>
            </a:r>
            <a:br>
              <a:rPr sz="2400"/>
            </a:b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(m+2)(m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9" descr=""/>
          <p:cNvPicPr/>
          <p:nvPr/>
        </p:nvPicPr>
        <p:blipFill>
          <a:blip r:embed="rId1"/>
          <a:stretch/>
        </p:blipFill>
        <p:spPr>
          <a:xfrm>
            <a:off x="3557520" y="1157400"/>
            <a:ext cx="2732040" cy="88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42800" y="1077840"/>
            <a:ext cx="870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江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2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69800" y="3080160"/>
            <a:ext cx="86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珠海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             =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555480" y="358236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提公因式，再利用平方差公式分解因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a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(x+y)(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Object 8" descr=""/>
          <p:cNvPicPr/>
          <p:nvPr/>
        </p:nvPicPr>
        <p:blipFill>
          <a:blip r:embed="rId1"/>
          <a:stretch/>
        </p:blipFill>
        <p:spPr>
          <a:xfrm>
            <a:off x="2690640" y="1801800"/>
            <a:ext cx="3716640" cy="48420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10" descr=""/>
          <p:cNvPicPr/>
          <p:nvPr/>
        </p:nvPicPr>
        <p:blipFill>
          <a:blip r:embed="rId2"/>
          <a:stretch/>
        </p:blipFill>
        <p:spPr>
          <a:xfrm>
            <a:off x="1579680" y="2514600"/>
            <a:ext cx="1495440" cy="419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6" descr=""/>
          <p:cNvPicPr/>
          <p:nvPr/>
        </p:nvPicPr>
        <p:blipFill>
          <a:blip r:embed="rId3"/>
          <a:stretch/>
        </p:blipFill>
        <p:spPr>
          <a:xfrm>
            <a:off x="4170240" y="3111480"/>
            <a:ext cx="1903680" cy="4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95360" y="1425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东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x=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=x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)=x(x+1)(x-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答案</a:t>
            </a:r>
            <a:r>
              <a:rPr b="1" lang="pt-BR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:</a:t>
            </a:r>
            <a:r>
              <a:rPr b="1" lang="pt-BR" sz="24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(x+1)(x-1)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598320" y="3211920"/>
            <a:ext cx="78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盐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因式分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       =______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82680" y="3535560"/>
            <a:ext cx="74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-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74560" y="4555080"/>
            <a:ext cx="39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Object 8" descr=""/>
          <p:cNvPicPr/>
          <p:nvPr/>
        </p:nvPicPr>
        <p:blipFill>
          <a:blip r:embed="rId1"/>
          <a:stretch/>
        </p:blipFill>
        <p:spPr>
          <a:xfrm>
            <a:off x="4578480" y="3189240"/>
            <a:ext cx="86652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3"/>
          <p:cNvSpPr/>
          <p:nvPr/>
        </p:nvSpPr>
        <p:spPr>
          <a:xfrm>
            <a:off x="660240" y="1779480"/>
            <a:ext cx="77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因式分解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99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98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97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96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95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…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1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49440" y="29941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+99)(100-99)+(98+97)(98-9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…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(2+1)(2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99+195+191+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…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 0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6145"/>
          <p:cNvSpPr/>
          <p:nvPr/>
        </p:nvSpPr>
        <p:spPr>
          <a:xfrm>
            <a:off x="380880" y="609480"/>
            <a:ext cx="815364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理解运用平方差公式分解因式与整式乘法是相反的变形：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+b)(a-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直接连接符 6146"/>
          <p:cNvSpPr/>
          <p:nvPr/>
        </p:nvSpPr>
        <p:spPr>
          <a:xfrm>
            <a:off x="2282760" y="29685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直接连接符 6147"/>
          <p:cNvSpPr/>
          <p:nvPr/>
        </p:nvSpPr>
        <p:spPr>
          <a:xfrm flipH="1">
            <a:off x="2359080" y="2747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6148"/>
          <p:cNvSpPr/>
          <p:nvPr/>
        </p:nvSpPr>
        <p:spPr>
          <a:xfrm>
            <a:off x="2130480" y="2325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分解因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6149"/>
          <p:cNvSpPr/>
          <p:nvPr/>
        </p:nvSpPr>
        <p:spPr>
          <a:xfrm>
            <a:off x="2206800" y="3075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整式乘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文本框 6152"/>
          <p:cNvSpPr/>
          <p:nvPr/>
        </p:nvSpPr>
        <p:spPr>
          <a:xfrm>
            <a:off x="627120" y="3568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会运用平方差公式分解因式，并且分解到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"/>
                            </p:stCondLst>
                            <p:childTnLst>
                              <p:par>
                                <p:cTn id="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00"/>
                            </p:stCondLst>
                            <p:childTnLst>
                              <p:par>
                                <p:cTn id="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00"/>
                            </p:stCondLst>
                            <p:childTnLst>
                              <p:par>
                                <p:cTn id="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7"/>
          <p:cNvSpPr/>
          <p:nvPr/>
        </p:nvSpPr>
        <p:spPr>
          <a:xfrm>
            <a:off x="604800" y="2976480"/>
            <a:ext cx="800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平方差公式分解因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+b)(a-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的步骤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首先提取公因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然后考虑用公式法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应进行到每一个因式不能分解为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中应用因式分解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使计算简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1"/>
          <p:cNvSpPr/>
          <p:nvPr/>
        </p:nvSpPr>
        <p:spPr>
          <a:xfrm>
            <a:off x="604800" y="245736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rcRect l="7325" t="0" r="9512" b="26006"/>
          <a:stretch/>
        </p:blipFill>
        <p:spPr>
          <a:xfrm>
            <a:off x="3817800" y="1432080"/>
            <a:ext cx="223380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Img209535970"/>
          <p:cNvPicPr/>
          <p:nvPr/>
        </p:nvPicPr>
        <p:blipFill>
          <a:blip r:embed="rId1"/>
          <a:stretch/>
        </p:blipFill>
        <p:spPr>
          <a:xfrm>
            <a:off x="5219640" y="1136520"/>
            <a:ext cx="3424320" cy="4837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花"/>
          <p:cNvPicPr/>
          <p:nvPr/>
        </p:nvPicPr>
        <p:blipFill>
          <a:blip r:embed="rId2"/>
          <a:stretch/>
        </p:blipFill>
        <p:spPr>
          <a:xfrm>
            <a:off x="861840" y="851040"/>
            <a:ext cx="6961320" cy="5292720"/>
          </a:xfrm>
          <a:prstGeom prst="rect">
            <a:avLst/>
          </a:prstGeom>
          <a:ln w="0">
            <a:noFill/>
          </a:ln>
        </p:spPr>
      </p:pic>
      <p:sp>
        <p:nvSpPr>
          <p:cNvPr id="388" name="WordArt 7"/>
          <p:cNvSpPr txBox="1"/>
          <p:nvPr/>
        </p:nvSpPr>
        <p:spPr>
          <a:xfrm>
            <a:off x="1697040" y="3632040"/>
            <a:ext cx="3048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1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30360" y="2413800"/>
            <a:ext cx="7910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+1)(x-1)      (2) (y+4)(y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根据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题的结果分解因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              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Object 13" descr=""/>
          <p:cNvPicPr/>
          <p:nvPr/>
        </p:nvPicPr>
        <p:blipFill>
          <a:blip r:embed="rId1"/>
          <a:stretch/>
        </p:blipFill>
        <p:spPr>
          <a:xfrm>
            <a:off x="2894040" y="3260880"/>
            <a:ext cx="1295280" cy="52704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12" descr=""/>
          <p:cNvPicPr/>
          <p:nvPr/>
        </p:nvPicPr>
        <p:blipFill>
          <a:blip r:embed="rId2"/>
          <a:stretch/>
        </p:blipFill>
        <p:spPr>
          <a:xfrm>
            <a:off x="5943600" y="3262320"/>
            <a:ext cx="1469880" cy="52560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16" descr=""/>
          <p:cNvPicPr/>
          <p:nvPr/>
        </p:nvPicPr>
        <p:blipFill>
          <a:blip r:embed="rId3"/>
          <a:stretch/>
        </p:blipFill>
        <p:spPr>
          <a:xfrm>
            <a:off x="1392120" y="4576680"/>
            <a:ext cx="978120" cy="501840"/>
          </a:xfrm>
          <a:prstGeom prst="rect">
            <a:avLst/>
          </a:prstGeom>
          <a:ln w="0">
            <a:noFill/>
          </a:ln>
        </p:spPr>
      </p:pic>
      <p:pic>
        <p:nvPicPr>
          <p:cNvPr id="241" name="Object 15" descr=""/>
          <p:cNvPicPr/>
          <p:nvPr/>
        </p:nvPicPr>
        <p:blipFill>
          <a:blip r:embed="rId4"/>
          <a:stretch/>
        </p:blipFill>
        <p:spPr>
          <a:xfrm>
            <a:off x="4444920" y="4591080"/>
            <a:ext cx="1882800" cy="520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9"/>
          <p:cNvSpPr/>
          <p:nvPr/>
        </p:nvSpPr>
        <p:spPr>
          <a:xfrm>
            <a:off x="1447920" y="5167440"/>
            <a:ext cx="24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x+1)(x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292640" y="51814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y+4)(y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5" descr="图片11"/>
          <p:cNvPicPr/>
          <p:nvPr/>
        </p:nvPicPr>
        <p:blipFill>
          <a:blip r:embed="rId5"/>
          <a:stretch/>
        </p:blipFill>
        <p:spPr>
          <a:xfrm>
            <a:off x="752400" y="1987560"/>
            <a:ext cx="1011240" cy="493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6"/>
          <a:srcRect l="7186" t="0" r="4650" b="22325"/>
          <a:stretch/>
        </p:blipFill>
        <p:spPr>
          <a:xfrm>
            <a:off x="3570120" y="1108080"/>
            <a:ext cx="2408400" cy="6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10241"/>
          <p:cNvSpPr/>
          <p:nvPr/>
        </p:nvSpPr>
        <p:spPr>
          <a:xfrm>
            <a:off x="0" y="304920"/>
            <a:ext cx="4876920" cy="1904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折角形 10242"/>
          <p:cNvSpPr/>
          <p:nvPr/>
        </p:nvSpPr>
        <p:spPr>
          <a:xfrm>
            <a:off x="5638680" y="685800"/>
            <a:ext cx="3276720" cy="4724280"/>
          </a:xfrm>
          <a:prstGeom prst="foldedCorner">
            <a:avLst>
              <a:gd name="adj" fmla="val 2679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10243"/>
          <p:cNvSpPr/>
          <p:nvPr/>
        </p:nvSpPr>
        <p:spPr>
          <a:xfrm>
            <a:off x="6019920" y="9144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平方差公式反过来就是说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个数的平方差，等于这两个数的和与这两个数的差的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椭圆 10244"/>
          <p:cNvSpPr/>
          <p:nvPr/>
        </p:nvSpPr>
        <p:spPr>
          <a:xfrm>
            <a:off x="223920" y="2370240"/>
            <a:ext cx="5029200" cy="312408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²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-  b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²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=  (a+b)(a-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下弧形箭头 10245"/>
          <p:cNvSpPr/>
          <p:nvPr/>
        </p:nvSpPr>
        <p:spPr>
          <a:xfrm>
            <a:off x="1366920" y="4089240"/>
            <a:ext cx="2666880" cy="762120"/>
          </a:xfrm>
          <a:custGeom>
            <a:avLst/>
            <a:gdLst>
              <a:gd name="textAreaLeft" fmla="*/ 501480 w 2666880"/>
              <a:gd name="textAreaRight" fmla="*/ 182088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26" hR="21600" stAng="10800000" swAng="-5400000"/>
                <a:lnTo>
                  <a:pt x="10685" y="21600"/>
                </a:lnTo>
                <a:arcTo wR="8126" hR="21600" stAng="5400000" swAng="-3193935"/>
                <a:lnTo>
                  <a:pt x="21297" y="5845"/>
                </a:lnTo>
                <a:lnTo>
                  <a:pt x="17531" y="0"/>
                </a:lnTo>
                <a:lnTo>
                  <a:pt x="13158" y="5845"/>
                </a:lnTo>
                <a:lnTo>
                  <a:pt x="15948" y="5845"/>
                </a:lnTo>
                <a:arcTo wR="8126" hR="21600" stAng="2206065" swAng="2987970"/>
                <a:lnTo>
                  <a:pt x="9405" y="21331"/>
                </a:lnTo>
                <a:arcTo wR="8126" hR="21600" stAng="5605965" swAng="5194035"/>
                <a:close/>
              </a:path>
              <a:path fill="darkenLess" w="21600" h="21600">
                <a:moveTo>
                  <a:pt x="0" y="0"/>
                </a:moveTo>
                <a:arcTo wR="8126" hR="21600" stAng="10800000" swAng="-5400000"/>
                <a:lnTo>
                  <a:pt x="10685" y="21600"/>
                </a:lnTo>
                <a:arcTo wR="8126" hR="21600" stAng="5400000" swAng="205965"/>
                <a:lnTo>
                  <a:pt x="9405" y="21331"/>
                </a:lnTo>
                <a:arcTo wR="8126" hR="21600" stAng="5605965" swAng="519403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10246"/>
          <p:cNvSpPr/>
          <p:nvPr/>
        </p:nvSpPr>
        <p:spPr>
          <a:xfrm>
            <a:off x="1521000" y="48513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因式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矩形 10247"/>
          <p:cNvSpPr/>
          <p:nvPr/>
        </p:nvSpPr>
        <p:spPr>
          <a:xfrm>
            <a:off x="690480" y="561960"/>
            <a:ext cx="456264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平方差公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a+b)(a-b) = 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-  b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10248"/>
          <p:cNvSpPr/>
          <p:nvPr/>
        </p:nvSpPr>
        <p:spPr>
          <a:xfrm>
            <a:off x="1633680" y="253224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整式乘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任意多边形 10249"/>
          <p:cNvSpPr/>
          <p:nvPr/>
        </p:nvSpPr>
        <p:spPr>
          <a:xfrm flipV="1">
            <a:off x="1100160" y="2369160"/>
            <a:ext cx="3276720" cy="1600200"/>
          </a:xfrm>
          <a:custGeom>
            <a:avLst/>
            <a:gdLst/>
            <a:ahLst/>
            <a:rect l="l" t="t" r="r" b="b"/>
            <a:pathLst>
              <a:path w="24010" h="21600">
                <a:moveTo>
                  <a:pt x="567" y="11417"/>
                </a:moveTo>
                <a:cubicBezTo>
                  <a:pt x="887" y="16792"/>
                  <a:pt x="5346" y="21050"/>
                  <a:pt x="10799" y="21050"/>
                </a:cubicBezTo>
                <a:cubicBezTo>
                  <a:pt x="15684" y="21050"/>
                  <a:pt x="19772" y="17632"/>
                  <a:pt x="20800" y="13058"/>
                </a:cubicBezTo>
                <a:lnTo>
                  <a:pt x="21335" y="13177"/>
                </a:lnTo>
                <a:cubicBezTo>
                  <a:pt x="20251" y="18001"/>
                  <a:pt x="15946" y="21600"/>
                  <a:pt x="10800" y="21600"/>
                </a:cubicBezTo>
                <a:cubicBezTo>
                  <a:pt x="5054" y="21600"/>
                  <a:pt x="356" y="17113"/>
                  <a:pt x="19" y="11454"/>
                </a:cubicBezTo>
                <a:lnTo>
                  <a:pt x="-2675" y="11613"/>
                </a:lnTo>
                <a:lnTo>
                  <a:pt x="114" y="8465"/>
                </a:lnTo>
                <a:lnTo>
                  <a:pt x="3262" y="11255"/>
                </a:lnTo>
                <a:lnTo>
                  <a:pt x="567" y="11417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8"/>
          <p:cNvGrpSpPr/>
          <p:nvPr/>
        </p:nvGrpSpPr>
        <p:grpSpPr>
          <a:xfrm>
            <a:off x="114480" y="1584360"/>
            <a:ext cx="3240000" cy="1368360"/>
            <a:chOff x="114480" y="1584360"/>
            <a:chExt cx="3240000" cy="1368360"/>
          </a:xfrm>
        </p:grpSpPr>
        <p:sp>
          <p:nvSpPr>
            <p:cNvPr id="256" name="爆炸形 1 19"/>
            <p:cNvSpPr/>
            <p:nvPr/>
          </p:nvSpPr>
          <p:spPr>
            <a:xfrm>
              <a:off x="114480" y="1584360"/>
              <a:ext cx="3240000" cy="1368360"/>
            </a:xfrm>
            <a:prstGeom prst="irregularSeal1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矩形 20" descr=""/>
            <p:cNvPicPr/>
            <p:nvPr/>
          </p:nvPicPr>
          <p:blipFill>
            <a:blip r:embed="rId1"/>
            <a:stretch/>
          </p:blipFill>
          <p:spPr>
            <a:xfrm>
              <a:off x="946080" y="1815480"/>
              <a:ext cx="1666800" cy="92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组合 4"/>
          <p:cNvGrpSpPr/>
          <p:nvPr/>
        </p:nvGrpSpPr>
        <p:grpSpPr>
          <a:xfrm>
            <a:off x="3505320" y="2100240"/>
            <a:ext cx="3876480" cy="638280"/>
            <a:chOff x="3505320" y="2100240"/>
            <a:chExt cx="3876480" cy="638280"/>
          </a:xfrm>
        </p:grpSpPr>
        <p:sp>
          <p:nvSpPr>
            <p:cNvPr id="259" name="矩形 2"/>
            <p:cNvSpPr/>
            <p:nvPr/>
          </p:nvSpPr>
          <p:spPr>
            <a:xfrm>
              <a:off x="3505320" y="2137320"/>
              <a:ext cx="3544560" cy="60120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1260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矩形 1"/>
            <p:cNvSpPr/>
            <p:nvPr/>
          </p:nvSpPr>
          <p:spPr>
            <a:xfrm>
              <a:off x="3927960" y="2100240"/>
              <a:ext cx="34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公式有何特点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组合 5"/>
          <p:cNvGrpSpPr/>
          <p:nvPr/>
        </p:nvGrpSpPr>
        <p:grpSpPr>
          <a:xfrm>
            <a:off x="1060560" y="3284640"/>
            <a:ext cx="7345080" cy="2062080"/>
            <a:chOff x="1060560" y="3284640"/>
            <a:chExt cx="7345080" cy="2062080"/>
          </a:xfrm>
        </p:grpSpPr>
        <p:sp>
          <p:nvSpPr>
            <p:cNvPr id="262" name="圆角矩形 6"/>
            <p:cNvSpPr/>
            <p:nvPr/>
          </p:nvSpPr>
          <p:spPr>
            <a:xfrm>
              <a:off x="1060560" y="3284640"/>
              <a:ext cx="7345080" cy="206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1260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矩形 10"/>
            <p:cNvSpPr/>
            <p:nvPr/>
          </p:nvSpPr>
          <p:spPr>
            <a:xfrm>
              <a:off x="1307160" y="3284640"/>
              <a:ext cx="685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(1)</a:t>
              </a:r>
              <a:r>
                <a:rPr b="0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左边是二项式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两项均能写成完全平方的形式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且符号相反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(2)</a:t>
              </a:r>
              <a:r>
                <a:rPr b="0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右边是这两个数的和与这两个数的差的积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矩形 3"/>
          <p:cNvSpPr/>
          <p:nvPr/>
        </p:nvSpPr>
        <p:spPr>
          <a:xfrm>
            <a:off x="2898720" y="93996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-b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(a+b)(a-b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557280" y="211788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下列各式分解因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6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9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33520" y="34894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087640" y="4014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071800" y="455436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+4x)(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538520" y="3503520"/>
            <a:ext cx="31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9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5227560" y="4029120"/>
            <a:ext cx="37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5227560" y="4606920"/>
            <a:ext cx="36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+b)(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719280" y="153360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3"/>
          <p:cNvSpPr/>
          <p:nvPr/>
        </p:nvSpPr>
        <p:spPr>
          <a:xfrm>
            <a:off x="2962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组合 21"/>
          <p:cNvGrpSpPr/>
          <p:nvPr/>
        </p:nvGrpSpPr>
        <p:grpSpPr>
          <a:xfrm>
            <a:off x="3332160" y="314280"/>
            <a:ext cx="2303640" cy="922320"/>
            <a:chOff x="3332160" y="314280"/>
            <a:chExt cx="2303640" cy="922320"/>
          </a:xfrm>
        </p:grpSpPr>
        <p:sp>
          <p:nvSpPr>
            <p:cNvPr id="275" name="椭圆形标注 22"/>
            <p:cNvSpPr/>
            <p:nvPr/>
          </p:nvSpPr>
          <p:spPr>
            <a:xfrm>
              <a:off x="3332160" y="343440"/>
              <a:ext cx="2245680" cy="86436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1260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矩形 23" descr=""/>
            <p:cNvPicPr/>
            <p:nvPr/>
          </p:nvPicPr>
          <p:blipFill>
            <a:blip r:embed="rId1"/>
            <a:stretch/>
          </p:blipFill>
          <p:spPr>
            <a:xfrm>
              <a:off x="3346560" y="314280"/>
              <a:ext cx="228924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组合 2"/>
          <p:cNvGrpSpPr/>
          <p:nvPr/>
        </p:nvGrpSpPr>
        <p:grpSpPr>
          <a:xfrm>
            <a:off x="984240" y="1430280"/>
            <a:ext cx="7129440" cy="2187720"/>
            <a:chOff x="984240" y="1430280"/>
            <a:chExt cx="7129440" cy="2187720"/>
          </a:xfrm>
        </p:grpSpPr>
        <p:sp>
          <p:nvSpPr>
            <p:cNvPr id="278" name="圆角矩形 20"/>
            <p:cNvSpPr/>
            <p:nvPr/>
          </p:nvSpPr>
          <p:spPr>
            <a:xfrm>
              <a:off x="984240" y="1430280"/>
              <a:ext cx="7129440" cy="2187720"/>
            </a:xfrm>
            <a:prstGeom prst="roundRect">
              <a:avLst>
                <a:gd name="adj" fmla="val 16667"/>
              </a:avLst>
            </a:prstGeom>
            <a:solidFill>
              <a:srgbClr val="222289">
                <a:alpha val="45000"/>
              </a:srgbClr>
            </a:solidFill>
            <a:ln w="1260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矩形 1"/>
            <p:cNvSpPr/>
            <p:nvPr/>
          </p:nvSpPr>
          <p:spPr>
            <a:xfrm>
              <a:off x="984240" y="1517400"/>
              <a:ext cx="699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你能由以上知识分解下列几个多项式吗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矩形 4" descr=""/>
          <p:cNvPicPr/>
          <p:nvPr/>
        </p:nvPicPr>
        <p:blipFill>
          <a:blip r:embed="rId2"/>
          <a:stretch/>
        </p:blipFill>
        <p:spPr>
          <a:xfrm>
            <a:off x="1427040" y="2678040"/>
            <a:ext cx="6088320" cy="80352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1"/>
          <p:cNvSpPr/>
          <p:nvPr/>
        </p:nvSpPr>
        <p:spPr>
          <a:xfrm>
            <a:off x="1357200" y="3618000"/>
            <a:ext cx="638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16=(p+4)(p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、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2-4=(y+2)(y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组合 19"/>
          <p:cNvGrpSpPr/>
          <p:nvPr/>
        </p:nvGrpSpPr>
        <p:grpSpPr>
          <a:xfrm>
            <a:off x="1571760" y="5321160"/>
            <a:ext cx="6168960" cy="884880"/>
            <a:chOff x="1571760" y="5321160"/>
            <a:chExt cx="6168960" cy="884880"/>
          </a:xfrm>
        </p:grpSpPr>
        <p:grpSp>
          <p:nvGrpSpPr>
            <p:cNvPr id="283" name="组合 18"/>
            <p:cNvGrpSpPr/>
            <p:nvPr/>
          </p:nvGrpSpPr>
          <p:grpSpPr>
            <a:xfrm>
              <a:off x="2963160" y="5321160"/>
              <a:ext cx="2666160" cy="884880"/>
              <a:chOff x="2963160" y="5321160"/>
              <a:chExt cx="2666160" cy="884880"/>
            </a:xfrm>
          </p:grpSpPr>
          <p:grpSp>
            <p:nvGrpSpPr>
              <p:cNvPr id="284" name="组合 7"/>
              <p:cNvGrpSpPr/>
              <p:nvPr/>
            </p:nvGrpSpPr>
            <p:grpSpPr>
              <a:xfrm>
                <a:off x="2963160" y="5327280"/>
                <a:ext cx="432360" cy="878760"/>
                <a:chOff x="2963160" y="5327280"/>
                <a:chExt cx="432360" cy="878760"/>
              </a:xfrm>
            </p:grpSpPr>
            <p:sp>
              <p:nvSpPr>
                <p:cNvPr id="285" name="文本框 3"/>
                <p:cNvSpPr/>
                <p:nvPr/>
              </p:nvSpPr>
              <p:spPr>
                <a:xfrm>
                  <a:off x="2963160" y="5500080"/>
                  <a:ext cx="43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3333cc"/>
                      </a:solidFill>
                      <a:latin typeface="Arial"/>
                    </a:rPr>
                    <a:t>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文本框 5"/>
                <p:cNvSpPr/>
                <p:nvPr/>
              </p:nvSpPr>
              <p:spPr>
                <a:xfrm>
                  <a:off x="3019680" y="5327280"/>
                  <a:ext cx="31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文本框 6"/>
                <p:cNvSpPr/>
                <p:nvPr/>
              </p:nvSpPr>
              <p:spPr>
                <a:xfrm>
                  <a:off x="3019680" y="5685480"/>
                  <a:ext cx="213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组合 8"/>
              <p:cNvGrpSpPr/>
              <p:nvPr/>
            </p:nvGrpSpPr>
            <p:grpSpPr>
              <a:xfrm>
                <a:off x="4177440" y="5321160"/>
                <a:ext cx="432360" cy="878760"/>
                <a:chOff x="4177440" y="5321160"/>
                <a:chExt cx="432360" cy="878760"/>
              </a:xfrm>
            </p:grpSpPr>
            <p:sp>
              <p:nvSpPr>
                <p:cNvPr id="289" name="文本框 9"/>
                <p:cNvSpPr/>
                <p:nvPr/>
              </p:nvSpPr>
              <p:spPr>
                <a:xfrm>
                  <a:off x="4177440" y="5493960"/>
                  <a:ext cx="43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3333cc"/>
                      </a:solidFill>
                      <a:latin typeface="Arial"/>
                    </a:rPr>
                    <a:t>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文本框 10"/>
                <p:cNvSpPr/>
                <p:nvPr/>
              </p:nvSpPr>
              <p:spPr>
                <a:xfrm>
                  <a:off x="4233960" y="5321160"/>
                  <a:ext cx="31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文本框 11"/>
                <p:cNvSpPr/>
                <p:nvPr/>
              </p:nvSpPr>
              <p:spPr>
                <a:xfrm>
                  <a:off x="4233960" y="5679360"/>
                  <a:ext cx="213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组合 12"/>
              <p:cNvGrpSpPr/>
              <p:nvPr/>
            </p:nvGrpSpPr>
            <p:grpSpPr>
              <a:xfrm>
                <a:off x="5196960" y="5327280"/>
                <a:ext cx="432360" cy="878760"/>
                <a:chOff x="5196960" y="5327280"/>
                <a:chExt cx="432360" cy="878760"/>
              </a:xfrm>
            </p:grpSpPr>
            <p:sp>
              <p:nvSpPr>
                <p:cNvPr id="293" name="文本框 13"/>
                <p:cNvSpPr/>
                <p:nvPr/>
              </p:nvSpPr>
              <p:spPr>
                <a:xfrm>
                  <a:off x="5196960" y="5500080"/>
                  <a:ext cx="43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3333cc"/>
                      </a:solidFill>
                      <a:latin typeface="Arial"/>
                    </a:rPr>
                    <a:t>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文本框 14"/>
                <p:cNvSpPr/>
                <p:nvPr/>
              </p:nvSpPr>
              <p:spPr>
                <a:xfrm>
                  <a:off x="5253480" y="5327280"/>
                  <a:ext cx="31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文本框 15"/>
                <p:cNvSpPr/>
                <p:nvPr/>
              </p:nvSpPr>
              <p:spPr>
                <a:xfrm>
                  <a:off x="5253480" y="5685480"/>
                  <a:ext cx="213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文本框 17"/>
            <p:cNvSpPr/>
            <p:nvPr/>
          </p:nvSpPr>
          <p:spPr>
            <a:xfrm>
              <a:off x="1571760" y="5440320"/>
              <a:ext cx="61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(3)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-    =(x+    )(x-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08120" y="70812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下列各式分解因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m+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727200" y="196704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 +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2111760" y="2365200"/>
            <a:ext cx="40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 +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］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224080" y="2806560"/>
            <a:ext cx="531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3(m +n)+(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][3(m +n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816920" y="3218040"/>
            <a:ext cx="59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m +3n+ 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(3 m +3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 +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934640" y="3557520"/>
            <a:ext cx="38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 m +2n)(2 m +4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2151000" y="4014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m +n)(m +2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1119240" y="448308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1865520" y="492912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1911240" y="534672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2)(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>
            <a:off x="5486400" y="5006880"/>
            <a:ext cx="3062160" cy="1371600"/>
          </a:xfrm>
          <a:prstGeom prst="wedgeEllipseCallout">
            <a:avLst>
              <a:gd name="adj1" fmla="val -94944"/>
              <a:gd name="adj2" fmla="val -4212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5799240" y="5157720"/>
            <a:ext cx="252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有公因式时，先提公因式，再考虑用公式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"/>
                            </p:stCondLst>
                            <p:childTnLst>
                              <p:par>
                                <p:cTn id="2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2"/>
          <p:cNvSpPr/>
          <p:nvPr/>
        </p:nvSpPr>
        <p:spPr>
          <a:xfrm>
            <a:off x="725400" y="185436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各式能否用平方差公式分解？如果能分解，分解成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②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③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④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316240" y="36878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+y)(x-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316240" y="4245120"/>
            <a:ext cx="52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y+x)(y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2247840" y="3112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2371680" y="476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641520" y="1239840"/>
            <a:ext cx="35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跟踪训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1:48:50Z</dcterms:created>
  <dc:creator>gcs</dc:creator>
  <dc:description/>
  <dc:language>en-US</dc:language>
  <cp:lastModifiedBy>Administrator</cp:lastModifiedBy>
  <dcterms:modified xsi:type="dcterms:W3CDTF">2018-01-03T03:30:31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