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camera.wav" ContentType="audio/x-wav"/>
  <Override PartName="/ppt/media/image22.wmf" ContentType="image/x-wmf"/>
  <Override PartName="/ppt/media/image23.wmf" ContentType="image/x-wmf"/>
  <Override PartName="/ppt/media/image20.gif" ContentType="image/gif"/>
  <Override PartName="/ppt/media/image19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5.wmf" ContentType="image/x-wmf"/>
  <Override PartName="/ppt/media/image24.png" ContentType="image/png"/>
  <Override PartName="/ppt/media/image1.png" ContentType="image/pn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F75-93E6-4793-910E-4350CE46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B7A-F651-427A-934E-18529948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3DF-2307-4D22-AF1B-5E71F571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39B-B9DD-42A9-8A21-0209DE55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B15-A1EB-470F-ABEA-3BAE76EE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706-F99B-4248-B4C3-3D3B61C6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D68-4783-4B3B-95D5-57246450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0C0-55DE-494B-8D73-A183DE91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6AE-7E26-4FFE-8B33-7FE7E3DD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2B6-2DA9-432E-9681-54C4D2DE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C63-3D12-4779-B21A-A0A25171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738-EA83-43AB-A7FB-72F018FA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19F4-1454-4ADC-81FD-F77115946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6668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Text Box 10" descr=""/>
          <p:cNvPicPr/>
          <p:nvPr/>
        </p:nvPicPr>
        <p:blipFill>
          <a:blip r:embed="rId1"/>
          <a:stretch/>
        </p:blipFill>
        <p:spPr>
          <a:xfrm>
            <a:off x="1400040" y="3068640"/>
            <a:ext cx="6023160" cy="144612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4" descr=""/>
          <p:cNvPicPr/>
          <p:nvPr/>
        </p:nvPicPr>
        <p:blipFill>
          <a:blip r:embed="rId2"/>
          <a:stretch/>
        </p:blipFill>
        <p:spPr>
          <a:xfrm>
            <a:off x="1042920" y="1424160"/>
            <a:ext cx="73468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3780000" y="764640"/>
            <a:ext cx="3169440" cy="1676160"/>
            <a:chOff x="3780000" y="764640"/>
            <a:chExt cx="3169440" cy="1676160"/>
          </a:xfrm>
        </p:grpSpPr>
        <p:grpSp>
          <p:nvGrpSpPr>
            <p:cNvPr id="170" name="Group 3"/>
            <p:cNvGrpSpPr/>
            <p:nvPr/>
          </p:nvGrpSpPr>
          <p:grpSpPr>
            <a:xfrm>
              <a:off x="3780000" y="1652400"/>
              <a:ext cx="1370520" cy="788400"/>
              <a:chOff x="3780000" y="1652400"/>
              <a:chExt cx="1370520" cy="788400"/>
            </a:xfrm>
          </p:grpSpPr>
          <p:sp>
            <p:nvSpPr>
              <p:cNvPr id="171" name="Line 4"/>
              <p:cNvSpPr/>
              <p:nvPr/>
            </p:nvSpPr>
            <p:spPr>
              <a:xfrm flipV="1">
                <a:off x="3780000" y="2405520"/>
                <a:ext cx="1312560" cy="3528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Group 5"/>
              <p:cNvGrpSpPr/>
              <p:nvPr/>
            </p:nvGrpSpPr>
            <p:grpSpPr>
              <a:xfrm>
                <a:off x="3780000" y="1652400"/>
                <a:ext cx="1370520" cy="788400"/>
                <a:chOff x="3780000" y="1652400"/>
                <a:chExt cx="1370520" cy="788400"/>
              </a:xfrm>
            </p:grpSpPr>
            <p:sp>
              <p:nvSpPr>
                <p:cNvPr id="173" name="Line 6"/>
                <p:cNvSpPr/>
                <p:nvPr/>
              </p:nvSpPr>
              <p:spPr>
                <a:xfrm flipV="1">
                  <a:off x="3780000" y="1663200"/>
                  <a:ext cx="892800" cy="777600"/>
                </a:xfrm>
                <a:prstGeom prst="line">
                  <a:avLst/>
                </a:prstGeom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4" name="AutoShape 7"/>
                <p:cNvCxnSpPr>
                  <a:stCxn id="173" idx="0"/>
                  <a:endCxn id="175" idx="0"/>
                </p:cNvCxnSpPr>
                <p:nvPr/>
              </p:nvCxnSpPr>
              <p:spPr>
                <a:xfrm>
                  <a:off x="4663440" y="1652400"/>
                  <a:ext cx="429840" cy="744120"/>
                </a:xfrm>
                <a:prstGeom prst="straightConnector1">
                  <a:avLst/>
                </a:prstGeom>
                <a:ln w="38160">
                  <a:solidFill>
                    <a:srgbClr val="800000"/>
                  </a:solidFill>
                  <a:round/>
                </a:ln>
              </p:spPr>
            </p:cxnSp>
          </p:grpSp>
        </p:grpSp>
        <p:grpSp>
          <p:nvGrpSpPr>
            <p:cNvPr id="176" name="Group 8"/>
            <p:cNvGrpSpPr/>
            <p:nvPr/>
          </p:nvGrpSpPr>
          <p:grpSpPr>
            <a:xfrm>
              <a:off x="5209920" y="764640"/>
              <a:ext cx="1739520" cy="1542240"/>
              <a:chOff x="5209920" y="764640"/>
              <a:chExt cx="1739520" cy="1542240"/>
            </a:xfrm>
          </p:grpSpPr>
          <p:sp>
            <p:nvSpPr>
              <p:cNvPr id="177" name="Line 9"/>
              <p:cNvSpPr/>
              <p:nvPr/>
            </p:nvSpPr>
            <p:spPr>
              <a:xfrm flipV="1">
                <a:off x="5636160" y="2270160"/>
                <a:ext cx="1312560" cy="3528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Group 10"/>
              <p:cNvGrpSpPr/>
              <p:nvPr/>
            </p:nvGrpSpPr>
            <p:grpSpPr>
              <a:xfrm>
                <a:off x="5209920" y="764640"/>
                <a:ext cx="1739520" cy="1542240"/>
                <a:chOff x="5209920" y="764640"/>
                <a:chExt cx="1739520" cy="1542240"/>
              </a:xfrm>
            </p:grpSpPr>
            <p:sp>
              <p:nvSpPr>
                <p:cNvPr id="179" name="Line 11"/>
                <p:cNvSpPr/>
                <p:nvPr/>
              </p:nvSpPr>
              <p:spPr>
                <a:xfrm>
                  <a:off x="6095880" y="765000"/>
                  <a:ext cx="853560" cy="1505160"/>
                </a:xfrm>
                <a:prstGeom prst="line">
                  <a:avLst/>
                </a:prstGeom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Group 12"/>
                <p:cNvGrpSpPr/>
                <p:nvPr/>
              </p:nvGrpSpPr>
              <p:grpSpPr>
                <a:xfrm>
                  <a:off x="5209920" y="764640"/>
                  <a:ext cx="886680" cy="1542240"/>
                  <a:chOff x="5209920" y="764640"/>
                  <a:chExt cx="886680" cy="1542240"/>
                </a:xfrm>
              </p:grpSpPr>
              <p:sp>
                <p:nvSpPr>
                  <p:cNvPr id="181" name="Line 13"/>
                  <p:cNvSpPr/>
                  <p:nvPr/>
                </p:nvSpPr>
                <p:spPr>
                  <a:xfrm flipV="1">
                    <a:off x="5210280" y="764640"/>
                    <a:ext cx="886320" cy="793800"/>
                  </a:xfrm>
                  <a:prstGeom prst="line">
                    <a:avLst/>
                  </a:prstGeom>
                  <a:ln w="38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82" name="AutoShape 14"/>
                  <p:cNvCxnSpPr>
                    <a:stCxn id="173" idx="1"/>
                    <a:endCxn id="177" idx="0"/>
                  </p:cNvCxnSpPr>
                  <p:nvPr/>
                </p:nvCxnSpPr>
                <p:spPr>
                  <a:xfrm>
                    <a:off x="5209920" y="1547640"/>
                    <a:ext cx="426600" cy="759600"/>
                  </a:xfrm>
                  <a:prstGeom prst="straightConnector1">
                    <a:avLst/>
                  </a:prstGeom>
                  <a:ln w="38160">
                    <a:solidFill>
                      <a:srgbClr val="800000"/>
                    </a:solidFill>
                    <a:round/>
                  </a:ln>
                </p:spPr>
              </p:cxnSp>
            </p:grpSp>
          </p:grpSp>
        </p:grpSp>
      </p:grpSp>
      <p:sp>
        <p:nvSpPr>
          <p:cNvPr id="183" name="Text Box 15"/>
          <p:cNvSpPr/>
          <p:nvPr/>
        </p:nvSpPr>
        <p:spPr>
          <a:xfrm>
            <a:off x="3348000" y="3284640"/>
            <a:ext cx="5400720" cy="5205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利用“角边角”可知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用第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块去，可以制作一个与原来全等的三角形纸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356000" y="1844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724360" y="1413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9" descr="新建 BMP 图象"/>
          <p:cNvPicPr/>
          <p:nvPr/>
        </p:nvPicPr>
        <p:blipFill>
          <a:blip r:embed="rId1"/>
          <a:stretch/>
        </p:blipFill>
        <p:spPr>
          <a:xfrm>
            <a:off x="611280" y="1484280"/>
            <a:ext cx="2628720" cy="366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6320" y="1243080"/>
            <a:ext cx="856908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同学把一块三角形的玻璃打碎成了三块，现在要到玻璃店去配一块完全一样的玻璃，那么最省事的办法是（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带①去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带②去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带③去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带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②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3885840" y="3429000"/>
            <a:ext cx="4350240" cy="2437560"/>
            <a:chOff x="3885840" y="3429000"/>
            <a:chExt cx="4350240" cy="2437560"/>
          </a:xfrm>
        </p:grpSpPr>
        <p:grpSp>
          <p:nvGrpSpPr>
            <p:cNvPr id="190" name="Group 5"/>
            <p:cNvGrpSpPr/>
            <p:nvPr/>
          </p:nvGrpSpPr>
          <p:grpSpPr>
            <a:xfrm>
              <a:off x="3885840" y="4910040"/>
              <a:ext cx="1447920" cy="956520"/>
              <a:chOff x="3885840" y="4910040"/>
              <a:chExt cx="1447920" cy="956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4605480" y="527040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7"/>
              <p:cNvGrpSpPr/>
              <p:nvPr/>
            </p:nvGrpSpPr>
            <p:grpSpPr>
              <a:xfrm>
                <a:off x="3885840" y="4910040"/>
                <a:ext cx="1447920" cy="956520"/>
                <a:chOff x="3885840" y="4910040"/>
                <a:chExt cx="1447920" cy="956520"/>
              </a:xfrm>
            </p:grpSpPr>
            <p:grpSp>
              <p:nvGrpSpPr>
                <p:cNvPr id="193" name="Group 8"/>
                <p:cNvGrpSpPr/>
                <p:nvPr/>
              </p:nvGrpSpPr>
              <p:grpSpPr>
                <a:xfrm>
                  <a:off x="3885840" y="4910040"/>
                  <a:ext cx="1375560" cy="956520"/>
                  <a:chOff x="3885840" y="4910040"/>
                  <a:chExt cx="1375560" cy="956520"/>
                </a:xfrm>
              </p:grpSpPr>
              <p:sp>
                <p:nvSpPr>
                  <p:cNvPr id="194" name="Line 8"/>
                  <p:cNvSpPr/>
                  <p:nvPr/>
                </p:nvSpPr>
                <p:spPr>
                  <a:xfrm flipH="1">
                    <a:off x="3885840" y="4910040"/>
                    <a:ext cx="941400" cy="956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Line 9"/>
                  <p:cNvSpPr/>
                  <p:nvPr/>
                </p:nvSpPr>
                <p:spPr>
                  <a:xfrm flipV="1">
                    <a:off x="3886200" y="5718960"/>
                    <a:ext cx="1375200" cy="147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Line 10"/>
                  <p:cNvSpPr/>
                  <p:nvPr/>
                </p:nvSpPr>
                <p:spPr>
                  <a:xfrm>
                    <a:off x="4827600" y="4910040"/>
                    <a:ext cx="71640" cy="293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Line 11"/>
                <p:cNvSpPr/>
                <p:nvPr/>
              </p:nvSpPr>
              <p:spPr>
                <a:xfrm flipV="1">
                  <a:off x="4899600" y="5130720"/>
                  <a:ext cx="434160" cy="7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12"/>
                <p:cNvSpPr/>
                <p:nvPr/>
              </p:nvSpPr>
              <p:spPr>
                <a:xfrm flipH="1">
                  <a:off x="5261760" y="5130720"/>
                  <a:ext cx="72000" cy="58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Group 14"/>
            <p:cNvGrpSpPr/>
            <p:nvPr/>
          </p:nvGrpSpPr>
          <p:grpSpPr>
            <a:xfrm>
              <a:off x="5435280" y="3944880"/>
              <a:ext cx="1446120" cy="1617480"/>
              <a:chOff x="5435280" y="3944880"/>
              <a:chExt cx="1446120" cy="1617480"/>
            </a:xfrm>
          </p:grpSpPr>
          <p:sp>
            <p:nvSpPr>
              <p:cNvPr id="200" name="Rectangle 14"/>
              <p:cNvSpPr/>
              <p:nvPr/>
            </p:nvSpPr>
            <p:spPr>
              <a:xfrm>
                <a:off x="5948280" y="4736880"/>
                <a:ext cx="62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Group 16"/>
              <p:cNvGrpSpPr/>
              <p:nvPr/>
            </p:nvGrpSpPr>
            <p:grpSpPr>
              <a:xfrm>
                <a:off x="5435280" y="3944880"/>
                <a:ext cx="1446120" cy="1617480"/>
                <a:chOff x="5435280" y="3944880"/>
                <a:chExt cx="1446120" cy="1617480"/>
              </a:xfrm>
            </p:grpSpPr>
            <p:sp>
              <p:nvSpPr>
                <p:cNvPr id="202" name="Line 16"/>
                <p:cNvSpPr/>
                <p:nvPr/>
              </p:nvSpPr>
              <p:spPr>
                <a:xfrm flipH="1">
                  <a:off x="5435280" y="3944880"/>
                  <a:ext cx="795240" cy="808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7"/>
                <p:cNvSpPr/>
                <p:nvPr/>
              </p:nvSpPr>
              <p:spPr>
                <a:xfrm flipV="1">
                  <a:off x="5869080" y="5414760"/>
                  <a:ext cx="1012320" cy="14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18"/>
                <p:cNvSpPr/>
                <p:nvPr/>
              </p:nvSpPr>
              <p:spPr>
                <a:xfrm>
                  <a:off x="6230880" y="3944880"/>
                  <a:ext cx="216720" cy="14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19"/>
                <p:cNvSpPr/>
                <p:nvPr/>
              </p:nvSpPr>
              <p:spPr>
                <a:xfrm flipH="1">
                  <a:off x="6302880" y="4092120"/>
                  <a:ext cx="144720" cy="36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20"/>
                <p:cNvSpPr/>
                <p:nvPr/>
              </p:nvSpPr>
              <p:spPr>
                <a:xfrm>
                  <a:off x="6302880" y="4458600"/>
                  <a:ext cx="578520" cy="221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21"/>
                <p:cNvSpPr/>
                <p:nvPr/>
              </p:nvSpPr>
              <p:spPr>
                <a:xfrm>
                  <a:off x="6881400" y="4680720"/>
                  <a:ext cx="0" cy="73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22"/>
                <p:cNvSpPr/>
                <p:nvPr/>
              </p:nvSpPr>
              <p:spPr>
                <a:xfrm>
                  <a:off x="5435640" y="4753440"/>
                  <a:ext cx="71280" cy="293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23"/>
                <p:cNvSpPr/>
                <p:nvPr/>
              </p:nvSpPr>
              <p:spPr>
                <a:xfrm flipV="1">
                  <a:off x="5506920" y="4973760"/>
                  <a:ext cx="433800" cy="73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Line 24"/>
                <p:cNvSpPr/>
                <p:nvPr/>
              </p:nvSpPr>
              <p:spPr>
                <a:xfrm flipH="1">
                  <a:off x="5868720" y="4974120"/>
                  <a:ext cx="71640" cy="58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Group 26"/>
            <p:cNvGrpSpPr/>
            <p:nvPr/>
          </p:nvGrpSpPr>
          <p:grpSpPr>
            <a:xfrm>
              <a:off x="6933960" y="3429000"/>
              <a:ext cx="1302120" cy="1838160"/>
              <a:chOff x="6933960" y="3429000"/>
              <a:chExt cx="1302120" cy="1838160"/>
            </a:xfrm>
          </p:grpSpPr>
          <p:sp>
            <p:nvSpPr>
              <p:cNvPr id="212" name="Rectangle 26"/>
              <p:cNvSpPr/>
              <p:nvPr/>
            </p:nvSpPr>
            <p:spPr>
              <a:xfrm>
                <a:off x="7662960" y="4645080"/>
                <a:ext cx="44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27"/>
              <p:cNvSpPr/>
              <p:nvPr/>
            </p:nvSpPr>
            <p:spPr>
              <a:xfrm>
                <a:off x="7296120" y="3429000"/>
                <a:ext cx="939960" cy="176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28"/>
              <p:cNvSpPr/>
              <p:nvPr/>
            </p:nvSpPr>
            <p:spPr>
              <a:xfrm flipH="1">
                <a:off x="6933960" y="3429000"/>
                <a:ext cx="361800" cy="36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29"/>
              <p:cNvSpPr/>
              <p:nvPr/>
            </p:nvSpPr>
            <p:spPr>
              <a:xfrm flipV="1">
                <a:off x="7585200" y="5194440"/>
                <a:ext cx="650880" cy="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>
                <a:off x="6934320" y="3797280"/>
                <a:ext cx="217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7005600" y="3944880"/>
                <a:ext cx="146160" cy="36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>
                <a:off x="7005600" y="4311720"/>
                <a:ext cx="57960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>
                <a:off x="7585200" y="45338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WordArt 34"/>
          <p:cNvSpPr txBox="1"/>
          <p:nvPr/>
        </p:nvSpPr>
        <p:spPr>
          <a:xfrm>
            <a:off x="395280" y="11736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3908520" y="1959120"/>
            <a:ext cx="16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28600" y="50796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交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 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可看出相等的是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 =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证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AO ≌ △ DO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需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条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补充条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写证明方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09720" y="3200400"/>
            <a:ext cx="184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根据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576600" y="3124080"/>
            <a:ext cx="184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根据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167520" y="3200400"/>
            <a:ext cx="184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根据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6553080" y="685800"/>
            <a:ext cx="2057400" cy="20574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6553080" y="685800"/>
            <a:ext cx="1295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326640" y="30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772400" y="3319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6858000" y="253836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8563680" y="24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7621200" y="1398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3138480" y="838080"/>
            <a:ext cx="316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　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CO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541188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57280" y="312408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OA=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AOB=∠C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OB=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　　　　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3388680" y="3124080"/>
            <a:ext cx="187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AOB=∠C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OB=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∠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B =∠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　　　　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6125400" y="3124080"/>
            <a:ext cx="187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AOB=∠C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OA=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∠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A =∠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　　　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7315200" y="121932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467480" y="175248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996633"/>
              </a:gs>
              <a:gs pos="100000">
                <a:srgbClr val="ff6600"/>
              </a:gs>
            </a:gsLst>
            <a:lin ang="189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2280" y="6705720"/>
            <a:ext cx="8839440" cy="152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996633"/>
              </a:gs>
              <a:gs pos="100000">
                <a:srgbClr val="ff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2280" y="0"/>
            <a:ext cx="8839440" cy="152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996633"/>
              </a:gs>
              <a:gs pos="100000">
                <a:srgbClr val="ff6600"/>
              </a:gs>
            </a:gsLst>
            <a:lin ang="27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996633"/>
              </a:gs>
              <a:gs pos="100000">
                <a:srgbClr val="ff6600"/>
              </a:gs>
            </a:gsLst>
            <a:lin ang="189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4"/>
          <p:cNvSpPr/>
          <p:nvPr/>
        </p:nvSpPr>
        <p:spPr>
          <a:xfrm flipH="1">
            <a:off x="7238880" y="685800"/>
            <a:ext cx="609840" cy="20574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5"/>
          <p:cNvSpPr/>
          <p:nvPr/>
        </p:nvSpPr>
        <p:spPr>
          <a:xfrm>
            <a:off x="7238880" y="274320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533520" y="3429000"/>
            <a:ext cx="457200" cy="1341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34920 h 1341360"/>
              <a:gd name="textAreaBottom" fmla="*/ 1306440 h 134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7233"/>
                </a:lnTo>
                <a:cubicBezTo>
                  <a:pt x="10800" y="8133"/>
                  <a:pt x="5400" y="9032"/>
                  <a:pt x="0" y="9032"/>
                </a:cubicBezTo>
                <a:cubicBezTo>
                  <a:pt x="5400" y="9032"/>
                  <a:pt x="10800" y="9932"/>
                  <a:pt x="10800" y="10831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3048120" y="3429000"/>
            <a:ext cx="492120" cy="1189080"/>
          </a:xfrm>
          <a:custGeom>
            <a:avLst/>
            <a:gdLst>
              <a:gd name="textAreaLeft" fmla="*/ 314640 w 492120"/>
              <a:gd name="textAreaRight" fmla="*/ 492480 w 49212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7233"/>
                </a:lnTo>
                <a:cubicBezTo>
                  <a:pt x="10800" y="8133"/>
                  <a:pt x="5400" y="9032"/>
                  <a:pt x="0" y="9032"/>
                </a:cubicBezTo>
                <a:cubicBezTo>
                  <a:pt x="5400" y="9032"/>
                  <a:pt x="10800" y="9932"/>
                  <a:pt x="10800" y="10831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5638680" y="3505320"/>
            <a:ext cx="492120" cy="1189080"/>
          </a:xfrm>
          <a:custGeom>
            <a:avLst/>
            <a:gdLst>
              <a:gd name="textAreaLeft" fmla="*/ 314640 w 492120"/>
              <a:gd name="textAreaRight" fmla="*/ 492480 w 49212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7233"/>
                </a:lnTo>
                <a:cubicBezTo>
                  <a:pt x="10800" y="8133"/>
                  <a:pt x="5400" y="9032"/>
                  <a:pt x="0" y="9032"/>
                </a:cubicBezTo>
                <a:cubicBezTo>
                  <a:pt x="5400" y="9032"/>
                  <a:pt x="10800" y="9932"/>
                  <a:pt x="10800" y="10831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6"/>
          <p:cNvSpPr/>
          <p:nvPr/>
        </p:nvSpPr>
        <p:spPr>
          <a:xfrm>
            <a:off x="1440" y="0"/>
            <a:ext cx="91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AB=AC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= ∠C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AD=A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736720" cy="3324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1199520" y="141300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分析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能证明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D ≌ △ABE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就可以得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=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711800" y="2421000"/>
            <a:ext cx="24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D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2316240" y="29242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= ∠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394000" y="378936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=∠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423160" y="33559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=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2125800" y="31399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204000" y="429264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582120" y="234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1035720" y="43657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D ≌ △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945360" y="494028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=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456480" y="228600"/>
            <a:ext cx="116640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04920" y="6094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下图，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∠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, ∠ 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, 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F,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△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等吗？能利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边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件证明你的结论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44"/>
          <p:cNvGrpSpPr/>
          <p:nvPr/>
        </p:nvGrpSpPr>
        <p:grpSpPr>
          <a:xfrm>
            <a:off x="304920" y="4267080"/>
            <a:ext cx="3581280" cy="2364840"/>
            <a:chOff x="304920" y="4267080"/>
            <a:chExt cx="3581280" cy="2364840"/>
          </a:xfrm>
        </p:grpSpPr>
        <p:grpSp>
          <p:nvGrpSpPr>
            <p:cNvPr id="264" name="Group 11"/>
            <p:cNvGrpSpPr/>
            <p:nvPr/>
          </p:nvGrpSpPr>
          <p:grpSpPr>
            <a:xfrm>
              <a:off x="609480" y="4647960"/>
              <a:ext cx="3047760" cy="1828440"/>
              <a:chOff x="609480" y="4647960"/>
              <a:chExt cx="3047760" cy="1828440"/>
            </a:xfrm>
          </p:grpSpPr>
          <p:sp>
            <p:nvSpPr>
              <p:cNvPr id="265" name="Line 12"/>
              <p:cNvSpPr/>
              <p:nvPr/>
            </p:nvSpPr>
            <p:spPr>
              <a:xfrm flipH="1">
                <a:off x="609480" y="4647960"/>
                <a:ext cx="2061720" cy="18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3"/>
              <p:cNvSpPr/>
              <p:nvPr/>
            </p:nvSpPr>
            <p:spPr>
              <a:xfrm>
                <a:off x="2671560" y="4647960"/>
                <a:ext cx="985680" cy="1251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4"/>
              <p:cNvSpPr/>
              <p:nvPr/>
            </p:nvSpPr>
            <p:spPr>
              <a:xfrm flipV="1">
                <a:off x="609840" y="5898600"/>
                <a:ext cx="3047400" cy="577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Text Box 26"/>
            <p:cNvSpPr/>
            <p:nvPr/>
          </p:nvSpPr>
          <p:spPr>
            <a:xfrm>
              <a:off x="304920" y="6172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35053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8"/>
            <p:cNvSpPr/>
            <p:nvPr/>
          </p:nvSpPr>
          <p:spPr>
            <a:xfrm>
              <a:off x="266724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rc 32"/>
            <p:cNvSpPr/>
            <p:nvPr/>
          </p:nvSpPr>
          <p:spPr>
            <a:xfrm rot="8329800">
              <a:off x="2438640" y="4723920"/>
              <a:ext cx="474480" cy="304920"/>
            </a:xfrm>
            <a:custGeom>
              <a:avLst/>
              <a:gdLst/>
              <a:ahLst/>
              <a:rect l="l" t="t" r="r" b="b"/>
              <a:pathLst>
                <a:path fill="none" w="21600" h="20855">
                  <a:moveTo>
                    <a:pt x="5623" y="-1"/>
                  </a:moveTo>
                  <a:cubicBezTo>
                    <a:pt x="15050" y="2541"/>
                    <a:pt x="21600" y="11091"/>
                    <a:pt x="21600" y="20855"/>
                  </a:cubicBezTo>
                </a:path>
                <a:path stroke="0" w="21600" h="20855">
                  <a:moveTo>
                    <a:pt x="5623" y="-1"/>
                  </a:moveTo>
                  <a:cubicBezTo>
                    <a:pt x="15050" y="2541"/>
                    <a:pt x="21600" y="11091"/>
                    <a:pt x="21600" y="20855"/>
                  </a:cubicBezTo>
                  <a:lnTo>
                    <a:pt x="0" y="20855"/>
                  </a:lnTo>
                  <a:lnTo>
                    <a:pt x="5623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36"/>
            <p:cNvGrpSpPr/>
            <p:nvPr/>
          </p:nvGrpSpPr>
          <p:grpSpPr>
            <a:xfrm>
              <a:off x="990720" y="6095880"/>
              <a:ext cx="151920" cy="309600"/>
              <a:chOff x="990720" y="6095880"/>
              <a:chExt cx="151920" cy="309600"/>
            </a:xfrm>
          </p:grpSpPr>
          <p:sp>
            <p:nvSpPr>
              <p:cNvPr id="273" name="Arc 37"/>
              <p:cNvSpPr/>
              <p:nvPr/>
            </p:nvSpPr>
            <p:spPr>
              <a:xfrm>
                <a:off x="990720" y="6170400"/>
                <a:ext cx="75960" cy="2286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8"/>
              <p:cNvSpPr/>
              <p:nvPr/>
            </p:nvSpPr>
            <p:spPr>
              <a:xfrm>
                <a:off x="1066680" y="6095880"/>
                <a:ext cx="75960" cy="309600"/>
              </a:xfrm>
              <a:custGeom>
                <a:avLst/>
                <a:gdLst/>
                <a:ahLst/>
                <a:rect l="l" t="t" r="r" b="b"/>
                <a:pathLst>
                  <a:path fill="none" w="21600" h="2930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234"/>
                      <a:pt x="21118" y="26846"/>
                      <a:pt x="20178" y="29307"/>
                    </a:cubicBezTo>
                  </a:path>
                  <a:path stroke="0" w="21600" h="2930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234"/>
                      <a:pt x="21118" y="26846"/>
                      <a:pt x="20178" y="2930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40"/>
            <p:cNvSpPr/>
            <p:nvPr/>
          </p:nvSpPr>
          <p:spPr>
            <a:xfrm>
              <a:off x="2210040" y="6095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43"/>
          <p:cNvGrpSpPr/>
          <p:nvPr/>
        </p:nvGrpSpPr>
        <p:grpSpPr>
          <a:xfrm>
            <a:off x="304920" y="2133720"/>
            <a:ext cx="3580920" cy="2288520"/>
            <a:chOff x="304920" y="2133720"/>
            <a:chExt cx="3580920" cy="2288520"/>
          </a:xfrm>
        </p:grpSpPr>
        <p:grpSp>
          <p:nvGrpSpPr>
            <p:cNvPr id="277" name="Group 10"/>
            <p:cNvGrpSpPr/>
            <p:nvPr/>
          </p:nvGrpSpPr>
          <p:grpSpPr>
            <a:xfrm>
              <a:off x="609120" y="2514600"/>
              <a:ext cx="3047760" cy="1828440"/>
              <a:chOff x="609120" y="2514600"/>
              <a:chExt cx="3047760" cy="1828440"/>
            </a:xfrm>
          </p:grpSpPr>
          <p:sp>
            <p:nvSpPr>
              <p:cNvPr id="278" name="Line 6"/>
              <p:cNvSpPr/>
              <p:nvPr/>
            </p:nvSpPr>
            <p:spPr>
              <a:xfrm flipH="1">
                <a:off x="609120" y="2514600"/>
                <a:ext cx="2061720" cy="182844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7"/>
              <p:cNvSpPr/>
              <p:nvPr/>
            </p:nvSpPr>
            <p:spPr>
              <a:xfrm>
                <a:off x="2671200" y="2514600"/>
                <a:ext cx="985680" cy="125100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9"/>
              <p:cNvSpPr/>
              <p:nvPr/>
            </p:nvSpPr>
            <p:spPr>
              <a:xfrm flipV="1">
                <a:off x="609480" y="3765240"/>
                <a:ext cx="3047400" cy="57708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3"/>
            <p:cNvSpPr/>
            <p:nvPr/>
          </p:nvSpPr>
          <p:spPr>
            <a:xfrm>
              <a:off x="30492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4"/>
            <p:cNvSpPr/>
            <p:nvPr/>
          </p:nvSpPr>
          <p:spPr>
            <a:xfrm>
              <a:off x="236196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25"/>
            <p:cNvSpPr/>
            <p:nvPr/>
          </p:nvSpPr>
          <p:spPr>
            <a:xfrm>
              <a:off x="350496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rc 31"/>
            <p:cNvSpPr/>
            <p:nvPr/>
          </p:nvSpPr>
          <p:spPr>
            <a:xfrm rot="8329800">
              <a:off x="2438280" y="2590560"/>
              <a:ext cx="474480" cy="304920"/>
            </a:xfrm>
            <a:custGeom>
              <a:avLst/>
              <a:gdLst/>
              <a:ahLst/>
              <a:rect l="l" t="t" r="r" b="b"/>
              <a:pathLst>
                <a:path fill="none" w="21600" h="20855">
                  <a:moveTo>
                    <a:pt x="5623" y="-1"/>
                  </a:moveTo>
                  <a:cubicBezTo>
                    <a:pt x="15050" y="2541"/>
                    <a:pt x="21600" y="11091"/>
                    <a:pt x="21600" y="20855"/>
                  </a:cubicBezTo>
                </a:path>
                <a:path stroke="0" w="21600" h="20855">
                  <a:moveTo>
                    <a:pt x="5623" y="-1"/>
                  </a:moveTo>
                  <a:cubicBezTo>
                    <a:pt x="15050" y="2541"/>
                    <a:pt x="21600" y="11091"/>
                    <a:pt x="21600" y="20855"/>
                  </a:cubicBezTo>
                  <a:lnTo>
                    <a:pt x="0" y="20855"/>
                  </a:lnTo>
                  <a:lnTo>
                    <a:pt x="5623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35"/>
            <p:cNvGrpSpPr/>
            <p:nvPr/>
          </p:nvGrpSpPr>
          <p:grpSpPr>
            <a:xfrm>
              <a:off x="990360" y="3962520"/>
              <a:ext cx="151920" cy="309600"/>
              <a:chOff x="990360" y="3962520"/>
              <a:chExt cx="151920" cy="309600"/>
            </a:xfrm>
          </p:grpSpPr>
          <p:sp>
            <p:nvSpPr>
              <p:cNvPr id="286" name="Arc 33"/>
              <p:cNvSpPr/>
              <p:nvPr/>
            </p:nvSpPr>
            <p:spPr>
              <a:xfrm>
                <a:off x="990360" y="4037040"/>
                <a:ext cx="75960" cy="2286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Arc 34"/>
              <p:cNvSpPr/>
              <p:nvPr/>
            </p:nvSpPr>
            <p:spPr>
              <a:xfrm>
                <a:off x="1066320" y="3962520"/>
                <a:ext cx="75960" cy="309600"/>
              </a:xfrm>
              <a:custGeom>
                <a:avLst/>
                <a:gdLst/>
                <a:ahLst/>
                <a:rect l="l" t="t" r="r" b="b"/>
                <a:pathLst>
                  <a:path fill="none" w="21600" h="2930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234"/>
                      <a:pt x="21118" y="26846"/>
                      <a:pt x="20178" y="29307"/>
                    </a:cubicBezTo>
                  </a:path>
                  <a:path stroke="0" w="21600" h="2930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234"/>
                      <a:pt x="21118" y="26846"/>
                      <a:pt x="20178" y="2930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Line 41"/>
            <p:cNvSpPr/>
            <p:nvPr/>
          </p:nvSpPr>
          <p:spPr>
            <a:xfrm>
              <a:off x="2286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42"/>
          <p:cNvSpPr/>
          <p:nvPr/>
        </p:nvSpPr>
        <p:spPr>
          <a:xfrm>
            <a:off x="5155920" y="1916280"/>
            <a:ext cx="3232440" cy="410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△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BC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与△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EF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全等。理由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△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BC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△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EF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 +∠B +∠C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 +∠E +∠F =18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角形内角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∵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＝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, ∠B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＝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＝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△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BC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△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EF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E,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C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EF,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F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已证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△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B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△DEF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A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5"/>
          <p:cNvSpPr/>
          <p:nvPr/>
        </p:nvSpPr>
        <p:spPr>
          <a:xfrm>
            <a:off x="4876920" y="4724280"/>
            <a:ext cx="75960" cy="83844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838440"/>
              <a:gd name="textAreaBottom" fmla="*/ 8089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7"/>
                  <a:pt x="10800" y="2454"/>
                </a:cubicBezTo>
                <a:lnTo>
                  <a:pt x="10800" y="8346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7"/>
                  <a:pt x="10800" y="13254"/>
                </a:cubicBezTo>
                <a:lnTo>
                  <a:pt x="10800" y="19146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6"/>
          <p:cNvSpPr/>
          <p:nvPr/>
        </p:nvSpPr>
        <p:spPr>
          <a:xfrm flipH="1">
            <a:off x="2727360" y="1039680"/>
            <a:ext cx="2062080" cy="1828800"/>
          </a:xfrm>
          <a:prstGeom prst="line">
            <a:avLst/>
          </a:prstGeom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4789440" y="1039680"/>
            <a:ext cx="986040" cy="1252800"/>
          </a:xfrm>
          <a:prstGeom prst="line">
            <a:avLst/>
          </a:prstGeom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422440" y="248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4479840" y="65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5622840" y="218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1"/>
          <p:cNvSpPr/>
          <p:nvPr/>
        </p:nvSpPr>
        <p:spPr>
          <a:xfrm>
            <a:off x="4403880" y="2487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"/>
          <p:cNvSpPr/>
          <p:nvPr/>
        </p:nvSpPr>
        <p:spPr>
          <a:xfrm flipH="1">
            <a:off x="2879640" y="3844800"/>
            <a:ext cx="2062080" cy="18288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941720" y="3844800"/>
            <a:ext cx="986040" cy="12510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组合 9"/>
          <p:cNvGrpSpPr/>
          <p:nvPr/>
        </p:nvGrpSpPr>
        <p:grpSpPr>
          <a:xfrm>
            <a:off x="2727360" y="2292480"/>
            <a:ext cx="3200400" cy="3381120"/>
            <a:chOff x="2727360" y="2292480"/>
            <a:chExt cx="3200400" cy="3381120"/>
          </a:xfrm>
        </p:grpSpPr>
        <p:sp>
          <p:nvSpPr>
            <p:cNvPr id="300" name="Line 9"/>
            <p:cNvSpPr/>
            <p:nvPr/>
          </p:nvSpPr>
          <p:spPr>
            <a:xfrm flipV="1">
              <a:off x="2727360" y="2292480"/>
              <a:ext cx="3048120" cy="57744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 flipV="1">
              <a:off x="2879640" y="5096160"/>
              <a:ext cx="3048120" cy="57744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Text Box 26"/>
          <p:cNvSpPr/>
          <p:nvPr/>
        </p:nvSpPr>
        <p:spPr>
          <a:xfrm>
            <a:off x="2575080" y="5369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7"/>
          <p:cNvSpPr/>
          <p:nvPr/>
        </p:nvSpPr>
        <p:spPr>
          <a:xfrm>
            <a:off x="5775480" y="506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4937040" y="346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15"/>
          <p:cNvGrpSpPr/>
          <p:nvPr/>
        </p:nvGrpSpPr>
        <p:grpSpPr>
          <a:xfrm>
            <a:off x="4514400" y="997200"/>
            <a:ext cx="710280" cy="3347280"/>
            <a:chOff x="4514400" y="997200"/>
            <a:chExt cx="710280" cy="3347280"/>
          </a:xfrm>
        </p:grpSpPr>
        <p:sp>
          <p:nvSpPr>
            <p:cNvPr id="306" name="Arc 31"/>
            <p:cNvSpPr/>
            <p:nvPr/>
          </p:nvSpPr>
          <p:spPr>
            <a:xfrm rot="8329800">
              <a:off x="4555800" y="1115640"/>
              <a:ext cx="474840" cy="304920"/>
            </a:xfrm>
            <a:custGeom>
              <a:avLst/>
              <a:gdLst/>
              <a:ahLst/>
              <a:rect l="l" t="t" r="r" b="b"/>
              <a:pathLst>
                <a:path fill="none" w="21600" h="20855">
                  <a:moveTo>
                    <a:pt x="5623" y="-1"/>
                  </a:moveTo>
                  <a:cubicBezTo>
                    <a:pt x="15050" y="2541"/>
                    <a:pt x="21600" y="11091"/>
                    <a:pt x="21600" y="20855"/>
                  </a:cubicBezTo>
                </a:path>
                <a:path stroke="0" w="21600" h="20855">
                  <a:moveTo>
                    <a:pt x="5623" y="-1"/>
                  </a:moveTo>
                  <a:cubicBezTo>
                    <a:pt x="15050" y="2541"/>
                    <a:pt x="21600" y="11091"/>
                    <a:pt x="21600" y="20855"/>
                  </a:cubicBezTo>
                  <a:lnTo>
                    <a:pt x="0" y="20855"/>
                  </a:lnTo>
                  <a:lnTo>
                    <a:pt x="5623" y="-1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rc 32"/>
            <p:cNvSpPr/>
            <p:nvPr/>
          </p:nvSpPr>
          <p:spPr>
            <a:xfrm rot="8329800">
              <a:off x="4708080" y="3920760"/>
              <a:ext cx="474840" cy="304920"/>
            </a:xfrm>
            <a:custGeom>
              <a:avLst/>
              <a:gdLst/>
              <a:ahLst/>
              <a:rect l="l" t="t" r="r" b="b"/>
              <a:pathLst>
                <a:path fill="none" w="21600" h="20855">
                  <a:moveTo>
                    <a:pt x="5623" y="-1"/>
                  </a:moveTo>
                  <a:cubicBezTo>
                    <a:pt x="15050" y="2541"/>
                    <a:pt x="21600" y="11091"/>
                    <a:pt x="21600" y="20855"/>
                  </a:cubicBezTo>
                </a:path>
                <a:path stroke="0" w="21600" h="20855">
                  <a:moveTo>
                    <a:pt x="5623" y="-1"/>
                  </a:moveTo>
                  <a:cubicBezTo>
                    <a:pt x="15050" y="2541"/>
                    <a:pt x="21600" y="11091"/>
                    <a:pt x="21600" y="20855"/>
                  </a:cubicBezTo>
                  <a:lnTo>
                    <a:pt x="0" y="20855"/>
                  </a:lnTo>
                  <a:lnTo>
                    <a:pt x="5623" y="-1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18"/>
          <p:cNvGrpSpPr/>
          <p:nvPr/>
        </p:nvGrpSpPr>
        <p:grpSpPr>
          <a:xfrm>
            <a:off x="3108240" y="2487600"/>
            <a:ext cx="304200" cy="3114720"/>
            <a:chOff x="3108240" y="2487600"/>
            <a:chExt cx="304200" cy="3114720"/>
          </a:xfrm>
        </p:grpSpPr>
        <p:grpSp>
          <p:nvGrpSpPr>
            <p:cNvPr id="309" name="Group 35"/>
            <p:cNvGrpSpPr/>
            <p:nvPr/>
          </p:nvGrpSpPr>
          <p:grpSpPr>
            <a:xfrm>
              <a:off x="3108240" y="2487600"/>
              <a:ext cx="151920" cy="309600"/>
              <a:chOff x="3108240" y="2487600"/>
              <a:chExt cx="151920" cy="309600"/>
            </a:xfrm>
          </p:grpSpPr>
          <p:sp>
            <p:nvSpPr>
              <p:cNvPr id="310" name="Arc 33"/>
              <p:cNvSpPr/>
              <p:nvPr/>
            </p:nvSpPr>
            <p:spPr>
              <a:xfrm>
                <a:off x="3108240" y="2562120"/>
                <a:ext cx="75960" cy="2286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Arc 34"/>
              <p:cNvSpPr/>
              <p:nvPr/>
            </p:nvSpPr>
            <p:spPr>
              <a:xfrm>
                <a:off x="3184200" y="2487600"/>
                <a:ext cx="75960" cy="309600"/>
              </a:xfrm>
              <a:custGeom>
                <a:avLst/>
                <a:gdLst/>
                <a:ahLst/>
                <a:rect l="l" t="t" r="r" b="b"/>
                <a:pathLst>
                  <a:path fill="none" w="21600" h="2930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234"/>
                      <a:pt x="21118" y="26846"/>
                      <a:pt x="20178" y="29307"/>
                    </a:cubicBezTo>
                  </a:path>
                  <a:path stroke="0" w="21600" h="2930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234"/>
                      <a:pt x="21118" y="26846"/>
                      <a:pt x="20178" y="2930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36"/>
            <p:cNvGrpSpPr/>
            <p:nvPr/>
          </p:nvGrpSpPr>
          <p:grpSpPr>
            <a:xfrm>
              <a:off x="3260520" y="5292720"/>
              <a:ext cx="151920" cy="309600"/>
              <a:chOff x="3260520" y="5292720"/>
              <a:chExt cx="151920" cy="309600"/>
            </a:xfrm>
          </p:grpSpPr>
          <p:sp>
            <p:nvSpPr>
              <p:cNvPr id="313" name="Arc 37"/>
              <p:cNvSpPr/>
              <p:nvPr/>
            </p:nvSpPr>
            <p:spPr>
              <a:xfrm>
                <a:off x="3260520" y="5367240"/>
                <a:ext cx="75960" cy="2286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Arc 38"/>
              <p:cNvSpPr/>
              <p:nvPr/>
            </p:nvSpPr>
            <p:spPr>
              <a:xfrm>
                <a:off x="3336480" y="5292720"/>
                <a:ext cx="75960" cy="309600"/>
              </a:xfrm>
              <a:custGeom>
                <a:avLst/>
                <a:gdLst/>
                <a:ahLst/>
                <a:rect l="l" t="t" r="r" b="b"/>
                <a:pathLst>
                  <a:path fill="none" w="21600" h="2930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234"/>
                      <a:pt x="21118" y="26846"/>
                      <a:pt x="20178" y="29307"/>
                    </a:cubicBezTo>
                  </a:path>
                  <a:path stroke="0" w="21600" h="29307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4234"/>
                      <a:pt x="21118" y="26846"/>
                      <a:pt x="20178" y="2930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Line 40"/>
          <p:cNvSpPr/>
          <p:nvPr/>
        </p:nvSpPr>
        <p:spPr>
          <a:xfrm>
            <a:off x="4479840" y="5292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419360" cy="350532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5"/>
          <p:cNvGrpSpPr/>
          <p:nvPr/>
        </p:nvGrpSpPr>
        <p:grpSpPr>
          <a:xfrm>
            <a:off x="304920" y="3352680"/>
            <a:ext cx="6018840" cy="2730240"/>
            <a:chOff x="304920" y="3352680"/>
            <a:chExt cx="6018840" cy="2730240"/>
          </a:xfrm>
        </p:grpSpPr>
        <p:sp>
          <p:nvSpPr>
            <p:cNvPr id="318" name="AutoShape 6"/>
            <p:cNvSpPr/>
            <p:nvPr/>
          </p:nvSpPr>
          <p:spPr>
            <a:xfrm>
              <a:off x="798480" y="4038480"/>
              <a:ext cx="98280" cy="152388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7"/>
            <p:cNvGrpSpPr/>
            <p:nvPr/>
          </p:nvGrpSpPr>
          <p:grpSpPr>
            <a:xfrm>
              <a:off x="304920" y="3352680"/>
              <a:ext cx="6018840" cy="2730240"/>
              <a:chOff x="304920" y="3352680"/>
              <a:chExt cx="6018840" cy="2730240"/>
            </a:xfrm>
          </p:grpSpPr>
          <p:sp>
            <p:nvSpPr>
              <p:cNvPr id="320" name="Text Box 8"/>
              <p:cNvSpPr/>
              <p:nvPr/>
            </p:nvSpPr>
            <p:spPr>
              <a:xfrm>
                <a:off x="995760" y="3962160"/>
                <a:ext cx="5328000" cy="15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E=A’D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已知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∠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=∠A’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已知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）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∠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B=∠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已知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Text Box 9"/>
              <p:cNvSpPr/>
              <p:nvPr/>
            </p:nvSpPr>
            <p:spPr>
              <a:xfrm>
                <a:off x="501840" y="3352680"/>
                <a:ext cx="5821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在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△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B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△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’CD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10"/>
              <p:cNvSpPr/>
              <p:nvPr/>
            </p:nvSpPr>
            <p:spPr>
              <a:xfrm>
                <a:off x="304920" y="5562360"/>
                <a:ext cx="59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∴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△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BE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≌△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’CD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AS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Text Box 11"/>
          <p:cNvSpPr/>
          <p:nvPr/>
        </p:nvSpPr>
        <p:spPr>
          <a:xfrm>
            <a:off x="380880" y="2438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用数学符号表示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762120" y="990720"/>
            <a:ext cx="7924680" cy="9471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两个角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其中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个角的对边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应相等的两个三角形全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可以简写成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角角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或“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A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57200" y="304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探究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映的规律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631800" y="304920"/>
            <a:ext cx="80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中点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= ∠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等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"/>
          <p:cNvGrpSpPr/>
          <p:nvPr/>
        </p:nvGrpSpPr>
        <p:grpSpPr>
          <a:xfrm>
            <a:off x="4569840" y="1371600"/>
            <a:ext cx="4322160" cy="2252160"/>
            <a:chOff x="4569840" y="1371600"/>
            <a:chExt cx="4322160" cy="2252160"/>
          </a:xfrm>
        </p:grpSpPr>
        <p:sp>
          <p:nvSpPr>
            <p:cNvPr id="328" name="Line 4"/>
            <p:cNvSpPr/>
            <p:nvPr/>
          </p:nvSpPr>
          <p:spPr>
            <a:xfrm>
              <a:off x="4865760" y="2486880"/>
              <a:ext cx="3741480" cy="1080"/>
            </a:xfrm>
            <a:prstGeom prst="line">
              <a:avLst/>
            </a:prstGeom>
            <a:ln w="39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 flipH="1">
              <a:off x="4865760" y="1724760"/>
              <a:ext cx="1558800" cy="761760"/>
            </a:xfrm>
            <a:prstGeom prst="line">
              <a:avLst/>
            </a:prstGeom>
            <a:ln w="39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>
              <a:off x="6424560" y="1724760"/>
              <a:ext cx="818640" cy="1468800"/>
            </a:xfrm>
            <a:prstGeom prst="line">
              <a:avLst/>
            </a:prstGeom>
            <a:ln w="39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 flipH="1">
              <a:off x="7243560" y="2486880"/>
              <a:ext cx="1363680" cy="706680"/>
            </a:xfrm>
            <a:prstGeom prst="line">
              <a:avLst/>
            </a:prstGeom>
            <a:ln w="39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8"/>
            <p:cNvSpPr/>
            <p:nvPr/>
          </p:nvSpPr>
          <p:spPr>
            <a:xfrm>
              <a:off x="6818040" y="2459160"/>
              <a:ext cx="77400" cy="67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9"/>
            <p:cNvSpPr/>
            <p:nvPr/>
          </p:nvSpPr>
          <p:spPr>
            <a:xfrm>
              <a:off x="6831000" y="2143440"/>
              <a:ext cx="276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4834440" y="2459160"/>
              <a:ext cx="74880" cy="67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1"/>
            <p:cNvSpPr/>
            <p:nvPr/>
          </p:nvSpPr>
          <p:spPr>
            <a:xfrm>
              <a:off x="4569840" y="23317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8575920" y="2459160"/>
              <a:ext cx="74880" cy="67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3"/>
            <p:cNvSpPr/>
            <p:nvPr/>
          </p:nvSpPr>
          <p:spPr>
            <a:xfrm>
              <a:off x="8635320" y="23058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14"/>
            <p:cNvSpPr/>
            <p:nvPr/>
          </p:nvSpPr>
          <p:spPr>
            <a:xfrm>
              <a:off x="6395040" y="1697400"/>
              <a:ext cx="75240" cy="67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6297840" y="13716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16"/>
            <p:cNvSpPr/>
            <p:nvPr/>
          </p:nvSpPr>
          <p:spPr>
            <a:xfrm>
              <a:off x="7212240" y="3166200"/>
              <a:ext cx="77040" cy="67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7"/>
            <p:cNvSpPr/>
            <p:nvPr/>
          </p:nvSpPr>
          <p:spPr>
            <a:xfrm>
              <a:off x="7120440" y="31968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AutoShape 20"/>
          <p:cNvSpPr/>
          <p:nvPr/>
        </p:nvSpPr>
        <p:spPr>
          <a:xfrm>
            <a:off x="228600" y="1371600"/>
            <a:ext cx="2743200" cy="1143000"/>
          </a:xfrm>
          <a:prstGeom prst="cloudCallout">
            <a:avLst>
              <a:gd name="adj1" fmla="val 103069"/>
              <a:gd name="adj2" fmla="val -68611"/>
            </a:avLst>
          </a:prstGeom>
          <a:solidFill>
            <a:srgbClr val="00cc99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两角和夹边对应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7"/>
          <p:cNvSpPr/>
          <p:nvPr/>
        </p:nvSpPr>
        <p:spPr>
          <a:xfrm>
            <a:off x="527400" y="26424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Object 45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21"/>
          <p:cNvSpPr/>
          <p:nvPr/>
        </p:nvSpPr>
        <p:spPr>
          <a:xfrm>
            <a:off x="239760" y="4508640"/>
            <a:ext cx="380880" cy="1296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296720"/>
              <a:gd name="textAreaBottom" fmla="*/ 1253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4"/>
                  <a:pt x="10800" y="2327"/>
                </a:cubicBezTo>
                <a:lnTo>
                  <a:pt x="10800" y="8473"/>
                </a:lnTo>
                <a:cubicBezTo>
                  <a:pt x="10800" y="9637"/>
                  <a:pt x="5400" y="10800"/>
                  <a:pt x="0" y="10800"/>
                </a:cubicBezTo>
                <a:cubicBezTo>
                  <a:pt x="5400" y="10800"/>
                  <a:pt x="10800" y="11964"/>
                  <a:pt x="10800" y="13127"/>
                </a:cubicBezTo>
                <a:lnTo>
                  <a:pt x="10800" y="19273"/>
                </a:lnTo>
                <a:cubicBezTo>
                  <a:pt x="10800" y="2043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45"/>
          <p:cNvSpPr/>
          <p:nvPr/>
        </p:nvSpPr>
        <p:spPr>
          <a:xfrm>
            <a:off x="620640" y="437364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631800" y="492588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=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48"/>
          <p:cNvSpPr/>
          <p:nvPr/>
        </p:nvSpPr>
        <p:spPr>
          <a:xfrm>
            <a:off x="554040" y="544356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C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4"/>
          <p:cNvSpPr/>
          <p:nvPr/>
        </p:nvSpPr>
        <p:spPr>
          <a:xfrm>
            <a:off x="2189160" y="430200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5"/>
          <p:cNvSpPr/>
          <p:nvPr/>
        </p:nvSpPr>
        <p:spPr>
          <a:xfrm>
            <a:off x="2184480" y="492120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3119400" y="5391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顶角相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52"/>
          <p:cNvSpPr/>
          <p:nvPr/>
        </p:nvSpPr>
        <p:spPr>
          <a:xfrm>
            <a:off x="239760" y="593424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C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2809800" y="587232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Box 54"/>
          <p:cNvSpPr/>
          <p:nvPr/>
        </p:nvSpPr>
        <p:spPr>
          <a:xfrm>
            <a:off x="460440" y="3095640"/>
            <a:ext cx="39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中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=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中点的定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Box 55"/>
          <p:cNvSpPr/>
          <p:nvPr/>
        </p:nvSpPr>
        <p:spPr>
          <a:xfrm>
            <a:off x="430200" y="3927600"/>
            <a:ext cx="38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80028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中点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= ∠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等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4267080" y="1187280"/>
            <a:ext cx="4555800" cy="2427480"/>
            <a:chOff x="4267080" y="1187280"/>
            <a:chExt cx="4555800" cy="2427480"/>
          </a:xfrm>
        </p:grpSpPr>
        <p:sp>
          <p:nvSpPr>
            <p:cNvPr id="358" name="Line 4"/>
            <p:cNvSpPr/>
            <p:nvPr/>
          </p:nvSpPr>
          <p:spPr>
            <a:xfrm>
              <a:off x="4572720" y="2409840"/>
              <a:ext cx="3956400" cy="1440"/>
            </a:xfrm>
            <a:prstGeom prst="line">
              <a:avLst/>
            </a:prstGeom>
            <a:ln w="39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5"/>
            <p:cNvSpPr/>
            <p:nvPr/>
          </p:nvSpPr>
          <p:spPr>
            <a:xfrm flipH="1">
              <a:off x="4572360" y="1574640"/>
              <a:ext cx="1648440" cy="835200"/>
            </a:xfrm>
            <a:prstGeom prst="line">
              <a:avLst/>
            </a:prstGeom>
            <a:ln w="39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"/>
            <p:cNvSpPr/>
            <p:nvPr/>
          </p:nvSpPr>
          <p:spPr>
            <a:xfrm>
              <a:off x="6221160" y="1574640"/>
              <a:ext cx="865800" cy="1609920"/>
            </a:xfrm>
            <a:prstGeom prst="line">
              <a:avLst/>
            </a:prstGeom>
            <a:ln w="39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7"/>
            <p:cNvSpPr/>
            <p:nvPr/>
          </p:nvSpPr>
          <p:spPr>
            <a:xfrm flipH="1">
              <a:off x="7087320" y="2409840"/>
              <a:ext cx="1442160" cy="774720"/>
            </a:xfrm>
            <a:prstGeom prst="line">
              <a:avLst/>
            </a:prstGeom>
            <a:ln w="39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6637320" y="2379600"/>
              <a:ext cx="8208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6658920" y="2033640"/>
              <a:ext cx="276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4539600" y="2379600"/>
              <a:ext cx="7920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4267080" y="22399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Oval 12"/>
            <p:cNvSpPr/>
            <p:nvPr/>
          </p:nvSpPr>
          <p:spPr>
            <a:xfrm>
              <a:off x="8496360" y="2379600"/>
              <a:ext cx="7920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8566200" y="221148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Oval 14"/>
            <p:cNvSpPr/>
            <p:nvPr/>
          </p:nvSpPr>
          <p:spPr>
            <a:xfrm>
              <a:off x="6189840" y="1544760"/>
              <a:ext cx="795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15"/>
            <p:cNvSpPr/>
            <p:nvPr/>
          </p:nvSpPr>
          <p:spPr>
            <a:xfrm>
              <a:off x="6094440" y="118728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7054200" y="3154320"/>
              <a:ext cx="813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7"/>
            <p:cNvSpPr/>
            <p:nvPr/>
          </p:nvSpPr>
          <p:spPr>
            <a:xfrm>
              <a:off x="6964560" y="31878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AutoShape 20"/>
          <p:cNvSpPr/>
          <p:nvPr/>
        </p:nvSpPr>
        <p:spPr>
          <a:xfrm>
            <a:off x="380880" y="1371600"/>
            <a:ext cx="2743200" cy="1219320"/>
          </a:xfrm>
          <a:prstGeom prst="cloudCallout">
            <a:avLst>
              <a:gd name="adj1" fmla="val 86111"/>
              <a:gd name="adj2" fmla="val -59375"/>
            </a:avLst>
          </a:prstGeom>
          <a:solidFill>
            <a:srgbClr val="00cc99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两角和对边对应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527400" y="26424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21"/>
          <p:cNvSpPr/>
          <p:nvPr/>
        </p:nvSpPr>
        <p:spPr>
          <a:xfrm>
            <a:off x="239760" y="4508640"/>
            <a:ext cx="380880" cy="1296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296720"/>
              <a:gd name="textAreaBottom" fmla="*/ 1253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4"/>
                  <a:pt x="10800" y="2327"/>
                </a:cubicBezTo>
                <a:lnTo>
                  <a:pt x="10800" y="8473"/>
                </a:lnTo>
                <a:cubicBezTo>
                  <a:pt x="10800" y="9637"/>
                  <a:pt x="5400" y="10800"/>
                  <a:pt x="0" y="10800"/>
                </a:cubicBezTo>
                <a:cubicBezTo>
                  <a:pt x="5400" y="10800"/>
                  <a:pt x="10800" y="11964"/>
                  <a:pt x="10800" y="13127"/>
                </a:cubicBezTo>
                <a:lnTo>
                  <a:pt x="10800" y="19273"/>
                </a:lnTo>
                <a:cubicBezTo>
                  <a:pt x="10800" y="2043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46"/>
          <p:cNvSpPr/>
          <p:nvPr/>
        </p:nvSpPr>
        <p:spPr>
          <a:xfrm>
            <a:off x="620640" y="437364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47"/>
          <p:cNvSpPr/>
          <p:nvPr/>
        </p:nvSpPr>
        <p:spPr>
          <a:xfrm>
            <a:off x="620640" y="5448240"/>
            <a:ext cx="16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=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Box 48"/>
          <p:cNvSpPr/>
          <p:nvPr/>
        </p:nvSpPr>
        <p:spPr>
          <a:xfrm>
            <a:off x="514440" y="4886280"/>
            <a:ext cx="22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C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4"/>
          <p:cNvSpPr/>
          <p:nvPr/>
        </p:nvSpPr>
        <p:spPr>
          <a:xfrm>
            <a:off x="2189160" y="430200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5"/>
          <p:cNvSpPr/>
          <p:nvPr/>
        </p:nvSpPr>
        <p:spPr>
          <a:xfrm>
            <a:off x="2252880" y="539100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6"/>
          <p:cNvSpPr/>
          <p:nvPr/>
        </p:nvSpPr>
        <p:spPr>
          <a:xfrm>
            <a:off x="3078000" y="48355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顶角相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52"/>
          <p:cNvSpPr/>
          <p:nvPr/>
        </p:nvSpPr>
        <p:spPr>
          <a:xfrm>
            <a:off x="239760" y="593424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C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2809800" y="587232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54"/>
          <p:cNvSpPr/>
          <p:nvPr/>
        </p:nvSpPr>
        <p:spPr>
          <a:xfrm>
            <a:off x="460440" y="3095640"/>
            <a:ext cx="39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中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=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中点的定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30200" y="3927600"/>
            <a:ext cx="38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17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6443640" y="1557360"/>
            <a:ext cx="2700360" cy="21654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1"/>
          <p:cNvSpPr/>
          <p:nvPr/>
        </p:nvSpPr>
        <p:spPr>
          <a:xfrm>
            <a:off x="611280" y="2349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垂线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垂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∴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=∠EDC=90°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垂直的定义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=∠EDC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已证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=DC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B=∠ECD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对顶角相等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≌△EDC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=ED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全等三角形的对应边相等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898560" y="3357720"/>
            <a:ext cx="95040" cy="847440"/>
          </a:xfrm>
          <a:custGeom>
            <a:avLst/>
            <a:gdLst>
              <a:gd name="textAreaLeft" fmla="*/ 60840 w 95040"/>
              <a:gd name="textAreaRight" fmla="*/ 95400 w 95040"/>
              <a:gd name="textAreaTop" fmla="*/ 10800 h 847440"/>
              <a:gd name="textAreaBottom" fmla="*/ 836640 h 84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4"/>
                  <a:pt x="10800" y="888"/>
                </a:cubicBezTo>
                <a:lnTo>
                  <a:pt x="10800" y="9912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4"/>
                  <a:pt x="10800" y="11688"/>
                </a:cubicBezTo>
                <a:lnTo>
                  <a:pt x="10800" y="20712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405560" y="437184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848720" y="55627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10640" y="785880"/>
            <a:ext cx="277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是全等三角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0" y="2143080"/>
            <a:ext cx="7772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判定两个三角形全等要具备什么条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">
            <a:hlinkClick r:id="" action="ppaction://hlinkshowjump?jump=nextslide"/>
          </p:cNvPr>
          <p:cNvSpPr/>
          <p:nvPr/>
        </p:nvSpPr>
        <p:spPr>
          <a:xfrm>
            <a:off x="3500280" y="0"/>
            <a:ext cx="1828800" cy="60948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4787" h="21600">
                <a:moveTo>
                  <a:pt x="0" y="0"/>
                </a:moveTo>
                <a:lnTo>
                  <a:pt x="64787" y="0"/>
                </a:lnTo>
                <a:lnTo>
                  <a:pt x="64787" y="21600"/>
                </a:lnTo>
                <a:lnTo>
                  <a:pt x="0" y="21600"/>
                </a:lnTo>
                <a:close/>
              </a:path>
              <a:path fill="lightenLess" w="64787" h="21600">
                <a:moveTo>
                  <a:pt x="0" y="0"/>
                </a:moveTo>
                <a:lnTo>
                  <a:pt x="64787" y="0"/>
                </a:lnTo>
                <a:lnTo>
                  <a:pt x="63387" y="1400"/>
                </a:lnTo>
                <a:lnTo>
                  <a:pt x="1400" y="1400"/>
                </a:lnTo>
                <a:close/>
              </a:path>
              <a:path fill="darken" w="64787" h="21600">
                <a:moveTo>
                  <a:pt x="64787" y="0"/>
                </a:moveTo>
                <a:lnTo>
                  <a:pt x="64787" y="21600"/>
                </a:lnTo>
                <a:lnTo>
                  <a:pt x="63387" y="20200"/>
                </a:lnTo>
                <a:lnTo>
                  <a:pt x="63387" y="1400"/>
                </a:lnTo>
                <a:close/>
              </a:path>
              <a:path fill="darkenLess" w="64787" h="21600">
                <a:moveTo>
                  <a:pt x="64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7" y="20200"/>
                </a:lnTo>
                <a:close/>
              </a:path>
              <a:path fill="lighten" w="64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71720" y="32148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三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应相等的两个三角形全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-203040" y="328608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边边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11040" y="442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边角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71760" y="4429080"/>
            <a:ext cx="7572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两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它们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夹角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应相等的两个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全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5761080" cy="648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5769000" y="1268280"/>
            <a:ext cx="1638360" cy="177192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"/>
          <p:cNvSpPr/>
          <p:nvPr/>
        </p:nvSpPr>
        <p:spPr>
          <a:xfrm>
            <a:off x="684360" y="1557360"/>
            <a:ext cx="52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证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⊥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垂直的定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∠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已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=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公共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AS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=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全等三角形的对应边相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21"/>
          <p:cNvSpPr/>
          <p:nvPr/>
        </p:nvSpPr>
        <p:spPr>
          <a:xfrm>
            <a:off x="920880" y="2890800"/>
            <a:ext cx="95040" cy="849240"/>
          </a:xfrm>
          <a:custGeom>
            <a:avLst/>
            <a:gdLst>
              <a:gd name="textAreaLeft" fmla="*/ 60840 w 95040"/>
              <a:gd name="textAreaRight" fmla="*/ 95400 w 95040"/>
              <a:gd name="textAreaTop" fmla="*/ 10800 h 849240"/>
              <a:gd name="textAreaBottom" fmla="*/ 83844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4"/>
                  <a:pt x="10800" y="888"/>
                </a:cubicBezTo>
                <a:lnTo>
                  <a:pt x="10800" y="9912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4"/>
                  <a:pt x="10800" y="11688"/>
                </a:cubicBezTo>
                <a:lnTo>
                  <a:pt x="10800" y="20712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2"/>
          <p:cNvSpPr txBox="1"/>
          <p:nvPr/>
        </p:nvSpPr>
        <p:spPr>
          <a:xfrm>
            <a:off x="2843280" y="152280"/>
            <a:ext cx="28191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小结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796400" y="278136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角和它们的夹边对应相等的两个三角形全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027440" y="3306600"/>
            <a:ext cx="36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写成“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角边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或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4087440" y="390996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角和其中一角的对边对应相等的两个三角形全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437120" y="4413240"/>
            <a:ext cx="32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写成“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角角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或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1759320" y="5164560"/>
            <a:ext cx="565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探索三角形全等是证明线段相等（对应边相等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相等（对应角相等）等问题的基本途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矩形 10"/>
          <p:cNvSpPr/>
          <p:nvPr/>
        </p:nvSpPr>
        <p:spPr>
          <a:xfrm>
            <a:off x="511200" y="155736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节课学习了几种判断两个三角形全等的方法？分别是什么？它们之间有什么共同点和区别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7" descr="01"/>
          <p:cNvPicPr/>
          <p:nvPr/>
        </p:nvPicPr>
        <p:blipFill>
          <a:blip r:embed="rId1"/>
          <a:stretch/>
        </p:blipFill>
        <p:spPr>
          <a:xfrm>
            <a:off x="685800" y="1676520"/>
            <a:ext cx="1152360" cy="1137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2"/>
          <p:cNvSpPr/>
          <p:nvPr/>
        </p:nvSpPr>
        <p:spPr>
          <a:xfrm>
            <a:off x="685800" y="685800"/>
            <a:ext cx="198108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3"/>
          <p:cNvSpPr/>
          <p:nvPr/>
        </p:nvSpPr>
        <p:spPr>
          <a:xfrm>
            <a:off x="304920" y="204156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对应相等的两个三角形全等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609480" y="1050840"/>
            <a:ext cx="8153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组、课本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4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复习巩固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组、课本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4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复习巩固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组、课本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40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至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抄一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4" descr="pencile"/>
          <p:cNvPicPr/>
          <p:nvPr/>
        </p:nvPicPr>
        <p:blipFill>
          <a:blip r:embed="rId1"/>
          <a:stretch/>
        </p:blipFill>
        <p:spPr>
          <a:xfrm>
            <a:off x="457200" y="228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34920" y="764280"/>
            <a:ext cx="979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：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≌△D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Object 2" descr=""/>
          <p:cNvPicPr/>
          <p:nvPr/>
        </p:nvPicPr>
        <p:blipFill>
          <a:blip r:embed="rId1"/>
          <a:stretch/>
        </p:blipFill>
        <p:spPr>
          <a:xfrm>
            <a:off x="34920" y="2637000"/>
            <a:ext cx="3605040" cy="28764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4"/>
          <p:cNvSpPr/>
          <p:nvPr/>
        </p:nvSpPr>
        <p:spPr>
          <a:xfrm>
            <a:off x="171360" y="260280"/>
            <a:ext cx="311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572000" y="2899440"/>
            <a:ext cx="440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C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3166920" y="2276640"/>
            <a:ext cx="30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01600" y="2282760"/>
            <a:ext cx="46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证明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C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4932360" y="3141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3492360" y="465300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BC≌△DC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1"/>
          <p:cNvSpPr/>
          <p:nvPr/>
        </p:nvSpPr>
        <p:spPr>
          <a:xfrm>
            <a:off x="8030520" y="51577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7804080" y="671364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AAS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3501360" y="116280"/>
            <a:ext cx="1095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巩固与提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3"/>
          <p:cNvSpPr/>
          <p:nvPr/>
        </p:nvSpPr>
        <p:spPr>
          <a:xfrm>
            <a:off x="0" y="9810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，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=∠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=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4952880" y="380880"/>
            <a:ext cx="3733920" cy="3733920"/>
            <a:chOff x="4952880" y="380880"/>
            <a:chExt cx="3733920" cy="3733920"/>
          </a:xfrm>
        </p:grpSpPr>
        <p:pic>
          <p:nvPicPr>
            <p:cNvPr id="418" name="Picture 15" descr=""/>
            <p:cNvPicPr/>
            <p:nvPr/>
          </p:nvPicPr>
          <p:blipFill>
            <a:blip r:embed="rId1"/>
            <a:stretch/>
          </p:blipFill>
          <p:spPr>
            <a:xfrm>
              <a:off x="4952880" y="380880"/>
              <a:ext cx="373392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16"/>
            <p:cNvSpPr/>
            <p:nvPr/>
          </p:nvSpPr>
          <p:spPr>
            <a:xfrm>
              <a:off x="5454720" y="187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17"/>
            <p:cNvSpPr/>
            <p:nvPr/>
          </p:nvSpPr>
          <p:spPr>
            <a:xfrm>
              <a:off x="5475240" y="21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18"/>
            <p:cNvSpPr/>
            <p:nvPr/>
          </p:nvSpPr>
          <p:spPr>
            <a:xfrm>
              <a:off x="6873840" y="1778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6877080" y="2171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24"/>
          <p:cNvSpPr/>
          <p:nvPr/>
        </p:nvSpPr>
        <p:spPr>
          <a:xfrm>
            <a:off x="1187280" y="2709720"/>
            <a:ext cx="598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=∠2, ∠D=∠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A=∠B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=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公共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A=∠B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D≌△AB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5"/>
          <p:cNvSpPr/>
          <p:nvPr/>
        </p:nvSpPr>
        <p:spPr>
          <a:xfrm>
            <a:off x="443160" y="2627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29"/>
          <p:cNvSpPr/>
          <p:nvPr/>
        </p:nvSpPr>
        <p:spPr>
          <a:xfrm>
            <a:off x="1109160" y="270828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0"/>
          <p:cNvSpPr/>
          <p:nvPr/>
        </p:nvSpPr>
        <p:spPr>
          <a:xfrm>
            <a:off x="948240" y="32846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31"/>
          <p:cNvSpPr/>
          <p:nvPr/>
        </p:nvSpPr>
        <p:spPr>
          <a:xfrm>
            <a:off x="1116000" y="4508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501360" y="116280"/>
            <a:ext cx="1095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巩固与提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852480" y="588960"/>
            <a:ext cx="79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式：如图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∠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=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-977760" y="21016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8381880" y="6172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组合 4"/>
          <p:cNvGrpSpPr/>
          <p:nvPr/>
        </p:nvGrpSpPr>
        <p:grpSpPr>
          <a:xfrm>
            <a:off x="1219320" y="2092320"/>
            <a:ext cx="6781680" cy="3080160"/>
            <a:chOff x="1219320" y="2092320"/>
            <a:chExt cx="6781680" cy="3080160"/>
          </a:xfrm>
        </p:grpSpPr>
        <p:sp>
          <p:nvSpPr>
            <p:cNvPr id="433" name="Text Box 6"/>
            <p:cNvSpPr/>
            <p:nvPr/>
          </p:nvSpPr>
          <p:spPr>
            <a:xfrm>
              <a:off x="1579680" y="2092320"/>
              <a:ext cx="64213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和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=∠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已知）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=∠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已知）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A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公共边）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∴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D≌△ABC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A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C=A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全等三角形对应边相等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7"/>
            <p:cNvSpPr/>
            <p:nvPr/>
          </p:nvSpPr>
          <p:spPr>
            <a:xfrm>
              <a:off x="1219320" y="2860920"/>
              <a:ext cx="473040" cy="1557000"/>
            </a:xfrm>
            <a:custGeom>
              <a:avLst/>
              <a:gdLst>
                <a:gd name="textAreaLeft" fmla="*/ 302400 w 473040"/>
                <a:gd name="textAreaRight" fmla="*/ 473400 w 473040"/>
                <a:gd name="textAreaTop" fmla="*/ 40320 h 1557000"/>
                <a:gd name="textAreaBottom" fmla="*/ 1516680 h 155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组合 17"/>
          <p:cNvGrpSpPr/>
          <p:nvPr/>
        </p:nvGrpSpPr>
        <p:grpSpPr>
          <a:xfrm>
            <a:off x="5715000" y="981000"/>
            <a:ext cx="3429000" cy="3432240"/>
            <a:chOff x="5715000" y="981000"/>
            <a:chExt cx="3429000" cy="3432240"/>
          </a:xfrm>
        </p:grpSpPr>
        <p:sp>
          <p:nvSpPr>
            <p:cNvPr id="436" name="Text Box 11"/>
            <p:cNvSpPr/>
            <p:nvPr/>
          </p:nvSpPr>
          <p:spPr>
            <a:xfrm>
              <a:off x="6162120" y="235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 Box 12"/>
            <p:cNvSpPr/>
            <p:nvPr/>
          </p:nvSpPr>
          <p:spPr>
            <a:xfrm>
              <a:off x="6181200" y="259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Group 15"/>
            <p:cNvGrpSpPr/>
            <p:nvPr/>
          </p:nvGrpSpPr>
          <p:grpSpPr>
            <a:xfrm>
              <a:off x="5715000" y="981000"/>
              <a:ext cx="3429000" cy="3432240"/>
              <a:chOff x="5715000" y="981000"/>
              <a:chExt cx="3429000" cy="3432240"/>
            </a:xfrm>
          </p:grpSpPr>
          <p:sp>
            <p:nvSpPr>
              <p:cNvPr id="439" name="AutoShape 14"/>
              <p:cNvSpPr/>
              <p:nvPr/>
            </p:nvSpPr>
            <p:spPr>
              <a:xfrm>
                <a:off x="5715000" y="981000"/>
                <a:ext cx="3429000" cy="343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6"/>
              <p:cNvSpPr/>
              <p:nvPr/>
            </p:nvSpPr>
            <p:spPr>
              <a:xfrm>
                <a:off x="5942160" y="2666880"/>
                <a:ext cx="3122640" cy="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Line 17"/>
              <p:cNvSpPr/>
              <p:nvPr/>
            </p:nvSpPr>
            <p:spPr>
              <a:xfrm flipV="1">
                <a:off x="5942160" y="1104480"/>
                <a:ext cx="2187360" cy="156204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18"/>
              <p:cNvSpPr/>
              <p:nvPr/>
            </p:nvSpPr>
            <p:spPr>
              <a:xfrm flipH="1">
                <a:off x="7369200" y="1104840"/>
                <a:ext cx="760320" cy="156204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 flipH="1" flipV="1">
                <a:off x="7369200" y="2666520"/>
                <a:ext cx="760320" cy="156060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20"/>
              <p:cNvSpPr/>
              <p:nvPr/>
            </p:nvSpPr>
            <p:spPr>
              <a:xfrm>
                <a:off x="8190360" y="3960720"/>
                <a:ext cx="240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21"/>
              <p:cNvSpPr/>
              <p:nvPr/>
            </p:nvSpPr>
            <p:spPr>
              <a:xfrm>
                <a:off x="5942160" y="2666880"/>
                <a:ext cx="2187360" cy="1560600"/>
              </a:xfrm>
              <a:prstGeom prst="line">
                <a:avLst/>
              </a:prstGeom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23"/>
              <p:cNvSpPr/>
              <p:nvPr/>
            </p:nvSpPr>
            <p:spPr>
              <a:xfrm>
                <a:off x="5751000" y="272736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Rectangle 26"/>
              <p:cNvSpPr/>
              <p:nvPr/>
            </p:nvSpPr>
            <p:spPr>
              <a:xfrm>
                <a:off x="8175960" y="1042920"/>
                <a:ext cx="240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28"/>
              <p:cNvSpPr/>
              <p:nvPr/>
            </p:nvSpPr>
            <p:spPr>
              <a:xfrm>
                <a:off x="7192440" y="272736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Text Box 14"/>
          <p:cNvSpPr/>
          <p:nvPr/>
        </p:nvSpPr>
        <p:spPr>
          <a:xfrm>
            <a:off x="3501360" y="116280"/>
            <a:ext cx="1095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巩固与提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未知"/>
          <p:cNvSpPr/>
          <p:nvPr/>
        </p:nvSpPr>
        <p:spPr>
          <a:xfrm>
            <a:off x="5486400" y="2438280"/>
            <a:ext cx="3048120" cy="990720"/>
          </a:xfrm>
          <a:custGeom>
            <a:avLst/>
            <a:gdLst/>
            <a:ahLst/>
            <a:rect l="l" t="t" r="r" b="b"/>
            <a:pathLst>
              <a:path w="1920" h="624">
                <a:moveTo>
                  <a:pt x="1488" y="48"/>
                </a:moveTo>
                <a:lnTo>
                  <a:pt x="0" y="528"/>
                </a:lnTo>
                <a:lnTo>
                  <a:pt x="480" y="0"/>
                </a:lnTo>
                <a:lnTo>
                  <a:pt x="1920" y="624"/>
                </a:lnTo>
                <a:lnTo>
                  <a:pt x="1488" y="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900000" y="611280"/>
            <a:ext cx="723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已知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，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于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 = 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= ∠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D = 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4"/>
          <p:cNvGrpSpPr/>
          <p:nvPr/>
        </p:nvGrpSpPr>
        <p:grpSpPr>
          <a:xfrm>
            <a:off x="5177160" y="914400"/>
            <a:ext cx="3583800" cy="3015720"/>
            <a:chOff x="5177160" y="914400"/>
            <a:chExt cx="3583800" cy="3015720"/>
          </a:xfrm>
        </p:grpSpPr>
        <p:sp>
          <p:nvSpPr>
            <p:cNvPr id="453" name="未知"/>
            <p:cNvSpPr/>
            <p:nvPr/>
          </p:nvSpPr>
          <p:spPr>
            <a:xfrm>
              <a:off x="5496120" y="1371600"/>
              <a:ext cx="2361960" cy="1905120"/>
            </a:xfrm>
            <a:custGeom>
              <a:avLst/>
              <a:gdLst/>
              <a:ahLst/>
              <a:rect l="l" t="t" r="r" b="b"/>
              <a:pathLst>
                <a:path w="1488" h="1200">
                  <a:moveTo>
                    <a:pt x="1008" y="0"/>
                  </a:moveTo>
                  <a:lnTo>
                    <a:pt x="0" y="1200"/>
                  </a:lnTo>
                  <a:lnTo>
                    <a:pt x="1488" y="720"/>
                  </a:lnTo>
                  <a:lnTo>
                    <a:pt x="100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 flipH="1" rot="366600">
              <a:off x="6242760" y="1414080"/>
              <a:ext cx="2361960" cy="1905120"/>
            </a:xfrm>
            <a:custGeom>
              <a:avLst/>
              <a:gdLst/>
              <a:ahLst/>
              <a:rect l="l" t="t" r="r" b="b"/>
              <a:pathLst>
                <a:path w="1488" h="1200">
                  <a:moveTo>
                    <a:pt x="1008" y="0"/>
                  </a:moveTo>
                  <a:lnTo>
                    <a:pt x="0" y="1200"/>
                  </a:lnTo>
                  <a:lnTo>
                    <a:pt x="1488" y="720"/>
                  </a:lnTo>
                  <a:lnTo>
                    <a:pt x="100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709848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5177160" y="3241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9"/>
            <p:cNvSpPr/>
            <p:nvPr/>
          </p:nvSpPr>
          <p:spPr>
            <a:xfrm>
              <a:off x="8377560" y="3470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10"/>
            <p:cNvSpPr/>
            <p:nvPr/>
          </p:nvSpPr>
          <p:spPr>
            <a:xfrm>
              <a:off x="5863320" y="209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996320" y="2251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12"/>
            <p:cNvSpPr/>
            <p:nvPr/>
          </p:nvSpPr>
          <p:spPr>
            <a:xfrm>
              <a:off x="6777720" y="2860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Text Box 13"/>
          <p:cNvSpPr/>
          <p:nvPr/>
        </p:nvSpPr>
        <p:spPr>
          <a:xfrm>
            <a:off x="1016640" y="242100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在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1363320" y="285264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= ∠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公共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155600" y="33577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 =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1107360" y="385776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 = ∠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7"/>
          <p:cNvSpPr/>
          <p:nvPr/>
        </p:nvSpPr>
        <p:spPr>
          <a:xfrm>
            <a:off x="944640" y="295128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958680" y="453564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 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E≌△A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1053360" y="51037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 = 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全等三角形的对应边相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1048320" y="56023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 = 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未知"/>
          <p:cNvSpPr/>
          <p:nvPr/>
        </p:nvSpPr>
        <p:spPr>
          <a:xfrm>
            <a:off x="5506920" y="1392120"/>
            <a:ext cx="2362320" cy="1905120"/>
          </a:xfrm>
          <a:custGeom>
            <a:avLst/>
            <a:gdLst/>
            <a:ahLst/>
            <a:rect l="l" t="t" r="r" b="b"/>
            <a:pathLst>
              <a:path w="1488" h="1200">
                <a:moveTo>
                  <a:pt x="1008" y="0"/>
                </a:moveTo>
                <a:lnTo>
                  <a:pt x="0" y="1200"/>
                </a:lnTo>
                <a:lnTo>
                  <a:pt x="1488" y="720"/>
                </a:lnTo>
                <a:lnTo>
                  <a:pt x="100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未知"/>
          <p:cNvSpPr/>
          <p:nvPr/>
        </p:nvSpPr>
        <p:spPr>
          <a:xfrm flipH="1" rot="366600">
            <a:off x="6247440" y="1406160"/>
            <a:ext cx="2361960" cy="1905120"/>
          </a:xfrm>
          <a:custGeom>
            <a:avLst/>
            <a:gdLst/>
            <a:ahLst/>
            <a:rect l="l" t="t" r="r" b="b"/>
            <a:pathLst>
              <a:path w="1488" h="1200">
                <a:moveTo>
                  <a:pt x="1008" y="0"/>
                </a:moveTo>
                <a:lnTo>
                  <a:pt x="0" y="1200"/>
                </a:lnTo>
                <a:lnTo>
                  <a:pt x="1488" y="720"/>
                </a:lnTo>
                <a:lnTo>
                  <a:pt x="1008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5"/>
          <p:cNvSpPr/>
          <p:nvPr/>
        </p:nvSpPr>
        <p:spPr>
          <a:xfrm>
            <a:off x="1202760" y="6121440"/>
            <a:ext cx="15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D = 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3501360" y="116280"/>
            <a:ext cx="1095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巩固与提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6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1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8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3"/>
          <p:cNvSpPr/>
          <p:nvPr/>
        </p:nvSpPr>
        <p:spPr>
          <a:xfrm>
            <a:off x="0" y="765000"/>
            <a:ext cx="1089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已知：如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,F,C,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同一条直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FB=CE,AB∥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∥FD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求证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=DE,AC=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"/>
          <p:cNvGrpSpPr/>
          <p:nvPr/>
        </p:nvGrpSpPr>
        <p:grpSpPr>
          <a:xfrm>
            <a:off x="6302520" y="1125360"/>
            <a:ext cx="2606040" cy="3173400"/>
            <a:chOff x="6302520" y="1125360"/>
            <a:chExt cx="2606040" cy="3173400"/>
          </a:xfrm>
        </p:grpSpPr>
        <p:sp>
          <p:nvSpPr>
            <p:cNvPr id="475" name="AutoShape 4"/>
            <p:cNvSpPr/>
            <p:nvPr/>
          </p:nvSpPr>
          <p:spPr>
            <a:xfrm>
              <a:off x="6645240" y="1644480"/>
              <a:ext cx="1295280" cy="1066680"/>
            </a:xfrm>
            <a:prstGeom prst="triangle">
              <a:avLst>
                <a:gd name="adj" fmla="val 22167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AutoShape 5"/>
            <p:cNvSpPr/>
            <p:nvPr/>
          </p:nvSpPr>
          <p:spPr>
            <a:xfrm flipV="1">
              <a:off x="7483320" y="2711160"/>
              <a:ext cx="1219320" cy="1067040"/>
            </a:xfrm>
            <a:prstGeom prst="triangle">
              <a:avLst>
                <a:gd name="adj" fmla="val 81995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Text Box 6"/>
            <p:cNvSpPr/>
            <p:nvPr/>
          </p:nvSpPr>
          <p:spPr>
            <a:xfrm>
              <a:off x="8323920" y="3778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"/>
            <p:cNvSpPr/>
            <p:nvPr/>
          </p:nvSpPr>
          <p:spPr>
            <a:xfrm>
              <a:off x="7866720" y="2178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8"/>
            <p:cNvSpPr/>
            <p:nvPr/>
          </p:nvSpPr>
          <p:spPr>
            <a:xfrm>
              <a:off x="6302520" y="2635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9"/>
            <p:cNvSpPr/>
            <p:nvPr/>
          </p:nvSpPr>
          <p:spPr>
            <a:xfrm>
              <a:off x="6739560" y="1125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10"/>
            <p:cNvSpPr/>
            <p:nvPr/>
          </p:nvSpPr>
          <p:spPr>
            <a:xfrm>
              <a:off x="8491680" y="2178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11"/>
            <p:cNvSpPr/>
            <p:nvPr/>
          </p:nvSpPr>
          <p:spPr>
            <a:xfrm>
              <a:off x="7044120" y="2649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Text Box 12"/>
          <p:cNvSpPr/>
          <p:nvPr/>
        </p:nvSpPr>
        <p:spPr>
          <a:xfrm>
            <a:off x="141480" y="2158920"/>
            <a:ext cx="28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∵FB=C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356400" y="25909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B+FC=CE+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838080" y="2895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=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934560" y="327672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∥ED,AC∥F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616320" y="3657600"/>
            <a:ext cx="67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=∠E,∠ACB=∠DF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7"/>
          <p:cNvSpPr/>
          <p:nvPr/>
        </p:nvSpPr>
        <p:spPr>
          <a:xfrm>
            <a:off x="1014840" y="4114800"/>
            <a:ext cx="25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8"/>
          <p:cNvSpPr/>
          <p:nvPr/>
        </p:nvSpPr>
        <p:spPr>
          <a:xfrm>
            <a:off x="550440" y="43434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1511280" y="492768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=EF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1546560" y="45464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=∠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1"/>
          <p:cNvSpPr/>
          <p:nvPr/>
        </p:nvSpPr>
        <p:spPr>
          <a:xfrm>
            <a:off x="1398960" y="530856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B=∠DF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2"/>
          <p:cNvSpPr/>
          <p:nvPr/>
        </p:nvSpPr>
        <p:spPr>
          <a:xfrm>
            <a:off x="531360" y="571500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≌△DEF(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3"/>
          <p:cNvSpPr/>
          <p:nvPr/>
        </p:nvSpPr>
        <p:spPr>
          <a:xfrm>
            <a:off x="825840" y="617220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=DE    AC=DF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等三角形对应边相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4"/>
          <p:cNvSpPr/>
          <p:nvPr/>
        </p:nvSpPr>
        <p:spPr>
          <a:xfrm>
            <a:off x="3501360" y="116280"/>
            <a:ext cx="1095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巩固与提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75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75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63360" y="785880"/>
            <a:ext cx="9207360" cy="428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8"/>
          <p:cNvSpPr/>
          <p:nvPr/>
        </p:nvSpPr>
        <p:spPr>
          <a:xfrm>
            <a:off x="4071960" y="26431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BC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520240" y="329076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B=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521320" y="3938760"/>
            <a:ext cx="16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C=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5447520" y="458784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C=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493520" y="523548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≌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443720" y="5235480"/>
            <a:ext cx="9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5008680" y="3363840"/>
            <a:ext cx="360360" cy="16336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480 h 1633680"/>
              <a:gd name="textAreaBottom" fmla="*/ 1591200 h 16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0"/>
          <p:cNvGrpSpPr/>
          <p:nvPr/>
        </p:nvGrpSpPr>
        <p:grpSpPr>
          <a:xfrm>
            <a:off x="27000" y="2129040"/>
            <a:ext cx="4125600" cy="4699800"/>
            <a:chOff x="27000" y="2129040"/>
            <a:chExt cx="4125600" cy="4699800"/>
          </a:xfrm>
        </p:grpSpPr>
        <p:pic>
          <p:nvPicPr>
            <p:cNvPr id="62" name="Picture 3" descr=""/>
            <p:cNvPicPr/>
            <p:nvPr/>
          </p:nvPicPr>
          <p:blipFill>
            <a:blip r:embed="rId2"/>
            <a:srcRect l="1400" t="3829" r="50892" b="33429"/>
            <a:stretch/>
          </p:blipFill>
          <p:spPr>
            <a:xfrm rot="20680200">
              <a:off x="220680" y="2571480"/>
              <a:ext cx="3612600" cy="19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" descr=""/>
            <p:cNvPicPr/>
            <p:nvPr/>
          </p:nvPicPr>
          <p:blipFill>
            <a:blip r:embed="rId3"/>
            <a:srcRect l="50456" t="38356" r="0" b="0"/>
            <a:stretch/>
          </p:blipFill>
          <p:spPr>
            <a:xfrm rot="20680200">
              <a:off x="214200" y="4447800"/>
              <a:ext cx="3751200" cy="19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AutoShape 6">
            <a:hlinkClick r:id="" action="ppaction://hlinkshowjump?jump=nextslide"/>
          </p:cNvPr>
          <p:cNvSpPr/>
          <p:nvPr/>
        </p:nvSpPr>
        <p:spPr>
          <a:xfrm>
            <a:off x="3500280" y="0"/>
            <a:ext cx="1828800" cy="60948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4787" h="21600">
                <a:moveTo>
                  <a:pt x="0" y="0"/>
                </a:moveTo>
                <a:lnTo>
                  <a:pt x="64787" y="0"/>
                </a:lnTo>
                <a:lnTo>
                  <a:pt x="64787" y="21600"/>
                </a:lnTo>
                <a:lnTo>
                  <a:pt x="0" y="21600"/>
                </a:lnTo>
                <a:close/>
              </a:path>
              <a:path fill="lightenLess" w="64787" h="21600">
                <a:moveTo>
                  <a:pt x="0" y="0"/>
                </a:moveTo>
                <a:lnTo>
                  <a:pt x="64787" y="0"/>
                </a:lnTo>
                <a:lnTo>
                  <a:pt x="63387" y="1400"/>
                </a:lnTo>
                <a:lnTo>
                  <a:pt x="1400" y="1400"/>
                </a:lnTo>
                <a:close/>
              </a:path>
              <a:path fill="darken" w="64787" h="21600">
                <a:moveTo>
                  <a:pt x="64787" y="0"/>
                </a:moveTo>
                <a:lnTo>
                  <a:pt x="64787" y="21600"/>
                </a:lnTo>
                <a:lnTo>
                  <a:pt x="63387" y="20200"/>
                </a:lnTo>
                <a:lnTo>
                  <a:pt x="63387" y="1400"/>
                </a:lnTo>
                <a:close/>
              </a:path>
              <a:path fill="darkenLess" w="64787" h="21600">
                <a:moveTo>
                  <a:pt x="64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7" y="20200"/>
                </a:lnTo>
                <a:close/>
              </a:path>
              <a:path fill="lighten" w="64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6429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边角边公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：有两边和它们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夹角对应相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的两个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全等（“边角边”或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S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286160" y="2500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BC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5734800" y="314784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B=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807160" y="4443480"/>
            <a:ext cx="16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C=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590080" y="3868560"/>
            <a:ext cx="29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AC= ∠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707000" y="509256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≌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639200" y="5092560"/>
            <a:ext cx="10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5222880" y="3220920"/>
            <a:ext cx="360360" cy="16336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480 h 1633680"/>
              <a:gd name="textAreaBottom" fmla="*/ 1591200 h 16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10"/>
          <p:cNvGrpSpPr/>
          <p:nvPr/>
        </p:nvGrpSpPr>
        <p:grpSpPr>
          <a:xfrm>
            <a:off x="81000" y="1794960"/>
            <a:ext cx="4820040" cy="4869720"/>
            <a:chOff x="81000" y="1794960"/>
            <a:chExt cx="4820040" cy="486972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 rot="583800">
              <a:off x="214200" y="2143080"/>
              <a:ext cx="428652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" descr=""/>
            <p:cNvPicPr/>
            <p:nvPr/>
          </p:nvPicPr>
          <p:blipFill>
            <a:blip r:embed="rId2"/>
            <a:stretch/>
          </p:blipFill>
          <p:spPr>
            <a:xfrm rot="545400">
              <a:off x="352080" y="4346280"/>
              <a:ext cx="442008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AutoShape 6">
            <a:hlinkClick r:id="" action="ppaction://hlinkshowjump?jump=nextslide"/>
          </p:cNvPr>
          <p:cNvSpPr/>
          <p:nvPr/>
        </p:nvSpPr>
        <p:spPr>
          <a:xfrm>
            <a:off x="3500280" y="0"/>
            <a:ext cx="1828800" cy="60948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4787" h="21600">
                <a:moveTo>
                  <a:pt x="0" y="0"/>
                </a:moveTo>
                <a:lnTo>
                  <a:pt x="64787" y="0"/>
                </a:lnTo>
                <a:lnTo>
                  <a:pt x="64787" y="21600"/>
                </a:lnTo>
                <a:lnTo>
                  <a:pt x="0" y="21600"/>
                </a:lnTo>
                <a:close/>
              </a:path>
              <a:path fill="lightenLess" w="64787" h="21600">
                <a:moveTo>
                  <a:pt x="0" y="0"/>
                </a:moveTo>
                <a:lnTo>
                  <a:pt x="64787" y="0"/>
                </a:lnTo>
                <a:lnTo>
                  <a:pt x="63387" y="1400"/>
                </a:lnTo>
                <a:lnTo>
                  <a:pt x="1400" y="1400"/>
                </a:lnTo>
                <a:close/>
              </a:path>
              <a:path fill="darken" w="64787" h="21600">
                <a:moveTo>
                  <a:pt x="64787" y="0"/>
                </a:moveTo>
                <a:lnTo>
                  <a:pt x="64787" y="21600"/>
                </a:lnTo>
                <a:lnTo>
                  <a:pt x="63387" y="20200"/>
                </a:lnTo>
                <a:lnTo>
                  <a:pt x="63387" y="1400"/>
                </a:lnTo>
                <a:close/>
              </a:path>
              <a:path fill="darkenLess" w="64787" h="21600">
                <a:moveTo>
                  <a:pt x="64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7" y="20200"/>
                </a:lnTo>
                <a:close/>
              </a:path>
              <a:path fill="lighten" w="64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128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有两边和它们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对角对应相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两个三角形全等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259880" y="2786040"/>
            <a:ext cx="13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S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683040" y="2571840"/>
            <a:ext cx="65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2091960" y="27147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不一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>
            <a:hlinkClick r:id="" action="ppaction://hlinkshowjump?jump=nextslide"/>
          </p:cNvPr>
          <p:cNvSpPr/>
          <p:nvPr/>
        </p:nvSpPr>
        <p:spPr>
          <a:xfrm>
            <a:off x="3500280" y="0"/>
            <a:ext cx="1828800" cy="60948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4787" h="21600">
                <a:moveTo>
                  <a:pt x="0" y="0"/>
                </a:moveTo>
                <a:lnTo>
                  <a:pt x="64787" y="0"/>
                </a:lnTo>
                <a:lnTo>
                  <a:pt x="64787" y="21600"/>
                </a:lnTo>
                <a:lnTo>
                  <a:pt x="0" y="21600"/>
                </a:lnTo>
                <a:close/>
              </a:path>
              <a:path fill="lightenLess" w="64787" h="21600">
                <a:moveTo>
                  <a:pt x="0" y="0"/>
                </a:moveTo>
                <a:lnTo>
                  <a:pt x="64787" y="0"/>
                </a:lnTo>
                <a:lnTo>
                  <a:pt x="63387" y="1400"/>
                </a:lnTo>
                <a:lnTo>
                  <a:pt x="1400" y="1400"/>
                </a:lnTo>
                <a:close/>
              </a:path>
              <a:path fill="darken" w="64787" h="21600">
                <a:moveTo>
                  <a:pt x="64787" y="0"/>
                </a:moveTo>
                <a:lnTo>
                  <a:pt x="64787" y="21600"/>
                </a:lnTo>
                <a:lnTo>
                  <a:pt x="63387" y="20200"/>
                </a:lnTo>
                <a:lnTo>
                  <a:pt x="63387" y="1400"/>
                </a:lnTo>
                <a:close/>
              </a:path>
              <a:path fill="darkenLess" w="64787" h="21600">
                <a:moveTo>
                  <a:pt x="64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7" y="20200"/>
                </a:lnTo>
                <a:close/>
              </a:path>
              <a:path fill="lighten" w="64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7"/>
          <p:cNvGrpSpPr/>
          <p:nvPr/>
        </p:nvGrpSpPr>
        <p:grpSpPr>
          <a:xfrm>
            <a:off x="1000080" y="3786120"/>
            <a:ext cx="5768640" cy="2693880"/>
            <a:chOff x="1000080" y="3786120"/>
            <a:chExt cx="5768640" cy="2693880"/>
          </a:xfrm>
        </p:grpSpPr>
        <p:sp>
          <p:nvSpPr>
            <p:cNvPr id="83" name="未知"/>
            <p:cNvSpPr/>
            <p:nvPr/>
          </p:nvSpPr>
          <p:spPr>
            <a:xfrm>
              <a:off x="5143320" y="5875200"/>
              <a:ext cx="463680" cy="37476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36" y="29"/>
                  </a:moveTo>
                  <a:cubicBezTo>
                    <a:pt x="36" y="17"/>
                    <a:pt x="30" y="7"/>
                    <a:pt x="22" y="0"/>
                  </a:cubicBezTo>
                  <a:lnTo>
                    <a:pt x="0" y="29"/>
                  </a:lnTo>
                  <a:lnTo>
                    <a:pt x="36" y="29"/>
                  </a:lnTo>
                  <a:close/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rc 24"/>
            <p:cNvSpPr/>
            <p:nvPr/>
          </p:nvSpPr>
          <p:spPr>
            <a:xfrm>
              <a:off x="5143320" y="5886360"/>
              <a:ext cx="465120" cy="363600"/>
            </a:xfrm>
            <a:custGeom>
              <a:avLst/>
              <a:gdLst/>
              <a:ahLst/>
              <a:rect l="l" t="t" r="r" b="b"/>
              <a:pathLst>
                <a:path fill="none" w="21600" h="16972">
                  <a:moveTo>
                    <a:pt x="13360" y="0"/>
                  </a:moveTo>
                  <a:cubicBezTo>
                    <a:pt x="18563" y="4095"/>
                    <a:pt x="21600" y="10350"/>
                    <a:pt x="21600" y="16972"/>
                  </a:cubicBezTo>
                </a:path>
                <a:path stroke="0" w="21600" h="16972">
                  <a:moveTo>
                    <a:pt x="13360" y="0"/>
                  </a:moveTo>
                  <a:cubicBezTo>
                    <a:pt x="18563" y="4095"/>
                    <a:pt x="21600" y="10350"/>
                    <a:pt x="21600" y="16972"/>
                  </a:cubicBezTo>
                  <a:lnTo>
                    <a:pt x="0" y="16972"/>
                  </a:lnTo>
                  <a:lnTo>
                    <a:pt x="13360" y="0"/>
                  </a:lnTo>
                  <a:close/>
                </a:path>
              </a:pathLst>
            </a:cu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5"/>
            <p:cNvSpPr/>
            <p:nvPr/>
          </p:nvSpPr>
          <p:spPr>
            <a:xfrm flipH="1">
              <a:off x="5143320" y="4329000"/>
              <a:ext cx="1508400" cy="1920960"/>
            </a:xfrm>
            <a:prstGeom prst="line">
              <a:avLst/>
            </a:prstGeom>
            <a:ln w="381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 flipH="1">
              <a:off x="6226200" y="4329000"/>
              <a:ext cx="425520" cy="1920960"/>
            </a:xfrm>
            <a:prstGeom prst="line">
              <a:avLst/>
            </a:prstGeom>
            <a:ln w="38160">
              <a:solidFill>
                <a:srgbClr val="ee16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>
              <a:off x="5143320" y="6249960"/>
              <a:ext cx="1082880" cy="144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6548400" y="39942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4867920" y="60055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6400800" y="59450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31"/>
            <p:cNvSpPr/>
            <p:nvPr/>
          </p:nvSpPr>
          <p:spPr>
            <a:xfrm>
              <a:off x="1000080" y="3786120"/>
              <a:ext cx="2874960" cy="26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7"/>
            <p:cNvGrpSpPr/>
            <p:nvPr/>
          </p:nvGrpSpPr>
          <p:grpSpPr>
            <a:xfrm>
              <a:off x="1656360" y="3929040"/>
              <a:ext cx="2505600" cy="2377440"/>
              <a:chOff x="1656360" y="3929040"/>
              <a:chExt cx="2505600" cy="237744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1942920" y="5773680"/>
                <a:ext cx="515880" cy="41112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40" y="32"/>
                    </a:moveTo>
                    <a:cubicBezTo>
                      <a:pt x="40" y="19"/>
                      <a:pt x="34" y="8"/>
                      <a:pt x="25" y="0"/>
                    </a:cubicBezTo>
                    <a:lnTo>
                      <a:pt x="0" y="32"/>
                    </a:lnTo>
                    <a:lnTo>
                      <a:pt x="40" y="3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rc 34"/>
              <p:cNvSpPr/>
              <p:nvPr/>
            </p:nvSpPr>
            <p:spPr>
              <a:xfrm>
                <a:off x="1944720" y="5784840"/>
                <a:ext cx="515880" cy="401760"/>
              </a:xfrm>
              <a:custGeom>
                <a:avLst/>
                <a:gdLst/>
                <a:ahLst/>
                <a:rect l="l" t="t" r="r" b="b"/>
                <a:pathLst>
                  <a:path fill="none" w="21600" h="16821">
                    <a:moveTo>
                      <a:pt x="13550" y="-1"/>
                    </a:moveTo>
                    <a:cubicBezTo>
                      <a:pt x="18622" y="4085"/>
                      <a:pt x="21579" y="10241"/>
                      <a:pt x="21599" y="16754"/>
                    </a:cubicBezTo>
                  </a:path>
                  <a:path stroke="0" w="21600" h="16821">
                    <a:moveTo>
                      <a:pt x="13550" y="-1"/>
                    </a:moveTo>
                    <a:cubicBezTo>
                      <a:pt x="18622" y="4085"/>
                      <a:pt x="21579" y="10241"/>
                      <a:pt x="21599" y="16754"/>
                    </a:cubicBezTo>
                    <a:lnTo>
                      <a:pt x="0" y="16821"/>
                    </a:lnTo>
                    <a:lnTo>
                      <a:pt x="13550" y="-1"/>
                    </a:lnTo>
                    <a:close/>
                  </a:path>
                </a:pathLst>
              </a:custGeom>
              <a:solidFill>
                <a:srgbClr val="ff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5"/>
              <p:cNvSpPr/>
              <p:nvPr/>
            </p:nvSpPr>
            <p:spPr>
              <a:xfrm>
                <a:off x="1942920" y="6184800"/>
                <a:ext cx="1935360" cy="180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 flipH="1">
                <a:off x="1942920" y="4265640"/>
                <a:ext cx="1509840" cy="1919160"/>
              </a:xfrm>
              <a:prstGeom prst="line">
                <a:avLst/>
              </a:prstGeom>
              <a:ln w="381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>
                <a:off x="3452760" y="4265640"/>
                <a:ext cx="425520" cy="1919160"/>
              </a:xfrm>
              <a:prstGeom prst="line">
                <a:avLst/>
              </a:prstGeom>
              <a:ln w="38160">
                <a:solidFill>
                  <a:srgbClr val="ee16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38"/>
              <p:cNvSpPr/>
              <p:nvPr/>
            </p:nvSpPr>
            <p:spPr>
              <a:xfrm>
                <a:off x="3336840" y="392904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39"/>
              <p:cNvSpPr/>
              <p:nvPr/>
            </p:nvSpPr>
            <p:spPr>
              <a:xfrm>
                <a:off x="1656360" y="594036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40"/>
              <p:cNvSpPr/>
              <p:nvPr/>
            </p:nvSpPr>
            <p:spPr>
              <a:xfrm>
                <a:off x="3941640" y="594036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"/>
          <p:cNvGrpSpPr/>
          <p:nvPr/>
        </p:nvGrpSpPr>
        <p:grpSpPr>
          <a:xfrm>
            <a:off x="1171440" y="3660840"/>
            <a:ext cx="3240000" cy="1971000"/>
            <a:chOff x="1171440" y="3660840"/>
            <a:chExt cx="3240000" cy="1971000"/>
          </a:xfrm>
        </p:grpSpPr>
        <p:grpSp>
          <p:nvGrpSpPr>
            <p:cNvPr id="102" name="Group 5"/>
            <p:cNvGrpSpPr/>
            <p:nvPr/>
          </p:nvGrpSpPr>
          <p:grpSpPr>
            <a:xfrm>
              <a:off x="1458360" y="4092480"/>
              <a:ext cx="2088000" cy="1079280"/>
              <a:chOff x="1458360" y="4092480"/>
              <a:chExt cx="2088000" cy="1079280"/>
            </a:xfrm>
          </p:grpSpPr>
          <p:sp>
            <p:nvSpPr>
              <p:cNvPr id="103" name="Line 6"/>
              <p:cNvSpPr/>
              <p:nvPr/>
            </p:nvSpPr>
            <p:spPr>
              <a:xfrm flipH="1">
                <a:off x="1458360" y="4092480"/>
                <a:ext cx="71892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7"/>
              <p:cNvSpPr/>
              <p:nvPr/>
            </p:nvSpPr>
            <p:spPr>
              <a:xfrm>
                <a:off x="1458720" y="5171760"/>
                <a:ext cx="20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8"/>
              <p:cNvSpPr/>
              <p:nvPr/>
            </p:nvSpPr>
            <p:spPr>
              <a:xfrm>
                <a:off x="2177640" y="4092480"/>
                <a:ext cx="136872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9"/>
            <p:cNvSpPr/>
            <p:nvPr/>
          </p:nvSpPr>
          <p:spPr>
            <a:xfrm>
              <a:off x="1890360" y="36608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1171440" y="51004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3259080" y="51721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2395440" y="510048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rc 13"/>
            <p:cNvSpPr/>
            <p:nvPr/>
          </p:nvSpPr>
          <p:spPr>
            <a:xfrm>
              <a:off x="1674720" y="4884480"/>
              <a:ext cx="144360" cy="287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rc 14"/>
            <p:cNvSpPr/>
            <p:nvPr/>
          </p:nvSpPr>
          <p:spPr>
            <a:xfrm flipH="1">
              <a:off x="3115440" y="4956120"/>
              <a:ext cx="144360" cy="215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rc 15"/>
            <p:cNvSpPr/>
            <p:nvPr/>
          </p:nvSpPr>
          <p:spPr>
            <a:xfrm flipH="1">
              <a:off x="2971440" y="4813200"/>
              <a:ext cx="144720" cy="3585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8"/>
          <p:cNvGrpSpPr/>
          <p:nvPr/>
        </p:nvGrpSpPr>
        <p:grpSpPr>
          <a:xfrm>
            <a:off x="5438880" y="3813120"/>
            <a:ext cx="3095640" cy="1828080"/>
            <a:chOff x="5438880" y="3813120"/>
            <a:chExt cx="3095640" cy="1828080"/>
          </a:xfrm>
        </p:grpSpPr>
        <p:sp>
          <p:nvSpPr>
            <p:cNvPr id="114" name="Line 29"/>
            <p:cNvSpPr/>
            <p:nvPr/>
          </p:nvSpPr>
          <p:spPr>
            <a:xfrm>
              <a:off x="7166160" y="438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30"/>
            <p:cNvGrpSpPr/>
            <p:nvPr/>
          </p:nvGrpSpPr>
          <p:grpSpPr>
            <a:xfrm>
              <a:off x="5438880" y="3813120"/>
              <a:ext cx="3095640" cy="1828080"/>
              <a:chOff x="5438880" y="3813120"/>
              <a:chExt cx="3095640" cy="1828080"/>
            </a:xfrm>
          </p:grpSpPr>
          <p:grpSp>
            <p:nvGrpSpPr>
              <p:cNvPr id="116" name="Group 31"/>
              <p:cNvGrpSpPr/>
              <p:nvPr/>
            </p:nvGrpSpPr>
            <p:grpSpPr>
              <a:xfrm>
                <a:off x="5798880" y="4100400"/>
                <a:ext cx="2088000" cy="1078920"/>
                <a:chOff x="5798880" y="4100400"/>
                <a:chExt cx="2088000" cy="1078920"/>
              </a:xfrm>
            </p:grpSpPr>
            <p:sp>
              <p:nvSpPr>
                <p:cNvPr id="117" name="Line 32"/>
                <p:cNvSpPr/>
                <p:nvPr/>
              </p:nvSpPr>
              <p:spPr>
                <a:xfrm flipH="1">
                  <a:off x="5798880" y="4100400"/>
                  <a:ext cx="718920" cy="10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33"/>
                <p:cNvSpPr/>
                <p:nvPr/>
              </p:nvSpPr>
              <p:spPr>
                <a:xfrm>
                  <a:off x="5799240" y="5179320"/>
                  <a:ext cx="208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4"/>
                <p:cNvSpPr/>
                <p:nvPr/>
              </p:nvSpPr>
              <p:spPr>
                <a:xfrm>
                  <a:off x="6518160" y="4100400"/>
                  <a:ext cx="1368720" cy="10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Text Box 35"/>
              <p:cNvSpPr/>
              <p:nvPr/>
            </p:nvSpPr>
            <p:spPr>
              <a:xfrm>
                <a:off x="6159600" y="381312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36"/>
              <p:cNvSpPr/>
              <p:nvPr/>
            </p:nvSpPr>
            <p:spPr>
              <a:xfrm>
                <a:off x="5438880" y="510840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7"/>
              <p:cNvSpPr/>
              <p:nvPr/>
            </p:nvSpPr>
            <p:spPr>
              <a:xfrm>
                <a:off x="7671240" y="5181480"/>
                <a:ext cx="86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rc 38"/>
              <p:cNvSpPr/>
              <p:nvPr/>
            </p:nvSpPr>
            <p:spPr>
              <a:xfrm>
                <a:off x="5943960" y="4965480"/>
                <a:ext cx="142920" cy="215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rc 39"/>
              <p:cNvSpPr/>
              <p:nvPr/>
            </p:nvSpPr>
            <p:spPr>
              <a:xfrm flipH="1">
                <a:off x="7528320" y="4965480"/>
                <a:ext cx="71280" cy="215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rc 40"/>
              <p:cNvSpPr/>
              <p:nvPr/>
            </p:nvSpPr>
            <p:spPr>
              <a:xfrm flipH="1">
                <a:off x="7383600" y="4892400"/>
                <a:ext cx="144720" cy="28872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Rectangle 53"/>
          <p:cNvSpPr/>
          <p:nvPr/>
        </p:nvSpPr>
        <p:spPr>
          <a:xfrm>
            <a:off x="533520" y="411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如果已知一个三角形的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两角及一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那么有几种可能的情况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978480" y="2362320"/>
            <a:ext cx="63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答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角边角（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ASA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 角角边（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AAS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块教学用的三角形硬纸板不小心被撕坏了，如图，你能仅利用其中一块碎片制作一张与原来同样大小的新教具？能恢复原来三角形的原貌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5000760" y="3962520"/>
            <a:ext cx="3962160" cy="12189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53392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怎么办？可以帮帮我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0025"/>
          <p:cNvPicPr/>
          <p:nvPr/>
        </p:nvPicPr>
        <p:blipFill>
          <a:blip r:embed="rId1"/>
          <a:stretch/>
        </p:blipFill>
        <p:spPr>
          <a:xfrm>
            <a:off x="5610240" y="5334120"/>
            <a:ext cx="27432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6"/>
          <p:cNvGrpSpPr/>
          <p:nvPr/>
        </p:nvGrpSpPr>
        <p:grpSpPr>
          <a:xfrm>
            <a:off x="304920" y="304920"/>
            <a:ext cx="3959280" cy="685800"/>
            <a:chOff x="304920" y="304920"/>
            <a:chExt cx="3959280" cy="685800"/>
          </a:xfrm>
        </p:grpSpPr>
        <p:pic>
          <p:nvPicPr>
            <p:cNvPr id="133" name="Picture 21" descr="BD14581_"/>
            <p:cNvPicPr/>
            <p:nvPr/>
          </p:nvPicPr>
          <p:blipFill>
            <a:blip r:embed="rId2"/>
            <a:stretch/>
          </p:blipFill>
          <p:spPr>
            <a:xfrm>
              <a:off x="304920" y="30492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22"/>
            <p:cNvSpPr/>
            <p:nvPr/>
          </p:nvSpPr>
          <p:spPr>
            <a:xfrm>
              <a:off x="1694880" y="381240"/>
              <a:ext cx="256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cc"/>
                  </a:solidFill>
                  <a:latin typeface="隶书"/>
                  <a:ea typeface="隶书"/>
                </a:rPr>
                <a:t>创设情景</a:t>
              </a:r>
              <a:r>
                <a:rPr b="0" lang="en-US" sz="3200" spc="-1" strike="noStrike">
                  <a:solidFill>
                    <a:srgbClr val="ff66cc"/>
                  </a:solidFill>
                  <a:latin typeface="隶书"/>
                  <a:ea typeface="隶书"/>
                </a:rPr>
                <a:t>,</a:t>
              </a:r>
              <a:r>
                <a:rPr b="0" lang="zh-CN" sz="3200" spc="-1" strike="noStrike">
                  <a:solidFill>
                    <a:srgbClr val="ff66cc"/>
                  </a:solidFill>
                  <a:latin typeface="隶书"/>
                  <a:ea typeface="隶书"/>
                </a:rPr>
                <a:t>导入新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9"/>
          <p:cNvGrpSpPr/>
          <p:nvPr/>
        </p:nvGrpSpPr>
        <p:grpSpPr>
          <a:xfrm>
            <a:off x="785880" y="2714760"/>
            <a:ext cx="3169440" cy="1675800"/>
            <a:chOff x="785880" y="2714760"/>
            <a:chExt cx="3169440" cy="1675800"/>
          </a:xfrm>
        </p:grpSpPr>
        <p:grpSp>
          <p:nvGrpSpPr>
            <p:cNvPr id="136" name="Group 10"/>
            <p:cNvGrpSpPr/>
            <p:nvPr/>
          </p:nvGrpSpPr>
          <p:grpSpPr>
            <a:xfrm>
              <a:off x="785880" y="3601800"/>
              <a:ext cx="1366200" cy="788760"/>
              <a:chOff x="785880" y="3601800"/>
              <a:chExt cx="1366200" cy="788760"/>
            </a:xfrm>
          </p:grpSpPr>
          <p:sp>
            <p:nvSpPr>
              <p:cNvPr id="137" name="Line 4"/>
              <p:cNvSpPr/>
              <p:nvPr/>
            </p:nvSpPr>
            <p:spPr>
              <a:xfrm flipV="1">
                <a:off x="785880" y="4355280"/>
                <a:ext cx="1312560" cy="3528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Group 12"/>
              <p:cNvGrpSpPr/>
              <p:nvPr/>
            </p:nvGrpSpPr>
            <p:grpSpPr>
              <a:xfrm>
                <a:off x="785880" y="3601800"/>
                <a:ext cx="1366200" cy="788400"/>
                <a:chOff x="785880" y="3601800"/>
                <a:chExt cx="1366200" cy="788400"/>
              </a:xfrm>
            </p:grpSpPr>
            <p:sp>
              <p:nvSpPr>
                <p:cNvPr id="139" name="Line 6"/>
                <p:cNvSpPr/>
                <p:nvPr/>
              </p:nvSpPr>
              <p:spPr>
                <a:xfrm flipV="1">
                  <a:off x="785880" y="3611520"/>
                  <a:ext cx="890280" cy="778680"/>
                </a:xfrm>
                <a:prstGeom prst="line">
                  <a:avLst/>
                </a:prstGeom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0" name="AutoShape 7"/>
                <p:cNvCxnSpPr>
                  <a:stCxn id="139" idx="0"/>
                  <a:endCxn id="141" idx="0"/>
                </p:cNvCxnSpPr>
                <p:nvPr/>
              </p:nvCxnSpPr>
              <p:spPr>
                <a:xfrm>
                  <a:off x="1666440" y="3601800"/>
                  <a:ext cx="428760" cy="745200"/>
                </a:xfrm>
                <a:prstGeom prst="straightConnector1">
                  <a:avLst/>
                </a:prstGeom>
                <a:ln w="38160">
                  <a:solidFill>
                    <a:srgbClr val="800000"/>
                  </a:solidFill>
                  <a:round/>
                </a:ln>
              </p:spPr>
            </p:cxnSp>
          </p:grpSp>
        </p:grpSp>
        <p:grpSp>
          <p:nvGrpSpPr>
            <p:cNvPr id="142" name="Group 15"/>
            <p:cNvGrpSpPr/>
            <p:nvPr/>
          </p:nvGrpSpPr>
          <p:grpSpPr>
            <a:xfrm>
              <a:off x="2215800" y="2714760"/>
              <a:ext cx="1739520" cy="1533240"/>
              <a:chOff x="2215800" y="2714760"/>
              <a:chExt cx="1739520" cy="1533240"/>
            </a:xfrm>
          </p:grpSpPr>
          <p:sp>
            <p:nvSpPr>
              <p:cNvPr id="143" name="Line 9"/>
              <p:cNvSpPr/>
              <p:nvPr/>
            </p:nvSpPr>
            <p:spPr>
              <a:xfrm flipV="1">
                <a:off x="2642040" y="4212720"/>
                <a:ext cx="1312560" cy="3528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Group 17"/>
              <p:cNvGrpSpPr/>
              <p:nvPr/>
            </p:nvGrpSpPr>
            <p:grpSpPr>
              <a:xfrm>
                <a:off x="2215800" y="2714760"/>
                <a:ext cx="1739520" cy="1530360"/>
                <a:chOff x="2215800" y="2714760"/>
                <a:chExt cx="1739520" cy="1530360"/>
              </a:xfrm>
            </p:grpSpPr>
            <p:sp>
              <p:nvSpPr>
                <p:cNvPr id="145" name="Line 11"/>
                <p:cNvSpPr/>
                <p:nvPr/>
              </p:nvSpPr>
              <p:spPr>
                <a:xfrm>
                  <a:off x="3101760" y="2714760"/>
                  <a:ext cx="853560" cy="1497960"/>
                </a:xfrm>
                <a:prstGeom prst="line">
                  <a:avLst/>
                </a:prstGeom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Group 19"/>
                <p:cNvGrpSpPr/>
                <p:nvPr/>
              </p:nvGrpSpPr>
              <p:grpSpPr>
                <a:xfrm>
                  <a:off x="2215800" y="2714760"/>
                  <a:ext cx="886680" cy="1530360"/>
                  <a:chOff x="2215800" y="2714760"/>
                  <a:chExt cx="886680" cy="1530360"/>
                </a:xfrm>
              </p:grpSpPr>
              <p:sp>
                <p:nvSpPr>
                  <p:cNvPr id="147" name="Line 13"/>
                  <p:cNvSpPr/>
                  <p:nvPr/>
                </p:nvSpPr>
                <p:spPr>
                  <a:xfrm flipV="1">
                    <a:off x="2216160" y="2714760"/>
                    <a:ext cx="886320" cy="787680"/>
                  </a:xfrm>
                  <a:prstGeom prst="line">
                    <a:avLst/>
                  </a:prstGeom>
                  <a:ln w="38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48" name="AutoShape 14"/>
                  <p:cNvCxnSpPr>
                    <a:stCxn id="139" idx="1"/>
                    <a:endCxn id="143" idx="0"/>
                  </p:cNvCxnSpPr>
                  <p:nvPr/>
                </p:nvCxnSpPr>
                <p:spPr>
                  <a:xfrm>
                    <a:off x="2215800" y="3491640"/>
                    <a:ext cx="426600" cy="753840"/>
                  </a:xfrm>
                  <a:prstGeom prst="straightConnector1">
                    <a:avLst/>
                  </a:prstGeom>
                  <a:ln w="38160">
                    <a:solidFill>
                      <a:srgbClr val="800000"/>
                    </a:solidFill>
                    <a:round/>
                  </a:ln>
                </p:spPr>
              </p:cxnSp>
            </p:grpSp>
          </p:grpSp>
        </p:grpSp>
      </p:grpSp>
      <p:sp>
        <p:nvSpPr>
          <p:cNvPr id="149" name="Text Box 16"/>
          <p:cNvSpPr/>
          <p:nvPr/>
        </p:nvSpPr>
        <p:spPr>
          <a:xfrm>
            <a:off x="1362240" y="379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730600" y="3362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810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d243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d24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任意画出一个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画一个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∠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∠B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使两角和它们的夹边对应相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把画好的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剪下，放到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，它们全等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6610" t="19323" r="51528" b="26348"/>
          <a:stretch/>
        </p:blipFill>
        <p:spPr>
          <a:xfrm>
            <a:off x="3214800" y="2143080"/>
            <a:ext cx="171432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rcRect l="3231" t="6594" r="6449" b="5505"/>
          <a:stretch/>
        </p:blipFill>
        <p:spPr>
          <a:xfrm>
            <a:off x="0" y="3929040"/>
            <a:ext cx="6375240" cy="2428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rcRect l="48488" t="-3174" r="5243" b="20093"/>
          <a:stretch/>
        </p:blipFill>
        <p:spPr>
          <a:xfrm>
            <a:off x="6738840" y="1916280"/>
            <a:ext cx="1901880" cy="2357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1143000" y="6400800"/>
            <a:ext cx="54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Times New Roman"/>
              </a:rPr>
              <a:t>问：通过实验可以发现什么事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34920" y="1557360"/>
            <a:ext cx="6985080" cy="2373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14200" y="785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两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它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夹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应相等的两个三角形全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简写成“角边角”或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SA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16200" y="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探究反映的规律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0" y="0"/>
            <a:ext cx="5429160" cy="6426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角形全等判定定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000680" y="36734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BC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和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520240" y="504180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B=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5136120" y="439416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= ∠A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421160" y="626580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≌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401600" y="6264360"/>
            <a:ext cx="10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4937040" y="4394160"/>
            <a:ext cx="360360" cy="16336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480 h 1633680"/>
              <a:gd name="textAreaBottom" fmla="*/ 1591200 h 16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3924360" y="3139920"/>
            <a:ext cx="17272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何语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5360760" y="56912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= ∠B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4"/>
          <p:cNvSpPr/>
          <p:nvPr/>
        </p:nvSpPr>
        <p:spPr>
          <a:xfrm flipV="1">
            <a:off x="1619280" y="4797360"/>
            <a:ext cx="1657440" cy="1152720"/>
          </a:xfrm>
          <a:prstGeom prst="wedgeRoundRectCallout">
            <a:avLst>
              <a:gd name="adj1" fmla="val 146703"/>
              <a:gd name="adj2" fmla="val -8324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注意书写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条件顺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15:56:00Z</dcterms:created>
  <dc:creator>Administrator</dc:creator>
  <dc:description/>
  <dc:language>en-US</dc:language>
  <cp:lastModifiedBy>Administrator</cp:lastModifiedBy>
  <dcterms:modified xsi:type="dcterms:W3CDTF">2018-03-01T06:43:31Z</dcterms:modified>
  <cp:revision>124</cp:revision>
  <dc:subject/>
  <dc:title>边角边公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