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A89-FAC1-4E64-98AC-7E2B6FC8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9280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000" y="3407400"/>
            <a:ext cx="89280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7F4-CAF3-4CE4-949E-458A50AE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000" y="340740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2880" y="340740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775-3E05-4265-92A7-C4895071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6600" y="105228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5560" y="105228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000" y="340740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6600" y="340740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5560" y="3407400"/>
            <a:ext cx="28746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FCE-B32B-4468-AA42-14C2403A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000" y="1052280"/>
            <a:ext cx="892800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8C7-73F6-4BF6-BBA2-FBB3DDB4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9280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63C-CDF3-470A-81E8-972C808A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4D5-F5C5-4BA2-9AA4-4356ED4A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A4D-F00E-4FC5-A2BE-3EF197DF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22960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0C9-D7CA-4BFE-9322-C9296BEE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000" y="340740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CEC-42AA-45CA-8A69-3AFCC6C4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2880" y="340740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797-3172-4C4E-95E3-7DA12072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99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2880" y="1052280"/>
            <a:ext cx="435672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000" y="3407400"/>
            <a:ext cx="892800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20E-7328-4E45-912C-3528758E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1052280"/>
            <a:ext cx="89280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F795-8065-43F5-800C-22043E49AE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7632720" cy="6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星星变奏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55280" y="1701720"/>
            <a:ext cx="777708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在连州桃花岛上，几名女大学生身穿古装，在桃花林里玩飞花令，这一行为启示人们要发扬学习背诵古诗词的热情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3645000"/>
            <a:ext cx="799308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【解析】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A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项句式杂糅，可删去“是可想而知的”；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C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项“大约”和“左右”语意重复，去掉其一；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D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项“发扬”和“热情”搭配不当，应将“热情”改为“精神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55280" y="620280"/>
            <a:ext cx="7777080" cy="35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20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庆模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社会生活、自然中充满着各种美，只要我们细心观察就能感受到。请仿照下面的句式写一段话来展示你所发现的美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示例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阳光明媚的花园里，草坪似翠绿的地毯，孩童似猴子般机灵，老者似神仙般逍遥，我们感受到的是生命的和谐之美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00" y="4156200"/>
            <a:ext cx="869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答：示例一：在墨黑的背景中，维纳斯那如镜般透亮的胴体，那坦然自若的脸庞，那令人遗憾的断臂，让我们感受到的是生命的残缺之美。示例二：在绿茵场上，足球运动员那如旋风的推进，如狂飙般的进攻，如蛟龙般的拼抢，让我们感受到的是生命的力量之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55280" y="1701360"/>
            <a:ext cx="77770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综合性学习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两会期间，“发展中华老字号软实力”提案提出后，“老字号”成为热词，引起广泛关注。请你阅读以下材料，按要求回答问题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9280" y="568440"/>
            <a:ext cx="878544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材料一】央广网重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消息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重庆为背景的电影《火锅英雄》近日热映，引发不少人来重庆吃喝玩乐的愿望。记者今从重庆市商委获悉，为打造外来消费热点，重庆市拟于近期举办全国老字号博览会，促进消费。据悉，老字号博览会预计将吸引市外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余人来渝参会和消费。近年来，重庆实施品牌培育重点工程，保护和发展老字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其中重庆老字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、中华老字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。并集中打造沙坪坝等老字号特色商业集聚区，健全特色商品流通渠道。此外，该市还积极引进世界品牌、知名商贸企业和展会入驻，鼓励企业在重庆设立总部或区域性总部、分拨中心、结算中心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55280" y="1699920"/>
            <a:ext cx="720108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材料二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中华老字号历史悠久，是长期商业竞争中留下的极品，它们都各自经历了艰苦奋斗的发家史而最终统领一行。在生产经营活动中，它们拥有了世代传承的产品、技艺或服务。这些品牌也是人们公认的质量上乘的同义语，在一定的区域内具有良好的声誉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10920" y="980640"/>
            <a:ext cx="777708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材料三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百年老字号演变到今天，其名称已经成为一种文化。这些老字号的名称首先突出的一个特点就是“行业特征”，如餐饮界的砂锅居、工艺品类的泥人张。其次则是“寓意吉祥，朗朗上口”，如服饰界的内联升、瑞蚨祥。第三点是“体现创始者对美好品德的追求”，如中医药界的同仁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55280" y="1701720"/>
            <a:ext cx="777708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你用简洁的语言为材料一拟写恰当的标题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超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8880" y="3573360"/>
            <a:ext cx="47073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答：示例：重庆将举办全国老字号博览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55280" y="1701360"/>
            <a:ext cx="7777080" cy="6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根据材料二，给“中华老字号”下定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2852640"/>
            <a:ext cx="78757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答：中华老字号是指历史悠久，拥有世代传承的产品、技艺或服务，在一定区域内具有良好声誉的品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000" y="765000"/>
            <a:ext cx="806436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打造重庆火锅界的老字号，我们一直在努力。但随着时代的发展，有的老字号在市场化的竞争中已经渐渐力不从心。为改变“老字号”的“草包金”现象，帮助重庆火锅的发展，请你在下面两家重庆老字号火锅店中选择一家，帮助他们写一份广告词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求：运用不少于一种修辞手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洞子老火锅        德庄老火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4869000"/>
            <a:ext cx="7282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答：示例：麻辣鲜香，锅里乾坤五味藏；洞子火锅，暖心暖情意绵长。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德庄老字号，好料好味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55280" y="2205000"/>
            <a:ext cx="7777080" cy="25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阅读下面的文章，完成后面的问题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燃烧的月亮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迟子建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920" y="692280"/>
            <a:ext cx="89535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55280" y="2063520"/>
            <a:ext cx="7777080" cy="32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下列加点字的注音有错的一项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líng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望     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zhà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   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chōng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憬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朦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lóng)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fù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盖         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jié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难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静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mì)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róu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软       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yíng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火虫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僵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yìng)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颤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mí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足珍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1387" b="0"/>
          <a:stretch/>
        </p:blipFill>
        <p:spPr>
          <a:xfrm>
            <a:off x="73080" y="671400"/>
            <a:ext cx="9036000" cy="885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3286080"/>
            <a:ext cx="7020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328608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51640" y="328608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8000" y="3935520"/>
            <a:ext cx="7020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393552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51640" y="393552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79640" y="458316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458316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458316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523080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523080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523080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5440" y="2130480"/>
            <a:ext cx="11030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31920" y="5511960"/>
            <a:ext cx="589140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【解析】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A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项“凝”读作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níng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，“颤”读作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chàn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4000" y="1052640"/>
            <a:ext cx="77770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太阳是不大懂得养生的，只要它出来，永远圆圆的脸，没心没肺地笑。它笑得适度时，花儿开得繁盛，庄稼长势喜人，人们是不厌弃它的；而有的时候它热情过分了，弄得天下大旱，农人们就会嫌它不体恤人。月亮呢，它修行有道，该圆满时圆满着，该亏的时候则亏。它的圆满，总是由大亏小亏换来的。所以亏并不一定是坏事，它往往是为着灿烂时刻而养精蓄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10920" y="1052640"/>
            <a:ext cx="77770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故乡的夜晚，一本书，一杯自制的五味子果汁，就会带给我踏实的睡眠。可是到了月圆的日子，情况就大不一样。穿窗而过的月光，进了屋后，招呼也不打，仰面躺在我身旁空下来的那个位置。它躺得并不安分，跳动着，闪烁着，一会儿伸出手抚抚我的睫毛，将几缕月光送入我的眼底；一会儿又揉揉我的鼻子，将月华的芳菲再送进来。被月光这样撩拨着，我只能睡睡醒醒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26920" y="980640"/>
            <a:ext cx="777744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月光和月光是不一样的。春天的月光，像一片刚钻出些叶芽的草地；夏日的月光，流泻在空中，你抓一下，手上就像有满把的膏脂；秋天的月光，像平镜般的湖水，又如古琴弹出的声音；冬天的月光虽然薄而白，但落到雪地上像刚印刷出来的年画。相比较，冬春之交的月光，就没什么特别动人之处了。雪将化未化，草将出未出，此时的月光，也给人犹疑之感，瑟瑟缩缩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4000" y="1052640"/>
            <a:ext cx="77770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就是在这样的乍暖还寒时节，一个满月的日子，我回到自己的住处时，月亮已经升起来了。微醺的缘故，未及望月，就熄灯睡了。大约凌晨三点，我被渴醒了。床畔的小书桌上，通常放着一杯白开水。室内似明非明，我起身取水杯的时候，发现杯壁上晃动着迎春枝条般的鹅黄光影。心想月光大约太喜欢玻璃杯了，在它身上作起了画。喝过这杯被月光点化过的水，无比畅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94920" y="1197000"/>
            <a:ext cx="82090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回床的一瞬，我有意无意地望了一下窗外，立时被眼前的情景震住了：天哪，月亮怎么掉到树丛中了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我见过的明月，不是东升时蓬勃跳跃在山顶上的，就是夜半时高高吊在中天的，我还从没见过栖息在林中的月亮，仿佛伸伸手就能捉到。那团月亮也许因为走了一夜，被磨蚀得不那么明亮了，看上去毛茸茸的，但皎洁而不耀眼，清澈中散发着温热，更像一盏挂在树梢的灯，默无声息地燃烧着。那些还未发芽的树，原本一派萧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55280" y="1701360"/>
            <a:ext cx="7777080" cy="35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之气，可是掖在林间的月亮，把它们映照得流光溢彩，好像树木一夜之间回春了。丫杈的树枝上有如开满了粉白的鲜花，而圆月、树林、斜枝、光影像随意泼洒点染的一幅画，又如意境幽雅的一首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000" y="98064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看过了这样的月亮，我再回到床上时，又怎能不被美给惊着呢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!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虽然接着睡了，可是眯上一段时间，又惦记着什么似的，醒来了。只要睁开眼，蒙眬中会望一眼窗外——啊，月亮还在林间，只不过更低了些。再睡，再醒来，再望，也不知循环往复了多少次。月亮终于沉在林地上，由灯的形态，变幻成篝火了。这是那一夜的月亮，留给我的最后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95280" y="981000"/>
            <a:ext cx="842472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第二天彻底醒过来时，天已大亮，哪还有满月时的圣景。消尽了白雪而又没有返青的树，看上去是那么的单调。虽然寻不见月亮的踪迹，但我知道它因为燃烧得太忘我了，动了元气，此后的半个月，它将一点点地亏下去。待它枯槁成弯弯的月牙儿，才会真正复苏，把亏的地方，再一点点地盈满。它圆满后，不会因为一次次地亏过，就不燃烧了。而且月亮懂得，没有燃烧，就不会有涅槃再生，就不会有新一轮的蓄养生长，也就不会有再一次痛快淋漓燃烧的精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55280" y="1701720"/>
            <a:ext cx="7777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我怎么能想到，在印象中最不好的赏月时节，却看见了上天把月亮抛在凡尘的情景呢。假使我彻头彻尾醒着，这样的风景即使入了眼，也不会摄人心魄。正因为我所看到的一切在黎明与黑夜之间，在半梦半醒之间，那团月亮，才美得夺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55280" y="1701360"/>
            <a:ext cx="7777080" cy="6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作者笔下的春夜满月“美”在何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2492280"/>
            <a:ext cx="457200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答：①美在月所挂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②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美在意境幽雅，生机盎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③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美在燃烧的形态及其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④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美在真切与迷离之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26920" y="753840"/>
            <a:ext cx="77774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结合语境，下列加点词的解释有误的一项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有一个柔软的晚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柔和、温柔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每一首都是一群颤抖的星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因压抑、束缚或得不到温暖而发抖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谁还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夜里凝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不转睛地看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闪闪烁烁的声音从远方飘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光亮忽明忽暗，动摇不定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720" y="1398600"/>
            <a:ext cx="11228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255420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55420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1800" y="32036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32036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5800" y="435456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435456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1440" y="50036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360" y="50036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50036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50036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marL="343080" indent="-343080"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721480"/>
            <a:ext cx="87854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【解析】“闪闪烁烁”形容动摇不定，忽明忽暗。这里运用通感的修辞手法，不是形容光亮，而是形容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755280" y="1701360"/>
            <a:ext cx="777708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从全文看，作者在第三段中描述“冬春之交”月光的特点，这种写法及其作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3068640"/>
            <a:ext cx="626436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答：写法：欲扬先抑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或设置悬念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作用：与下文所写春夜满月的景致形成对比，突出燃烧的月亮所创造的生机活力和优美的意境，表达了作者对其的喜爱赞美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755280" y="1413000"/>
            <a:ext cx="777708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概括第三段中四季月光各自的特点，并说明写四季月光与写“燃烧的月亮”有什么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2708280"/>
            <a:ext cx="734544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答：特点：春月嫩绿，夏月饱满、丰腴，秋月平静安详、悠远清寂，冬月新鲜、明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关系：因关注、喜爱月亮，故能发现“月亮燃烧”独特的美；因为熟悉月亮，故能领悟出丰富深刻的人生道理。两者之间有着必然的因果关系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或前者是后者的铺垫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55280" y="1701360"/>
            <a:ext cx="777708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作者对于月亮“盈”与“亏”、“燃烧”与“蓄养”的阐述，蕴含了怎样的人生思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3500280"/>
            <a:ext cx="58863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答：①人应甘于奉献，以造福他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②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只有不断汲取、蓄养，才能成就生命的精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55280" y="1701360"/>
            <a:ext cx="777708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本文语言灵动清新，蕴藉隽永，试举一例并加以赏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3357720"/>
            <a:ext cx="741204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答：示例：“穿窗而过的月光……我只能睡睡醒醒了”，运用拟人的修辞手法，赋予月光以生趣，表达了作者对月光的喜爱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55280" y="1701720"/>
            <a:ext cx="7777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阅读下面的诗词，完成后面的问题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秋对月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曹松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注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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无云世界秋三五，共看蟾盘上海涯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直到天头天尽处，不曾私照一家人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【注】曹松，晚唐诗人，七十岁才中进士，被称为“白头进士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360" y="692280"/>
            <a:ext cx="91346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26920" y="1126800"/>
            <a:ext cx="77774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首诗的题目是《中秋对月》，诗中“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是“中秋”，“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指“月”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填入诗句中的词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两句写中秋之夜月光朗照，诗人想借此表达什么样的情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36560" y="1125360"/>
            <a:ext cx="15069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秋三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88560" y="1701720"/>
            <a:ext cx="12934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蟾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3933720"/>
            <a:ext cx="767232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答：赞颂中秋之夜月亮光明磊落、公正公平，表达了诗人希望自己所处的社会能像中秋明月那样公平公正的愿望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或隐含着对统治者势利、偏私等丑恶品性的讽刺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4000" y="620640"/>
            <a:ext cx="777708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依次填入下列句子中横线上的词语最恰当的一项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个字都是一颗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像蜜蜂在心头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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萤火虫和星星在睡莲丛中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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油香在麦海的浪尖上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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父亲的话给我受伤的心灵以极大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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颤抖游荡飘荡安慰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颤动游动飘动劝慰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颤抖游荡飘扬劝慰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颤动游动飘动安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27800" y="1192320"/>
            <a:ext cx="11228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537048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【解析】①②两句是课文原句，依次应填“颤动”和“游动”，排除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A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、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C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两项。④句的主语是“话”，“话”不能给人“劝慰”，只能给人“安慰”，排除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项。故选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D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55280" y="1701360"/>
            <a:ext cx="777708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指出下列诗句运用的修辞手法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一首都是一群颤抖的星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          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闪闪烁烁的声音从远方飘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谁不喜欢春天，鸟落满枝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像星星落满天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7480" y="2392200"/>
            <a:ext cx="10299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比喻、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80920" y="3040200"/>
            <a:ext cx="12934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通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59840" y="4248000"/>
            <a:ext cx="12934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79280" y="849240"/>
            <a:ext cx="8893440" cy="58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下面有关本诗的理解，错误的一项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“如果大地的每个角落都充满了光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谁还需要星星，谁还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夜里凝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寻找遥远的安慰”一句的意思是如果大地上每个角落都充满了光明，世界上将会有很多星星，我们就可以在夜里寻找遥远的安慰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这首抒情诗以“星星”象征光明，即诗意、春天、温暖、希望和自由等生活中最美好的东西，但诗中的“星星”又有其特定的情境和意味，即它所显现的不是阳光普照的光明，而是茫茫黑夜中闪现的点点光明，寄托了诗人在现实中执着追求的理想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0160" y="915840"/>
            <a:ext cx="11030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10920" y="549000"/>
            <a:ext cx="7777080" cy="62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本诗以“星星”为主要意象并以假设为前提来抒情写意，展示理想与现实的距离，显示诗人对光明的渴求。本诗是新时期兴起的朦胧诗的优秀代表作之一，无论是在艺术手法上还是在诗歌主题上都体现了朦胧诗的典型特征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“闪闪烁烁的声音从远方飘来”采用了通感的修辞手法，因为声音一会儿入耳，一会儿消失，一会儿清晰，一会儿模糊的感觉与视觉上“闪闪烁烁”的感觉是相通的。这是以形容视觉的词语来表现听觉，以视觉感来突出对声音的时断时续、隐隐约约的真切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2781360"/>
            <a:ext cx="795492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【解析】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A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项句子意思是：如果大地的每个角落都充满了光明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就不会需要星星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不会在夜里凝望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寻找遥远的安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55280" y="1701720"/>
            <a:ext cx="777708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下列句子中没有语病的一项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)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中考体考在即，你不认真参加体育锻炼，那怎么能有满意的成绩是可想而知的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截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底，重庆轨道交通通车总里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米，名列中西部首位，位居全国第六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自特朗普就职后，美国军方大约每隔一周左右就在中国附近水域展示力量，以越来越咄咄逼人的方式挑衅中国。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86720" y="1768320"/>
            <a:ext cx="11030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0" y="765000"/>
            <a:ext cx="9109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03:14:41Z</dcterms:created>
  <dc:creator>微软用户</dc:creator>
  <dc:description/>
  <dc:language>en-US</dc:language>
  <cp:lastModifiedBy>Windows 用户</cp:lastModifiedBy>
  <dcterms:modified xsi:type="dcterms:W3CDTF">2018-02-08T06:33:22Z</dcterms:modified>
  <cp:revision>486</cp:revision>
  <dc:subject/>
  <dc:title>幻灯片 1</dc:title>
</cp:coreProperties>
</file>