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E51-404E-4D50-A172-1346A631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9280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000" y="3407400"/>
            <a:ext cx="89280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102-657B-49F9-8F3E-9F537D1C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288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000" y="340740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2880" y="340740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B95-0978-4B9F-B713-53F8913B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6600" y="105228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5560" y="105228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000" y="340740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6600" y="340740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5560" y="340740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BED-575C-4648-8CDF-964EC14A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000" y="1052280"/>
            <a:ext cx="892800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EE6-426B-40F7-A942-7F46F5CB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92800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0E46-12FD-4210-A92B-247E4803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435672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2880" y="1052280"/>
            <a:ext cx="435672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DF4-7EB7-4482-A7A8-9BF1A3E5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2B3B-B38E-4EAB-83E7-BAD50440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822960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F53-558E-415D-B529-A60D2731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2880" y="1052280"/>
            <a:ext cx="435672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000" y="340740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307-5D8E-43BE-8CDC-FA6BB15E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435672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288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2880" y="340740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226-259F-4D6D-8588-81943E3D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288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000" y="3407400"/>
            <a:ext cx="89280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5C5-1F16-4513-BE5E-1F7B3030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1052280"/>
            <a:ext cx="892800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B168-4838-4B2A-8716-666E34BF37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6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六单元过关小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94920" y="523800"/>
            <a:ext cx="7777080" cy="62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九年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拟利用班会课组织一次“班级诗词大会”，邀请你担任主持人，请你设计一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字左右的开场白。要求：文辞优美，富有感染力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答：天生我材必有用，千金散尽还复来。一千两百多年前的诗句，今天读来，依然让人热血沸腾。诗人如椽巨笔下喷涌而出的跌宕起伏的情感，让我们感受到震动古今的气势和力量。而古代文人的情怀和智慧，也同样能点亮我们今天的生活。人生自有诗意，来吧，一起加入我们的诗词狂欢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4000" y="704880"/>
            <a:ext cx="7777080" cy="58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、现代文阅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听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看戏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北平人到戏园子里看戏叫“听戏”，上海人认为听收音机听唱片才叫听，去剧场当然是为了“看戏”，要不花钱去剧场做啥？这个理由很充分，但怎么反倒显得不那么在行似的？老北平人认为，旧戏虽然唱念做打皆有，却以唱为主，所以去戏园子就该叫听戏。二则旧戏初时都在茶园子里演出，那本来是喝茶聊天的地方，喝茶时坐的桌椅也不可能都向着演出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68000" y="620280"/>
            <a:ext cx="7777080" cy="62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多半是边喝边聊边听。要看就得不停地如麻花似地扭转着身子，那时候一场戏要演五、六小时，多看了岂不要伤着腰扭歪了脖子还倒贴膏药钱？还不如边嗑瓜子边听更舒坦省心。这是说“听戏”的身体管理学方面的理由了。再说了，只管听才不妨碍着吃，桌子上还放着一大堆花生、冰糖葫芦、酸梅汤、油糕、奶酪、豌豆黄等吃食呢，总得抓紧吃吧。可见说“听戏”的学问大了去了。后来演戏都有专用剧场了，也不带吃的，北京人还是习惯叫“听戏”。我在北大读研三载，也曾“听”过一回戏。去哪个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55280" y="549000"/>
            <a:ext cx="7777080" cy="62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场忘了，可能是吉祥戏院吧，反正是正规的剧场。演哪出戏也忘了，毕竟是半个世纪以前的事情了，人生哪有几回半个世纪？但主演是北昆的名小生白云生，却记了大半辈子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候我常由父母带着去看戏的。看京戏叫“看大戏”，这是我爸最爱，妈自然奉陪。京剧、昆曲通常在共舞台和天蟾舞台演，雇一辆三轮车挤一挤，半个小时就到了。那时候梅兰芳和姜妙香是黄金搭档，除了《洛神》和《贵妃醉酒》，我们肯定还看过其他。铜锤花脸金少山来上海时，我爸也带我去看过。我甚至连言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68000" y="620280"/>
            <a:ext cx="7777080" cy="62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珠主演的《大劈棺》和童芷苓主演的《纺棉花》也看过，其实这两出戏是儿童不宜的。看《纺棉花》那次，还亲聆女主演即兴加进几句唱词，是骂楼上的观众不作兴把瓜子壳吐到台上去的。俞振飞和言慧珠合作的昆曲《墙头马上》，可能是后来才看的。周信芳的《徐策跑城》全靠做功，肩膀上都有戏，所以“文革”中有大字报说他竟在台上跳迪斯科。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如说去“听”《徐策跑城》就奇了怪了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说“听戏”固然内行，可逢到做功戏或武生戏《三岔口》《挑滑车》之类，就肯定说不通了。海派京剧的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71280" y="692280"/>
            <a:ext cx="777708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布景，就是为了看的。上海这个码头竞争太激烈了，那时的艺人真是蛮拼的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K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各剧场门口的霓虹灯广告就开始了，摩登坤伶言慧珠的玉照就挂在一圈霓虹灯中央，顾盼生姿熠熠生辉。这使得上海观众看戏是从戏外看到戏里去了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初识京戏，尚在读小学。不喜欢看武打戏，即使看文戏，也很讨厌开场锣鼓太吵，敲得人耳膜也像要震破了，便用双手把两耳掩起来，等演员唱起来才放开耳朵听。其实我更爱看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55280" y="1701720"/>
            <a:ext cx="77770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戏，抑扬顿挫一板三眼，或潇洒飘逸，或刚健苍劲，那种历练和沧桑感仿佛让我提前进入了苍凉人生。昆曲唱起来比程派京戏唱腔的节奏更慢，哼哼唧唧的，拖腔足有几公尺长，再百转千回的，唱得你肚肠根发痒，又来得韵味十足。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那肯定要闭着眼去“听”的，蒙眬中似觉今宵酒醒何处，杨柳岸晓风残月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755280" y="2305080"/>
            <a:ext cx="777708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章以“听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看戏”为题，有什么好处？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答：点明文章的写作内容；作为线索贯穿全文；富有悬念，引发读者的阅读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55280" y="1701720"/>
            <a:ext cx="777708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什么说“‘听’《徐策跑城》就奇了怪了”？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）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答：因为《徐策跑城》是一出武戏，欣赏这出戏，自然要“看”，“听”肯定说不通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55280" y="1701720"/>
            <a:ext cx="777708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何理解第②段中两个加点的“也”字的作用。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）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答：连用两个“也”字，表明“我”小时候爸爸带“我”看戏多，突出了爸爸对京剧的热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826920" y="1197000"/>
            <a:ext cx="777744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语文知识及运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下列加点字注音有误的一项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)(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免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guā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社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jì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fú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然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崩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cú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恢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hóng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zhì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罚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ǘ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sù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gōu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火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韩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kuí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休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jì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gǎo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素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【解析】“傀”读作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guī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15800" y="1844640"/>
            <a:ext cx="11228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306864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306864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51640" y="306864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1640" y="371628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371628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371628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436572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436572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436572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1640" y="501336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40360" y="501336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501336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755280" y="1701360"/>
            <a:ext cx="777708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合语境，任选一角度，品味文末画线句子的妙处。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）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答：运用比喻的修辞手法，生动形象地写出了“我”听昆曲时的感受，表达了“我”对昆曲的喜爱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55280" y="1125360"/>
            <a:ext cx="7777080" cy="46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完本文，你对“看戏”和“听戏”的区别有怎样的理解？请结合你个人的体验谈谈感想。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）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答：示例：我喜欢“看戏”。欣赏戏曲不仅要听清剧情和对白，还要全面欣赏其中的唱念做打。台上一分钟，台下十年功。这都是演员们多年苦练出来的真功夫。只有全面地欣赏演员的表演，才能得到更美的享受。（言之有理即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26920" y="1037880"/>
            <a:ext cx="777744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、作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5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阅读下面材料，自选角度，自拟题目，写一篇作文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些人之所以不断成长，就绝对是有一种坚持下去的力量。好读书，肯下功夫，不仅读，还做笔记。人要成长，必有原因，背后的努力与积累一定数倍于普通人。所以关键还在于自己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杨绛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55280" y="1701720"/>
            <a:ext cx="777708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求：①内容具体，有真情实感；②除诗歌外，文体不限；③不少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字；④凡涉及真实的人名、校名、地名，一律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英文大写字母代替；⑤不得抄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55280" y="1052280"/>
            <a:ext cx="777708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下列句子书写无误的一项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)(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伐无道，诛暴秦，复立楚国之社谡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布衣之怒，亦免冠徙跣，以头抢地尔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以弱为强者，非唯天时，抑亦人谋也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先帝不以臣卑鄙，猥自枉屈，三顾臣于草庐之中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【解析】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项“社谡”应为“社稷”；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项“尔”应为“耳”；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项“唯”应为“惟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83800" y="1125360"/>
            <a:ext cx="11228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000" y="901800"/>
            <a:ext cx="777708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下列对加点成语的解释不正确的一项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)(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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作为当代大学生，大家更当怀鸿鹄之志、存高远之心，树立为祖国奉献终身的远大理想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喻远大志向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上海打捞局历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9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，投入作业船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余艘次、施工作业人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1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次，水下工作时间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小时，终于不辱使命，成功将“岁月号”沉船打捞上岸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辜负交给它的差使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39800" y="974880"/>
            <a:ext cx="11228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720" y="270180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3640" y="270180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04000" y="270180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70180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61080" y="558324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558324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0000" y="558324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0360" y="558324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55280" y="1557000"/>
            <a:ext cx="777708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我认为莫言以及其他一些作家，借鉴此语式者可说是不可胜数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形容“借鉴此语式”的作家人数极多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千万不可妄自菲薄，更不必羡慕、嫉妒“高富帅”的际遇，一定要有自信：我能，我行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形容狂妄自大，目空一切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【解析】“妄自菲薄”指过分看轻自己，形容自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89440" y="386064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386064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08360" y="386064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68720" y="386064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3440" y="270828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32000" y="270828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270828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2720" y="270828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26920" y="692280"/>
            <a:ext cx="7777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下列文学常识表述不正确的一项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)(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《陈涉世家》的作者司马迁是西汉著名的史学家，他用毕生精力著成了我国第一部编年体通史《史记》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《战国策》是西汉末年刘向根据战国史书整理编辑的一部国别体史书。《唐雎不辱使命》就是选自其中的《魏策》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《隆中对》选自《三国志》，作者是陈寿，《三国志》记载的是三国时期魏、蜀、吴三国的历史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74240" y="747720"/>
            <a:ext cx="11030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755280" y="1701360"/>
            <a:ext cx="7777080" cy="30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宋词主要分为“婉约”与“豪放”两大流派，前者的代表人物是柳永、李清照，后者的代表人物是苏轼、辛弃疾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【解析】《史记》是纪传体通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755280" y="1044720"/>
            <a:ext cx="777708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请用一句话概括下面新闻的主要内容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广州日报讯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晚，记者通过出版黄易武侠小说《日月当空》的湖南人民出版社获悉，香港武侠小说黄金年代著名作家黄易于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因病去世，享年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黄易的著名作品如《寻秦记》《大唐双龙传》广为人知，更被翻拍成电视剧。据报道，曾在电视剧《寻秦记》中出演项少龙的古天乐表示：“好惋惜，我觉得他写的《寻秦记》好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755280" y="2187360"/>
            <a:ext cx="7777080" cy="30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彩，多谢他写项少龙这个角色，所以买下电影版权，年底重拍，希望他一路走好。”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答：示例：香港著名武侠小说作家黄易因病去世，享年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65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03:14:41Z</dcterms:created>
  <dc:creator>微软用户</dc:creator>
  <dc:description/>
  <dc:language>en-US</dc:language>
  <cp:lastModifiedBy>Windows 用户</cp:lastModifiedBy>
  <dcterms:modified xsi:type="dcterms:W3CDTF">2018-02-08T06:35:18Z</dcterms:modified>
  <cp:revision>497</cp:revision>
  <dc:subject/>
  <dc:title>幻灯片 1</dc:title>
</cp:coreProperties>
</file>